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81D8-980B-470A-AFA8-DD4930FBF5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80F8-FF85-4274-B797-6680D843C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B42-5DA9-4CF6-B707-2B241C6D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C5D-94E1-48AC-AD0C-E205CDF2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4F9-735D-4FF3-B4C1-EB17BD5F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F2F-BBB1-41D9-87D0-3308A8A6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003-191F-44DF-BAD4-753F6A91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9AA-B106-455D-9EFD-0DA85F6F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481-FF55-4C39-A343-2D95067B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9C4-DFAC-4859-AE3C-EBF2CE14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CA7-8B75-4E64-BF08-CC757C5B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970-08EB-4140-A40A-5B708054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58D-5E25-4DC6-B0B3-6E503ADA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A0C-37C5-4CCF-B41B-1BB2A1C4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1C4F-44A9-49E6-942A-0D41764C6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4FE8-F26C-4DF2-9D95-524AD1909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54936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ЧЕРТАТЕЛЬНАЯ ГЕОМЕ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95280" y="2133720"/>
            <a:ext cx="84247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трижаков А.В., Кубарев А.Е., Мартиросов А.Л. Начертательная геомет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убенников А.В., Громов М.Я. Начертательная геомет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Виноградов В.Н. Начертательная геомет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дон В.О., Семенцов-Огиевский М.А. Курс начертательной геомет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…………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7840" y="49514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ухомлинова Виктория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A413-6905-4026-8544-FD744CCF61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ипы аппаратов проец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92160" y="1204920"/>
            <a:ext cx="637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Calibri"/>
                <a:ea typeface="Calibri"/>
              </a:rPr>
              <a:t>Плоски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аппарат проецирова-ния, в качестве П берется плоск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Calibri"/>
                <a:ea typeface="Calibri"/>
              </a:rPr>
              <a:t>Панорамны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аппарат проецирования, в качестве П бер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отсек цилинд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Calibri"/>
                <a:ea typeface="Calibri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600" spc="-1" strike="noStrike">
                <a:solidFill>
                  <a:srgbClr val="cc00cc"/>
                </a:solidFill>
                <a:latin typeface="Calibri"/>
                <a:ea typeface="Calibri"/>
              </a:rPr>
              <a:t>Купольны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аппарат проеци-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рования, в качестве П берет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ся отсек сфер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6845400" y="1839960"/>
            <a:ext cx="19396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7512120" y="1846440"/>
            <a:ext cx="1440" cy="7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8118360" y="2297160"/>
            <a:ext cx="1800" cy="7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7512120" y="1846440"/>
            <a:ext cx="60624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7512120" y="2622600"/>
            <a:ext cx="60624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6943680" y="3414600"/>
            <a:ext cx="1754280" cy="1121040"/>
            <a:chOff x="6943680" y="3414600"/>
            <a:chExt cx="1754280" cy="1121040"/>
          </a:xfrm>
        </p:grpSpPr>
        <p:sp>
          <p:nvSpPr>
            <p:cNvPr id="132" name="AutoShape 13"/>
            <p:cNvSpPr/>
            <p:nvPr/>
          </p:nvSpPr>
          <p:spPr>
            <a:xfrm>
              <a:off x="6943680" y="3414600"/>
              <a:ext cx="175428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8032680" y="4405320"/>
              <a:ext cx="55800" cy="123840"/>
            </a:xfrm>
            <a:custGeom>
              <a:avLst/>
              <a:gdLst/>
              <a:ahLst/>
              <a:rect l="l" t="t" r="r" b="b"/>
              <a:pathLst>
                <a:path w="1053" h="2354">
                  <a:moveTo>
                    <a:pt x="0" y="2354"/>
                  </a:moveTo>
                  <a:lnTo>
                    <a:pt x="160" y="2204"/>
                  </a:lnTo>
                  <a:lnTo>
                    <a:pt x="308" y="2049"/>
                  </a:lnTo>
                  <a:lnTo>
                    <a:pt x="443" y="1890"/>
                  </a:lnTo>
                  <a:lnTo>
                    <a:pt x="566" y="1729"/>
                  </a:lnTo>
                  <a:lnTo>
                    <a:pt x="675" y="1564"/>
                  </a:lnTo>
                  <a:lnTo>
                    <a:pt x="771" y="1397"/>
                  </a:lnTo>
                  <a:lnTo>
                    <a:pt x="853" y="1226"/>
                  </a:lnTo>
                  <a:lnTo>
                    <a:pt x="921" y="1054"/>
                  </a:lnTo>
                  <a:lnTo>
                    <a:pt x="976" y="881"/>
                  </a:lnTo>
                  <a:lnTo>
                    <a:pt x="1016" y="705"/>
                  </a:lnTo>
                  <a:lnTo>
                    <a:pt x="1042" y="530"/>
                  </a:lnTo>
                  <a:lnTo>
                    <a:pt x="1053" y="353"/>
                  </a:lnTo>
                  <a:lnTo>
                    <a:pt x="1051" y="177"/>
                  </a:lnTo>
                  <a:lnTo>
                    <a:pt x="10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7553160" y="3421080"/>
              <a:ext cx="535320" cy="309600"/>
            </a:xfrm>
            <a:custGeom>
              <a:avLst/>
              <a:gdLst/>
              <a:ahLst/>
              <a:rect l="l" t="t" r="r" b="b"/>
              <a:pathLst>
                <a:path w="10117" h="5841">
                  <a:moveTo>
                    <a:pt x="9062" y="5841"/>
                  </a:moveTo>
                  <a:lnTo>
                    <a:pt x="9228" y="5684"/>
                  </a:lnTo>
                  <a:lnTo>
                    <a:pt x="9382" y="5523"/>
                  </a:lnTo>
                  <a:lnTo>
                    <a:pt x="9522" y="5358"/>
                  </a:lnTo>
                  <a:lnTo>
                    <a:pt x="9647" y="5189"/>
                  </a:lnTo>
                  <a:lnTo>
                    <a:pt x="9758" y="5016"/>
                  </a:lnTo>
                  <a:lnTo>
                    <a:pt x="9854" y="4841"/>
                  </a:lnTo>
                  <a:lnTo>
                    <a:pt x="9936" y="4663"/>
                  </a:lnTo>
                  <a:lnTo>
                    <a:pt x="10003" y="4484"/>
                  </a:lnTo>
                  <a:lnTo>
                    <a:pt x="10054" y="4302"/>
                  </a:lnTo>
                  <a:lnTo>
                    <a:pt x="10090" y="4120"/>
                  </a:lnTo>
                  <a:lnTo>
                    <a:pt x="10111" y="3936"/>
                  </a:lnTo>
                  <a:lnTo>
                    <a:pt x="10117" y="3753"/>
                  </a:lnTo>
                  <a:lnTo>
                    <a:pt x="10106" y="3569"/>
                  </a:lnTo>
                  <a:lnTo>
                    <a:pt x="10080" y="3386"/>
                  </a:lnTo>
                  <a:lnTo>
                    <a:pt x="10040" y="3204"/>
                  </a:lnTo>
                  <a:lnTo>
                    <a:pt x="9983" y="3023"/>
                  </a:lnTo>
                  <a:lnTo>
                    <a:pt x="9911" y="2844"/>
                  </a:lnTo>
                  <a:lnTo>
                    <a:pt x="9825" y="2667"/>
                  </a:lnTo>
                  <a:lnTo>
                    <a:pt x="9724" y="2492"/>
                  </a:lnTo>
                  <a:lnTo>
                    <a:pt x="9608" y="2321"/>
                  </a:lnTo>
                  <a:lnTo>
                    <a:pt x="9478" y="2153"/>
                  </a:lnTo>
                  <a:lnTo>
                    <a:pt x="9334" y="1990"/>
                  </a:lnTo>
                  <a:lnTo>
                    <a:pt x="9176" y="1830"/>
                  </a:lnTo>
                  <a:lnTo>
                    <a:pt x="9005" y="1675"/>
                  </a:lnTo>
                  <a:lnTo>
                    <a:pt x="8821" y="1524"/>
                  </a:lnTo>
                  <a:lnTo>
                    <a:pt x="8625" y="1380"/>
                  </a:lnTo>
                  <a:lnTo>
                    <a:pt x="8418" y="1241"/>
                  </a:lnTo>
                  <a:lnTo>
                    <a:pt x="8198" y="1108"/>
                  </a:lnTo>
                  <a:lnTo>
                    <a:pt x="7967" y="981"/>
                  </a:lnTo>
                  <a:lnTo>
                    <a:pt x="7726" y="861"/>
                  </a:lnTo>
                  <a:lnTo>
                    <a:pt x="7475" y="748"/>
                  </a:lnTo>
                  <a:lnTo>
                    <a:pt x="7215" y="641"/>
                  </a:lnTo>
                  <a:lnTo>
                    <a:pt x="6947" y="542"/>
                  </a:lnTo>
                  <a:lnTo>
                    <a:pt x="6671" y="451"/>
                  </a:lnTo>
                  <a:lnTo>
                    <a:pt x="6387" y="368"/>
                  </a:lnTo>
                  <a:lnTo>
                    <a:pt x="6096" y="294"/>
                  </a:lnTo>
                  <a:lnTo>
                    <a:pt x="5800" y="227"/>
                  </a:lnTo>
                  <a:lnTo>
                    <a:pt x="5498" y="168"/>
                  </a:lnTo>
                  <a:lnTo>
                    <a:pt x="5192" y="119"/>
                  </a:lnTo>
                  <a:lnTo>
                    <a:pt x="4881" y="77"/>
                  </a:lnTo>
                  <a:lnTo>
                    <a:pt x="4568" y="45"/>
                  </a:lnTo>
                  <a:lnTo>
                    <a:pt x="4253" y="21"/>
                  </a:lnTo>
                  <a:lnTo>
                    <a:pt x="3935" y="6"/>
                  </a:lnTo>
                  <a:lnTo>
                    <a:pt x="3617" y="0"/>
                  </a:lnTo>
                  <a:lnTo>
                    <a:pt x="3298" y="3"/>
                  </a:lnTo>
                  <a:lnTo>
                    <a:pt x="2981" y="15"/>
                  </a:lnTo>
                  <a:lnTo>
                    <a:pt x="2665" y="36"/>
                  </a:lnTo>
                  <a:lnTo>
                    <a:pt x="2350" y="65"/>
                  </a:lnTo>
                  <a:lnTo>
                    <a:pt x="2038" y="104"/>
                  </a:lnTo>
                  <a:lnTo>
                    <a:pt x="1731" y="151"/>
                  </a:lnTo>
                  <a:lnTo>
                    <a:pt x="1428" y="207"/>
                  </a:lnTo>
                  <a:lnTo>
                    <a:pt x="1130" y="271"/>
                  </a:lnTo>
                  <a:lnTo>
                    <a:pt x="837" y="343"/>
                  </a:lnTo>
                  <a:lnTo>
                    <a:pt x="551" y="424"/>
                  </a:lnTo>
                  <a:lnTo>
                    <a:pt x="272" y="513"/>
                  </a:lnTo>
                  <a:lnTo>
                    <a:pt x="0" y="6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7553160" y="3452760"/>
              <a:ext cx="1800" cy="80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8032680" y="3730680"/>
              <a:ext cx="1800" cy="79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8086680" y="3605040"/>
              <a:ext cx="1800" cy="83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8085240" y="4395960"/>
              <a:ext cx="1440" cy="9360"/>
            </a:xfrm>
            <a:custGeom>
              <a:avLst/>
              <a:gdLst/>
              <a:ahLst/>
              <a:rect l="l" t="t" r="r" b="b"/>
              <a:pathLst>
                <a:path w="30" h="174">
                  <a:moveTo>
                    <a:pt x="30" y="174"/>
                  </a:moveTo>
                  <a:lnTo>
                    <a:pt x="19" y="103"/>
                  </a:lnTo>
                  <a:lnTo>
                    <a:pt x="6" y="31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8074080" y="4362480"/>
              <a:ext cx="4680" cy="12600"/>
            </a:xfrm>
            <a:custGeom>
              <a:avLst/>
              <a:gdLst/>
              <a:ahLst/>
              <a:rect l="l" t="t" r="r" b="b"/>
              <a:pathLst>
                <a:path w="113" h="242">
                  <a:moveTo>
                    <a:pt x="113" y="242"/>
                  </a:moveTo>
                  <a:lnTo>
                    <a:pt x="106" y="227"/>
                  </a:lnTo>
                  <a:lnTo>
                    <a:pt x="76" y="157"/>
                  </a:lnTo>
                  <a:lnTo>
                    <a:pt x="45" y="87"/>
                  </a:lnTo>
                  <a:lnTo>
                    <a:pt x="9" y="1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8053560" y="4334040"/>
              <a:ext cx="9360" cy="10800"/>
            </a:xfrm>
            <a:custGeom>
              <a:avLst/>
              <a:gdLst/>
              <a:ahLst/>
              <a:rect l="l" t="t" r="r" b="b"/>
              <a:pathLst>
                <a:path w="163" h="212">
                  <a:moveTo>
                    <a:pt x="163" y="212"/>
                  </a:moveTo>
                  <a:lnTo>
                    <a:pt x="127" y="161"/>
                  </a:lnTo>
                  <a:lnTo>
                    <a:pt x="77" y="95"/>
                  </a:lnTo>
                  <a:lnTo>
                    <a:pt x="24" y="3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3"/>
            <p:cNvSpPr/>
            <p:nvPr/>
          </p:nvSpPr>
          <p:spPr>
            <a:xfrm>
              <a:off x="8032680" y="4311720"/>
              <a:ext cx="6480" cy="612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30" y="120"/>
                  </a:moveTo>
                  <a:lnTo>
                    <a:pt x="67" y="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4"/>
            <p:cNvSpPr/>
            <p:nvPr/>
          </p:nvSpPr>
          <p:spPr>
            <a:xfrm>
              <a:off x="7553160" y="4219560"/>
              <a:ext cx="479520" cy="92160"/>
            </a:xfrm>
            <a:custGeom>
              <a:avLst/>
              <a:gdLst/>
              <a:ahLst/>
              <a:rect l="l" t="t" r="r" b="b"/>
              <a:pathLst>
                <a:path w="9062" h="1725">
                  <a:moveTo>
                    <a:pt x="9062" y="1725"/>
                  </a:moveTo>
                  <a:lnTo>
                    <a:pt x="8886" y="1576"/>
                  </a:lnTo>
                  <a:lnTo>
                    <a:pt x="8698" y="1432"/>
                  </a:lnTo>
                  <a:lnTo>
                    <a:pt x="8498" y="1294"/>
                  </a:lnTo>
                  <a:lnTo>
                    <a:pt x="8288" y="1161"/>
                  </a:lnTo>
                  <a:lnTo>
                    <a:pt x="8066" y="1034"/>
                  </a:lnTo>
                  <a:lnTo>
                    <a:pt x="7835" y="914"/>
                  </a:lnTo>
                  <a:lnTo>
                    <a:pt x="7594" y="799"/>
                  </a:lnTo>
                  <a:lnTo>
                    <a:pt x="7343" y="692"/>
                  </a:lnTo>
                  <a:lnTo>
                    <a:pt x="7084" y="592"/>
                  </a:lnTo>
                  <a:lnTo>
                    <a:pt x="6818" y="499"/>
                  </a:lnTo>
                  <a:lnTo>
                    <a:pt x="6543" y="414"/>
                  </a:lnTo>
                  <a:lnTo>
                    <a:pt x="6262" y="335"/>
                  </a:lnTo>
                  <a:lnTo>
                    <a:pt x="5975" y="265"/>
                  </a:lnTo>
                  <a:lnTo>
                    <a:pt x="5682" y="204"/>
                  </a:lnTo>
                  <a:lnTo>
                    <a:pt x="5385" y="149"/>
                  </a:lnTo>
                  <a:lnTo>
                    <a:pt x="5083" y="103"/>
                  </a:lnTo>
                  <a:lnTo>
                    <a:pt x="4779" y="66"/>
                  </a:lnTo>
                  <a:lnTo>
                    <a:pt x="4471" y="37"/>
                  </a:lnTo>
                  <a:lnTo>
                    <a:pt x="4161" y="15"/>
                  </a:lnTo>
                  <a:lnTo>
                    <a:pt x="3850" y="3"/>
                  </a:lnTo>
                  <a:lnTo>
                    <a:pt x="3538" y="0"/>
                  </a:lnTo>
                  <a:lnTo>
                    <a:pt x="3226" y="5"/>
                  </a:lnTo>
                  <a:lnTo>
                    <a:pt x="2916" y="19"/>
                  </a:lnTo>
                  <a:lnTo>
                    <a:pt x="2606" y="41"/>
                  </a:lnTo>
                  <a:lnTo>
                    <a:pt x="2299" y="71"/>
                  </a:lnTo>
                  <a:lnTo>
                    <a:pt x="1994" y="111"/>
                  </a:lnTo>
                  <a:lnTo>
                    <a:pt x="1693" y="158"/>
                  </a:lnTo>
                  <a:lnTo>
                    <a:pt x="1397" y="214"/>
                  </a:lnTo>
                  <a:lnTo>
                    <a:pt x="1105" y="277"/>
                  </a:lnTo>
                  <a:lnTo>
                    <a:pt x="819" y="348"/>
                  </a:lnTo>
                  <a:lnTo>
                    <a:pt x="539" y="428"/>
                  </a:lnTo>
                  <a:lnTo>
                    <a:pt x="267" y="515"/>
                  </a:lnTo>
                  <a:lnTo>
                    <a:pt x="0" y="6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0"/>
          <p:cNvGrpSpPr/>
          <p:nvPr/>
        </p:nvGrpSpPr>
        <p:grpSpPr>
          <a:xfrm>
            <a:off x="7161120" y="5094360"/>
            <a:ext cx="1398600" cy="893520"/>
            <a:chOff x="7161120" y="5094360"/>
            <a:chExt cx="1398600" cy="893520"/>
          </a:xfrm>
        </p:grpSpPr>
        <p:sp>
          <p:nvSpPr>
            <p:cNvPr id="144" name="AutoShape 26"/>
            <p:cNvSpPr/>
            <p:nvPr/>
          </p:nvSpPr>
          <p:spPr>
            <a:xfrm>
              <a:off x="7161120" y="5094360"/>
              <a:ext cx="139860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>
              <a:off x="7300800" y="5335560"/>
              <a:ext cx="1119240" cy="647640"/>
            </a:xfrm>
            <a:custGeom>
              <a:avLst/>
              <a:gdLst/>
              <a:ahLst/>
              <a:rect l="l" t="t" r="r" b="b"/>
              <a:pathLst>
                <a:path w="26821" h="15485">
                  <a:moveTo>
                    <a:pt x="0" y="7743"/>
                  </a:moveTo>
                  <a:lnTo>
                    <a:pt x="11" y="8044"/>
                  </a:lnTo>
                  <a:lnTo>
                    <a:pt x="41" y="8343"/>
                  </a:lnTo>
                  <a:lnTo>
                    <a:pt x="91" y="8642"/>
                  </a:lnTo>
                  <a:lnTo>
                    <a:pt x="162" y="8939"/>
                  </a:lnTo>
                  <a:lnTo>
                    <a:pt x="252" y="9236"/>
                  </a:lnTo>
                  <a:lnTo>
                    <a:pt x="362" y="9529"/>
                  </a:lnTo>
                  <a:lnTo>
                    <a:pt x="492" y="9820"/>
                  </a:lnTo>
                  <a:lnTo>
                    <a:pt x="641" y="10107"/>
                  </a:lnTo>
                  <a:lnTo>
                    <a:pt x="810" y="10391"/>
                  </a:lnTo>
                  <a:lnTo>
                    <a:pt x="997" y="10672"/>
                  </a:lnTo>
                  <a:lnTo>
                    <a:pt x="1202" y="10948"/>
                  </a:lnTo>
                  <a:lnTo>
                    <a:pt x="1427" y="11219"/>
                  </a:lnTo>
                  <a:lnTo>
                    <a:pt x="1669" y="11484"/>
                  </a:lnTo>
                  <a:lnTo>
                    <a:pt x="1930" y="11745"/>
                  </a:lnTo>
                  <a:lnTo>
                    <a:pt x="2207" y="11998"/>
                  </a:lnTo>
                  <a:lnTo>
                    <a:pt x="2501" y="12246"/>
                  </a:lnTo>
                  <a:lnTo>
                    <a:pt x="2812" y="12487"/>
                  </a:lnTo>
                  <a:lnTo>
                    <a:pt x="3138" y="12721"/>
                  </a:lnTo>
                  <a:lnTo>
                    <a:pt x="3480" y="12947"/>
                  </a:lnTo>
                  <a:lnTo>
                    <a:pt x="3837" y="13166"/>
                  </a:lnTo>
                  <a:lnTo>
                    <a:pt x="4208" y="13376"/>
                  </a:lnTo>
                  <a:lnTo>
                    <a:pt x="4593" y="13577"/>
                  </a:lnTo>
                  <a:lnTo>
                    <a:pt x="4991" y="13770"/>
                  </a:lnTo>
                  <a:lnTo>
                    <a:pt x="5402" y="13955"/>
                  </a:lnTo>
                  <a:lnTo>
                    <a:pt x="5825" y="14130"/>
                  </a:lnTo>
                  <a:lnTo>
                    <a:pt x="6261" y="14294"/>
                  </a:lnTo>
                  <a:lnTo>
                    <a:pt x="6705" y="14450"/>
                  </a:lnTo>
                  <a:lnTo>
                    <a:pt x="7161" y="14595"/>
                  </a:lnTo>
                  <a:lnTo>
                    <a:pt x="7626" y="14730"/>
                  </a:lnTo>
                  <a:lnTo>
                    <a:pt x="8099" y="14854"/>
                  </a:lnTo>
                  <a:lnTo>
                    <a:pt x="8580" y="14968"/>
                  </a:lnTo>
                  <a:lnTo>
                    <a:pt x="9069" y="15070"/>
                  </a:lnTo>
                  <a:lnTo>
                    <a:pt x="9565" y="15162"/>
                  </a:lnTo>
                  <a:lnTo>
                    <a:pt x="10065" y="15242"/>
                  </a:lnTo>
                  <a:lnTo>
                    <a:pt x="10571" y="15312"/>
                  </a:lnTo>
                  <a:lnTo>
                    <a:pt x="11082" y="15370"/>
                  </a:lnTo>
                  <a:lnTo>
                    <a:pt x="11596" y="15416"/>
                  </a:lnTo>
                  <a:lnTo>
                    <a:pt x="12112" y="15451"/>
                  </a:lnTo>
                  <a:lnTo>
                    <a:pt x="12631" y="15474"/>
                  </a:lnTo>
                  <a:lnTo>
                    <a:pt x="13150" y="15485"/>
                  </a:lnTo>
                  <a:lnTo>
                    <a:pt x="13671" y="15485"/>
                  </a:lnTo>
                  <a:lnTo>
                    <a:pt x="14190" y="15474"/>
                  </a:lnTo>
                  <a:lnTo>
                    <a:pt x="14709" y="15451"/>
                  </a:lnTo>
                  <a:lnTo>
                    <a:pt x="15225" y="15416"/>
                  </a:lnTo>
                  <a:lnTo>
                    <a:pt x="15739" y="15370"/>
                  </a:lnTo>
                  <a:lnTo>
                    <a:pt x="16250" y="15312"/>
                  </a:lnTo>
                  <a:lnTo>
                    <a:pt x="16756" y="15242"/>
                  </a:lnTo>
                  <a:lnTo>
                    <a:pt x="17256" y="15162"/>
                  </a:lnTo>
                  <a:lnTo>
                    <a:pt x="17752" y="15070"/>
                  </a:lnTo>
                  <a:lnTo>
                    <a:pt x="18241" y="14968"/>
                  </a:lnTo>
                  <a:lnTo>
                    <a:pt x="18722" y="14854"/>
                  </a:lnTo>
                  <a:lnTo>
                    <a:pt x="19195" y="14730"/>
                  </a:lnTo>
                  <a:lnTo>
                    <a:pt x="19660" y="14595"/>
                  </a:lnTo>
                  <a:lnTo>
                    <a:pt x="20116" y="14450"/>
                  </a:lnTo>
                  <a:lnTo>
                    <a:pt x="20560" y="14294"/>
                  </a:lnTo>
                  <a:lnTo>
                    <a:pt x="20996" y="14130"/>
                  </a:lnTo>
                  <a:lnTo>
                    <a:pt x="21419" y="13955"/>
                  </a:lnTo>
                  <a:lnTo>
                    <a:pt x="21830" y="13770"/>
                  </a:lnTo>
                  <a:lnTo>
                    <a:pt x="22228" y="13577"/>
                  </a:lnTo>
                  <a:lnTo>
                    <a:pt x="22613" y="13376"/>
                  </a:lnTo>
                  <a:lnTo>
                    <a:pt x="22984" y="13166"/>
                  </a:lnTo>
                  <a:lnTo>
                    <a:pt x="23341" y="12947"/>
                  </a:lnTo>
                  <a:lnTo>
                    <a:pt x="23683" y="12721"/>
                  </a:lnTo>
                  <a:lnTo>
                    <a:pt x="24009" y="12487"/>
                  </a:lnTo>
                  <a:lnTo>
                    <a:pt x="24320" y="12246"/>
                  </a:lnTo>
                  <a:lnTo>
                    <a:pt x="24614" y="11998"/>
                  </a:lnTo>
                  <a:lnTo>
                    <a:pt x="24891" y="11745"/>
                  </a:lnTo>
                  <a:lnTo>
                    <a:pt x="25152" y="11484"/>
                  </a:lnTo>
                  <a:lnTo>
                    <a:pt x="25394" y="11219"/>
                  </a:lnTo>
                  <a:lnTo>
                    <a:pt x="25619" y="10948"/>
                  </a:lnTo>
                  <a:lnTo>
                    <a:pt x="25824" y="10672"/>
                  </a:lnTo>
                  <a:lnTo>
                    <a:pt x="26011" y="10391"/>
                  </a:lnTo>
                  <a:lnTo>
                    <a:pt x="26180" y="10107"/>
                  </a:lnTo>
                  <a:lnTo>
                    <a:pt x="26329" y="9820"/>
                  </a:lnTo>
                  <a:lnTo>
                    <a:pt x="26459" y="9529"/>
                  </a:lnTo>
                  <a:lnTo>
                    <a:pt x="26569" y="9236"/>
                  </a:lnTo>
                  <a:lnTo>
                    <a:pt x="26659" y="8939"/>
                  </a:lnTo>
                  <a:lnTo>
                    <a:pt x="26730" y="8642"/>
                  </a:lnTo>
                  <a:lnTo>
                    <a:pt x="26780" y="8343"/>
                  </a:lnTo>
                  <a:lnTo>
                    <a:pt x="26810" y="8044"/>
                  </a:lnTo>
                  <a:lnTo>
                    <a:pt x="26821" y="7743"/>
                  </a:lnTo>
                  <a:lnTo>
                    <a:pt x="26810" y="7443"/>
                  </a:lnTo>
                  <a:lnTo>
                    <a:pt x="26780" y="7143"/>
                  </a:lnTo>
                  <a:lnTo>
                    <a:pt x="26730" y="6843"/>
                  </a:lnTo>
                  <a:lnTo>
                    <a:pt x="26659" y="6546"/>
                  </a:lnTo>
                  <a:lnTo>
                    <a:pt x="26569" y="6251"/>
                  </a:lnTo>
                  <a:lnTo>
                    <a:pt x="26459" y="5957"/>
                  </a:lnTo>
                  <a:lnTo>
                    <a:pt x="26329" y="5666"/>
                  </a:lnTo>
                  <a:lnTo>
                    <a:pt x="26180" y="5378"/>
                  </a:lnTo>
                  <a:lnTo>
                    <a:pt x="26011" y="5094"/>
                  </a:lnTo>
                  <a:lnTo>
                    <a:pt x="25824" y="4814"/>
                  </a:lnTo>
                  <a:lnTo>
                    <a:pt x="25619" y="4538"/>
                  </a:lnTo>
                  <a:lnTo>
                    <a:pt x="25394" y="4267"/>
                  </a:lnTo>
                  <a:lnTo>
                    <a:pt x="25152" y="4001"/>
                  </a:lnTo>
                  <a:lnTo>
                    <a:pt x="24891" y="3741"/>
                  </a:lnTo>
                  <a:lnTo>
                    <a:pt x="24614" y="3488"/>
                  </a:lnTo>
                  <a:lnTo>
                    <a:pt x="24320" y="3239"/>
                  </a:lnTo>
                  <a:lnTo>
                    <a:pt x="24009" y="2998"/>
                  </a:lnTo>
                  <a:lnTo>
                    <a:pt x="23683" y="2765"/>
                  </a:lnTo>
                  <a:lnTo>
                    <a:pt x="23341" y="2539"/>
                  </a:lnTo>
                  <a:lnTo>
                    <a:pt x="22984" y="2320"/>
                  </a:lnTo>
                  <a:lnTo>
                    <a:pt x="22613" y="2110"/>
                  </a:lnTo>
                  <a:lnTo>
                    <a:pt x="22228" y="1908"/>
                  </a:lnTo>
                  <a:lnTo>
                    <a:pt x="21830" y="1715"/>
                  </a:lnTo>
                  <a:lnTo>
                    <a:pt x="21419" y="1531"/>
                  </a:lnTo>
                  <a:lnTo>
                    <a:pt x="20996" y="1357"/>
                  </a:lnTo>
                  <a:lnTo>
                    <a:pt x="20560" y="1191"/>
                  </a:lnTo>
                  <a:lnTo>
                    <a:pt x="20116" y="1036"/>
                  </a:lnTo>
                  <a:lnTo>
                    <a:pt x="19660" y="891"/>
                  </a:lnTo>
                  <a:lnTo>
                    <a:pt x="19195" y="756"/>
                  </a:lnTo>
                  <a:lnTo>
                    <a:pt x="18722" y="631"/>
                  </a:lnTo>
                  <a:lnTo>
                    <a:pt x="18241" y="518"/>
                  </a:lnTo>
                  <a:lnTo>
                    <a:pt x="17752" y="416"/>
                  </a:lnTo>
                  <a:lnTo>
                    <a:pt x="17256" y="324"/>
                  </a:lnTo>
                  <a:lnTo>
                    <a:pt x="16756" y="243"/>
                  </a:lnTo>
                  <a:lnTo>
                    <a:pt x="16250" y="174"/>
                  </a:lnTo>
                  <a:lnTo>
                    <a:pt x="15739" y="116"/>
                  </a:lnTo>
                  <a:lnTo>
                    <a:pt x="15225" y="70"/>
                  </a:lnTo>
                  <a:lnTo>
                    <a:pt x="14709" y="35"/>
                  </a:lnTo>
                  <a:lnTo>
                    <a:pt x="14190" y="11"/>
                  </a:lnTo>
                  <a:lnTo>
                    <a:pt x="13671" y="0"/>
                  </a:lnTo>
                  <a:lnTo>
                    <a:pt x="13150" y="0"/>
                  </a:lnTo>
                  <a:lnTo>
                    <a:pt x="12631" y="11"/>
                  </a:lnTo>
                  <a:lnTo>
                    <a:pt x="12112" y="35"/>
                  </a:lnTo>
                  <a:lnTo>
                    <a:pt x="11596" y="70"/>
                  </a:lnTo>
                  <a:lnTo>
                    <a:pt x="11082" y="116"/>
                  </a:lnTo>
                  <a:lnTo>
                    <a:pt x="10571" y="174"/>
                  </a:lnTo>
                  <a:lnTo>
                    <a:pt x="10065" y="243"/>
                  </a:lnTo>
                  <a:lnTo>
                    <a:pt x="9565" y="324"/>
                  </a:lnTo>
                  <a:lnTo>
                    <a:pt x="9069" y="416"/>
                  </a:lnTo>
                  <a:lnTo>
                    <a:pt x="8580" y="518"/>
                  </a:lnTo>
                  <a:lnTo>
                    <a:pt x="8099" y="631"/>
                  </a:lnTo>
                  <a:lnTo>
                    <a:pt x="7626" y="756"/>
                  </a:lnTo>
                  <a:lnTo>
                    <a:pt x="7161" y="891"/>
                  </a:lnTo>
                  <a:lnTo>
                    <a:pt x="6705" y="1036"/>
                  </a:lnTo>
                  <a:lnTo>
                    <a:pt x="6261" y="1191"/>
                  </a:lnTo>
                  <a:lnTo>
                    <a:pt x="5825" y="1357"/>
                  </a:lnTo>
                  <a:lnTo>
                    <a:pt x="5402" y="1531"/>
                  </a:lnTo>
                  <a:lnTo>
                    <a:pt x="4991" y="1715"/>
                  </a:lnTo>
                  <a:lnTo>
                    <a:pt x="4593" y="1908"/>
                  </a:lnTo>
                  <a:lnTo>
                    <a:pt x="4208" y="2110"/>
                  </a:lnTo>
                  <a:lnTo>
                    <a:pt x="3837" y="2320"/>
                  </a:lnTo>
                  <a:lnTo>
                    <a:pt x="3480" y="2539"/>
                  </a:lnTo>
                  <a:lnTo>
                    <a:pt x="3138" y="2765"/>
                  </a:lnTo>
                  <a:lnTo>
                    <a:pt x="2812" y="2998"/>
                  </a:lnTo>
                  <a:lnTo>
                    <a:pt x="2501" y="3239"/>
                  </a:lnTo>
                  <a:lnTo>
                    <a:pt x="2207" y="3488"/>
                  </a:lnTo>
                  <a:lnTo>
                    <a:pt x="1930" y="3741"/>
                  </a:lnTo>
                  <a:lnTo>
                    <a:pt x="1669" y="4001"/>
                  </a:lnTo>
                  <a:lnTo>
                    <a:pt x="1427" y="4267"/>
                  </a:lnTo>
                  <a:lnTo>
                    <a:pt x="1202" y="4538"/>
                  </a:lnTo>
                  <a:lnTo>
                    <a:pt x="997" y="4814"/>
                  </a:lnTo>
                  <a:lnTo>
                    <a:pt x="810" y="5094"/>
                  </a:lnTo>
                  <a:lnTo>
                    <a:pt x="641" y="5378"/>
                  </a:lnTo>
                  <a:lnTo>
                    <a:pt x="492" y="5666"/>
                  </a:lnTo>
                  <a:lnTo>
                    <a:pt x="362" y="5957"/>
                  </a:lnTo>
                  <a:lnTo>
                    <a:pt x="252" y="6251"/>
                  </a:lnTo>
                  <a:lnTo>
                    <a:pt x="162" y="6546"/>
                  </a:lnTo>
                  <a:lnTo>
                    <a:pt x="91" y="6843"/>
                  </a:lnTo>
                  <a:lnTo>
                    <a:pt x="41" y="7143"/>
                  </a:lnTo>
                  <a:lnTo>
                    <a:pt x="11" y="7443"/>
                  </a:lnTo>
                  <a:lnTo>
                    <a:pt x="0" y="7743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9"/>
            <p:cNvSpPr/>
            <p:nvPr/>
          </p:nvSpPr>
          <p:spPr>
            <a:xfrm>
              <a:off x="7300800" y="5099040"/>
              <a:ext cx="1119240" cy="560520"/>
            </a:xfrm>
            <a:custGeom>
              <a:avLst/>
              <a:gdLst/>
              <a:ahLst/>
              <a:rect l="l" t="t" r="r" b="b"/>
              <a:pathLst>
                <a:path w="26821" h="13414">
                  <a:moveTo>
                    <a:pt x="26821" y="13414"/>
                  </a:moveTo>
                  <a:lnTo>
                    <a:pt x="26810" y="12900"/>
                  </a:lnTo>
                  <a:lnTo>
                    <a:pt x="26781" y="12387"/>
                  </a:lnTo>
                  <a:lnTo>
                    <a:pt x="26732" y="11876"/>
                  </a:lnTo>
                  <a:lnTo>
                    <a:pt x="26663" y="11366"/>
                  </a:lnTo>
                  <a:lnTo>
                    <a:pt x="26575" y="10860"/>
                  </a:lnTo>
                  <a:lnTo>
                    <a:pt x="26468" y="10358"/>
                  </a:lnTo>
                  <a:lnTo>
                    <a:pt x="26341" y="9859"/>
                  </a:lnTo>
                  <a:lnTo>
                    <a:pt x="26195" y="9367"/>
                  </a:lnTo>
                  <a:lnTo>
                    <a:pt x="26031" y="8880"/>
                  </a:lnTo>
                  <a:lnTo>
                    <a:pt x="25848" y="8400"/>
                  </a:lnTo>
                  <a:lnTo>
                    <a:pt x="25647" y="7927"/>
                  </a:lnTo>
                  <a:lnTo>
                    <a:pt x="25428" y="7462"/>
                  </a:lnTo>
                  <a:lnTo>
                    <a:pt x="25192" y="7006"/>
                  </a:lnTo>
                  <a:lnTo>
                    <a:pt x="24937" y="6559"/>
                  </a:lnTo>
                  <a:lnTo>
                    <a:pt x="24666" y="6123"/>
                  </a:lnTo>
                  <a:lnTo>
                    <a:pt x="24379" y="5697"/>
                  </a:lnTo>
                  <a:lnTo>
                    <a:pt x="24076" y="5282"/>
                  </a:lnTo>
                  <a:lnTo>
                    <a:pt x="23756" y="4879"/>
                  </a:lnTo>
                  <a:lnTo>
                    <a:pt x="23422" y="4489"/>
                  </a:lnTo>
                  <a:lnTo>
                    <a:pt x="23072" y="4112"/>
                  </a:lnTo>
                  <a:lnTo>
                    <a:pt x="22709" y="3750"/>
                  </a:lnTo>
                  <a:lnTo>
                    <a:pt x="22332" y="3400"/>
                  </a:lnTo>
                  <a:lnTo>
                    <a:pt x="21942" y="3065"/>
                  </a:lnTo>
                  <a:lnTo>
                    <a:pt x="21540" y="2746"/>
                  </a:lnTo>
                  <a:lnTo>
                    <a:pt x="21125" y="2442"/>
                  </a:lnTo>
                  <a:lnTo>
                    <a:pt x="20699" y="2155"/>
                  </a:lnTo>
                  <a:lnTo>
                    <a:pt x="20263" y="1884"/>
                  </a:lnTo>
                  <a:lnTo>
                    <a:pt x="19816" y="1630"/>
                  </a:lnTo>
                  <a:lnTo>
                    <a:pt x="19361" y="1393"/>
                  </a:lnTo>
                  <a:lnTo>
                    <a:pt x="18896" y="1174"/>
                  </a:lnTo>
                  <a:lnTo>
                    <a:pt x="18424" y="973"/>
                  </a:lnTo>
                  <a:lnTo>
                    <a:pt x="17943" y="790"/>
                  </a:lnTo>
                  <a:lnTo>
                    <a:pt x="17457" y="626"/>
                  </a:lnTo>
                  <a:lnTo>
                    <a:pt x="16964" y="480"/>
                  </a:lnTo>
                  <a:lnTo>
                    <a:pt x="16466" y="353"/>
                  </a:lnTo>
                  <a:lnTo>
                    <a:pt x="15964" y="246"/>
                  </a:lnTo>
                  <a:lnTo>
                    <a:pt x="15458" y="158"/>
                  </a:lnTo>
                  <a:lnTo>
                    <a:pt x="14948" y="88"/>
                  </a:lnTo>
                  <a:lnTo>
                    <a:pt x="14437" y="39"/>
                  </a:lnTo>
                  <a:lnTo>
                    <a:pt x="13924" y="10"/>
                  </a:lnTo>
                  <a:lnTo>
                    <a:pt x="13410" y="0"/>
                  </a:lnTo>
                  <a:lnTo>
                    <a:pt x="12897" y="10"/>
                  </a:lnTo>
                  <a:lnTo>
                    <a:pt x="12384" y="39"/>
                  </a:lnTo>
                  <a:lnTo>
                    <a:pt x="11873" y="88"/>
                  </a:lnTo>
                  <a:lnTo>
                    <a:pt x="11363" y="158"/>
                  </a:lnTo>
                  <a:lnTo>
                    <a:pt x="10857" y="246"/>
                  </a:lnTo>
                  <a:lnTo>
                    <a:pt x="10355" y="353"/>
                  </a:lnTo>
                  <a:lnTo>
                    <a:pt x="9857" y="480"/>
                  </a:lnTo>
                  <a:lnTo>
                    <a:pt x="9364" y="626"/>
                  </a:lnTo>
                  <a:lnTo>
                    <a:pt x="8878" y="790"/>
                  </a:lnTo>
                  <a:lnTo>
                    <a:pt x="8397" y="973"/>
                  </a:lnTo>
                  <a:lnTo>
                    <a:pt x="7925" y="1174"/>
                  </a:lnTo>
                  <a:lnTo>
                    <a:pt x="7460" y="1393"/>
                  </a:lnTo>
                  <a:lnTo>
                    <a:pt x="7005" y="1630"/>
                  </a:lnTo>
                  <a:lnTo>
                    <a:pt x="6558" y="1884"/>
                  </a:lnTo>
                  <a:lnTo>
                    <a:pt x="6122" y="2155"/>
                  </a:lnTo>
                  <a:lnTo>
                    <a:pt x="5696" y="2442"/>
                  </a:lnTo>
                  <a:lnTo>
                    <a:pt x="5281" y="2746"/>
                  </a:lnTo>
                  <a:lnTo>
                    <a:pt x="4879" y="3065"/>
                  </a:lnTo>
                  <a:lnTo>
                    <a:pt x="4489" y="3400"/>
                  </a:lnTo>
                  <a:lnTo>
                    <a:pt x="4112" y="3750"/>
                  </a:lnTo>
                  <a:lnTo>
                    <a:pt x="3749" y="4112"/>
                  </a:lnTo>
                  <a:lnTo>
                    <a:pt x="3399" y="4489"/>
                  </a:lnTo>
                  <a:lnTo>
                    <a:pt x="3065" y="4879"/>
                  </a:lnTo>
                  <a:lnTo>
                    <a:pt x="2745" y="5282"/>
                  </a:lnTo>
                  <a:lnTo>
                    <a:pt x="2442" y="5697"/>
                  </a:lnTo>
                  <a:lnTo>
                    <a:pt x="2155" y="6123"/>
                  </a:lnTo>
                  <a:lnTo>
                    <a:pt x="1884" y="6559"/>
                  </a:lnTo>
                  <a:lnTo>
                    <a:pt x="1629" y="7006"/>
                  </a:lnTo>
                  <a:lnTo>
                    <a:pt x="1393" y="7462"/>
                  </a:lnTo>
                  <a:lnTo>
                    <a:pt x="1174" y="7927"/>
                  </a:lnTo>
                  <a:lnTo>
                    <a:pt x="973" y="8400"/>
                  </a:lnTo>
                  <a:lnTo>
                    <a:pt x="790" y="8880"/>
                  </a:lnTo>
                  <a:lnTo>
                    <a:pt x="626" y="9367"/>
                  </a:lnTo>
                  <a:lnTo>
                    <a:pt x="480" y="9859"/>
                  </a:lnTo>
                  <a:lnTo>
                    <a:pt x="353" y="10358"/>
                  </a:lnTo>
                  <a:lnTo>
                    <a:pt x="246" y="10860"/>
                  </a:lnTo>
                  <a:lnTo>
                    <a:pt x="158" y="11366"/>
                  </a:lnTo>
                  <a:lnTo>
                    <a:pt x="89" y="11876"/>
                  </a:lnTo>
                  <a:lnTo>
                    <a:pt x="40" y="12387"/>
                  </a:lnTo>
                  <a:lnTo>
                    <a:pt x="11" y="12900"/>
                  </a:lnTo>
                  <a:lnTo>
                    <a:pt x="0" y="134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1841-1D59-4912-A58A-54D8AA1C5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Центральное проец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13840" y="1562040"/>
            <a:ext cx="899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сли центр проекций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удален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нечное расстояние от плоскости проек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(П), то такой аппарат называется </a:t>
            </a:r>
            <a:r>
              <a:rPr b="0" lang="ru-RU" sz="3200" spc="-1" strike="noStrike">
                <a:solidFill>
                  <a:srgbClr val="cc00cc"/>
                </a:solidFill>
                <a:latin typeface="Calibri"/>
                <a:ea typeface="Calibri"/>
              </a:rPr>
              <a:t>централь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(конически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00280" y="3895560"/>
            <a:ext cx="3348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546280" y="3906720"/>
            <a:ext cx="1800" cy="13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594240" y="4686480"/>
            <a:ext cx="1440" cy="133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2546280" y="3906720"/>
            <a:ext cx="1047960" cy="77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2546280" y="5245200"/>
            <a:ext cx="1047960" cy="77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1328760" y="4667400"/>
            <a:ext cx="60480" cy="64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1057680" y="4282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3247920" y="46213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3"/>
          <p:cNvSpPr/>
          <p:nvPr/>
        </p:nvSpPr>
        <p:spPr>
          <a:xfrm>
            <a:off x="5060880" y="4067280"/>
            <a:ext cx="334800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4"/>
          <p:cNvSpPr/>
          <p:nvPr/>
        </p:nvSpPr>
        <p:spPr>
          <a:xfrm>
            <a:off x="6807240" y="4078440"/>
            <a:ext cx="1440" cy="13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5"/>
          <p:cNvSpPr/>
          <p:nvPr/>
        </p:nvSpPr>
        <p:spPr>
          <a:xfrm>
            <a:off x="7854840" y="4857840"/>
            <a:ext cx="1800" cy="133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6"/>
          <p:cNvSpPr/>
          <p:nvPr/>
        </p:nvSpPr>
        <p:spPr>
          <a:xfrm>
            <a:off x="6807240" y="4078440"/>
            <a:ext cx="1047600" cy="77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7"/>
          <p:cNvSpPr/>
          <p:nvPr/>
        </p:nvSpPr>
        <p:spPr>
          <a:xfrm>
            <a:off x="6807240" y="5416560"/>
            <a:ext cx="104760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8"/>
          <p:cNvSpPr/>
          <p:nvPr/>
        </p:nvSpPr>
        <p:spPr>
          <a:xfrm>
            <a:off x="6343560" y="4584600"/>
            <a:ext cx="76320" cy="582840"/>
          </a:xfrm>
          <a:custGeom>
            <a:avLst/>
            <a:gdLst/>
            <a:ahLst/>
            <a:rect l="l" t="t" r="r" b="b"/>
            <a:pathLst>
              <a:path w="768" h="5872">
                <a:moveTo>
                  <a:pt x="75" y="0"/>
                </a:moveTo>
                <a:lnTo>
                  <a:pt x="228" y="133"/>
                </a:lnTo>
                <a:lnTo>
                  <a:pt x="298" y="201"/>
                </a:lnTo>
                <a:lnTo>
                  <a:pt x="365" y="271"/>
                </a:lnTo>
                <a:lnTo>
                  <a:pt x="427" y="341"/>
                </a:lnTo>
                <a:lnTo>
                  <a:pt x="485" y="413"/>
                </a:lnTo>
                <a:lnTo>
                  <a:pt x="538" y="486"/>
                </a:lnTo>
                <a:lnTo>
                  <a:pt x="586" y="560"/>
                </a:lnTo>
                <a:lnTo>
                  <a:pt x="629" y="636"/>
                </a:lnTo>
                <a:lnTo>
                  <a:pt x="666" y="715"/>
                </a:lnTo>
                <a:lnTo>
                  <a:pt x="698" y="794"/>
                </a:lnTo>
                <a:lnTo>
                  <a:pt x="724" y="874"/>
                </a:lnTo>
                <a:lnTo>
                  <a:pt x="744" y="958"/>
                </a:lnTo>
                <a:lnTo>
                  <a:pt x="757" y="1042"/>
                </a:lnTo>
                <a:lnTo>
                  <a:pt x="765" y="1128"/>
                </a:lnTo>
                <a:lnTo>
                  <a:pt x="768" y="1215"/>
                </a:lnTo>
                <a:lnTo>
                  <a:pt x="766" y="1305"/>
                </a:lnTo>
                <a:lnTo>
                  <a:pt x="759" y="1395"/>
                </a:lnTo>
                <a:lnTo>
                  <a:pt x="748" y="1487"/>
                </a:lnTo>
                <a:lnTo>
                  <a:pt x="732" y="1581"/>
                </a:lnTo>
                <a:lnTo>
                  <a:pt x="692" y="1770"/>
                </a:lnTo>
                <a:lnTo>
                  <a:pt x="639" y="1964"/>
                </a:lnTo>
                <a:lnTo>
                  <a:pt x="577" y="2162"/>
                </a:lnTo>
                <a:lnTo>
                  <a:pt x="507" y="2361"/>
                </a:lnTo>
                <a:lnTo>
                  <a:pt x="358" y="2768"/>
                </a:lnTo>
                <a:lnTo>
                  <a:pt x="213" y="3180"/>
                </a:lnTo>
                <a:lnTo>
                  <a:pt x="148" y="3385"/>
                </a:lnTo>
                <a:lnTo>
                  <a:pt x="92" y="3590"/>
                </a:lnTo>
                <a:lnTo>
                  <a:pt x="46" y="3794"/>
                </a:lnTo>
                <a:lnTo>
                  <a:pt x="15" y="3996"/>
                </a:lnTo>
                <a:lnTo>
                  <a:pt x="6" y="4096"/>
                </a:lnTo>
                <a:lnTo>
                  <a:pt x="1" y="4195"/>
                </a:lnTo>
                <a:lnTo>
                  <a:pt x="0" y="4293"/>
                </a:lnTo>
                <a:lnTo>
                  <a:pt x="5" y="4391"/>
                </a:lnTo>
                <a:lnTo>
                  <a:pt x="13" y="4488"/>
                </a:lnTo>
                <a:lnTo>
                  <a:pt x="26" y="4584"/>
                </a:lnTo>
                <a:lnTo>
                  <a:pt x="64" y="4774"/>
                </a:lnTo>
                <a:lnTo>
                  <a:pt x="117" y="4962"/>
                </a:lnTo>
                <a:lnTo>
                  <a:pt x="183" y="5147"/>
                </a:lnTo>
                <a:lnTo>
                  <a:pt x="262" y="5332"/>
                </a:lnTo>
                <a:lnTo>
                  <a:pt x="350" y="5513"/>
                </a:lnTo>
                <a:lnTo>
                  <a:pt x="448" y="5693"/>
                </a:lnTo>
                <a:lnTo>
                  <a:pt x="553" y="5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9"/>
          <p:cNvSpPr/>
          <p:nvPr/>
        </p:nvSpPr>
        <p:spPr>
          <a:xfrm flipV="1">
            <a:off x="5613480" y="4351320"/>
            <a:ext cx="1334880" cy="51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0"/>
          <p:cNvSpPr/>
          <p:nvPr/>
        </p:nvSpPr>
        <p:spPr>
          <a:xfrm flipV="1">
            <a:off x="5613480" y="4495320"/>
            <a:ext cx="1447560" cy="3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1"/>
          <p:cNvSpPr/>
          <p:nvPr/>
        </p:nvSpPr>
        <p:spPr>
          <a:xfrm flipV="1">
            <a:off x="5613480" y="4725720"/>
            <a:ext cx="16063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2"/>
          <p:cNvSpPr/>
          <p:nvPr/>
        </p:nvSpPr>
        <p:spPr>
          <a:xfrm>
            <a:off x="5613480" y="4870440"/>
            <a:ext cx="1627200" cy="13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5613480" y="4870440"/>
            <a:ext cx="1519200" cy="35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4"/>
          <p:cNvSpPr/>
          <p:nvPr/>
        </p:nvSpPr>
        <p:spPr>
          <a:xfrm>
            <a:off x="5613480" y="4870440"/>
            <a:ext cx="1527120" cy="57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55"/>
          <p:cNvSpPr/>
          <p:nvPr/>
        </p:nvSpPr>
        <p:spPr>
          <a:xfrm>
            <a:off x="6948360" y="4351320"/>
            <a:ext cx="308160" cy="1096920"/>
          </a:xfrm>
          <a:custGeom>
            <a:avLst/>
            <a:gdLst/>
            <a:ahLst/>
            <a:rect l="l" t="t" r="r" b="b"/>
            <a:pathLst>
              <a:path w="3096" h="11045">
                <a:moveTo>
                  <a:pt x="0" y="0"/>
                </a:moveTo>
                <a:lnTo>
                  <a:pt x="462" y="605"/>
                </a:lnTo>
                <a:lnTo>
                  <a:pt x="932" y="1205"/>
                </a:lnTo>
                <a:lnTo>
                  <a:pt x="1413" y="1798"/>
                </a:lnTo>
                <a:lnTo>
                  <a:pt x="1654" y="2096"/>
                </a:lnTo>
                <a:lnTo>
                  <a:pt x="1890" y="2397"/>
                </a:lnTo>
                <a:lnTo>
                  <a:pt x="2116" y="2704"/>
                </a:lnTo>
                <a:lnTo>
                  <a:pt x="2224" y="2860"/>
                </a:lnTo>
                <a:lnTo>
                  <a:pt x="2328" y="3020"/>
                </a:lnTo>
                <a:lnTo>
                  <a:pt x="2428" y="3182"/>
                </a:lnTo>
                <a:lnTo>
                  <a:pt x="2523" y="3348"/>
                </a:lnTo>
                <a:lnTo>
                  <a:pt x="2611" y="3517"/>
                </a:lnTo>
                <a:lnTo>
                  <a:pt x="2695" y="3691"/>
                </a:lnTo>
                <a:lnTo>
                  <a:pt x="2771" y="3868"/>
                </a:lnTo>
                <a:lnTo>
                  <a:pt x="2840" y="4051"/>
                </a:lnTo>
                <a:lnTo>
                  <a:pt x="2902" y="4236"/>
                </a:lnTo>
                <a:lnTo>
                  <a:pt x="2955" y="4424"/>
                </a:lnTo>
                <a:lnTo>
                  <a:pt x="3002" y="4616"/>
                </a:lnTo>
                <a:lnTo>
                  <a:pt x="3039" y="4809"/>
                </a:lnTo>
                <a:lnTo>
                  <a:pt x="3067" y="5003"/>
                </a:lnTo>
                <a:lnTo>
                  <a:pt x="3087" y="5198"/>
                </a:lnTo>
                <a:lnTo>
                  <a:pt x="3096" y="5392"/>
                </a:lnTo>
                <a:lnTo>
                  <a:pt x="3096" y="5588"/>
                </a:lnTo>
                <a:lnTo>
                  <a:pt x="3086" y="5782"/>
                </a:lnTo>
                <a:lnTo>
                  <a:pt x="3065" y="5973"/>
                </a:lnTo>
                <a:lnTo>
                  <a:pt x="3034" y="6163"/>
                </a:lnTo>
                <a:lnTo>
                  <a:pt x="2991" y="6350"/>
                </a:lnTo>
                <a:lnTo>
                  <a:pt x="2937" y="6535"/>
                </a:lnTo>
                <a:lnTo>
                  <a:pt x="2872" y="6714"/>
                </a:lnTo>
                <a:lnTo>
                  <a:pt x="2796" y="6891"/>
                </a:lnTo>
                <a:lnTo>
                  <a:pt x="2711" y="7064"/>
                </a:lnTo>
                <a:lnTo>
                  <a:pt x="2621" y="7236"/>
                </a:lnTo>
                <a:lnTo>
                  <a:pt x="2527" y="7405"/>
                </a:lnTo>
                <a:lnTo>
                  <a:pt x="2333" y="7742"/>
                </a:lnTo>
                <a:lnTo>
                  <a:pt x="2147" y="8076"/>
                </a:lnTo>
                <a:lnTo>
                  <a:pt x="2061" y="8245"/>
                </a:lnTo>
                <a:lnTo>
                  <a:pt x="1983" y="8416"/>
                </a:lnTo>
                <a:lnTo>
                  <a:pt x="1914" y="8588"/>
                </a:lnTo>
                <a:lnTo>
                  <a:pt x="1857" y="8764"/>
                </a:lnTo>
                <a:lnTo>
                  <a:pt x="1814" y="8942"/>
                </a:lnTo>
                <a:lnTo>
                  <a:pt x="1783" y="9124"/>
                </a:lnTo>
                <a:lnTo>
                  <a:pt x="1763" y="9308"/>
                </a:lnTo>
                <a:lnTo>
                  <a:pt x="1755" y="9494"/>
                </a:lnTo>
                <a:lnTo>
                  <a:pt x="1756" y="9683"/>
                </a:lnTo>
                <a:lnTo>
                  <a:pt x="1765" y="9874"/>
                </a:lnTo>
                <a:lnTo>
                  <a:pt x="1782" y="10067"/>
                </a:lnTo>
                <a:lnTo>
                  <a:pt x="1805" y="10261"/>
                </a:lnTo>
                <a:lnTo>
                  <a:pt x="1862" y="10652"/>
                </a:lnTo>
                <a:lnTo>
                  <a:pt x="1928" y="110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6"/>
          <p:cNvSpPr/>
          <p:nvPr/>
        </p:nvSpPr>
        <p:spPr>
          <a:xfrm>
            <a:off x="5589720" y="4838760"/>
            <a:ext cx="60120" cy="65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7"/>
          <p:cNvSpPr/>
          <p:nvPr/>
        </p:nvSpPr>
        <p:spPr>
          <a:xfrm>
            <a:off x="5318640" y="4454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8"/>
          <p:cNvSpPr/>
          <p:nvPr/>
        </p:nvSpPr>
        <p:spPr>
          <a:xfrm>
            <a:off x="7508880" y="47926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9"/>
          <p:cNvSpPr/>
          <p:nvPr/>
        </p:nvSpPr>
        <p:spPr>
          <a:xfrm>
            <a:off x="6156720" y="41590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0"/>
          <p:cNvSpPr/>
          <p:nvPr/>
        </p:nvSpPr>
        <p:spPr>
          <a:xfrm>
            <a:off x="7243200" y="4921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4F86-2C21-430C-B7C9-CBC325A60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араллельное проец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45960" y="1562040"/>
            <a:ext cx="85708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Если центр проекций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дален на бесконечное расстояние от плоскости проекций (П), то проецирующие лучи параллельны, поэтому такой аппарат называется </a:t>
            </a:r>
            <a:r>
              <a:rPr b="0" lang="ru-RU" sz="2800" spc="-1" strike="noStrike">
                <a:solidFill>
                  <a:srgbClr val="cc00cc"/>
                </a:solidFill>
                <a:latin typeface="Calibri"/>
                <a:ea typeface="Calibri"/>
              </a:rPr>
              <a:t>параллельны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(цилиндрически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Если угол между проецирующими лучами и плоскостью проекций равен 9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то такой аппарат называется </a:t>
            </a:r>
            <a:r>
              <a:rPr b="0" lang="ru-RU" sz="2800" spc="-1" strike="noStrike">
                <a:solidFill>
                  <a:srgbClr val="cc00cc"/>
                </a:solidFill>
                <a:latin typeface="Calibri"/>
                <a:ea typeface="Calibri"/>
              </a:rPr>
              <a:t>прямоугольны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или </a:t>
            </a:r>
            <a:r>
              <a:rPr b="0" lang="ru-RU" sz="2800" spc="-1" strike="noStrike">
                <a:solidFill>
                  <a:srgbClr val="cc00cc"/>
                </a:solidFill>
                <a:latin typeface="Calibri"/>
                <a:ea typeface="Calibri"/>
              </a:rPr>
              <a:t>ортогональны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иначе аппарат называется </a:t>
            </a:r>
            <a:r>
              <a:rPr b="0" lang="ru-RU" sz="2800" spc="-1" strike="noStrike">
                <a:solidFill>
                  <a:srgbClr val="cc00cc"/>
                </a:solidFill>
                <a:latin typeface="Calibri"/>
                <a:ea typeface="Calibri"/>
              </a:rPr>
              <a:t>косоугольны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CE8B-C3BA-4C10-AA8C-BBB3273DE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4675320" y="2725560"/>
            <a:ext cx="3348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8"/>
          <p:cNvSpPr/>
          <p:nvPr/>
        </p:nvSpPr>
        <p:spPr>
          <a:xfrm>
            <a:off x="1379160" y="285840"/>
            <a:ext cx="64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араллельное проец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0"/>
          <p:cNvSpPr/>
          <p:nvPr/>
        </p:nvSpPr>
        <p:spPr>
          <a:xfrm>
            <a:off x="5637240" y="2610000"/>
            <a:ext cx="291636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2"/>
          <p:cNvSpPr/>
          <p:nvPr/>
        </p:nvSpPr>
        <p:spPr>
          <a:xfrm>
            <a:off x="6923160" y="2657520"/>
            <a:ext cx="1440" cy="171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3"/>
          <p:cNvSpPr/>
          <p:nvPr/>
        </p:nvSpPr>
        <p:spPr>
          <a:xfrm>
            <a:off x="8267760" y="3656160"/>
            <a:ext cx="1440" cy="171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4"/>
          <p:cNvSpPr/>
          <p:nvPr/>
        </p:nvSpPr>
        <p:spPr>
          <a:xfrm>
            <a:off x="6923160" y="2657520"/>
            <a:ext cx="1344600" cy="99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5"/>
          <p:cNvSpPr/>
          <p:nvPr/>
        </p:nvSpPr>
        <p:spPr>
          <a:xfrm>
            <a:off x="6923160" y="4373640"/>
            <a:ext cx="1344600" cy="9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6"/>
          <p:cNvSpPr/>
          <p:nvPr/>
        </p:nvSpPr>
        <p:spPr>
          <a:xfrm>
            <a:off x="6164280" y="3089160"/>
            <a:ext cx="245880" cy="1140120"/>
          </a:xfrm>
          <a:custGeom>
            <a:avLst/>
            <a:gdLst/>
            <a:ahLst/>
            <a:rect l="l" t="t" r="r" b="b"/>
            <a:pathLst>
              <a:path w="1850" h="8610">
                <a:moveTo>
                  <a:pt x="193" y="0"/>
                </a:moveTo>
                <a:lnTo>
                  <a:pt x="281" y="115"/>
                </a:lnTo>
                <a:lnTo>
                  <a:pt x="366" y="227"/>
                </a:lnTo>
                <a:lnTo>
                  <a:pt x="448" y="336"/>
                </a:lnTo>
                <a:lnTo>
                  <a:pt x="527" y="439"/>
                </a:lnTo>
                <a:lnTo>
                  <a:pt x="603" y="539"/>
                </a:lnTo>
                <a:lnTo>
                  <a:pt x="676" y="635"/>
                </a:lnTo>
                <a:lnTo>
                  <a:pt x="746" y="727"/>
                </a:lnTo>
                <a:lnTo>
                  <a:pt x="814" y="817"/>
                </a:lnTo>
                <a:lnTo>
                  <a:pt x="879" y="902"/>
                </a:lnTo>
                <a:lnTo>
                  <a:pt x="941" y="984"/>
                </a:lnTo>
                <a:lnTo>
                  <a:pt x="1000" y="1062"/>
                </a:lnTo>
                <a:lnTo>
                  <a:pt x="1057" y="1138"/>
                </a:lnTo>
                <a:lnTo>
                  <a:pt x="1112" y="1210"/>
                </a:lnTo>
                <a:lnTo>
                  <a:pt x="1163" y="1280"/>
                </a:lnTo>
                <a:lnTo>
                  <a:pt x="1260" y="1410"/>
                </a:lnTo>
                <a:lnTo>
                  <a:pt x="1349" y="1528"/>
                </a:lnTo>
                <a:lnTo>
                  <a:pt x="1428" y="1636"/>
                </a:lnTo>
                <a:lnTo>
                  <a:pt x="1498" y="1735"/>
                </a:lnTo>
                <a:lnTo>
                  <a:pt x="1561" y="1825"/>
                </a:lnTo>
                <a:lnTo>
                  <a:pt x="1616" y="1906"/>
                </a:lnTo>
                <a:lnTo>
                  <a:pt x="1664" y="1979"/>
                </a:lnTo>
                <a:lnTo>
                  <a:pt x="1706" y="2046"/>
                </a:lnTo>
                <a:lnTo>
                  <a:pt x="1741" y="2107"/>
                </a:lnTo>
                <a:lnTo>
                  <a:pt x="1770" y="2162"/>
                </a:lnTo>
                <a:lnTo>
                  <a:pt x="1795" y="2214"/>
                </a:lnTo>
                <a:lnTo>
                  <a:pt x="1814" y="2261"/>
                </a:lnTo>
                <a:lnTo>
                  <a:pt x="1828" y="2304"/>
                </a:lnTo>
                <a:lnTo>
                  <a:pt x="1839" y="2345"/>
                </a:lnTo>
                <a:lnTo>
                  <a:pt x="1846" y="2384"/>
                </a:lnTo>
                <a:lnTo>
                  <a:pt x="1850" y="2460"/>
                </a:lnTo>
                <a:lnTo>
                  <a:pt x="1844" y="2536"/>
                </a:lnTo>
                <a:lnTo>
                  <a:pt x="1829" y="2613"/>
                </a:lnTo>
                <a:lnTo>
                  <a:pt x="1806" y="2692"/>
                </a:lnTo>
                <a:lnTo>
                  <a:pt x="1774" y="2772"/>
                </a:lnTo>
                <a:lnTo>
                  <a:pt x="1735" y="2852"/>
                </a:lnTo>
                <a:lnTo>
                  <a:pt x="1690" y="2934"/>
                </a:lnTo>
                <a:lnTo>
                  <a:pt x="1639" y="3016"/>
                </a:lnTo>
                <a:lnTo>
                  <a:pt x="1583" y="3100"/>
                </a:lnTo>
                <a:lnTo>
                  <a:pt x="1522" y="3186"/>
                </a:lnTo>
                <a:lnTo>
                  <a:pt x="1457" y="3271"/>
                </a:lnTo>
                <a:lnTo>
                  <a:pt x="1316" y="3445"/>
                </a:lnTo>
                <a:lnTo>
                  <a:pt x="1168" y="3623"/>
                </a:lnTo>
                <a:lnTo>
                  <a:pt x="1017" y="3803"/>
                </a:lnTo>
                <a:lnTo>
                  <a:pt x="867" y="3987"/>
                </a:lnTo>
                <a:lnTo>
                  <a:pt x="724" y="4174"/>
                </a:lnTo>
                <a:lnTo>
                  <a:pt x="594" y="4363"/>
                </a:lnTo>
                <a:lnTo>
                  <a:pt x="535" y="4458"/>
                </a:lnTo>
                <a:lnTo>
                  <a:pt x="481" y="4555"/>
                </a:lnTo>
                <a:lnTo>
                  <a:pt x="433" y="4652"/>
                </a:lnTo>
                <a:lnTo>
                  <a:pt x="391" y="4749"/>
                </a:lnTo>
                <a:lnTo>
                  <a:pt x="356" y="4846"/>
                </a:lnTo>
                <a:lnTo>
                  <a:pt x="329" y="4944"/>
                </a:lnTo>
                <a:lnTo>
                  <a:pt x="309" y="5043"/>
                </a:lnTo>
                <a:lnTo>
                  <a:pt x="299" y="5142"/>
                </a:lnTo>
                <a:lnTo>
                  <a:pt x="297" y="5241"/>
                </a:lnTo>
                <a:lnTo>
                  <a:pt x="306" y="5341"/>
                </a:lnTo>
                <a:lnTo>
                  <a:pt x="326" y="5441"/>
                </a:lnTo>
                <a:lnTo>
                  <a:pt x="357" y="5542"/>
                </a:lnTo>
                <a:lnTo>
                  <a:pt x="400" y="5642"/>
                </a:lnTo>
                <a:lnTo>
                  <a:pt x="452" y="5744"/>
                </a:lnTo>
                <a:lnTo>
                  <a:pt x="510" y="5849"/>
                </a:lnTo>
                <a:lnTo>
                  <a:pt x="572" y="5958"/>
                </a:lnTo>
                <a:lnTo>
                  <a:pt x="633" y="6072"/>
                </a:lnTo>
                <a:lnTo>
                  <a:pt x="691" y="6193"/>
                </a:lnTo>
                <a:lnTo>
                  <a:pt x="743" y="6321"/>
                </a:lnTo>
                <a:lnTo>
                  <a:pt x="786" y="6459"/>
                </a:lnTo>
                <a:lnTo>
                  <a:pt x="803" y="6531"/>
                </a:lnTo>
                <a:lnTo>
                  <a:pt x="816" y="6606"/>
                </a:lnTo>
                <a:lnTo>
                  <a:pt x="825" y="6684"/>
                </a:lnTo>
                <a:lnTo>
                  <a:pt x="830" y="6765"/>
                </a:lnTo>
                <a:lnTo>
                  <a:pt x="830" y="6849"/>
                </a:lnTo>
                <a:lnTo>
                  <a:pt x="825" y="6938"/>
                </a:lnTo>
                <a:lnTo>
                  <a:pt x="815" y="7029"/>
                </a:lnTo>
                <a:lnTo>
                  <a:pt x="798" y="7124"/>
                </a:lnTo>
                <a:lnTo>
                  <a:pt x="775" y="7222"/>
                </a:lnTo>
                <a:lnTo>
                  <a:pt x="745" y="7325"/>
                </a:lnTo>
                <a:lnTo>
                  <a:pt x="709" y="7433"/>
                </a:lnTo>
                <a:lnTo>
                  <a:pt x="665" y="7544"/>
                </a:lnTo>
                <a:lnTo>
                  <a:pt x="614" y="7660"/>
                </a:lnTo>
                <a:lnTo>
                  <a:pt x="554" y="7780"/>
                </a:lnTo>
                <a:lnTo>
                  <a:pt x="486" y="7906"/>
                </a:lnTo>
                <a:lnTo>
                  <a:pt x="408" y="8036"/>
                </a:lnTo>
                <a:lnTo>
                  <a:pt x="322" y="8171"/>
                </a:lnTo>
                <a:lnTo>
                  <a:pt x="224" y="8312"/>
                </a:lnTo>
                <a:lnTo>
                  <a:pt x="117" y="8458"/>
                </a:lnTo>
                <a:lnTo>
                  <a:pt x="0" y="86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7"/>
          <p:cNvSpPr/>
          <p:nvPr/>
        </p:nvSpPr>
        <p:spPr>
          <a:xfrm>
            <a:off x="5789520" y="2625840"/>
            <a:ext cx="1494000" cy="52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8"/>
          <p:cNvSpPr/>
          <p:nvPr/>
        </p:nvSpPr>
        <p:spPr>
          <a:xfrm>
            <a:off x="6191280" y="3089160"/>
            <a:ext cx="1457280" cy="51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9"/>
          <p:cNvSpPr/>
          <p:nvPr/>
        </p:nvSpPr>
        <p:spPr>
          <a:xfrm>
            <a:off x="6383160" y="3349800"/>
            <a:ext cx="1278000" cy="44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6318360" y="3571920"/>
            <a:ext cx="1204920" cy="42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6213600" y="3827520"/>
            <a:ext cx="119052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6257880" y="4076640"/>
            <a:ext cx="1166760" cy="40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6164280" y="4229280"/>
            <a:ext cx="1336680" cy="46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4"/>
          <p:cNvSpPr/>
          <p:nvPr/>
        </p:nvSpPr>
        <p:spPr>
          <a:xfrm>
            <a:off x="7399440" y="3600360"/>
            <a:ext cx="285480" cy="1095480"/>
          </a:xfrm>
          <a:custGeom>
            <a:avLst/>
            <a:gdLst/>
            <a:ahLst/>
            <a:rect l="l" t="t" r="r" b="b"/>
            <a:pathLst>
              <a:path w="2155" h="8287">
                <a:moveTo>
                  <a:pt x="1887" y="0"/>
                </a:moveTo>
                <a:lnTo>
                  <a:pt x="1952" y="107"/>
                </a:lnTo>
                <a:lnTo>
                  <a:pt x="2008" y="215"/>
                </a:lnTo>
                <a:lnTo>
                  <a:pt x="2056" y="323"/>
                </a:lnTo>
                <a:lnTo>
                  <a:pt x="2095" y="432"/>
                </a:lnTo>
                <a:lnTo>
                  <a:pt x="2125" y="541"/>
                </a:lnTo>
                <a:lnTo>
                  <a:pt x="2145" y="651"/>
                </a:lnTo>
                <a:lnTo>
                  <a:pt x="2155" y="762"/>
                </a:lnTo>
                <a:lnTo>
                  <a:pt x="2155" y="874"/>
                </a:lnTo>
                <a:lnTo>
                  <a:pt x="2144" y="986"/>
                </a:lnTo>
                <a:lnTo>
                  <a:pt x="2123" y="1099"/>
                </a:lnTo>
                <a:lnTo>
                  <a:pt x="2091" y="1213"/>
                </a:lnTo>
                <a:lnTo>
                  <a:pt x="2050" y="1328"/>
                </a:lnTo>
                <a:lnTo>
                  <a:pt x="2001" y="1443"/>
                </a:lnTo>
                <a:lnTo>
                  <a:pt x="1944" y="1559"/>
                </a:lnTo>
                <a:lnTo>
                  <a:pt x="1879" y="1677"/>
                </a:lnTo>
                <a:lnTo>
                  <a:pt x="1808" y="1795"/>
                </a:lnTo>
                <a:lnTo>
                  <a:pt x="1731" y="1913"/>
                </a:lnTo>
                <a:lnTo>
                  <a:pt x="1650" y="2032"/>
                </a:lnTo>
                <a:lnTo>
                  <a:pt x="1564" y="2153"/>
                </a:lnTo>
                <a:lnTo>
                  <a:pt x="1475" y="2274"/>
                </a:lnTo>
                <a:lnTo>
                  <a:pt x="1288" y="2518"/>
                </a:lnTo>
                <a:lnTo>
                  <a:pt x="1097" y="2767"/>
                </a:lnTo>
                <a:lnTo>
                  <a:pt x="907" y="3018"/>
                </a:lnTo>
                <a:lnTo>
                  <a:pt x="721" y="3272"/>
                </a:lnTo>
                <a:lnTo>
                  <a:pt x="634" y="3400"/>
                </a:lnTo>
                <a:lnTo>
                  <a:pt x="550" y="3529"/>
                </a:lnTo>
                <a:lnTo>
                  <a:pt x="470" y="3659"/>
                </a:lnTo>
                <a:lnTo>
                  <a:pt x="396" y="3789"/>
                </a:lnTo>
                <a:lnTo>
                  <a:pt x="328" y="3921"/>
                </a:lnTo>
                <a:lnTo>
                  <a:pt x="266" y="4054"/>
                </a:lnTo>
                <a:lnTo>
                  <a:pt x="212" y="4186"/>
                </a:lnTo>
                <a:lnTo>
                  <a:pt x="163" y="4320"/>
                </a:lnTo>
                <a:lnTo>
                  <a:pt x="122" y="4455"/>
                </a:lnTo>
                <a:lnTo>
                  <a:pt x="87" y="4590"/>
                </a:lnTo>
                <a:lnTo>
                  <a:pt x="58" y="4726"/>
                </a:lnTo>
                <a:lnTo>
                  <a:pt x="35" y="4862"/>
                </a:lnTo>
                <a:lnTo>
                  <a:pt x="18" y="5000"/>
                </a:lnTo>
                <a:lnTo>
                  <a:pt x="7" y="5138"/>
                </a:lnTo>
                <a:lnTo>
                  <a:pt x="1" y="5276"/>
                </a:lnTo>
                <a:lnTo>
                  <a:pt x="0" y="5416"/>
                </a:lnTo>
                <a:lnTo>
                  <a:pt x="4" y="5555"/>
                </a:lnTo>
                <a:lnTo>
                  <a:pt x="13" y="5695"/>
                </a:lnTo>
                <a:lnTo>
                  <a:pt x="27" y="5837"/>
                </a:lnTo>
                <a:lnTo>
                  <a:pt x="45" y="5978"/>
                </a:lnTo>
                <a:lnTo>
                  <a:pt x="67" y="6119"/>
                </a:lnTo>
                <a:lnTo>
                  <a:pt x="93" y="6261"/>
                </a:lnTo>
                <a:lnTo>
                  <a:pt x="123" y="6404"/>
                </a:lnTo>
                <a:lnTo>
                  <a:pt x="156" y="6547"/>
                </a:lnTo>
                <a:lnTo>
                  <a:pt x="193" y="6690"/>
                </a:lnTo>
                <a:lnTo>
                  <a:pt x="234" y="6835"/>
                </a:lnTo>
                <a:lnTo>
                  <a:pt x="323" y="7123"/>
                </a:lnTo>
                <a:lnTo>
                  <a:pt x="423" y="7413"/>
                </a:lnTo>
                <a:lnTo>
                  <a:pt x="531" y="7704"/>
                </a:lnTo>
                <a:lnTo>
                  <a:pt x="647" y="7995"/>
                </a:lnTo>
                <a:lnTo>
                  <a:pt x="769" y="82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5"/>
          <p:cNvSpPr/>
          <p:nvPr/>
        </p:nvSpPr>
        <p:spPr>
          <a:xfrm>
            <a:off x="5787360" y="225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6"/>
          <p:cNvSpPr/>
          <p:nvPr/>
        </p:nvSpPr>
        <p:spPr>
          <a:xfrm>
            <a:off x="5801040" y="40798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7"/>
          <p:cNvSpPr/>
          <p:nvPr/>
        </p:nvSpPr>
        <p:spPr>
          <a:xfrm>
            <a:off x="7554240" y="43909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8"/>
          <p:cNvSpPr/>
          <p:nvPr/>
        </p:nvSpPr>
        <p:spPr>
          <a:xfrm>
            <a:off x="7826400" y="35971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9"/>
          <p:cNvSpPr/>
          <p:nvPr/>
        </p:nvSpPr>
        <p:spPr>
          <a:xfrm>
            <a:off x="438120" y="2965320"/>
            <a:ext cx="3348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0"/>
          <p:cNvSpPr/>
          <p:nvPr/>
        </p:nvSpPr>
        <p:spPr>
          <a:xfrm>
            <a:off x="1414440" y="2444760"/>
            <a:ext cx="291636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1"/>
          <p:cNvSpPr/>
          <p:nvPr/>
        </p:nvSpPr>
        <p:spPr>
          <a:xfrm>
            <a:off x="2700360" y="2492280"/>
            <a:ext cx="1440" cy="171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2"/>
          <p:cNvSpPr/>
          <p:nvPr/>
        </p:nvSpPr>
        <p:spPr>
          <a:xfrm>
            <a:off x="4044960" y="3490920"/>
            <a:ext cx="1440" cy="171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3"/>
          <p:cNvSpPr/>
          <p:nvPr/>
        </p:nvSpPr>
        <p:spPr>
          <a:xfrm>
            <a:off x="2700360" y="2492280"/>
            <a:ext cx="1344600" cy="99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4"/>
          <p:cNvSpPr/>
          <p:nvPr/>
        </p:nvSpPr>
        <p:spPr>
          <a:xfrm>
            <a:off x="2700360" y="4208400"/>
            <a:ext cx="1344600" cy="9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6"/>
          <p:cNvSpPr/>
          <p:nvPr/>
        </p:nvSpPr>
        <p:spPr>
          <a:xfrm>
            <a:off x="1566720" y="2460600"/>
            <a:ext cx="1494000" cy="5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4"/>
          <p:cNvSpPr/>
          <p:nvPr/>
        </p:nvSpPr>
        <p:spPr>
          <a:xfrm>
            <a:off x="1564920" y="209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7"/>
          <p:cNvSpPr/>
          <p:nvPr/>
        </p:nvSpPr>
        <p:spPr>
          <a:xfrm>
            <a:off x="3603600" y="34322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2"/>
          <p:cNvSpPr/>
          <p:nvPr/>
        </p:nvSpPr>
        <p:spPr>
          <a:xfrm>
            <a:off x="810000" y="454644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3"/>
          <p:cNvSpPr/>
          <p:nvPr/>
        </p:nvSpPr>
        <p:spPr>
          <a:xfrm>
            <a:off x="1170000" y="4707000"/>
            <a:ext cx="36360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507F-2D29-4E9B-BDC5-8AAF4E433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истемы построения мод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89880" y="2532240"/>
            <a:ext cx="829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ы построения моделей состо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из тех же двух частей, что и аппар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оецирования: </a:t>
            </a:r>
            <a:r>
              <a:rPr b="0" lang="ru-RU" sz="3200" spc="-1" strike="noStrike">
                <a:solidFill>
                  <a:srgbClr val="cc00cc"/>
                </a:solidFill>
                <a:latin typeface="Calibri"/>
                <a:ea typeface="Calibri"/>
              </a:rPr>
              <a:t>геометрическ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и </a:t>
            </a:r>
            <a:r>
              <a:rPr b="0" lang="ru-RU" sz="3200" spc="-1" strike="noStrike">
                <a:solidFill>
                  <a:srgbClr val="cc00cc"/>
                </a:solidFill>
                <a:latin typeface="Calibri"/>
                <a:ea typeface="Calibri"/>
              </a:rPr>
              <a:t>алгоритм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Calibri"/>
                <a:ea typeface="Calibri"/>
              </a:rPr>
              <a:t>ческ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B64F-D34D-421C-92F1-D6C07C47D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ребования к мод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11040" y="1281240"/>
            <a:ext cx="8466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заимная однозначность между мод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и объек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2.Удобна для решения позиционных рически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3.Нагляд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1251000" y="2905200"/>
            <a:ext cx="2367000" cy="87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002200" y="2890800"/>
            <a:ext cx="2367000" cy="87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618000" y="307980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3617640" y="3470400"/>
            <a:ext cx="1384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3AE1-AE84-4CCA-96C4-78D8F97FF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ребования к мод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1746360" y="3443400"/>
            <a:ext cx="153720" cy="153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710000" y="289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538440" y="19224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4"/>
          <p:cNvGrpSpPr/>
          <p:nvPr/>
        </p:nvGrpSpPr>
        <p:grpSpPr>
          <a:xfrm>
            <a:off x="3394080" y="1486080"/>
            <a:ext cx="2715480" cy="4893840"/>
            <a:chOff x="3394080" y="1486080"/>
            <a:chExt cx="2715480" cy="4893840"/>
          </a:xfrm>
        </p:grpSpPr>
        <p:sp>
          <p:nvSpPr>
            <p:cNvPr id="227" name="Line 20"/>
            <p:cNvSpPr/>
            <p:nvPr/>
          </p:nvSpPr>
          <p:spPr>
            <a:xfrm>
              <a:off x="6106680" y="3287520"/>
              <a:ext cx="2880" cy="30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1"/>
            <p:cNvSpPr/>
            <p:nvPr/>
          </p:nvSpPr>
          <p:spPr>
            <a:xfrm>
              <a:off x="3394080" y="1486080"/>
              <a:ext cx="2712600" cy="180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2"/>
            <p:cNvSpPr/>
            <p:nvPr/>
          </p:nvSpPr>
          <p:spPr>
            <a:xfrm>
              <a:off x="3394080" y="4581720"/>
              <a:ext cx="2712600" cy="179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3"/>
            <p:cNvSpPr/>
            <p:nvPr/>
          </p:nvSpPr>
          <p:spPr>
            <a:xfrm>
              <a:off x="3394080" y="1486080"/>
              <a:ext cx="2880" cy="30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Box 1"/>
          <p:cNvSpPr/>
          <p:nvPr/>
        </p:nvSpPr>
        <p:spPr>
          <a:xfrm>
            <a:off x="179280" y="5222880"/>
            <a:ext cx="372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 –плоскость про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 проец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31BF-A61B-4BAF-8883-996D50EA0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ребования к мод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1746360" y="3443400"/>
            <a:ext cx="153720" cy="153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1710000" y="289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3538440" y="19224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394080" y="1486080"/>
            <a:ext cx="2715480" cy="4893840"/>
            <a:chOff x="3394080" y="1486080"/>
            <a:chExt cx="2715480" cy="4893840"/>
          </a:xfrm>
        </p:grpSpPr>
        <p:sp>
          <p:nvSpPr>
            <p:cNvPr id="238" name="Line 9"/>
            <p:cNvSpPr/>
            <p:nvPr/>
          </p:nvSpPr>
          <p:spPr>
            <a:xfrm>
              <a:off x="6106680" y="3287520"/>
              <a:ext cx="2880" cy="30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>
              <a:off x="3394080" y="1486080"/>
              <a:ext cx="2712600" cy="180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3394080" y="4581720"/>
              <a:ext cx="2712600" cy="179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2"/>
            <p:cNvSpPr/>
            <p:nvPr/>
          </p:nvSpPr>
          <p:spPr>
            <a:xfrm>
              <a:off x="3394080" y="1486080"/>
              <a:ext cx="2880" cy="30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Oval 13"/>
          <p:cNvSpPr/>
          <p:nvPr/>
        </p:nvSpPr>
        <p:spPr>
          <a:xfrm>
            <a:off x="2779560" y="3627360"/>
            <a:ext cx="154080" cy="15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2764080" y="3041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277920" y="5472000"/>
            <a:ext cx="444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 –плоскость про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 проец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– точка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A67E-1EBD-414B-A25C-618140B60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ребования к мод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1746360" y="3443400"/>
            <a:ext cx="153720" cy="153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710000" y="289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3538440" y="19224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3394080" y="1486080"/>
            <a:ext cx="2715480" cy="4893840"/>
            <a:chOff x="3394080" y="1486080"/>
            <a:chExt cx="2715480" cy="4893840"/>
          </a:xfrm>
        </p:grpSpPr>
        <p:sp>
          <p:nvSpPr>
            <p:cNvPr id="251" name="Line 9"/>
            <p:cNvSpPr/>
            <p:nvPr/>
          </p:nvSpPr>
          <p:spPr>
            <a:xfrm>
              <a:off x="6106680" y="3287520"/>
              <a:ext cx="2880" cy="30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0"/>
            <p:cNvSpPr/>
            <p:nvPr/>
          </p:nvSpPr>
          <p:spPr>
            <a:xfrm>
              <a:off x="3394080" y="1486080"/>
              <a:ext cx="2712600" cy="180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1"/>
            <p:cNvSpPr/>
            <p:nvPr/>
          </p:nvSpPr>
          <p:spPr>
            <a:xfrm>
              <a:off x="3394080" y="4581720"/>
              <a:ext cx="2712600" cy="179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"/>
            <p:cNvSpPr/>
            <p:nvPr/>
          </p:nvSpPr>
          <p:spPr>
            <a:xfrm>
              <a:off x="3394080" y="1486080"/>
              <a:ext cx="2880" cy="30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4"/>
          <p:cNvSpPr/>
          <p:nvPr/>
        </p:nvSpPr>
        <p:spPr>
          <a:xfrm>
            <a:off x="2764080" y="3041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5"/>
          <p:cNvSpPr/>
          <p:nvPr/>
        </p:nvSpPr>
        <p:spPr>
          <a:xfrm>
            <a:off x="1903320" y="3525840"/>
            <a:ext cx="2382840" cy="428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5176800" y="4094280"/>
            <a:ext cx="388800" cy="5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7"/>
          <p:cNvSpPr/>
          <p:nvPr/>
        </p:nvSpPr>
        <p:spPr>
          <a:xfrm>
            <a:off x="2779560" y="3627360"/>
            <a:ext cx="154080" cy="15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4286160" y="3954600"/>
            <a:ext cx="890640" cy="13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249120" y="5513400"/>
            <a:ext cx="531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центра проецирования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м луч через точку А до пересечения с П(п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600B-4E6C-4EFA-B435-F1428BA1F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ребования к мод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"/>
          <p:cNvSpPr/>
          <p:nvPr/>
        </p:nvSpPr>
        <p:spPr>
          <a:xfrm>
            <a:off x="1746360" y="3443400"/>
            <a:ext cx="153720" cy="153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903320" y="3525840"/>
            <a:ext cx="238284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7"/>
          <p:cNvSpPr/>
          <p:nvPr/>
        </p:nvSpPr>
        <p:spPr>
          <a:xfrm>
            <a:off x="2779560" y="3627360"/>
            <a:ext cx="154080" cy="15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4286160" y="3895560"/>
            <a:ext cx="154080" cy="15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4443480" y="3978360"/>
            <a:ext cx="750960" cy="115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5176800" y="4094280"/>
            <a:ext cx="388800" cy="5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1710000" y="289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3538440" y="19224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2764080" y="3041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4226400" y="3321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5"/>
          <p:cNvGrpSpPr/>
          <p:nvPr/>
        </p:nvGrpSpPr>
        <p:grpSpPr>
          <a:xfrm>
            <a:off x="3394080" y="1486080"/>
            <a:ext cx="2715480" cy="4893840"/>
            <a:chOff x="3394080" y="1486080"/>
            <a:chExt cx="2715480" cy="4893840"/>
          </a:xfrm>
        </p:grpSpPr>
        <p:sp>
          <p:nvSpPr>
            <p:cNvPr id="274" name="Line 16"/>
            <p:cNvSpPr/>
            <p:nvPr/>
          </p:nvSpPr>
          <p:spPr>
            <a:xfrm>
              <a:off x="6106680" y="3287520"/>
              <a:ext cx="2880" cy="30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3394080" y="1486080"/>
              <a:ext cx="2712600" cy="180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394080" y="4581720"/>
              <a:ext cx="2712600" cy="179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>
              <a:off x="3394080" y="1486080"/>
              <a:ext cx="2880" cy="30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1"/>
          <p:cNvSpPr/>
          <p:nvPr/>
        </p:nvSpPr>
        <p:spPr>
          <a:xfrm>
            <a:off x="263520" y="5680080"/>
            <a:ext cx="530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м проекцию точки А на плоскость П -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7A6B-FB71-47BC-BB0B-60ED693FF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едмет начертательной геоме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92280" y="2852640"/>
            <a:ext cx="766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61645"/>
                </a:solidFill>
                <a:latin typeface="Calibri"/>
                <a:ea typeface="Calibri"/>
              </a:rPr>
              <a:t>Начертательная геометр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 наука о создании моделей объектов трехмерного пространства и изучении методов работы с этими модел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7786-D7C3-4753-A6F6-02A95CFF9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ребования к мод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1746360" y="3443400"/>
            <a:ext cx="153720" cy="153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8"/>
          <p:cNvSpPr/>
          <p:nvPr/>
        </p:nvSpPr>
        <p:spPr>
          <a:xfrm>
            <a:off x="4286160" y="3895560"/>
            <a:ext cx="154080" cy="15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1710000" y="289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3538440" y="19224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4226400" y="3321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5"/>
          <p:cNvGrpSpPr/>
          <p:nvPr/>
        </p:nvGrpSpPr>
        <p:grpSpPr>
          <a:xfrm>
            <a:off x="3394080" y="1486080"/>
            <a:ext cx="2715480" cy="4893840"/>
            <a:chOff x="3394080" y="1486080"/>
            <a:chExt cx="2715480" cy="4893840"/>
          </a:xfrm>
        </p:grpSpPr>
        <p:sp>
          <p:nvSpPr>
            <p:cNvPr id="287" name="Line 16"/>
            <p:cNvSpPr/>
            <p:nvPr/>
          </p:nvSpPr>
          <p:spPr>
            <a:xfrm>
              <a:off x="6106680" y="3287520"/>
              <a:ext cx="2880" cy="30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7"/>
            <p:cNvSpPr/>
            <p:nvPr/>
          </p:nvSpPr>
          <p:spPr>
            <a:xfrm>
              <a:off x="3394080" y="1486080"/>
              <a:ext cx="2712600" cy="180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8"/>
            <p:cNvSpPr/>
            <p:nvPr/>
          </p:nvSpPr>
          <p:spPr>
            <a:xfrm>
              <a:off x="3394080" y="4581720"/>
              <a:ext cx="2712600" cy="179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9"/>
            <p:cNvSpPr/>
            <p:nvPr/>
          </p:nvSpPr>
          <p:spPr>
            <a:xfrm>
              <a:off x="3394080" y="1486080"/>
              <a:ext cx="2880" cy="30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3"/>
          <p:cNvSpPr/>
          <p:nvPr/>
        </p:nvSpPr>
        <p:spPr>
          <a:xfrm>
            <a:off x="304920" y="5084640"/>
            <a:ext cx="433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точки А на плоскости имеем одну единственную проек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EAA8-2827-4069-BC59-84AA7E64A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ребования к мод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710000" y="289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538440" y="19224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4226400" y="3321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0"/>
          <p:cNvGrpSpPr/>
          <p:nvPr/>
        </p:nvGrpSpPr>
        <p:grpSpPr>
          <a:xfrm>
            <a:off x="3394080" y="1486080"/>
            <a:ext cx="2715480" cy="4893840"/>
            <a:chOff x="3394080" y="1486080"/>
            <a:chExt cx="2715480" cy="4893840"/>
          </a:xfrm>
        </p:grpSpPr>
        <p:sp>
          <p:nvSpPr>
            <p:cNvPr id="298" name="Line 11"/>
            <p:cNvSpPr/>
            <p:nvPr/>
          </p:nvSpPr>
          <p:spPr>
            <a:xfrm>
              <a:off x="6106680" y="3287520"/>
              <a:ext cx="2880" cy="30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3394080" y="1486080"/>
              <a:ext cx="2712600" cy="180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3394080" y="4581720"/>
              <a:ext cx="2712600" cy="179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>
              <a:off x="3394080" y="1486080"/>
              <a:ext cx="2880" cy="30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Line 16"/>
          <p:cNvSpPr/>
          <p:nvPr/>
        </p:nvSpPr>
        <p:spPr>
          <a:xfrm>
            <a:off x="596880" y="3300480"/>
            <a:ext cx="6900840" cy="1218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1746360" y="3443400"/>
            <a:ext cx="153720" cy="153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8"/>
          <p:cNvSpPr/>
          <p:nvPr/>
        </p:nvSpPr>
        <p:spPr>
          <a:xfrm>
            <a:off x="4286160" y="3895560"/>
            <a:ext cx="154080" cy="15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304920" y="5208480"/>
            <a:ext cx="48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единим центр проецирования  с проекцией проецирующим лу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7EEE-65B6-44B3-8DE4-25E4900FA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ребования к мод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710000" y="289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38440" y="19224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4226400" y="3321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8"/>
          <p:cNvGrpSpPr/>
          <p:nvPr/>
        </p:nvGrpSpPr>
        <p:grpSpPr>
          <a:xfrm>
            <a:off x="3394080" y="1486080"/>
            <a:ext cx="2715480" cy="4893840"/>
            <a:chOff x="3394080" y="1486080"/>
            <a:chExt cx="2715480" cy="4893840"/>
          </a:xfrm>
        </p:grpSpPr>
        <p:sp>
          <p:nvSpPr>
            <p:cNvPr id="312" name="Line 9"/>
            <p:cNvSpPr/>
            <p:nvPr/>
          </p:nvSpPr>
          <p:spPr>
            <a:xfrm>
              <a:off x="6106680" y="3287520"/>
              <a:ext cx="2880" cy="30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0"/>
            <p:cNvSpPr/>
            <p:nvPr/>
          </p:nvSpPr>
          <p:spPr>
            <a:xfrm>
              <a:off x="3394080" y="1486080"/>
              <a:ext cx="2712600" cy="180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3394080" y="4581720"/>
              <a:ext cx="2712600" cy="179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2"/>
            <p:cNvSpPr/>
            <p:nvPr/>
          </p:nvSpPr>
          <p:spPr>
            <a:xfrm>
              <a:off x="3394080" y="1486080"/>
              <a:ext cx="2880" cy="30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Line 13"/>
          <p:cNvSpPr/>
          <p:nvPr/>
        </p:nvSpPr>
        <p:spPr>
          <a:xfrm>
            <a:off x="596880" y="3300480"/>
            <a:ext cx="690084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746360" y="3443400"/>
            <a:ext cx="153720" cy="153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2417760" y="3556080"/>
            <a:ext cx="154080" cy="15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2941560" y="3637080"/>
            <a:ext cx="154080" cy="153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968400" y="3308400"/>
            <a:ext cx="154080" cy="15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7174080" y="4392720"/>
            <a:ext cx="153720" cy="153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9"/>
          <p:cNvSpPr/>
          <p:nvPr/>
        </p:nvSpPr>
        <p:spPr>
          <a:xfrm>
            <a:off x="4286160" y="3895560"/>
            <a:ext cx="154080" cy="15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2883240" y="3094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2359440" y="302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891000" y="2844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7034040" y="4006800"/>
            <a:ext cx="3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243000" y="4235400"/>
            <a:ext cx="4002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огда на этом луче может находиться  бесчисленное множество точек, соответствующих одной проекци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следует, что положение объекта в пространстве остается не определ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E2D2-0027-4DCD-BE9B-0D596A4B0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Система Мон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2674440" y="4776480"/>
            <a:ext cx="3195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Монж Гаспа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10.05.1746 - 28.07.181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Монж Гаспар&#10;"/>
          <p:cNvPicPr/>
          <p:nvPr/>
        </p:nvPicPr>
        <p:blipFill>
          <a:blip r:embed="rId1"/>
          <a:stretch/>
        </p:blipFill>
        <p:spPr>
          <a:xfrm>
            <a:off x="2459160" y="1012680"/>
            <a:ext cx="3625560" cy="391644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"/>
          <p:cNvSpPr/>
          <p:nvPr/>
        </p:nvSpPr>
        <p:spPr>
          <a:xfrm>
            <a:off x="1509840" y="581832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ил выполнить проецирование на две или три взаимно-перпендикулярные плоскости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02CC-CA26-433F-B51C-288BDAE8E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38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истема Монжа</a:t>
            </a:r>
            <a:br>
              <a:rPr sz="3200"/>
            </a:b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(геометрическая ч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758880" y="2359080"/>
            <a:ext cx="449244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928800" y="3882960"/>
            <a:ext cx="2712960" cy="15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0"/>
          <p:cNvSpPr/>
          <p:nvPr/>
        </p:nvSpPr>
        <p:spPr>
          <a:xfrm flipV="1">
            <a:off x="3641760" y="4155840"/>
            <a:ext cx="1122480" cy="128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2050920" y="2598840"/>
            <a:ext cx="381240" cy="21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2"/>
          <p:cNvSpPr/>
          <p:nvPr/>
        </p:nvSpPr>
        <p:spPr>
          <a:xfrm flipV="1">
            <a:off x="928800" y="2598480"/>
            <a:ext cx="1122120" cy="128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3"/>
          <p:cNvSpPr/>
          <p:nvPr/>
        </p:nvSpPr>
        <p:spPr>
          <a:xfrm>
            <a:off x="2284560" y="2986200"/>
            <a:ext cx="1440" cy="292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4"/>
          <p:cNvSpPr/>
          <p:nvPr/>
        </p:nvSpPr>
        <p:spPr>
          <a:xfrm flipV="1">
            <a:off x="2284560" y="5079600"/>
            <a:ext cx="728640" cy="83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 flipV="1">
            <a:off x="2284560" y="3377880"/>
            <a:ext cx="1123920" cy="128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6"/>
          <p:cNvSpPr/>
          <p:nvPr/>
        </p:nvSpPr>
        <p:spPr>
          <a:xfrm flipV="1">
            <a:off x="2284560" y="1701720"/>
            <a:ext cx="112392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3408480" y="1701720"/>
            <a:ext cx="144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2432160" y="2817720"/>
            <a:ext cx="7308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2581200" y="2903400"/>
            <a:ext cx="493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2706840" y="2975040"/>
            <a:ext cx="489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1"/>
          <p:cNvSpPr/>
          <p:nvPr/>
        </p:nvSpPr>
        <p:spPr>
          <a:xfrm>
            <a:off x="2832120" y="3048120"/>
            <a:ext cx="493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2"/>
          <p:cNvSpPr/>
          <p:nvPr/>
        </p:nvSpPr>
        <p:spPr>
          <a:xfrm>
            <a:off x="2957400" y="3119400"/>
            <a:ext cx="493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3"/>
          <p:cNvSpPr/>
          <p:nvPr/>
        </p:nvSpPr>
        <p:spPr>
          <a:xfrm>
            <a:off x="3083040" y="3191040"/>
            <a:ext cx="507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4"/>
          <p:cNvSpPr/>
          <p:nvPr/>
        </p:nvSpPr>
        <p:spPr>
          <a:xfrm>
            <a:off x="3208320" y="3263760"/>
            <a:ext cx="5076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5"/>
          <p:cNvSpPr/>
          <p:nvPr/>
        </p:nvSpPr>
        <p:spPr>
          <a:xfrm>
            <a:off x="3333600" y="3335400"/>
            <a:ext cx="7488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6"/>
          <p:cNvSpPr/>
          <p:nvPr/>
        </p:nvSpPr>
        <p:spPr>
          <a:xfrm>
            <a:off x="3408480" y="3378240"/>
            <a:ext cx="135576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7"/>
          <p:cNvSpPr/>
          <p:nvPr/>
        </p:nvSpPr>
        <p:spPr>
          <a:xfrm>
            <a:off x="3408480" y="337824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8"/>
          <p:cNvSpPr/>
          <p:nvPr/>
        </p:nvSpPr>
        <p:spPr>
          <a:xfrm>
            <a:off x="3408480" y="354024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9"/>
          <p:cNvSpPr/>
          <p:nvPr/>
        </p:nvSpPr>
        <p:spPr>
          <a:xfrm>
            <a:off x="3408480" y="368460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0"/>
          <p:cNvSpPr/>
          <p:nvPr/>
        </p:nvSpPr>
        <p:spPr>
          <a:xfrm>
            <a:off x="3408480" y="3830760"/>
            <a:ext cx="1440" cy="5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1"/>
          <p:cNvSpPr/>
          <p:nvPr/>
        </p:nvSpPr>
        <p:spPr>
          <a:xfrm>
            <a:off x="3408480" y="3975120"/>
            <a:ext cx="144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2"/>
          <p:cNvSpPr/>
          <p:nvPr/>
        </p:nvSpPr>
        <p:spPr>
          <a:xfrm>
            <a:off x="3408480" y="4119480"/>
            <a:ext cx="144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3"/>
          <p:cNvSpPr/>
          <p:nvPr/>
        </p:nvSpPr>
        <p:spPr>
          <a:xfrm>
            <a:off x="3408480" y="4264200"/>
            <a:ext cx="1440" cy="5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4"/>
          <p:cNvSpPr/>
          <p:nvPr/>
        </p:nvSpPr>
        <p:spPr>
          <a:xfrm>
            <a:off x="3408480" y="44085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5"/>
          <p:cNvSpPr/>
          <p:nvPr/>
        </p:nvSpPr>
        <p:spPr>
          <a:xfrm>
            <a:off x="3408480" y="455292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6"/>
          <p:cNvSpPr/>
          <p:nvPr/>
        </p:nvSpPr>
        <p:spPr>
          <a:xfrm flipV="1">
            <a:off x="3013200" y="5051160"/>
            <a:ext cx="2520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7"/>
          <p:cNvSpPr/>
          <p:nvPr/>
        </p:nvSpPr>
        <p:spPr>
          <a:xfrm flipV="1">
            <a:off x="3095640" y="4941720"/>
            <a:ext cx="38160" cy="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8"/>
          <p:cNvSpPr/>
          <p:nvPr/>
        </p:nvSpPr>
        <p:spPr>
          <a:xfrm flipV="1">
            <a:off x="3191040" y="4832280"/>
            <a:ext cx="37800" cy="4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9"/>
          <p:cNvSpPr/>
          <p:nvPr/>
        </p:nvSpPr>
        <p:spPr>
          <a:xfrm flipV="1">
            <a:off x="3286080" y="4723920"/>
            <a:ext cx="3816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0"/>
          <p:cNvSpPr/>
          <p:nvPr/>
        </p:nvSpPr>
        <p:spPr>
          <a:xfrm flipV="1">
            <a:off x="3381480" y="4629240"/>
            <a:ext cx="270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2423520" y="4344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2571480" y="4487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3"/>
          <p:cNvSpPr/>
          <p:nvPr/>
        </p:nvSpPr>
        <p:spPr>
          <a:xfrm>
            <a:off x="4038480" y="4025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4"/>
          <p:cNvSpPr/>
          <p:nvPr/>
        </p:nvSpPr>
        <p:spPr>
          <a:xfrm>
            <a:off x="4186080" y="41688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7"/>
          <p:cNvSpPr/>
          <p:nvPr/>
        </p:nvSpPr>
        <p:spPr>
          <a:xfrm>
            <a:off x="2976480" y="2016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124080" y="2158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4752360" y="1954080"/>
            <a:ext cx="3795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  - горизонт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я плоскость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фронта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лоскость про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x  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сь про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0"/>
          <p:cNvSpPr/>
          <p:nvPr/>
        </p:nvSpPr>
        <p:spPr>
          <a:xfrm>
            <a:off x="5073840" y="2214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1"/>
          <p:cNvSpPr/>
          <p:nvPr/>
        </p:nvSpPr>
        <p:spPr>
          <a:xfrm>
            <a:off x="5054760" y="3681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2"/>
          <p:cNvSpPr/>
          <p:nvPr/>
        </p:nvSpPr>
        <p:spPr>
          <a:xfrm>
            <a:off x="4973760" y="463536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AE81-F3F3-4176-90CF-63D7D5D38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истема Монжа</a:t>
            </a:r>
            <a:br>
              <a:rPr sz="3200"/>
            </a:b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(алгоритмическая ч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2219400" y="3978360"/>
            <a:ext cx="2712960" cy="15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"/>
          <p:cNvSpPr/>
          <p:nvPr/>
        </p:nvSpPr>
        <p:spPr>
          <a:xfrm flipV="1">
            <a:off x="4932360" y="4251240"/>
            <a:ext cx="112248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3341520" y="2693880"/>
            <a:ext cx="381240" cy="2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"/>
          <p:cNvSpPr/>
          <p:nvPr/>
        </p:nvSpPr>
        <p:spPr>
          <a:xfrm flipV="1">
            <a:off x="2219400" y="2693880"/>
            <a:ext cx="112212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3575160" y="3081240"/>
            <a:ext cx="1440" cy="292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3575160" y="5175000"/>
            <a:ext cx="728640" cy="83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1"/>
          <p:cNvSpPr/>
          <p:nvPr/>
        </p:nvSpPr>
        <p:spPr>
          <a:xfrm flipV="1">
            <a:off x="3575160" y="3473280"/>
            <a:ext cx="112392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2"/>
          <p:cNvSpPr/>
          <p:nvPr/>
        </p:nvSpPr>
        <p:spPr>
          <a:xfrm flipV="1">
            <a:off x="3575160" y="1796760"/>
            <a:ext cx="1123920" cy="128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4699080" y="1797120"/>
            <a:ext cx="144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"/>
          <p:cNvSpPr/>
          <p:nvPr/>
        </p:nvSpPr>
        <p:spPr>
          <a:xfrm>
            <a:off x="3722760" y="2913120"/>
            <a:ext cx="7308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>
            <a:off x="3871800" y="2998800"/>
            <a:ext cx="493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6"/>
          <p:cNvSpPr/>
          <p:nvPr/>
        </p:nvSpPr>
        <p:spPr>
          <a:xfrm>
            <a:off x="3997440" y="3070080"/>
            <a:ext cx="4896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4122720" y="3143160"/>
            <a:ext cx="493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4248000" y="3214800"/>
            <a:ext cx="493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9"/>
          <p:cNvSpPr/>
          <p:nvPr/>
        </p:nvSpPr>
        <p:spPr>
          <a:xfrm>
            <a:off x="4373640" y="3286080"/>
            <a:ext cx="5076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0"/>
          <p:cNvSpPr/>
          <p:nvPr/>
        </p:nvSpPr>
        <p:spPr>
          <a:xfrm>
            <a:off x="4498920" y="3359160"/>
            <a:ext cx="507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1"/>
          <p:cNvSpPr/>
          <p:nvPr/>
        </p:nvSpPr>
        <p:spPr>
          <a:xfrm>
            <a:off x="4624560" y="3430440"/>
            <a:ext cx="7452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2"/>
          <p:cNvSpPr/>
          <p:nvPr/>
        </p:nvSpPr>
        <p:spPr>
          <a:xfrm>
            <a:off x="4699080" y="3473280"/>
            <a:ext cx="135576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3"/>
          <p:cNvSpPr/>
          <p:nvPr/>
        </p:nvSpPr>
        <p:spPr>
          <a:xfrm>
            <a:off x="4699080" y="347328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4"/>
          <p:cNvSpPr/>
          <p:nvPr/>
        </p:nvSpPr>
        <p:spPr>
          <a:xfrm>
            <a:off x="4699080" y="36352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5"/>
          <p:cNvSpPr/>
          <p:nvPr/>
        </p:nvSpPr>
        <p:spPr>
          <a:xfrm>
            <a:off x="4699080" y="378000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6"/>
          <p:cNvSpPr/>
          <p:nvPr/>
        </p:nvSpPr>
        <p:spPr>
          <a:xfrm>
            <a:off x="4699080" y="3925800"/>
            <a:ext cx="144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7"/>
          <p:cNvSpPr/>
          <p:nvPr/>
        </p:nvSpPr>
        <p:spPr>
          <a:xfrm>
            <a:off x="4699080" y="4070520"/>
            <a:ext cx="1440" cy="5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8"/>
          <p:cNvSpPr/>
          <p:nvPr/>
        </p:nvSpPr>
        <p:spPr>
          <a:xfrm>
            <a:off x="4699080" y="4214880"/>
            <a:ext cx="144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9"/>
          <p:cNvSpPr/>
          <p:nvPr/>
        </p:nvSpPr>
        <p:spPr>
          <a:xfrm>
            <a:off x="4699080" y="4359240"/>
            <a:ext cx="144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0"/>
          <p:cNvSpPr/>
          <p:nvPr/>
        </p:nvSpPr>
        <p:spPr>
          <a:xfrm>
            <a:off x="4699080" y="4503600"/>
            <a:ext cx="1440" cy="5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1"/>
          <p:cNvSpPr/>
          <p:nvPr/>
        </p:nvSpPr>
        <p:spPr>
          <a:xfrm>
            <a:off x="4699080" y="464832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2"/>
          <p:cNvSpPr/>
          <p:nvPr/>
        </p:nvSpPr>
        <p:spPr>
          <a:xfrm flipV="1">
            <a:off x="4303800" y="5146560"/>
            <a:ext cx="252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3"/>
          <p:cNvSpPr/>
          <p:nvPr/>
        </p:nvSpPr>
        <p:spPr>
          <a:xfrm flipV="1">
            <a:off x="4386240" y="5036760"/>
            <a:ext cx="3816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4"/>
          <p:cNvSpPr/>
          <p:nvPr/>
        </p:nvSpPr>
        <p:spPr>
          <a:xfrm flipV="1">
            <a:off x="4481640" y="4927320"/>
            <a:ext cx="3780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5"/>
          <p:cNvSpPr/>
          <p:nvPr/>
        </p:nvSpPr>
        <p:spPr>
          <a:xfrm flipV="1">
            <a:off x="4576680" y="4819320"/>
            <a:ext cx="3816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6"/>
          <p:cNvSpPr/>
          <p:nvPr/>
        </p:nvSpPr>
        <p:spPr>
          <a:xfrm flipV="1">
            <a:off x="4672080" y="4724280"/>
            <a:ext cx="270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7"/>
          <p:cNvSpPr/>
          <p:nvPr/>
        </p:nvSpPr>
        <p:spPr>
          <a:xfrm>
            <a:off x="3714120" y="4440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8"/>
          <p:cNvSpPr/>
          <p:nvPr/>
        </p:nvSpPr>
        <p:spPr>
          <a:xfrm>
            <a:off x="3862080" y="4583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9"/>
          <p:cNvSpPr/>
          <p:nvPr/>
        </p:nvSpPr>
        <p:spPr>
          <a:xfrm>
            <a:off x="5329080" y="41212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0"/>
          <p:cNvSpPr/>
          <p:nvPr/>
        </p:nvSpPr>
        <p:spPr>
          <a:xfrm>
            <a:off x="5476680" y="42642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4267080" y="21114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4414680" y="2254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4"/>
          <p:cNvSpPr/>
          <p:nvPr/>
        </p:nvSpPr>
        <p:spPr>
          <a:xfrm>
            <a:off x="4284720" y="3489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5"/>
          <p:cNvSpPr/>
          <p:nvPr/>
        </p:nvSpPr>
        <p:spPr>
          <a:xfrm>
            <a:off x="3967560" y="3144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F644-43DB-40B8-83BB-73D88AA93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истема Монжа</a:t>
            </a:r>
            <a:br>
              <a:rPr sz="3200"/>
            </a:b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(алгоритмическая ч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6"/>
          <p:cNvSpPr/>
          <p:nvPr/>
        </p:nvSpPr>
        <p:spPr>
          <a:xfrm>
            <a:off x="422280" y="1731960"/>
            <a:ext cx="416880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8"/>
          <p:cNvSpPr/>
          <p:nvPr/>
        </p:nvSpPr>
        <p:spPr>
          <a:xfrm>
            <a:off x="584280" y="3962520"/>
            <a:ext cx="2743200" cy="15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9"/>
          <p:cNvSpPr/>
          <p:nvPr/>
        </p:nvSpPr>
        <p:spPr>
          <a:xfrm flipV="1">
            <a:off x="3327480" y="4238280"/>
            <a:ext cx="1135080" cy="129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0"/>
          <p:cNvSpPr/>
          <p:nvPr/>
        </p:nvSpPr>
        <p:spPr>
          <a:xfrm>
            <a:off x="1719360" y="2664000"/>
            <a:ext cx="385560" cy="22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1"/>
          <p:cNvSpPr/>
          <p:nvPr/>
        </p:nvSpPr>
        <p:spPr>
          <a:xfrm flipV="1">
            <a:off x="584280" y="2663640"/>
            <a:ext cx="1135080" cy="129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2"/>
          <p:cNvSpPr/>
          <p:nvPr/>
        </p:nvSpPr>
        <p:spPr>
          <a:xfrm>
            <a:off x="1955880" y="3054240"/>
            <a:ext cx="1440" cy="296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3"/>
          <p:cNvSpPr/>
          <p:nvPr/>
        </p:nvSpPr>
        <p:spPr>
          <a:xfrm flipV="1">
            <a:off x="1955880" y="5171760"/>
            <a:ext cx="736560" cy="84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4"/>
          <p:cNvSpPr/>
          <p:nvPr/>
        </p:nvSpPr>
        <p:spPr>
          <a:xfrm flipV="1">
            <a:off x="1955880" y="3450960"/>
            <a:ext cx="1135080" cy="129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5"/>
          <p:cNvSpPr/>
          <p:nvPr/>
        </p:nvSpPr>
        <p:spPr>
          <a:xfrm flipV="1">
            <a:off x="1955880" y="1755360"/>
            <a:ext cx="1135080" cy="129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090960" y="1755720"/>
            <a:ext cx="1440" cy="169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7"/>
          <p:cNvSpPr/>
          <p:nvPr/>
        </p:nvSpPr>
        <p:spPr>
          <a:xfrm>
            <a:off x="2104920" y="2884320"/>
            <a:ext cx="74880" cy="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8"/>
          <p:cNvSpPr/>
          <p:nvPr/>
        </p:nvSpPr>
        <p:spPr>
          <a:xfrm>
            <a:off x="2255760" y="2970360"/>
            <a:ext cx="5076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9"/>
          <p:cNvSpPr/>
          <p:nvPr/>
        </p:nvSpPr>
        <p:spPr>
          <a:xfrm>
            <a:off x="2382840" y="3043080"/>
            <a:ext cx="507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0"/>
          <p:cNvSpPr/>
          <p:nvPr/>
        </p:nvSpPr>
        <p:spPr>
          <a:xfrm>
            <a:off x="2509920" y="3116160"/>
            <a:ext cx="507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1"/>
          <p:cNvSpPr/>
          <p:nvPr/>
        </p:nvSpPr>
        <p:spPr>
          <a:xfrm>
            <a:off x="2637000" y="3189240"/>
            <a:ext cx="5076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62"/>
          <p:cNvSpPr/>
          <p:nvPr/>
        </p:nvSpPr>
        <p:spPr>
          <a:xfrm>
            <a:off x="2763720" y="3262320"/>
            <a:ext cx="507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3"/>
          <p:cNvSpPr/>
          <p:nvPr/>
        </p:nvSpPr>
        <p:spPr>
          <a:xfrm>
            <a:off x="2889360" y="3335400"/>
            <a:ext cx="507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64"/>
          <p:cNvSpPr/>
          <p:nvPr/>
        </p:nvSpPr>
        <p:spPr>
          <a:xfrm>
            <a:off x="3016080" y="3408480"/>
            <a:ext cx="7488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5"/>
          <p:cNvSpPr/>
          <p:nvPr/>
        </p:nvSpPr>
        <p:spPr>
          <a:xfrm>
            <a:off x="3090960" y="3451320"/>
            <a:ext cx="1371600" cy="78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66"/>
          <p:cNvSpPr/>
          <p:nvPr/>
        </p:nvSpPr>
        <p:spPr>
          <a:xfrm>
            <a:off x="3090960" y="345132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67"/>
          <p:cNvSpPr/>
          <p:nvPr/>
        </p:nvSpPr>
        <p:spPr>
          <a:xfrm>
            <a:off x="3090960" y="3614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68"/>
          <p:cNvSpPr/>
          <p:nvPr/>
        </p:nvSpPr>
        <p:spPr>
          <a:xfrm>
            <a:off x="3090960" y="3762360"/>
            <a:ext cx="144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9"/>
          <p:cNvSpPr/>
          <p:nvPr/>
        </p:nvSpPr>
        <p:spPr>
          <a:xfrm>
            <a:off x="3090960" y="390852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70"/>
          <p:cNvSpPr/>
          <p:nvPr/>
        </p:nvSpPr>
        <p:spPr>
          <a:xfrm>
            <a:off x="3090960" y="4054320"/>
            <a:ext cx="1440" cy="5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71"/>
          <p:cNvSpPr/>
          <p:nvPr/>
        </p:nvSpPr>
        <p:spPr>
          <a:xfrm>
            <a:off x="3090960" y="42004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72"/>
          <p:cNvSpPr/>
          <p:nvPr/>
        </p:nvSpPr>
        <p:spPr>
          <a:xfrm>
            <a:off x="3090960" y="434664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73"/>
          <p:cNvSpPr/>
          <p:nvPr/>
        </p:nvSpPr>
        <p:spPr>
          <a:xfrm>
            <a:off x="3090960" y="449280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74"/>
          <p:cNvSpPr/>
          <p:nvPr/>
        </p:nvSpPr>
        <p:spPr>
          <a:xfrm>
            <a:off x="3090960" y="464040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75"/>
          <p:cNvSpPr/>
          <p:nvPr/>
        </p:nvSpPr>
        <p:spPr>
          <a:xfrm flipV="1">
            <a:off x="2692440" y="5141880"/>
            <a:ext cx="270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76"/>
          <p:cNvSpPr/>
          <p:nvPr/>
        </p:nvSpPr>
        <p:spPr>
          <a:xfrm flipV="1">
            <a:off x="2776680" y="5032080"/>
            <a:ext cx="3780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77"/>
          <p:cNvSpPr/>
          <p:nvPr/>
        </p:nvSpPr>
        <p:spPr>
          <a:xfrm flipV="1">
            <a:off x="2873520" y="4922640"/>
            <a:ext cx="378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78"/>
          <p:cNvSpPr/>
          <p:nvPr/>
        </p:nvSpPr>
        <p:spPr>
          <a:xfrm flipV="1">
            <a:off x="2968560" y="4811400"/>
            <a:ext cx="3960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79"/>
          <p:cNvSpPr/>
          <p:nvPr/>
        </p:nvSpPr>
        <p:spPr>
          <a:xfrm flipV="1">
            <a:off x="3065400" y="4716360"/>
            <a:ext cx="255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80"/>
          <p:cNvSpPr/>
          <p:nvPr/>
        </p:nvSpPr>
        <p:spPr>
          <a:xfrm>
            <a:off x="2776680" y="3476520"/>
            <a:ext cx="1440" cy="1162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4"/>
          <p:cNvSpPr/>
          <p:nvPr/>
        </p:nvSpPr>
        <p:spPr>
          <a:xfrm>
            <a:off x="2086920" y="439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5"/>
          <p:cNvSpPr/>
          <p:nvPr/>
        </p:nvSpPr>
        <p:spPr>
          <a:xfrm>
            <a:off x="2234880" y="4541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6"/>
          <p:cNvSpPr/>
          <p:nvPr/>
        </p:nvSpPr>
        <p:spPr>
          <a:xfrm>
            <a:off x="3849480" y="42228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7"/>
          <p:cNvSpPr/>
          <p:nvPr/>
        </p:nvSpPr>
        <p:spPr>
          <a:xfrm>
            <a:off x="2620800" y="210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8"/>
          <p:cNvSpPr/>
          <p:nvPr/>
        </p:nvSpPr>
        <p:spPr>
          <a:xfrm>
            <a:off x="3092040" y="48099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89"/>
          <p:cNvSpPr/>
          <p:nvPr/>
        </p:nvSpPr>
        <p:spPr>
          <a:xfrm>
            <a:off x="2720880" y="3429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0"/>
          <p:cNvSpPr/>
          <p:nvPr/>
        </p:nvSpPr>
        <p:spPr>
          <a:xfrm>
            <a:off x="2759400" y="2944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1"/>
          <p:cNvSpPr/>
          <p:nvPr/>
        </p:nvSpPr>
        <p:spPr>
          <a:xfrm>
            <a:off x="3716280" y="40482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2"/>
          <p:cNvSpPr/>
          <p:nvPr/>
        </p:nvSpPr>
        <p:spPr>
          <a:xfrm>
            <a:off x="2717640" y="45752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3"/>
          <p:cNvSpPr/>
          <p:nvPr/>
        </p:nvSpPr>
        <p:spPr>
          <a:xfrm>
            <a:off x="2965680" y="465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4"/>
          <p:cNvSpPr/>
          <p:nvPr/>
        </p:nvSpPr>
        <p:spPr>
          <a:xfrm>
            <a:off x="4437000" y="1778040"/>
            <a:ext cx="4437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.Методом ортогон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ецирования постро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екцию точки на 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Эта проекция назы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горизонтальной проек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очки и обозначается  А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95"/>
          <p:cNvSpPr/>
          <p:nvPr/>
        </p:nvSpPr>
        <p:spPr>
          <a:xfrm>
            <a:off x="7621560" y="277344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6"/>
          <p:cNvSpPr/>
          <p:nvPr/>
        </p:nvSpPr>
        <p:spPr>
          <a:xfrm flipH="1">
            <a:off x="7985880" y="411804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3018-A307-40DC-9AFE-CB23A35DC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4"/>
          <p:cNvSpPr/>
          <p:nvPr/>
        </p:nvSpPr>
        <p:spPr>
          <a:xfrm>
            <a:off x="422280" y="1731960"/>
            <a:ext cx="416880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"/>
          <p:cNvSpPr/>
          <p:nvPr/>
        </p:nvSpPr>
        <p:spPr>
          <a:xfrm>
            <a:off x="584280" y="3962520"/>
            <a:ext cx="2743200" cy="15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"/>
          <p:cNvSpPr/>
          <p:nvPr/>
        </p:nvSpPr>
        <p:spPr>
          <a:xfrm flipV="1">
            <a:off x="3327480" y="4238280"/>
            <a:ext cx="1135080" cy="129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7"/>
          <p:cNvSpPr/>
          <p:nvPr/>
        </p:nvSpPr>
        <p:spPr>
          <a:xfrm>
            <a:off x="1719360" y="2664000"/>
            <a:ext cx="385560" cy="22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"/>
          <p:cNvSpPr/>
          <p:nvPr/>
        </p:nvSpPr>
        <p:spPr>
          <a:xfrm flipV="1">
            <a:off x="584280" y="2663640"/>
            <a:ext cx="1135080" cy="129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9"/>
          <p:cNvSpPr/>
          <p:nvPr/>
        </p:nvSpPr>
        <p:spPr>
          <a:xfrm>
            <a:off x="1955880" y="3054240"/>
            <a:ext cx="1440" cy="296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0"/>
          <p:cNvSpPr/>
          <p:nvPr/>
        </p:nvSpPr>
        <p:spPr>
          <a:xfrm flipV="1">
            <a:off x="1955880" y="5171760"/>
            <a:ext cx="736560" cy="84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1"/>
          <p:cNvSpPr/>
          <p:nvPr/>
        </p:nvSpPr>
        <p:spPr>
          <a:xfrm flipV="1">
            <a:off x="1955880" y="3450960"/>
            <a:ext cx="1135080" cy="129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2"/>
          <p:cNvSpPr/>
          <p:nvPr/>
        </p:nvSpPr>
        <p:spPr>
          <a:xfrm flipV="1">
            <a:off x="1955880" y="1755360"/>
            <a:ext cx="1135080" cy="129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3"/>
          <p:cNvSpPr/>
          <p:nvPr/>
        </p:nvSpPr>
        <p:spPr>
          <a:xfrm>
            <a:off x="3090960" y="1755720"/>
            <a:ext cx="1440" cy="169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4"/>
          <p:cNvSpPr/>
          <p:nvPr/>
        </p:nvSpPr>
        <p:spPr>
          <a:xfrm>
            <a:off x="2104920" y="2884320"/>
            <a:ext cx="74880" cy="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5"/>
          <p:cNvSpPr/>
          <p:nvPr/>
        </p:nvSpPr>
        <p:spPr>
          <a:xfrm>
            <a:off x="2255760" y="2970360"/>
            <a:ext cx="5076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2382840" y="3043080"/>
            <a:ext cx="507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7"/>
          <p:cNvSpPr/>
          <p:nvPr/>
        </p:nvSpPr>
        <p:spPr>
          <a:xfrm>
            <a:off x="2509920" y="3116160"/>
            <a:ext cx="507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637000" y="3189240"/>
            <a:ext cx="5076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9"/>
          <p:cNvSpPr/>
          <p:nvPr/>
        </p:nvSpPr>
        <p:spPr>
          <a:xfrm>
            <a:off x="2763720" y="3262320"/>
            <a:ext cx="507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0"/>
          <p:cNvSpPr/>
          <p:nvPr/>
        </p:nvSpPr>
        <p:spPr>
          <a:xfrm>
            <a:off x="2889360" y="3335400"/>
            <a:ext cx="507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1"/>
          <p:cNvSpPr/>
          <p:nvPr/>
        </p:nvSpPr>
        <p:spPr>
          <a:xfrm>
            <a:off x="3016080" y="3408480"/>
            <a:ext cx="7488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2"/>
          <p:cNvSpPr/>
          <p:nvPr/>
        </p:nvSpPr>
        <p:spPr>
          <a:xfrm>
            <a:off x="3090960" y="3451320"/>
            <a:ext cx="1371600" cy="78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3"/>
          <p:cNvSpPr/>
          <p:nvPr/>
        </p:nvSpPr>
        <p:spPr>
          <a:xfrm>
            <a:off x="3090960" y="345132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4"/>
          <p:cNvSpPr/>
          <p:nvPr/>
        </p:nvSpPr>
        <p:spPr>
          <a:xfrm>
            <a:off x="3090960" y="361476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5"/>
          <p:cNvSpPr/>
          <p:nvPr/>
        </p:nvSpPr>
        <p:spPr>
          <a:xfrm>
            <a:off x="3090960" y="3762360"/>
            <a:ext cx="144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26"/>
          <p:cNvSpPr/>
          <p:nvPr/>
        </p:nvSpPr>
        <p:spPr>
          <a:xfrm>
            <a:off x="3090960" y="390852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7"/>
          <p:cNvSpPr/>
          <p:nvPr/>
        </p:nvSpPr>
        <p:spPr>
          <a:xfrm>
            <a:off x="3090960" y="4054320"/>
            <a:ext cx="1440" cy="5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3090960" y="420048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9"/>
          <p:cNvSpPr/>
          <p:nvPr/>
        </p:nvSpPr>
        <p:spPr>
          <a:xfrm>
            <a:off x="3090960" y="434664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0"/>
          <p:cNvSpPr/>
          <p:nvPr/>
        </p:nvSpPr>
        <p:spPr>
          <a:xfrm>
            <a:off x="3090960" y="4492800"/>
            <a:ext cx="14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1"/>
          <p:cNvSpPr/>
          <p:nvPr/>
        </p:nvSpPr>
        <p:spPr>
          <a:xfrm>
            <a:off x="3090960" y="464040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2"/>
          <p:cNvSpPr/>
          <p:nvPr/>
        </p:nvSpPr>
        <p:spPr>
          <a:xfrm flipV="1">
            <a:off x="2692440" y="5141880"/>
            <a:ext cx="270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3"/>
          <p:cNvSpPr/>
          <p:nvPr/>
        </p:nvSpPr>
        <p:spPr>
          <a:xfrm flipV="1">
            <a:off x="2776680" y="5032080"/>
            <a:ext cx="3780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4"/>
          <p:cNvSpPr/>
          <p:nvPr/>
        </p:nvSpPr>
        <p:spPr>
          <a:xfrm flipV="1">
            <a:off x="2873520" y="4922640"/>
            <a:ext cx="378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35"/>
          <p:cNvSpPr/>
          <p:nvPr/>
        </p:nvSpPr>
        <p:spPr>
          <a:xfrm flipV="1">
            <a:off x="2968560" y="4811400"/>
            <a:ext cx="3960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6"/>
          <p:cNvSpPr/>
          <p:nvPr/>
        </p:nvSpPr>
        <p:spPr>
          <a:xfrm flipV="1">
            <a:off x="3065400" y="4716360"/>
            <a:ext cx="255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7"/>
          <p:cNvSpPr/>
          <p:nvPr/>
        </p:nvSpPr>
        <p:spPr>
          <a:xfrm>
            <a:off x="2776680" y="3476520"/>
            <a:ext cx="1440" cy="11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293920" y="4362480"/>
            <a:ext cx="482760" cy="276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9"/>
          <p:cNvSpPr/>
          <p:nvPr/>
        </p:nvSpPr>
        <p:spPr>
          <a:xfrm flipV="1">
            <a:off x="2293920" y="3198960"/>
            <a:ext cx="1440" cy="1163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0"/>
          <p:cNvSpPr/>
          <p:nvPr/>
        </p:nvSpPr>
        <p:spPr>
          <a:xfrm>
            <a:off x="2293920" y="3198960"/>
            <a:ext cx="482760" cy="277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2086920" y="439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2234880" y="4541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3849480" y="42228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2620800" y="210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2768400" y="22510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46"/>
          <p:cNvSpPr/>
          <p:nvPr/>
        </p:nvSpPr>
        <p:spPr>
          <a:xfrm>
            <a:off x="2720880" y="3429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2759400" y="2944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3716280" y="40482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истема Монжа</a:t>
            </a:r>
            <a:br>
              <a:rPr sz="3200"/>
            </a:b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(алгоритмическая ч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0"/>
          <p:cNvSpPr/>
          <p:nvPr/>
        </p:nvSpPr>
        <p:spPr>
          <a:xfrm>
            <a:off x="2711520" y="4568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51"/>
          <p:cNvSpPr/>
          <p:nvPr/>
        </p:nvSpPr>
        <p:spPr>
          <a:xfrm>
            <a:off x="2241720" y="3152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3030120" y="48481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2903760" y="4694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2010960" y="32958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5"/>
          <p:cNvSpPr/>
          <p:nvPr/>
        </p:nvSpPr>
        <p:spPr>
          <a:xfrm>
            <a:off x="1899000" y="313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6"/>
          <p:cNvSpPr/>
          <p:nvPr/>
        </p:nvSpPr>
        <p:spPr>
          <a:xfrm>
            <a:off x="4363920" y="1778040"/>
            <a:ext cx="4097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2.Методом ортог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льного проецир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ия  построить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цию точки на П  . Э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оекция наз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фронта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цией точки и обозн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ается через А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7"/>
          <p:cNvSpPr/>
          <p:nvPr/>
        </p:nvSpPr>
        <p:spPr>
          <a:xfrm>
            <a:off x="6987960" y="344340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8"/>
          <p:cNvSpPr/>
          <p:nvPr/>
        </p:nvSpPr>
        <p:spPr>
          <a:xfrm>
            <a:off x="6805440" y="536904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AE65-4153-4B84-9014-4F8946C57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истема Монжа</a:t>
            </a:r>
            <a:br>
              <a:rPr sz="3200"/>
            </a:b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(алгоритмическая ч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04"/>
          <p:cNvSpPr/>
          <p:nvPr/>
        </p:nvSpPr>
        <p:spPr>
          <a:xfrm>
            <a:off x="449280" y="3929040"/>
            <a:ext cx="255744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05"/>
          <p:cNvSpPr/>
          <p:nvPr/>
        </p:nvSpPr>
        <p:spPr>
          <a:xfrm flipV="1">
            <a:off x="3006720" y="4185720"/>
            <a:ext cx="1057320" cy="120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06"/>
          <p:cNvSpPr/>
          <p:nvPr/>
        </p:nvSpPr>
        <p:spPr>
          <a:xfrm>
            <a:off x="1508040" y="2719440"/>
            <a:ext cx="358920" cy="20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07"/>
          <p:cNvSpPr/>
          <p:nvPr/>
        </p:nvSpPr>
        <p:spPr>
          <a:xfrm flipV="1">
            <a:off x="449280" y="2719440"/>
            <a:ext cx="105876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08"/>
          <p:cNvSpPr/>
          <p:nvPr/>
        </p:nvSpPr>
        <p:spPr>
          <a:xfrm>
            <a:off x="1728720" y="3083040"/>
            <a:ext cx="0" cy="275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09"/>
          <p:cNvSpPr/>
          <p:nvPr/>
        </p:nvSpPr>
        <p:spPr>
          <a:xfrm flipV="1">
            <a:off x="1728720" y="5057280"/>
            <a:ext cx="685800" cy="78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10"/>
          <p:cNvSpPr/>
          <p:nvPr/>
        </p:nvSpPr>
        <p:spPr>
          <a:xfrm flipV="1">
            <a:off x="1728720" y="3452760"/>
            <a:ext cx="105732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11"/>
          <p:cNvSpPr/>
          <p:nvPr/>
        </p:nvSpPr>
        <p:spPr>
          <a:xfrm flipV="1">
            <a:off x="1728720" y="1872720"/>
            <a:ext cx="1057320" cy="120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12"/>
          <p:cNvSpPr/>
          <p:nvPr/>
        </p:nvSpPr>
        <p:spPr>
          <a:xfrm>
            <a:off x="2786040" y="1873080"/>
            <a:ext cx="1440" cy="157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13"/>
          <p:cNvSpPr/>
          <p:nvPr/>
        </p:nvSpPr>
        <p:spPr>
          <a:xfrm>
            <a:off x="1866960" y="2924280"/>
            <a:ext cx="6984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14"/>
          <p:cNvSpPr/>
          <p:nvPr/>
        </p:nvSpPr>
        <p:spPr>
          <a:xfrm>
            <a:off x="2006640" y="3005280"/>
            <a:ext cx="475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15"/>
          <p:cNvSpPr/>
          <p:nvPr/>
        </p:nvSpPr>
        <p:spPr>
          <a:xfrm>
            <a:off x="2125800" y="3073320"/>
            <a:ext cx="4752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6"/>
          <p:cNvSpPr/>
          <p:nvPr/>
        </p:nvSpPr>
        <p:spPr>
          <a:xfrm>
            <a:off x="2244600" y="3141720"/>
            <a:ext cx="46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17"/>
          <p:cNvSpPr/>
          <p:nvPr/>
        </p:nvSpPr>
        <p:spPr>
          <a:xfrm>
            <a:off x="2362320" y="3208320"/>
            <a:ext cx="4752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18"/>
          <p:cNvSpPr/>
          <p:nvPr/>
        </p:nvSpPr>
        <p:spPr>
          <a:xfrm>
            <a:off x="2481120" y="3276720"/>
            <a:ext cx="4608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19"/>
          <p:cNvSpPr/>
          <p:nvPr/>
        </p:nvSpPr>
        <p:spPr>
          <a:xfrm>
            <a:off x="2598840" y="3344760"/>
            <a:ext cx="4752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20"/>
          <p:cNvSpPr/>
          <p:nvPr/>
        </p:nvSpPr>
        <p:spPr>
          <a:xfrm>
            <a:off x="2717640" y="3413160"/>
            <a:ext cx="6840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21"/>
          <p:cNvSpPr/>
          <p:nvPr/>
        </p:nvSpPr>
        <p:spPr>
          <a:xfrm>
            <a:off x="2786040" y="3452760"/>
            <a:ext cx="1278000" cy="73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22"/>
          <p:cNvSpPr/>
          <p:nvPr/>
        </p:nvSpPr>
        <p:spPr>
          <a:xfrm>
            <a:off x="2786040" y="3452760"/>
            <a:ext cx="144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23"/>
          <p:cNvSpPr/>
          <p:nvPr/>
        </p:nvSpPr>
        <p:spPr>
          <a:xfrm>
            <a:off x="2786040" y="3606840"/>
            <a:ext cx="144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4"/>
          <p:cNvSpPr/>
          <p:nvPr/>
        </p:nvSpPr>
        <p:spPr>
          <a:xfrm>
            <a:off x="2786040" y="3741840"/>
            <a:ext cx="144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25"/>
          <p:cNvSpPr/>
          <p:nvPr/>
        </p:nvSpPr>
        <p:spPr>
          <a:xfrm>
            <a:off x="2786040" y="3878280"/>
            <a:ext cx="144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26"/>
          <p:cNvSpPr/>
          <p:nvPr/>
        </p:nvSpPr>
        <p:spPr>
          <a:xfrm>
            <a:off x="2786040" y="4014720"/>
            <a:ext cx="144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27"/>
          <p:cNvSpPr/>
          <p:nvPr/>
        </p:nvSpPr>
        <p:spPr>
          <a:xfrm>
            <a:off x="2786040" y="415116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28"/>
          <p:cNvSpPr/>
          <p:nvPr/>
        </p:nvSpPr>
        <p:spPr>
          <a:xfrm>
            <a:off x="2786040" y="4287960"/>
            <a:ext cx="144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29"/>
          <p:cNvSpPr/>
          <p:nvPr/>
        </p:nvSpPr>
        <p:spPr>
          <a:xfrm>
            <a:off x="2786040" y="4424400"/>
            <a:ext cx="144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30"/>
          <p:cNvSpPr/>
          <p:nvPr/>
        </p:nvSpPr>
        <p:spPr>
          <a:xfrm>
            <a:off x="2786040" y="4560840"/>
            <a:ext cx="144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31"/>
          <p:cNvSpPr/>
          <p:nvPr/>
        </p:nvSpPr>
        <p:spPr>
          <a:xfrm flipV="1">
            <a:off x="2414520" y="5028840"/>
            <a:ext cx="255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32"/>
          <p:cNvSpPr/>
          <p:nvPr/>
        </p:nvSpPr>
        <p:spPr>
          <a:xfrm flipV="1">
            <a:off x="2492280" y="4925520"/>
            <a:ext cx="36720" cy="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33"/>
          <p:cNvSpPr/>
          <p:nvPr/>
        </p:nvSpPr>
        <p:spPr>
          <a:xfrm flipV="1">
            <a:off x="2583000" y="4824000"/>
            <a:ext cx="36360" cy="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34"/>
          <p:cNvSpPr/>
          <p:nvPr/>
        </p:nvSpPr>
        <p:spPr>
          <a:xfrm flipV="1">
            <a:off x="2671920" y="4721400"/>
            <a:ext cx="36360" cy="4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35"/>
          <p:cNvSpPr/>
          <p:nvPr/>
        </p:nvSpPr>
        <p:spPr>
          <a:xfrm flipV="1">
            <a:off x="2762280" y="4632120"/>
            <a:ext cx="2376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36"/>
          <p:cNvSpPr/>
          <p:nvPr/>
        </p:nvSpPr>
        <p:spPr>
          <a:xfrm>
            <a:off x="2492280" y="3476520"/>
            <a:ext cx="1800" cy="10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37"/>
          <p:cNvSpPr/>
          <p:nvPr/>
        </p:nvSpPr>
        <p:spPr>
          <a:xfrm>
            <a:off x="2043000" y="4302000"/>
            <a:ext cx="44928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38"/>
          <p:cNvSpPr/>
          <p:nvPr/>
        </p:nvSpPr>
        <p:spPr>
          <a:xfrm flipV="1">
            <a:off x="2043000" y="3217680"/>
            <a:ext cx="1800" cy="108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39"/>
          <p:cNvSpPr/>
          <p:nvPr/>
        </p:nvSpPr>
        <p:spPr>
          <a:xfrm>
            <a:off x="2043000" y="3218040"/>
            <a:ext cx="449280" cy="25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40"/>
          <p:cNvSpPr/>
          <p:nvPr/>
        </p:nvSpPr>
        <p:spPr>
          <a:xfrm>
            <a:off x="1417680" y="4370400"/>
            <a:ext cx="311040" cy="114120"/>
          </a:xfrm>
          <a:custGeom>
            <a:avLst/>
            <a:gdLst/>
            <a:ahLst/>
            <a:rect l="l" t="t" r="r" b="b"/>
            <a:pathLst>
              <a:path w="1749" h="638">
                <a:moveTo>
                  <a:pt x="1749" y="52"/>
                </a:moveTo>
                <a:lnTo>
                  <a:pt x="1579" y="22"/>
                </a:lnTo>
                <a:lnTo>
                  <a:pt x="1409" y="5"/>
                </a:lnTo>
                <a:lnTo>
                  <a:pt x="1244" y="0"/>
                </a:lnTo>
                <a:lnTo>
                  <a:pt x="1081" y="9"/>
                </a:lnTo>
                <a:lnTo>
                  <a:pt x="925" y="32"/>
                </a:lnTo>
                <a:lnTo>
                  <a:pt x="774" y="66"/>
                </a:lnTo>
                <a:lnTo>
                  <a:pt x="632" y="113"/>
                </a:lnTo>
                <a:lnTo>
                  <a:pt x="498" y="174"/>
                </a:lnTo>
                <a:lnTo>
                  <a:pt x="375" y="246"/>
                </a:lnTo>
                <a:lnTo>
                  <a:pt x="263" y="329"/>
                </a:lnTo>
                <a:lnTo>
                  <a:pt x="162" y="421"/>
                </a:lnTo>
                <a:lnTo>
                  <a:pt x="74" y="525"/>
                </a:lnTo>
                <a:lnTo>
                  <a:pt x="0" y="63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42"/>
          <p:cNvSpPr/>
          <p:nvPr/>
        </p:nvSpPr>
        <p:spPr>
          <a:xfrm>
            <a:off x="1728720" y="4379760"/>
            <a:ext cx="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43"/>
          <p:cNvSpPr/>
          <p:nvPr/>
        </p:nvSpPr>
        <p:spPr>
          <a:xfrm>
            <a:off x="1728720" y="4379760"/>
            <a:ext cx="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44"/>
          <p:cNvSpPr/>
          <p:nvPr/>
        </p:nvSpPr>
        <p:spPr>
          <a:xfrm>
            <a:off x="1650960" y="4357800"/>
            <a:ext cx="77760" cy="27000"/>
          </a:xfrm>
          <a:custGeom>
            <a:avLst/>
            <a:gdLst/>
            <a:ahLst/>
            <a:rect l="l" t="t" r="r" b="b"/>
            <a:pathLst>
              <a:path w="439" h="152">
                <a:moveTo>
                  <a:pt x="439" y="124"/>
                </a:moveTo>
                <a:lnTo>
                  <a:pt x="0" y="152"/>
                </a:lnTo>
                <a:lnTo>
                  <a:pt x="18" y="0"/>
                </a:lnTo>
                <a:lnTo>
                  <a:pt x="439" y="1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45"/>
          <p:cNvSpPr/>
          <p:nvPr/>
        </p:nvSpPr>
        <p:spPr>
          <a:xfrm>
            <a:off x="1650960" y="4357800"/>
            <a:ext cx="77760" cy="27000"/>
          </a:xfrm>
          <a:custGeom>
            <a:avLst/>
            <a:gdLst/>
            <a:ahLst/>
            <a:rect l="l" t="t" r="r" b="b"/>
            <a:pathLst>
              <a:path w="439" h="152">
                <a:moveTo>
                  <a:pt x="439" y="124"/>
                </a:moveTo>
                <a:lnTo>
                  <a:pt x="0" y="152"/>
                </a:lnTo>
                <a:lnTo>
                  <a:pt x="18" y="0"/>
                </a:lnTo>
                <a:lnTo>
                  <a:pt x="439" y="124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81"/>
          <p:cNvSpPr/>
          <p:nvPr/>
        </p:nvSpPr>
        <p:spPr>
          <a:xfrm>
            <a:off x="1839240" y="4341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82"/>
          <p:cNvSpPr/>
          <p:nvPr/>
        </p:nvSpPr>
        <p:spPr>
          <a:xfrm>
            <a:off x="1987560" y="4484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83"/>
          <p:cNvSpPr/>
          <p:nvPr/>
        </p:nvSpPr>
        <p:spPr>
          <a:xfrm>
            <a:off x="2392200" y="21366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84"/>
          <p:cNvSpPr/>
          <p:nvPr/>
        </p:nvSpPr>
        <p:spPr>
          <a:xfrm>
            <a:off x="2539800" y="22795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85"/>
          <p:cNvSpPr/>
          <p:nvPr/>
        </p:nvSpPr>
        <p:spPr>
          <a:xfrm>
            <a:off x="2425680" y="3424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86"/>
          <p:cNvSpPr/>
          <p:nvPr/>
        </p:nvSpPr>
        <p:spPr>
          <a:xfrm>
            <a:off x="2406960" y="295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87"/>
          <p:cNvSpPr/>
          <p:nvPr/>
        </p:nvSpPr>
        <p:spPr>
          <a:xfrm>
            <a:off x="3301920" y="40575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88"/>
          <p:cNvSpPr/>
          <p:nvPr/>
        </p:nvSpPr>
        <p:spPr>
          <a:xfrm>
            <a:off x="2421000" y="4473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9"/>
          <p:cNvSpPr/>
          <p:nvPr/>
        </p:nvSpPr>
        <p:spPr>
          <a:xfrm>
            <a:off x="1984320" y="3152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90"/>
          <p:cNvSpPr/>
          <p:nvPr/>
        </p:nvSpPr>
        <p:spPr>
          <a:xfrm>
            <a:off x="2687400" y="47480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91"/>
          <p:cNvSpPr/>
          <p:nvPr/>
        </p:nvSpPr>
        <p:spPr>
          <a:xfrm>
            <a:off x="2561040" y="4594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92"/>
          <p:cNvSpPr/>
          <p:nvPr/>
        </p:nvSpPr>
        <p:spPr>
          <a:xfrm>
            <a:off x="1768320" y="33480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93"/>
          <p:cNvSpPr/>
          <p:nvPr/>
        </p:nvSpPr>
        <p:spPr>
          <a:xfrm>
            <a:off x="165600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94"/>
          <p:cNvSpPr/>
          <p:nvPr/>
        </p:nvSpPr>
        <p:spPr>
          <a:xfrm>
            <a:off x="3438360" y="42022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298"/>
          <p:cNvSpPr/>
          <p:nvPr/>
        </p:nvSpPr>
        <p:spPr>
          <a:xfrm>
            <a:off x="1720800" y="4869000"/>
            <a:ext cx="397080" cy="144360"/>
          </a:xfrm>
          <a:custGeom>
            <a:avLst/>
            <a:gdLst/>
            <a:ahLst/>
            <a:rect l="l" t="t" r="r" b="b"/>
            <a:pathLst>
              <a:path w="1749" h="638">
                <a:moveTo>
                  <a:pt x="0" y="586"/>
                </a:moveTo>
                <a:lnTo>
                  <a:pt x="171" y="616"/>
                </a:lnTo>
                <a:lnTo>
                  <a:pt x="340" y="634"/>
                </a:lnTo>
                <a:lnTo>
                  <a:pt x="506" y="638"/>
                </a:lnTo>
                <a:lnTo>
                  <a:pt x="668" y="629"/>
                </a:lnTo>
                <a:lnTo>
                  <a:pt x="825" y="607"/>
                </a:lnTo>
                <a:lnTo>
                  <a:pt x="975" y="572"/>
                </a:lnTo>
                <a:lnTo>
                  <a:pt x="1118" y="524"/>
                </a:lnTo>
                <a:lnTo>
                  <a:pt x="1251" y="464"/>
                </a:lnTo>
                <a:lnTo>
                  <a:pt x="1374" y="392"/>
                </a:lnTo>
                <a:lnTo>
                  <a:pt x="1487" y="309"/>
                </a:lnTo>
                <a:lnTo>
                  <a:pt x="1587" y="216"/>
                </a:lnTo>
                <a:lnTo>
                  <a:pt x="1674" y="113"/>
                </a:lnTo>
                <a:lnTo>
                  <a:pt x="174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299"/>
          <p:cNvSpPr/>
          <p:nvPr/>
        </p:nvSpPr>
        <p:spPr>
          <a:xfrm>
            <a:off x="1720800" y="4997520"/>
            <a:ext cx="100080" cy="34920"/>
          </a:xfrm>
          <a:custGeom>
            <a:avLst/>
            <a:gdLst/>
            <a:ahLst/>
            <a:rect l="l" t="t" r="r" b="b"/>
            <a:pathLst>
              <a:path w="439" h="152">
                <a:moveTo>
                  <a:pt x="0" y="13"/>
                </a:moveTo>
                <a:lnTo>
                  <a:pt x="439" y="0"/>
                </a:lnTo>
                <a:lnTo>
                  <a:pt x="416" y="152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300"/>
          <p:cNvSpPr/>
          <p:nvPr/>
        </p:nvSpPr>
        <p:spPr>
          <a:xfrm>
            <a:off x="1720800" y="4997520"/>
            <a:ext cx="100080" cy="34920"/>
          </a:xfrm>
          <a:custGeom>
            <a:avLst/>
            <a:gdLst/>
            <a:ahLst/>
            <a:rect l="l" t="t" r="r" b="b"/>
            <a:pathLst>
              <a:path w="439" h="152">
                <a:moveTo>
                  <a:pt x="0" y="13"/>
                </a:moveTo>
                <a:lnTo>
                  <a:pt x="439" y="0"/>
                </a:lnTo>
                <a:lnTo>
                  <a:pt x="416" y="152"/>
                </a:lnTo>
                <a:lnTo>
                  <a:pt x="0" y="13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05"/>
          <p:cNvSpPr/>
          <p:nvPr/>
        </p:nvSpPr>
        <p:spPr>
          <a:xfrm>
            <a:off x="4268160" y="2665440"/>
            <a:ext cx="411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вместить П   с П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воротом вокруг о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оекци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06"/>
          <p:cNvSpPr/>
          <p:nvPr/>
        </p:nvSpPr>
        <p:spPr>
          <a:xfrm>
            <a:off x="6145200" y="3849840"/>
            <a:ext cx="4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07"/>
          <p:cNvSpPr/>
          <p:nvPr/>
        </p:nvSpPr>
        <p:spPr>
          <a:xfrm>
            <a:off x="7651440" y="286560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08"/>
          <p:cNvSpPr/>
          <p:nvPr/>
        </p:nvSpPr>
        <p:spPr>
          <a:xfrm>
            <a:off x="6784920" y="286560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F8C4-261B-4073-B5B9-8248B47E5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0"/>
          <p:cNvSpPr/>
          <p:nvPr/>
        </p:nvSpPr>
        <p:spPr>
          <a:xfrm>
            <a:off x="4283640" y="1589040"/>
            <a:ext cx="4434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вместить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оекций с плоск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ертеж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строенн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зывается </a:t>
            </a:r>
            <a:r>
              <a:rPr b="0" lang="ru-RU" sz="3200" spc="-1" strike="noStrike">
                <a:solidFill>
                  <a:srgbClr val="cc00cc"/>
                </a:solidFill>
                <a:latin typeface="Calibri"/>
                <a:ea typeface="Calibri"/>
              </a:rPr>
              <a:t>эпюр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Calibri"/>
                <a:ea typeface="Calibri"/>
              </a:rPr>
              <a:t>Монж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истема Монжа</a:t>
            </a:r>
            <a:br>
              <a:rPr sz="3200"/>
            </a:b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(алгоритмическая ч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65"/>
          <p:cNvSpPr/>
          <p:nvPr/>
        </p:nvSpPr>
        <p:spPr>
          <a:xfrm>
            <a:off x="318960" y="3824280"/>
            <a:ext cx="35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66"/>
          <p:cNvSpPr/>
          <p:nvPr/>
        </p:nvSpPr>
        <p:spPr>
          <a:xfrm>
            <a:off x="2259000" y="2854440"/>
            <a:ext cx="0" cy="16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7"/>
          <p:cNvSpPr/>
          <p:nvPr/>
        </p:nvSpPr>
        <p:spPr>
          <a:xfrm>
            <a:off x="2197080" y="2778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68"/>
          <p:cNvSpPr/>
          <p:nvPr/>
        </p:nvSpPr>
        <p:spPr>
          <a:xfrm>
            <a:off x="2203560" y="4489560"/>
            <a:ext cx="982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339120" y="346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0"/>
          <p:cNvSpPr/>
          <p:nvPr/>
        </p:nvSpPr>
        <p:spPr>
          <a:xfrm>
            <a:off x="4870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1"/>
          <p:cNvSpPr/>
          <p:nvPr/>
        </p:nvSpPr>
        <p:spPr>
          <a:xfrm>
            <a:off x="2436480" y="4579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72"/>
          <p:cNvSpPr/>
          <p:nvPr/>
        </p:nvSpPr>
        <p:spPr>
          <a:xfrm>
            <a:off x="2310120" y="4425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3"/>
          <p:cNvSpPr/>
          <p:nvPr/>
        </p:nvSpPr>
        <p:spPr>
          <a:xfrm>
            <a:off x="2420640" y="27241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74"/>
          <p:cNvSpPr/>
          <p:nvPr/>
        </p:nvSpPr>
        <p:spPr>
          <a:xfrm>
            <a:off x="230868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75"/>
          <p:cNvSpPr/>
          <p:nvPr/>
        </p:nvSpPr>
        <p:spPr>
          <a:xfrm>
            <a:off x="7785000" y="523872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6"/>
          <p:cNvSpPr/>
          <p:nvPr/>
        </p:nvSpPr>
        <p:spPr>
          <a:xfrm>
            <a:off x="7350120" y="525312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7"/>
          <p:cNvSpPr/>
          <p:nvPr/>
        </p:nvSpPr>
        <p:spPr>
          <a:xfrm>
            <a:off x="351000" y="4997520"/>
            <a:ext cx="812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Линия, соединяющая проекции точки (А  А  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зывается </a:t>
            </a:r>
            <a:r>
              <a:rPr b="0" lang="ru-RU" sz="3200" spc="-1" strike="noStrike">
                <a:solidFill>
                  <a:srgbClr val="cc00cc"/>
                </a:solidFill>
                <a:latin typeface="Calibri"/>
                <a:ea typeface="Calibri"/>
              </a:rPr>
              <a:t>линией связ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на всегда перпендикулярна оси про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78"/>
          <p:cNvSpPr/>
          <p:nvPr/>
        </p:nvSpPr>
        <p:spPr>
          <a:xfrm>
            <a:off x="2257560" y="374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79"/>
          <p:cNvSpPr/>
          <p:nvPr/>
        </p:nvSpPr>
        <p:spPr>
          <a:xfrm>
            <a:off x="2333520" y="37465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1163-AB43-4406-9C15-D30291435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Задачи начертательной </a:t>
            </a:r>
            <a:br>
              <a:rPr sz="3200"/>
            </a:b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г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408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1455840"/>
            <a:ext cx="8091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Модели разрабатыва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Для решения позиционных и метрических задач (позиционные – задачи на взаимное расположение объектов, метрические – задачи на определение различных параметров объект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Для обмена информ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Для геометрического моделирования процессов происходящих в природе, технике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5B96-ED7F-4004-A34A-BD40398E6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расстояний от точки к плоскостям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463680" y="3457440"/>
            <a:ext cx="255744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5"/>
          <p:cNvSpPr/>
          <p:nvPr/>
        </p:nvSpPr>
        <p:spPr>
          <a:xfrm flipV="1">
            <a:off x="3021120" y="3714840"/>
            <a:ext cx="105732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6"/>
          <p:cNvSpPr/>
          <p:nvPr/>
        </p:nvSpPr>
        <p:spPr>
          <a:xfrm>
            <a:off x="1522440" y="2247840"/>
            <a:ext cx="358920" cy="20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 flipV="1">
            <a:off x="463680" y="2247840"/>
            <a:ext cx="105876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1743120" y="2611440"/>
            <a:ext cx="0" cy="275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9"/>
          <p:cNvSpPr/>
          <p:nvPr/>
        </p:nvSpPr>
        <p:spPr>
          <a:xfrm flipV="1">
            <a:off x="1743120" y="4586400"/>
            <a:ext cx="685800" cy="78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0"/>
          <p:cNvSpPr/>
          <p:nvPr/>
        </p:nvSpPr>
        <p:spPr>
          <a:xfrm flipV="1">
            <a:off x="1743120" y="2980800"/>
            <a:ext cx="1057320" cy="120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1"/>
          <p:cNvSpPr/>
          <p:nvPr/>
        </p:nvSpPr>
        <p:spPr>
          <a:xfrm flipV="1">
            <a:off x="1743120" y="1401840"/>
            <a:ext cx="105732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2800440" y="1401840"/>
            <a:ext cx="1440" cy="157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1881360" y="2452680"/>
            <a:ext cx="6984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2021040" y="2533680"/>
            <a:ext cx="475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"/>
          <p:cNvSpPr/>
          <p:nvPr/>
        </p:nvSpPr>
        <p:spPr>
          <a:xfrm>
            <a:off x="2139840" y="2602080"/>
            <a:ext cx="478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6"/>
          <p:cNvSpPr/>
          <p:nvPr/>
        </p:nvSpPr>
        <p:spPr>
          <a:xfrm>
            <a:off x="2259000" y="2670120"/>
            <a:ext cx="46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7"/>
          <p:cNvSpPr/>
          <p:nvPr/>
        </p:nvSpPr>
        <p:spPr>
          <a:xfrm>
            <a:off x="2376360" y="2736720"/>
            <a:ext cx="478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8"/>
          <p:cNvSpPr/>
          <p:nvPr/>
        </p:nvSpPr>
        <p:spPr>
          <a:xfrm>
            <a:off x="2495520" y="2805120"/>
            <a:ext cx="4608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9"/>
          <p:cNvSpPr/>
          <p:nvPr/>
        </p:nvSpPr>
        <p:spPr>
          <a:xfrm>
            <a:off x="2612880" y="2873520"/>
            <a:ext cx="478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0"/>
          <p:cNvSpPr/>
          <p:nvPr/>
        </p:nvSpPr>
        <p:spPr>
          <a:xfrm>
            <a:off x="2732040" y="2941560"/>
            <a:ext cx="6840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1"/>
          <p:cNvSpPr/>
          <p:nvPr/>
        </p:nvSpPr>
        <p:spPr>
          <a:xfrm>
            <a:off x="2800440" y="2981160"/>
            <a:ext cx="1278000" cy="73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22"/>
          <p:cNvSpPr/>
          <p:nvPr/>
        </p:nvSpPr>
        <p:spPr>
          <a:xfrm>
            <a:off x="2800440" y="2981160"/>
            <a:ext cx="144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3"/>
          <p:cNvSpPr/>
          <p:nvPr/>
        </p:nvSpPr>
        <p:spPr>
          <a:xfrm>
            <a:off x="2800440" y="3135240"/>
            <a:ext cx="144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4"/>
          <p:cNvSpPr/>
          <p:nvPr/>
        </p:nvSpPr>
        <p:spPr>
          <a:xfrm>
            <a:off x="2800440" y="3270240"/>
            <a:ext cx="144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5"/>
          <p:cNvSpPr/>
          <p:nvPr/>
        </p:nvSpPr>
        <p:spPr>
          <a:xfrm>
            <a:off x="2800440" y="340668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6"/>
          <p:cNvSpPr/>
          <p:nvPr/>
        </p:nvSpPr>
        <p:spPr>
          <a:xfrm>
            <a:off x="2800440" y="3543480"/>
            <a:ext cx="1440" cy="5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7"/>
          <p:cNvSpPr/>
          <p:nvPr/>
        </p:nvSpPr>
        <p:spPr>
          <a:xfrm>
            <a:off x="2800440" y="3679920"/>
            <a:ext cx="144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8"/>
          <p:cNvSpPr/>
          <p:nvPr/>
        </p:nvSpPr>
        <p:spPr>
          <a:xfrm>
            <a:off x="2800440" y="3816360"/>
            <a:ext cx="144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9"/>
          <p:cNvSpPr/>
          <p:nvPr/>
        </p:nvSpPr>
        <p:spPr>
          <a:xfrm>
            <a:off x="2800440" y="395280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30"/>
          <p:cNvSpPr/>
          <p:nvPr/>
        </p:nvSpPr>
        <p:spPr>
          <a:xfrm>
            <a:off x="2800440" y="4089240"/>
            <a:ext cx="144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31"/>
          <p:cNvSpPr/>
          <p:nvPr/>
        </p:nvSpPr>
        <p:spPr>
          <a:xfrm flipV="1">
            <a:off x="2428920" y="4557600"/>
            <a:ext cx="252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2"/>
          <p:cNvSpPr/>
          <p:nvPr/>
        </p:nvSpPr>
        <p:spPr>
          <a:xfrm flipV="1">
            <a:off x="2506680" y="4454640"/>
            <a:ext cx="36360" cy="4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3"/>
          <p:cNvSpPr/>
          <p:nvPr/>
        </p:nvSpPr>
        <p:spPr>
          <a:xfrm flipV="1">
            <a:off x="2597040" y="4352400"/>
            <a:ext cx="36720" cy="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4"/>
          <p:cNvSpPr/>
          <p:nvPr/>
        </p:nvSpPr>
        <p:spPr>
          <a:xfrm flipV="1">
            <a:off x="2685960" y="4249800"/>
            <a:ext cx="36720" cy="4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5"/>
          <p:cNvSpPr/>
          <p:nvPr/>
        </p:nvSpPr>
        <p:spPr>
          <a:xfrm flipV="1">
            <a:off x="2776680" y="4160520"/>
            <a:ext cx="2376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6"/>
          <p:cNvSpPr/>
          <p:nvPr/>
        </p:nvSpPr>
        <p:spPr>
          <a:xfrm>
            <a:off x="2506680" y="3005280"/>
            <a:ext cx="1440" cy="1083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7"/>
          <p:cNvSpPr/>
          <p:nvPr/>
        </p:nvSpPr>
        <p:spPr>
          <a:xfrm>
            <a:off x="2057400" y="3830760"/>
            <a:ext cx="449280" cy="25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8"/>
          <p:cNvSpPr/>
          <p:nvPr/>
        </p:nvSpPr>
        <p:spPr>
          <a:xfrm flipV="1">
            <a:off x="2057400" y="2746440"/>
            <a:ext cx="1440" cy="10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9"/>
          <p:cNvSpPr/>
          <p:nvPr/>
        </p:nvSpPr>
        <p:spPr>
          <a:xfrm>
            <a:off x="2057400" y="2746440"/>
            <a:ext cx="44928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1"/>
          <p:cNvSpPr/>
          <p:nvPr/>
        </p:nvSpPr>
        <p:spPr>
          <a:xfrm>
            <a:off x="1743120" y="3908520"/>
            <a:ext cx="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2"/>
          <p:cNvSpPr/>
          <p:nvPr/>
        </p:nvSpPr>
        <p:spPr>
          <a:xfrm>
            <a:off x="1743120" y="3908520"/>
            <a:ext cx="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5"/>
          <p:cNvSpPr/>
          <p:nvPr/>
        </p:nvSpPr>
        <p:spPr>
          <a:xfrm>
            <a:off x="1853640" y="387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6"/>
          <p:cNvSpPr/>
          <p:nvPr/>
        </p:nvSpPr>
        <p:spPr>
          <a:xfrm>
            <a:off x="2001600" y="4013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7"/>
          <p:cNvSpPr/>
          <p:nvPr/>
        </p:nvSpPr>
        <p:spPr>
          <a:xfrm>
            <a:off x="2406600" y="1665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8"/>
          <p:cNvSpPr/>
          <p:nvPr/>
        </p:nvSpPr>
        <p:spPr>
          <a:xfrm>
            <a:off x="2553840" y="18082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9"/>
          <p:cNvSpPr/>
          <p:nvPr/>
        </p:nvSpPr>
        <p:spPr>
          <a:xfrm>
            <a:off x="2440080" y="2952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0"/>
          <p:cNvSpPr/>
          <p:nvPr/>
        </p:nvSpPr>
        <p:spPr>
          <a:xfrm>
            <a:off x="2421360" y="2487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1"/>
          <p:cNvSpPr/>
          <p:nvPr/>
        </p:nvSpPr>
        <p:spPr>
          <a:xfrm>
            <a:off x="3316320" y="35863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52"/>
          <p:cNvSpPr/>
          <p:nvPr/>
        </p:nvSpPr>
        <p:spPr>
          <a:xfrm>
            <a:off x="2435400" y="4002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53"/>
          <p:cNvSpPr/>
          <p:nvPr/>
        </p:nvSpPr>
        <p:spPr>
          <a:xfrm>
            <a:off x="1998720" y="2681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4"/>
          <p:cNvSpPr/>
          <p:nvPr/>
        </p:nvSpPr>
        <p:spPr>
          <a:xfrm>
            <a:off x="2701800" y="42768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5"/>
          <p:cNvSpPr/>
          <p:nvPr/>
        </p:nvSpPr>
        <p:spPr>
          <a:xfrm>
            <a:off x="2575440" y="412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6"/>
          <p:cNvSpPr/>
          <p:nvPr/>
        </p:nvSpPr>
        <p:spPr>
          <a:xfrm>
            <a:off x="1782360" y="28764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7"/>
          <p:cNvSpPr/>
          <p:nvPr/>
        </p:nvSpPr>
        <p:spPr>
          <a:xfrm>
            <a:off x="1670400" y="27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8"/>
          <p:cNvSpPr/>
          <p:nvPr/>
        </p:nvSpPr>
        <p:spPr>
          <a:xfrm>
            <a:off x="3452400" y="37306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62"/>
          <p:cNvSpPr/>
          <p:nvPr/>
        </p:nvSpPr>
        <p:spPr>
          <a:xfrm>
            <a:off x="5173560" y="2627280"/>
            <a:ext cx="35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63"/>
          <p:cNvSpPr/>
          <p:nvPr/>
        </p:nvSpPr>
        <p:spPr>
          <a:xfrm>
            <a:off x="7113600" y="1657440"/>
            <a:ext cx="0" cy="21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64"/>
          <p:cNvSpPr/>
          <p:nvPr/>
        </p:nvSpPr>
        <p:spPr>
          <a:xfrm>
            <a:off x="7051680" y="1581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65"/>
          <p:cNvSpPr/>
          <p:nvPr/>
        </p:nvSpPr>
        <p:spPr>
          <a:xfrm>
            <a:off x="7056360" y="3722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6"/>
          <p:cNvSpPr/>
          <p:nvPr/>
        </p:nvSpPr>
        <p:spPr>
          <a:xfrm>
            <a:off x="5193720" y="2268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67"/>
          <p:cNvSpPr/>
          <p:nvPr/>
        </p:nvSpPr>
        <p:spPr>
          <a:xfrm>
            <a:off x="5341680" y="2411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8"/>
          <p:cNvSpPr/>
          <p:nvPr/>
        </p:nvSpPr>
        <p:spPr>
          <a:xfrm>
            <a:off x="7303680" y="38131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9"/>
          <p:cNvSpPr/>
          <p:nvPr/>
        </p:nvSpPr>
        <p:spPr>
          <a:xfrm>
            <a:off x="7177320" y="365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0"/>
          <p:cNvSpPr/>
          <p:nvPr/>
        </p:nvSpPr>
        <p:spPr>
          <a:xfrm>
            <a:off x="7275240" y="15271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1"/>
          <p:cNvSpPr/>
          <p:nvPr/>
        </p:nvSpPr>
        <p:spPr>
          <a:xfrm>
            <a:off x="7163280" y="1368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72"/>
          <p:cNvSpPr/>
          <p:nvPr/>
        </p:nvSpPr>
        <p:spPr>
          <a:xfrm>
            <a:off x="2011320" y="37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73"/>
          <p:cNvSpPr/>
          <p:nvPr/>
        </p:nvSpPr>
        <p:spPr>
          <a:xfrm>
            <a:off x="1753920" y="3548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74"/>
          <p:cNvSpPr/>
          <p:nvPr/>
        </p:nvSpPr>
        <p:spPr>
          <a:xfrm>
            <a:off x="1651320" y="3370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75"/>
          <p:cNvSpPr/>
          <p:nvPr/>
        </p:nvSpPr>
        <p:spPr>
          <a:xfrm>
            <a:off x="7181640" y="2406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6"/>
          <p:cNvSpPr/>
          <p:nvPr/>
        </p:nvSpPr>
        <p:spPr>
          <a:xfrm>
            <a:off x="7079040" y="222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7"/>
          <p:cNvSpPr/>
          <p:nvPr/>
        </p:nvSpPr>
        <p:spPr>
          <a:xfrm>
            <a:off x="7050240" y="2565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8"/>
          <p:cNvSpPr/>
          <p:nvPr/>
        </p:nvSpPr>
        <p:spPr>
          <a:xfrm>
            <a:off x="4155480" y="4199040"/>
            <a:ext cx="44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ояние к П  р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к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A  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79"/>
          <p:cNvSpPr/>
          <p:nvPr/>
        </p:nvSpPr>
        <p:spPr>
          <a:xfrm>
            <a:off x="7003800" y="443880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0"/>
          <p:cNvSpPr/>
          <p:nvPr/>
        </p:nvSpPr>
        <p:spPr>
          <a:xfrm>
            <a:off x="6316560" y="492444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3D56-02C6-4CE3-AD94-DCF2E82AE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расстояний от точки к плоскостям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463680" y="3457440"/>
            <a:ext cx="255744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6"/>
          <p:cNvSpPr/>
          <p:nvPr/>
        </p:nvSpPr>
        <p:spPr>
          <a:xfrm flipV="1">
            <a:off x="3021120" y="3714840"/>
            <a:ext cx="105732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1522440" y="2247840"/>
            <a:ext cx="358920" cy="20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 flipV="1">
            <a:off x="463680" y="2247840"/>
            <a:ext cx="105876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1743120" y="2611440"/>
            <a:ext cx="0" cy="275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0"/>
          <p:cNvSpPr/>
          <p:nvPr/>
        </p:nvSpPr>
        <p:spPr>
          <a:xfrm flipV="1">
            <a:off x="1743120" y="4586400"/>
            <a:ext cx="685800" cy="78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 flipV="1">
            <a:off x="1743120" y="2980800"/>
            <a:ext cx="1057320" cy="120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2"/>
          <p:cNvSpPr/>
          <p:nvPr/>
        </p:nvSpPr>
        <p:spPr>
          <a:xfrm flipV="1">
            <a:off x="1743120" y="1401840"/>
            <a:ext cx="105732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3"/>
          <p:cNvSpPr/>
          <p:nvPr/>
        </p:nvSpPr>
        <p:spPr>
          <a:xfrm>
            <a:off x="2800440" y="1401840"/>
            <a:ext cx="1440" cy="157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4"/>
          <p:cNvSpPr/>
          <p:nvPr/>
        </p:nvSpPr>
        <p:spPr>
          <a:xfrm>
            <a:off x="1881360" y="2452680"/>
            <a:ext cx="6984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5"/>
          <p:cNvSpPr/>
          <p:nvPr/>
        </p:nvSpPr>
        <p:spPr>
          <a:xfrm>
            <a:off x="2021040" y="2533680"/>
            <a:ext cx="475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6"/>
          <p:cNvSpPr/>
          <p:nvPr/>
        </p:nvSpPr>
        <p:spPr>
          <a:xfrm>
            <a:off x="2139840" y="2602080"/>
            <a:ext cx="478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2259000" y="2670120"/>
            <a:ext cx="46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2376360" y="2736720"/>
            <a:ext cx="478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2495520" y="2805120"/>
            <a:ext cx="4608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2612880" y="2873520"/>
            <a:ext cx="478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1"/>
          <p:cNvSpPr/>
          <p:nvPr/>
        </p:nvSpPr>
        <p:spPr>
          <a:xfrm>
            <a:off x="2732040" y="2941560"/>
            <a:ext cx="6840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2800440" y="2981160"/>
            <a:ext cx="1278000" cy="73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>
            <a:off x="2800440" y="2981160"/>
            <a:ext cx="144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4"/>
          <p:cNvSpPr/>
          <p:nvPr/>
        </p:nvSpPr>
        <p:spPr>
          <a:xfrm>
            <a:off x="2800440" y="3135240"/>
            <a:ext cx="144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5"/>
          <p:cNvSpPr/>
          <p:nvPr/>
        </p:nvSpPr>
        <p:spPr>
          <a:xfrm>
            <a:off x="2800440" y="3270240"/>
            <a:ext cx="144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6"/>
          <p:cNvSpPr/>
          <p:nvPr/>
        </p:nvSpPr>
        <p:spPr>
          <a:xfrm>
            <a:off x="2800440" y="340668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7"/>
          <p:cNvSpPr/>
          <p:nvPr/>
        </p:nvSpPr>
        <p:spPr>
          <a:xfrm>
            <a:off x="2800440" y="3543480"/>
            <a:ext cx="1440" cy="5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8"/>
          <p:cNvSpPr/>
          <p:nvPr/>
        </p:nvSpPr>
        <p:spPr>
          <a:xfrm>
            <a:off x="2800440" y="3679920"/>
            <a:ext cx="144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9"/>
          <p:cNvSpPr/>
          <p:nvPr/>
        </p:nvSpPr>
        <p:spPr>
          <a:xfrm>
            <a:off x="2800440" y="3816360"/>
            <a:ext cx="144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0"/>
          <p:cNvSpPr/>
          <p:nvPr/>
        </p:nvSpPr>
        <p:spPr>
          <a:xfrm>
            <a:off x="2800440" y="395280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1"/>
          <p:cNvSpPr/>
          <p:nvPr/>
        </p:nvSpPr>
        <p:spPr>
          <a:xfrm>
            <a:off x="2800440" y="4089240"/>
            <a:ext cx="144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2"/>
          <p:cNvSpPr/>
          <p:nvPr/>
        </p:nvSpPr>
        <p:spPr>
          <a:xfrm flipV="1">
            <a:off x="2428920" y="4557600"/>
            <a:ext cx="252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3"/>
          <p:cNvSpPr/>
          <p:nvPr/>
        </p:nvSpPr>
        <p:spPr>
          <a:xfrm flipV="1">
            <a:off x="2506680" y="4454640"/>
            <a:ext cx="36360" cy="4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4"/>
          <p:cNvSpPr/>
          <p:nvPr/>
        </p:nvSpPr>
        <p:spPr>
          <a:xfrm flipV="1">
            <a:off x="2597040" y="4352400"/>
            <a:ext cx="36720" cy="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35"/>
          <p:cNvSpPr/>
          <p:nvPr/>
        </p:nvSpPr>
        <p:spPr>
          <a:xfrm flipV="1">
            <a:off x="2685960" y="4249800"/>
            <a:ext cx="36720" cy="4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6"/>
          <p:cNvSpPr/>
          <p:nvPr/>
        </p:nvSpPr>
        <p:spPr>
          <a:xfrm flipV="1">
            <a:off x="2776680" y="4160520"/>
            <a:ext cx="2376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37"/>
          <p:cNvSpPr/>
          <p:nvPr/>
        </p:nvSpPr>
        <p:spPr>
          <a:xfrm>
            <a:off x="2506680" y="3005280"/>
            <a:ext cx="1440" cy="1083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8"/>
          <p:cNvSpPr/>
          <p:nvPr/>
        </p:nvSpPr>
        <p:spPr>
          <a:xfrm>
            <a:off x="2057400" y="3830760"/>
            <a:ext cx="449280" cy="25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9"/>
          <p:cNvSpPr/>
          <p:nvPr/>
        </p:nvSpPr>
        <p:spPr>
          <a:xfrm flipV="1">
            <a:off x="2057400" y="2746440"/>
            <a:ext cx="1440" cy="1084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0"/>
          <p:cNvSpPr/>
          <p:nvPr/>
        </p:nvSpPr>
        <p:spPr>
          <a:xfrm>
            <a:off x="2057400" y="2746440"/>
            <a:ext cx="44928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1"/>
          <p:cNvSpPr/>
          <p:nvPr/>
        </p:nvSpPr>
        <p:spPr>
          <a:xfrm>
            <a:off x="1743120" y="3908520"/>
            <a:ext cx="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2"/>
          <p:cNvSpPr/>
          <p:nvPr/>
        </p:nvSpPr>
        <p:spPr>
          <a:xfrm>
            <a:off x="1743120" y="3908520"/>
            <a:ext cx="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3"/>
          <p:cNvSpPr/>
          <p:nvPr/>
        </p:nvSpPr>
        <p:spPr>
          <a:xfrm>
            <a:off x="1853640" y="387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4"/>
          <p:cNvSpPr/>
          <p:nvPr/>
        </p:nvSpPr>
        <p:spPr>
          <a:xfrm>
            <a:off x="2001600" y="4013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5"/>
          <p:cNvSpPr/>
          <p:nvPr/>
        </p:nvSpPr>
        <p:spPr>
          <a:xfrm>
            <a:off x="2406600" y="1665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6"/>
          <p:cNvSpPr/>
          <p:nvPr/>
        </p:nvSpPr>
        <p:spPr>
          <a:xfrm>
            <a:off x="2553840" y="18082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47"/>
          <p:cNvSpPr/>
          <p:nvPr/>
        </p:nvSpPr>
        <p:spPr>
          <a:xfrm>
            <a:off x="2440080" y="2952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8"/>
          <p:cNvSpPr/>
          <p:nvPr/>
        </p:nvSpPr>
        <p:spPr>
          <a:xfrm>
            <a:off x="2421360" y="2487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9"/>
          <p:cNvSpPr/>
          <p:nvPr/>
        </p:nvSpPr>
        <p:spPr>
          <a:xfrm>
            <a:off x="3316320" y="35863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50"/>
          <p:cNvSpPr/>
          <p:nvPr/>
        </p:nvSpPr>
        <p:spPr>
          <a:xfrm>
            <a:off x="2435400" y="4002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51"/>
          <p:cNvSpPr/>
          <p:nvPr/>
        </p:nvSpPr>
        <p:spPr>
          <a:xfrm>
            <a:off x="1998720" y="2681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2"/>
          <p:cNvSpPr/>
          <p:nvPr/>
        </p:nvSpPr>
        <p:spPr>
          <a:xfrm>
            <a:off x="2701800" y="42768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2575440" y="412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54"/>
          <p:cNvSpPr/>
          <p:nvPr/>
        </p:nvSpPr>
        <p:spPr>
          <a:xfrm>
            <a:off x="1782360" y="28764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5"/>
          <p:cNvSpPr/>
          <p:nvPr/>
        </p:nvSpPr>
        <p:spPr>
          <a:xfrm>
            <a:off x="1670400" y="27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6"/>
          <p:cNvSpPr/>
          <p:nvPr/>
        </p:nvSpPr>
        <p:spPr>
          <a:xfrm>
            <a:off x="3452400" y="37306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57"/>
          <p:cNvSpPr/>
          <p:nvPr/>
        </p:nvSpPr>
        <p:spPr>
          <a:xfrm>
            <a:off x="4444920" y="2614680"/>
            <a:ext cx="35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58"/>
          <p:cNvSpPr/>
          <p:nvPr/>
        </p:nvSpPr>
        <p:spPr>
          <a:xfrm>
            <a:off x="6384960" y="2658960"/>
            <a:ext cx="0" cy="10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60"/>
          <p:cNvSpPr/>
          <p:nvPr/>
        </p:nvSpPr>
        <p:spPr>
          <a:xfrm>
            <a:off x="6327720" y="371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61"/>
          <p:cNvSpPr/>
          <p:nvPr/>
        </p:nvSpPr>
        <p:spPr>
          <a:xfrm>
            <a:off x="4465080" y="2255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62"/>
          <p:cNvSpPr/>
          <p:nvPr/>
        </p:nvSpPr>
        <p:spPr>
          <a:xfrm>
            <a:off x="4613040" y="2398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3"/>
          <p:cNvSpPr/>
          <p:nvPr/>
        </p:nvSpPr>
        <p:spPr>
          <a:xfrm>
            <a:off x="6641640" y="36939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4"/>
          <p:cNvSpPr/>
          <p:nvPr/>
        </p:nvSpPr>
        <p:spPr>
          <a:xfrm>
            <a:off x="6515280" y="3540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65"/>
          <p:cNvSpPr/>
          <p:nvPr/>
        </p:nvSpPr>
        <p:spPr>
          <a:xfrm>
            <a:off x="6546600" y="15145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6"/>
          <p:cNvSpPr/>
          <p:nvPr/>
        </p:nvSpPr>
        <p:spPr>
          <a:xfrm>
            <a:off x="6434640" y="13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67"/>
          <p:cNvSpPr/>
          <p:nvPr/>
        </p:nvSpPr>
        <p:spPr>
          <a:xfrm>
            <a:off x="2011320" y="37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8"/>
          <p:cNvSpPr/>
          <p:nvPr/>
        </p:nvSpPr>
        <p:spPr>
          <a:xfrm>
            <a:off x="1753920" y="3548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69"/>
          <p:cNvSpPr/>
          <p:nvPr/>
        </p:nvSpPr>
        <p:spPr>
          <a:xfrm>
            <a:off x="1651320" y="3370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70"/>
          <p:cNvSpPr/>
          <p:nvPr/>
        </p:nvSpPr>
        <p:spPr>
          <a:xfrm>
            <a:off x="6016320" y="23274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1"/>
          <p:cNvSpPr/>
          <p:nvPr/>
        </p:nvSpPr>
        <p:spPr>
          <a:xfrm>
            <a:off x="5913720" y="214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73"/>
          <p:cNvSpPr/>
          <p:nvPr/>
        </p:nvSpPr>
        <p:spPr>
          <a:xfrm>
            <a:off x="4061520" y="3809880"/>
            <a:ext cx="44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ояние к П  р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к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A  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74"/>
          <p:cNvSpPr/>
          <p:nvPr/>
        </p:nvSpPr>
        <p:spPr>
          <a:xfrm>
            <a:off x="6910200" y="404964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75"/>
          <p:cNvSpPr/>
          <p:nvPr/>
        </p:nvSpPr>
        <p:spPr>
          <a:xfrm>
            <a:off x="6222960" y="453564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76"/>
          <p:cNvSpPr/>
          <p:nvPr/>
        </p:nvSpPr>
        <p:spPr>
          <a:xfrm>
            <a:off x="1883160" y="5273640"/>
            <a:ext cx="69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хугольник АА  А  А  - прям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ьник,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[AA  ]=[A  A  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77"/>
          <p:cNvSpPr/>
          <p:nvPr/>
        </p:nvSpPr>
        <p:spPr>
          <a:xfrm>
            <a:off x="5803920" y="556272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78"/>
          <p:cNvSpPr/>
          <p:nvPr/>
        </p:nvSpPr>
        <p:spPr>
          <a:xfrm>
            <a:off x="6238800" y="5575320"/>
            <a:ext cx="4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80"/>
          <p:cNvSpPr/>
          <p:nvPr/>
        </p:nvSpPr>
        <p:spPr>
          <a:xfrm>
            <a:off x="5751360" y="601488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1"/>
          <p:cNvSpPr/>
          <p:nvPr/>
        </p:nvSpPr>
        <p:spPr>
          <a:xfrm>
            <a:off x="6194160" y="6019920"/>
            <a:ext cx="4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88"/>
          <p:cNvSpPr/>
          <p:nvPr/>
        </p:nvSpPr>
        <p:spPr>
          <a:xfrm>
            <a:off x="4782960" y="598644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9"/>
          <p:cNvSpPr/>
          <p:nvPr/>
        </p:nvSpPr>
        <p:spPr>
          <a:xfrm>
            <a:off x="6780240" y="556416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90"/>
              <p:cNvSpPr txBox="1"/>
              <p:nvPr/>
            </p:nvSpPr>
            <p:spPr>
              <a:xfrm>
                <a:off x="6087960" y="1677960"/>
                <a:ext cx="67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759" name="Text Box 91"/>
          <p:cNvSpPr/>
          <p:nvPr/>
        </p:nvSpPr>
        <p:spPr>
          <a:xfrm>
            <a:off x="6917040" y="169848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2"/>
          <p:cNvSpPr/>
          <p:nvPr/>
        </p:nvSpPr>
        <p:spPr>
          <a:xfrm>
            <a:off x="7294320" y="216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93"/>
          <p:cNvSpPr/>
          <p:nvPr/>
        </p:nvSpPr>
        <p:spPr>
          <a:xfrm flipV="1">
            <a:off x="6386400" y="1657080"/>
            <a:ext cx="0" cy="942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94"/>
          <p:cNvSpPr/>
          <p:nvPr/>
        </p:nvSpPr>
        <p:spPr>
          <a:xfrm>
            <a:off x="6323040" y="1568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96"/>
          <p:cNvSpPr/>
          <p:nvPr/>
        </p:nvSpPr>
        <p:spPr>
          <a:xfrm>
            <a:off x="6321600" y="2552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0ABF-5924-4086-B09F-1DE8285CA6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расстояний от точки к плоскостям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5"/>
          <p:cNvSpPr/>
          <p:nvPr/>
        </p:nvSpPr>
        <p:spPr>
          <a:xfrm>
            <a:off x="463680" y="3457440"/>
            <a:ext cx="255744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6"/>
          <p:cNvSpPr/>
          <p:nvPr/>
        </p:nvSpPr>
        <p:spPr>
          <a:xfrm flipV="1">
            <a:off x="3021120" y="3714840"/>
            <a:ext cx="105732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7"/>
          <p:cNvSpPr/>
          <p:nvPr/>
        </p:nvSpPr>
        <p:spPr>
          <a:xfrm>
            <a:off x="1522440" y="2247840"/>
            <a:ext cx="358920" cy="20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8"/>
          <p:cNvSpPr/>
          <p:nvPr/>
        </p:nvSpPr>
        <p:spPr>
          <a:xfrm flipV="1">
            <a:off x="463680" y="2247840"/>
            <a:ext cx="105876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9"/>
          <p:cNvSpPr/>
          <p:nvPr/>
        </p:nvSpPr>
        <p:spPr>
          <a:xfrm>
            <a:off x="1743120" y="2611440"/>
            <a:ext cx="0" cy="275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0"/>
          <p:cNvSpPr/>
          <p:nvPr/>
        </p:nvSpPr>
        <p:spPr>
          <a:xfrm flipV="1">
            <a:off x="1743120" y="4586400"/>
            <a:ext cx="685800" cy="78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1"/>
          <p:cNvSpPr/>
          <p:nvPr/>
        </p:nvSpPr>
        <p:spPr>
          <a:xfrm flipV="1">
            <a:off x="1743120" y="2980800"/>
            <a:ext cx="1057320" cy="120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2"/>
          <p:cNvSpPr/>
          <p:nvPr/>
        </p:nvSpPr>
        <p:spPr>
          <a:xfrm flipV="1">
            <a:off x="1743120" y="1401840"/>
            <a:ext cx="105732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3"/>
          <p:cNvSpPr/>
          <p:nvPr/>
        </p:nvSpPr>
        <p:spPr>
          <a:xfrm>
            <a:off x="2800440" y="1401840"/>
            <a:ext cx="1440" cy="157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"/>
          <p:cNvSpPr/>
          <p:nvPr/>
        </p:nvSpPr>
        <p:spPr>
          <a:xfrm>
            <a:off x="1881360" y="2452680"/>
            <a:ext cx="6984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5"/>
          <p:cNvSpPr/>
          <p:nvPr/>
        </p:nvSpPr>
        <p:spPr>
          <a:xfrm>
            <a:off x="2021040" y="2533680"/>
            <a:ext cx="475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6"/>
          <p:cNvSpPr/>
          <p:nvPr/>
        </p:nvSpPr>
        <p:spPr>
          <a:xfrm>
            <a:off x="2139840" y="2602080"/>
            <a:ext cx="478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7"/>
          <p:cNvSpPr/>
          <p:nvPr/>
        </p:nvSpPr>
        <p:spPr>
          <a:xfrm>
            <a:off x="2259000" y="2670120"/>
            <a:ext cx="46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8"/>
          <p:cNvSpPr/>
          <p:nvPr/>
        </p:nvSpPr>
        <p:spPr>
          <a:xfrm>
            <a:off x="2376360" y="2736720"/>
            <a:ext cx="478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9"/>
          <p:cNvSpPr/>
          <p:nvPr/>
        </p:nvSpPr>
        <p:spPr>
          <a:xfrm>
            <a:off x="2495520" y="2805120"/>
            <a:ext cx="4608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0"/>
          <p:cNvSpPr/>
          <p:nvPr/>
        </p:nvSpPr>
        <p:spPr>
          <a:xfrm>
            <a:off x="2612880" y="2873520"/>
            <a:ext cx="478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21"/>
          <p:cNvSpPr/>
          <p:nvPr/>
        </p:nvSpPr>
        <p:spPr>
          <a:xfrm>
            <a:off x="2732040" y="2941560"/>
            <a:ext cx="6840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2"/>
          <p:cNvSpPr/>
          <p:nvPr/>
        </p:nvSpPr>
        <p:spPr>
          <a:xfrm>
            <a:off x="2800440" y="2981160"/>
            <a:ext cx="1278000" cy="73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3"/>
          <p:cNvSpPr/>
          <p:nvPr/>
        </p:nvSpPr>
        <p:spPr>
          <a:xfrm>
            <a:off x="2800440" y="2981160"/>
            <a:ext cx="144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24"/>
          <p:cNvSpPr/>
          <p:nvPr/>
        </p:nvSpPr>
        <p:spPr>
          <a:xfrm>
            <a:off x="2800440" y="3135240"/>
            <a:ext cx="144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25"/>
          <p:cNvSpPr/>
          <p:nvPr/>
        </p:nvSpPr>
        <p:spPr>
          <a:xfrm>
            <a:off x="2800440" y="3270240"/>
            <a:ext cx="144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6"/>
          <p:cNvSpPr/>
          <p:nvPr/>
        </p:nvSpPr>
        <p:spPr>
          <a:xfrm>
            <a:off x="2800440" y="340668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7"/>
          <p:cNvSpPr/>
          <p:nvPr/>
        </p:nvSpPr>
        <p:spPr>
          <a:xfrm>
            <a:off x="2800440" y="3543480"/>
            <a:ext cx="1440" cy="5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8"/>
          <p:cNvSpPr/>
          <p:nvPr/>
        </p:nvSpPr>
        <p:spPr>
          <a:xfrm>
            <a:off x="2800440" y="3679920"/>
            <a:ext cx="144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9"/>
          <p:cNvSpPr/>
          <p:nvPr/>
        </p:nvSpPr>
        <p:spPr>
          <a:xfrm>
            <a:off x="2800440" y="3816360"/>
            <a:ext cx="144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0"/>
          <p:cNvSpPr/>
          <p:nvPr/>
        </p:nvSpPr>
        <p:spPr>
          <a:xfrm>
            <a:off x="2800440" y="395280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31"/>
          <p:cNvSpPr/>
          <p:nvPr/>
        </p:nvSpPr>
        <p:spPr>
          <a:xfrm>
            <a:off x="2800440" y="4089240"/>
            <a:ext cx="144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32"/>
          <p:cNvSpPr/>
          <p:nvPr/>
        </p:nvSpPr>
        <p:spPr>
          <a:xfrm flipV="1">
            <a:off x="2428920" y="4557600"/>
            <a:ext cx="252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33"/>
          <p:cNvSpPr/>
          <p:nvPr/>
        </p:nvSpPr>
        <p:spPr>
          <a:xfrm flipV="1">
            <a:off x="2506680" y="4454640"/>
            <a:ext cx="36360" cy="4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34"/>
          <p:cNvSpPr/>
          <p:nvPr/>
        </p:nvSpPr>
        <p:spPr>
          <a:xfrm flipV="1">
            <a:off x="2597040" y="4352400"/>
            <a:ext cx="36720" cy="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35"/>
          <p:cNvSpPr/>
          <p:nvPr/>
        </p:nvSpPr>
        <p:spPr>
          <a:xfrm flipV="1">
            <a:off x="2685960" y="4249800"/>
            <a:ext cx="36720" cy="4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36"/>
          <p:cNvSpPr/>
          <p:nvPr/>
        </p:nvSpPr>
        <p:spPr>
          <a:xfrm flipV="1">
            <a:off x="2776680" y="4160520"/>
            <a:ext cx="2376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7"/>
          <p:cNvSpPr/>
          <p:nvPr/>
        </p:nvSpPr>
        <p:spPr>
          <a:xfrm>
            <a:off x="2506680" y="3005280"/>
            <a:ext cx="1440" cy="108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38"/>
          <p:cNvSpPr/>
          <p:nvPr/>
        </p:nvSpPr>
        <p:spPr>
          <a:xfrm>
            <a:off x="2057400" y="3830760"/>
            <a:ext cx="449280" cy="258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39"/>
          <p:cNvSpPr/>
          <p:nvPr/>
        </p:nvSpPr>
        <p:spPr>
          <a:xfrm flipV="1">
            <a:off x="2057400" y="2746440"/>
            <a:ext cx="1440" cy="10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40"/>
          <p:cNvSpPr/>
          <p:nvPr/>
        </p:nvSpPr>
        <p:spPr>
          <a:xfrm>
            <a:off x="2057400" y="2746440"/>
            <a:ext cx="449280" cy="258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41"/>
          <p:cNvSpPr/>
          <p:nvPr/>
        </p:nvSpPr>
        <p:spPr>
          <a:xfrm>
            <a:off x="1743120" y="3908520"/>
            <a:ext cx="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42"/>
          <p:cNvSpPr/>
          <p:nvPr/>
        </p:nvSpPr>
        <p:spPr>
          <a:xfrm>
            <a:off x="1743120" y="3908520"/>
            <a:ext cx="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3"/>
          <p:cNvSpPr/>
          <p:nvPr/>
        </p:nvSpPr>
        <p:spPr>
          <a:xfrm>
            <a:off x="1853640" y="387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44"/>
          <p:cNvSpPr/>
          <p:nvPr/>
        </p:nvSpPr>
        <p:spPr>
          <a:xfrm>
            <a:off x="2001600" y="4013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45"/>
          <p:cNvSpPr/>
          <p:nvPr/>
        </p:nvSpPr>
        <p:spPr>
          <a:xfrm>
            <a:off x="2406600" y="1665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6"/>
          <p:cNvSpPr/>
          <p:nvPr/>
        </p:nvSpPr>
        <p:spPr>
          <a:xfrm>
            <a:off x="2553840" y="18082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47"/>
          <p:cNvSpPr/>
          <p:nvPr/>
        </p:nvSpPr>
        <p:spPr>
          <a:xfrm>
            <a:off x="2440080" y="2952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8"/>
          <p:cNvSpPr/>
          <p:nvPr/>
        </p:nvSpPr>
        <p:spPr>
          <a:xfrm>
            <a:off x="2421360" y="2487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9"/>
          <p:cNvSpPr/>
          <p:nvPr/>
        </p:nvSpPr>
        <p:spPr>
          <a:xfrm>
            <a:off x="3316320" y="35863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50"/>
          <p:cNvSpPr/>
          <p:nvPr/>
        </p:nvSpPr>
        <p:spPr>
          <a:xfrm>
            <a:off x="2435400" y="4002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51"/>
          <p:cNvSpPr/>
          <p:nvPr/>
        </p:nvSpPr>
        <p:spPr>
          <a:xfrm>
            <a:off x="1998720" y="2681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2"/>
          <p:cNvSpPr/>
          <p:nvPr/>
        </p:nvSpPr>
        <p:spPr>
          <a:xfrm>
            <a:off x="2701800" y="42768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53"/>
          <p:cNvSpPr/>
          <p:nvPr/>
        </p:nvSpPr>
        <p:spPr>
          <a:xfrm>
            <a:off x="2575440" y="412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54"/>
          <p:cNvSpPr/>
          <p:nvPr/>
        </p:nvSpPr>
        <p:spPr>
          <a:xfrm>
            <a:off x="1782360" y="28764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5"/>
          <p:cNvSpPr/>
          <p:nvPr/>
        </p:nvSpPr>
        <p:spPr>
          <a:xfrm>
            <a:off x="1670400" y="27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56"/>
          <p:cNvSpPr/>
          <p:nvPr/>
        </p:nvSpPr>
        <p:spPr>
          <a:xfrm>
            <a:off x="3452400" y="37306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67"/>
          <p:cNvSpPr/>
          <p:nvPr/>
        </p:nvSpPr>
        <p:spPr>
          <a:xfrm>
            <a:off x="2011320" y="37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68"/>
          <p:cNvSpPr/>
          <p:nvPr/>
        </p:nvSpPr>
        <p:spPr>
          <a:xfrm>
            <a:off x="1753920" y="3548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69"/>
          <p:cNvSpPr/>
          <p:nvPr/>
        </p:nvSpPr>
        <p:spPr>
          <a:xfrm>
            <a:off x="1651320" y="3370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82"/>
          <p:cNvSpPr/>
          <p:nvPr/>
        </p:nvSpPr>
        <p:spPr>
          <a:xfrm>
            <a:off x="3960720" y="4057560"/>
            <a:ext cx="490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ояние к П  ра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к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A  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A  ]=[A  A   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83"/>
          <p:cNvSpPr/>
          <p:nvPr/>
        </p:nvSpPr>
        <p:spPr>
          <a:xfrm>
            <a:off x="6091200" y="477360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84"/>
          <p:cNvSpPr/>
          <p:nvPr/>
        </p:nvSpPr>
        <p:spPr>
          <a:xfrm>
            <a:off x="5553000" y="527220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85"/>
          <p:cNvSpPr/>
          <p:nvPr/>
        </p:nvSpPr>
        <p:spPr>
          <a:xfrm>
            <a:off x="6033960" y="5257800"/>
            <a:ext cx="4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86"/>
          <p:cNvSpPr/>
          <p:nvPr/>
        </p:nvSpPr>
        <p:spPr>
          <a:xfrm>
            <a:off x="6835680" y="429264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87"/>
          <p:cNvSpPr/>
          <p:nvPr/>
        </p:nvSpPr>
        <p:spPr>
          <a:xfrm>
            <a:off x="4574880" y="524844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90"/>
          <p:cNvSpPr/>
          <p:nvPr/>
        </p:nvSpPr>
        <p:spPr>
          <a:xfrm>
            <a:off x="4444920" y="2614680"/>
            <a:ext cx="35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91"/>
          <p:cNvSpPr/>
          <p:nvPr/>
        </p:nvSpPr>
        <p:spPr>
          <a:xfrm>
            <a:off x="6384960" y="2658960"/>
            <a:ext cx="0" cy="1090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92"/>
          <p:cNvSpPr/>
          <p:nvPr/>
        </p:nvSpPr>
        <p:spPr>
          <a:xfrm>
            <a:off x="6327720" y="371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93"/>
          <p:cNvSpPr/>
          <p:nvPr/>
        </p:nvSpPr>
        <p:spPr>
          <a:xfrm>
            <a:off x="4465080" y="2255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94"/>
          <p:cNvSpPr/>
          <p:nvPr/>
        </p:nvSpPr>
        <p:spPr>
          <a:xfrm>
            <a:off x="4613040" y="2398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95"/>
          <p:cNvSpPr/>
          <p:nvPr/>
        </p:nvSpPr>
        <p:spPr>
          <a:xfrm>
            <a:off x="6641640" y="36939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96"/>
          <p:cNvSpPr/>
          <p:nvPr/>
        </p:nvSpPr>
        <p:spPr>
          <a:xfrm>
            <a:off x="6515280" y="3540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97"/>
          <p:cNvSpPr/>
          <p:nvPr/>
        </p:nvSpPr>
        <p:spPr>
          <a:xfrm>
            <a:off x="6546600" y="15145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98"/>
          <p:cNvSpPr/>
          <p:nvPr/>
        </p:nvSpPr>
        <p:spPr>
          <a:xfrm>
            <a:off x="6434640" y="13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99"/>
          <p:cNvSpPr/>
          <p:nvPr/>
        </p:nvSpPr>
        <p:spPr>
          <a:xfrm>
            <a:off x="6016320" y="23274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0"/>
          <p:cNvSpPr/>
          <p:nvPr/>
        </p:nvSpPr>
        <p:spPr>
          <a:xfrm>
            <a:off x="5913720" y="214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Object 101"/>
              <p:cNvSpPr txBox="1"/>
              <p:nvPr/>
            </p:nvSpPr>
            <p:spPr>
              <a:xfrm>
                <a:off x="6087960" y="1677960"/>
                <a:ext cx="67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39" name="Text Box 102"/>
          <p:cNvSpPr/>
          <p:nvPr/>
        </p:nvSpPr>
        <p:spPr>
          <a:xfrm>
            <a:off x="6917040" y="169848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03"/>
          <p:cNvSpPr/>
          <p:nvPr/>
        </p:nvSpPr>
        <p:spPr>
          <a:xfrm>
            <a:off x="7294320" y="216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04"/>
          <p:cNvSpPr/>
          <p:nvPr/>
        </p:nvSpPr>
        <p:spPr>
          <a:xfrm flipV="1">
            <a:off x="6386400" y="1657080"/>
            <a:ext cx="0" cy="9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105"/>
          <p:cNvSpPr/>
          <p:nvPr/>
        </p:nvSpPr>
        <p:spPr>
          <a:xfrm>
            <a:off x="6323040" y="1568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106"/>
          <p:cNvSpPr/>
          <p:nvPr/>
        </p:nvSpPr>
        <p:spPr>
          <a:xfrm>
            <a:off x="6321600" y="2552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Object 107"/>
              <p:cNvSpPr txBox="1"/>
              <p:nvPr/>
            </p:nvSpPr>
            <p:spPr>
              <a:xfrm>
                <a:off x="6031080" y="2633760"/>
                <a:ext cx="8092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Text Box 108"/>
          <p:cNvSpPr/>
          <p:nvPr/>
        </p:nvSpPr>
        <p:spPr>
          <a:xfrm>
            <a:off x="6967800" y="273060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09"/>
          <p:cNvSpPr/>
          <p:nvPr/>
        </p:nvSpPr>
        <p:spPr>
          <a:xfrm>
            <a:off x="7345080" y="3195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0656-87C5-4F10-927D-5F3C80C7B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расстояний от точки к плоскостям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230400" y="1979640"/>
            <a:ext cx="886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пределения расстояния от то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горизонтальной (фронтальной) плоск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й в пространстве на эпюре необход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 измерить расстояние от фронтальной (г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зонтальной) проекции точки до оси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1184040" y="4699080"/>
            <a:ext cx="4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D6AE-6D86-4AF6-841F-C5DAAF964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очки, принадлежащие плоскостям проек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Object 14"/>
              <p:cNvSpPr txBox="1"/>
              <p:nvPr/>
            </p:nvSpPr>
            <p:spPr>
              <a:xfrm>
                <a:off x="1335240" y="2647800"/>
                <a:ext cx="72216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54" name="Line 4"/>
          <p:cNvSpPr/>
          <p:nvPr/>
        </p:nvSpPr>
        <p:spPr>
          <a:xfrm>
            <a:off x="708120" y="3568680"/>
            <a:ext cx="721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"/>
          <p:cNvSpPr/>
          <p:nvPr/>
        </p:nvSpPr>
        <p:spPr>
          <a:xfrm>
            <a:off x="1706400" y="2612880"/>
            <a:ext cx="0" cy="210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6"/>
          <p:cNvSpPr/>
          <p:nvPr/>
        </p:nvSpPr>
        <p:spPr>
          <a:xfrm>
            <a:off x="1644480" y="25369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7"/>
          <p:cNvSpPr/>
          <p:nvPr/>
        </p:nvSpPr>
        <p:spPr>
          <a:xfrm>
            <a:off x="1649520" y="46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8"/>
          <p:cNvSpPr/>
          <p:nvPr/>
        </p:nvSpPr>
        <p:spPr>
          <a:xfrm>
            <a:off x="728280" y="3209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9"/>
          <p:cNvSpPr/>
          <p:nvPr/>
        </p:nvSpPr>
        <p:spPr>
          <a:xfrm>
            <a:off x="876240" y="3352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0"/>
          <p:cNvSpPr/>
          <p:nvPr/>
        </p:nvSpPr>
        <p:spPr>
          <a:xfrm>
            <a:off x="1896840" y="4768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1770480" y="4614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2"/>
          <p:cNvSpPr/>
          <p:nvPr/>
        </p:nvSpPr>
        <p:spPr>
          <a:xfrm>
            <a:off x="1868040" y="2482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3"/>
          <p:cNvSpPr/>
          <p:nvPr/>
        </p:nvSpPr>
        <p:spPr>
          <a:xfrm>
            <a:off x="1756080" y="2324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6"/>
          <p:cNvSpPr/>
          <p:nvPr/>
        </p:nvSpPr>
        <p:spPr>
          <a:xfrm>
            <a:off x="2140200" y="271944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7"/>
          <p:cNvSpPr/>
          <p:nvPr/>
        </p:nvSpPr>
        <p:spPr>
          <a:xfrm>
            <a:off x="2530440" y="3171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Object 20"/>
              <p:cNvSpPr txBox="1"/>
              <p:nvPr/>
            </p:nvSpPr>
            <p:spPr>
              <a:xfrm>
                <a:off x="1254240" y="3587760"/>
                <a:ext cx="8935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67" name="Text Box 22"/>
          <p:cNvSpPr/>
          <p:nvPr/>
        </p:nvSpPr>
        <p:spPr>
          <a:xfrm>
            <a:off x="2092680" y="377208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23"/>
          <p:cNvSpPr/>
          <p:nvPr/>
        </p:nvSpPr>
        <p:spPr>
          <a:xfrm>
            <a:off x="2482560" y="422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BFA5-2B7E-4AAC-802B-F38511A15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очки, принадлежащие плоскостям проекций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Object 5"/>
              <p:cNvSpPr txBox="1"/>
              <p:nvPr/>
            </p:nvSpPr>
            <p:spPr>
              <a:xfrm>
                <a:off x="1335240" y="2647800"/>
                <a:ext cx="72216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72" name="Line 6"/>
          <p:cNvSpPr/>
          <p:nvPr/>
        </p:nvSpPr>
        <p:spPr>
          <a:xfrm>
            <a:off x="708120" y="3568680"/>
            <a:ext cx="721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"/>
          <p:cNvSpPr/>
          <p:nvPr/>
        </p:nvSpPr>
        <p:spPr>
          <a:xfrm>
            <a:off x="1706400" y="2612880"/>
            <a:ext cx="0" cy="210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8"/>
          <p:cNvSpPr/>
          <p:nvPr/>
        </p:nvSpPr>
        <p:spPr>
          <a:xfrm>
            <a:off x="1644480" y="25369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9"/>
          <p:cNvSpPr/>
          <p:nvPr/>
        </p:nvSpPr>
        <p:spPr>
          <a:xfrm>
            <a:off x="1649520" y="46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0"/>
          <p:cNvSpPr/>
          <p:nvPr/>
        </p:nvSpPr>
        <p:spPr>
          <a:xfrm>
            <a:off x="728280" y="3209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1"/>
          <p:cNvSpPr/>
          <p:nvPr/>
        </p:nvSpPr>
        <p:spPr>
          <a:xfrm>
            <a:off x="876240" y="3352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2"/>
          <p:cNvSpPr/>
          <p:nvPr/>
        </p:nvSpPr>
        <p:spPr>
          <a:xfrm>
            <a:off x="1896840" y="4768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3"/>
          <p:cNvSpPr/>
          <p:nvPr/>
        </p:nvSpPr>
        <p:spPr>
          <a:xfrm>
            <a:off x="1770480" y="4614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4"/>
          <p:cNvSpPr/>
          <p:nvPr/>
        </p:nvSpPr>
        <p:spPr>
          <a:xfrm>
            <a:off x="1868040" y="2482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5"/>
          <p:cNvSpPr/>
          <p:nvPr/>
        </p:nvSpPr>
        <p:spPr>
          <a:xfrm>
            <a:off x="1756080" y="2324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6"/>
          <p:cNvSpPr/>
          <p:nvPr/>
        </p:nvSpPr>
        <p:spPr>
          <a:xfrm>
            <a:off x="2140200" y="271944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7"/>
          <p:cNvSpPr/>
          <p:nvPr/>
        </p:nvSpPr>
        <p:spPr>
          <a:xfrm>
            <a:off x="2530440" y="3171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Object 18"/>
              <p:cNvSpPr txBox="1"/>
              <p:nvPr/>
            </p:nvSpPr>
            <p:spPr>
              <a:xfrm>
                <a:off x="1254240" y="3587760"/>
                <a:ext cx="8935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85" name="Text Box 19"/>
          <p:cNvSpPr/>
          <p:nvPr/>
        </p:nvSpPr>
        <p:spPr>
          <a:xfrm>
            <a:off x="2092680" y="377208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482560" y="422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21"/>
          <p:cNvSpPr/>
          <p:nvPr/>
        </p:nvSpPr>
        <p:spPr>
          <a:xfrm>
            <a:off x="4257360" y="1576440"/>
            <a:ext cx="10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22"/>
              <p:cNvSpPr txBox="1"/>
              <p:nvPr/>
            </p:nvSpPr>
            <p:spPr>
              <a:xfrm>
                <a:off x="4670280" y="1762200"/>
                <a:ext cx="231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Text Box 24"/>
          <p:cNvSpPr/>
          <p:nvPr/>
        </p:nvSpPr>
        <p:spPr>
          <a:xfrm>
            <a:off x="5189760" y="182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25"/>
          <p:cNvSpPr/>
          <p:nvPr/>
        </p:nvSpPr>
        <p:spPr>
          <a:xfrm>
            <a:off x="4735440" y="3568680"/>
            <a:ext cx="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6"/>
          <p:cNvSpPr/>
          <p:nvPr/>
        </p:nvSpPr>
        <p:spPr>
          <a:xfrm>
            <a:off x="4683240" y="3506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925880" y="4714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28"/>
          <p:cNvSpPr/>
          <p:nvPr/>
        </p:nvSpPr>
        <p:spPr>
          <a:xfrm>
            <a:off x="4799520" y="4560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4916160" y="32860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0"/>
          <p:cNvSpPr/>
          <p:nvPr/>
        </p:nvSpPr>
        <p:spPr>
          <a:xfrm>
            <a:off x="4804200" y="3127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31"/>
          <p:cNvSpPr/>
          <p:nvPr/>
        </p:nvSpPr>
        <p:spPr>
          <a:xfrm>
            <a:off x="4684680" y="4605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C8A8-14F8-41EF-8474-FCD0F11D7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очки, принадлежащие плоскостям проекций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Object 5"/>
              <p:cNvSpPr txBox="1"/>
              <p:nvPr/>
            </p:nvSpPr>
            <p:spPr>
              <a:xfrm>
                <a:off x="1335240" y="2647800"/>
                <a:ext cx="72216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900" name="Line 6"/>
          <p:cNvSpPr/>
          <p:nvPr/>
        </p:nvSpPr>
        <p:spPr>
          <a:xfrm>
            <a:off x="708120" y="3568680"/>
            <a:ext cx="721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7"/>
          <p:cNvSpPr/>
          <p:nvPr/>
        </p:nvSpPr>
        <p:spPr>
          <a:xfrm>
            <a:off x="1706400" y="2612880"/>
            <a:ext cx="0" cy="210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8"/>
          <p:cNvSpPr/>
          <p:nvPr/>
        </p:nvSpPr>
        <p:spPr>
          <a:xfrm>
            <a:off x="1644480" y="25369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9"/>
          <p:cNvSpPr/>
          <p:nvPr/>
        </p:nvSpPr>
        <p:spPr>
          <a:xfrm>
            <a:off x="1649520" y="46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"/>
          <p:cNvSpPr/>
          <p:nvPr/>
        </p:nvSpPr>
        <p:spPr>
          <a:xfrm>
            <a:off x="728280" y="3209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1"/>
          <p:cNvSpPr/>
          <p:nvPr/>
        </p:nvSpPr>
        <p:spPr>
          <a:xfrm>
            <a:off x="876240" y="3352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2"/>
          <p:cNvSpPr/>
          <p:nvPr/>
        </p:nvSpPr>
        <p:spPr>
          <a:xfrm>
            <a:off x="1896840" y="4768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3"/>
          <p:cNvSpPr/>
          <p:nvPr/>
        </p:nvSpPr>
        <p:spPr>
          <a:xfrm>
            <a:off x="1770480" y="4614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4"/>
          <p:cNvSpPr/>
          <p:nvPr/>
        </p:nvSpPr>
        <p:spPr>
          <a:xfrm>
            <a:off x="1868040" y="2482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5"/>
          <p:cNvSpPr/>
          <p:nvPr/>
        </p:nvSpPr>
        <p:spPr>
          <a:xfrm>
            <a:off x="1756080" y="2324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6"/>
          <p:cNvSpPr/>
          <p:nvPr/>
        </p:nvSpPr>
        <p:spPr>
          <a:xfrm>
            <a:off x="2140200" y="271944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7"/>
          <p:cNvSpPr/>
          <p:nvPr/>
        </p:nvSpPr>
        <p:spPr>
          <a:xfrm>
            <a:off x="2530440" y="3171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18"/>
              <p:cNvSpPr txBox="1"/>
              <p:nvPr/>
            </p:nvSpPr>
            <p:spPr>
              <a:xfrm>
                <a:off x="1254240" y="3587760"/>
                <a:ext cx="8935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913" name="Text Box 19"/>
          <p:cNvSpPr/>
          <p:nvPr/>
        </p:nvSpPr>
        <p:spPr>
          <a:xfrm>
            <a:off x="2092680" y="377208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0"/>
          <p:cNvSpPr/>
          <p:nvPr/>
        </p:nvSpPr>
        <p:spPr>
          <a:xfrm>
            <a:off x="2482560" y="422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1"/>
          <p:cNvSpPr/>
          <p:nvPr/>
        </p:nvSpPr>
        <p:spPr>
          <a:xfrm>
            <a:off x="4252680" y="15764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Object 22"/>
              <p:cNvSpPr txBox="1"/>
              <p:nvPr/>
            </p:nvSpPr>
            <p:spPr>
              <a:xfrm>
                <a:off x="4670280" y="1762200"/>
                <a:ext cx="231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7" name="Text Box 23"/>
          <p:cNvSpPr/>
          <p:nvPr/>
        </p:nvSpPr>
        <p:spPr>
          <a:xfrm>
            <a:off x="5189760" y="182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24"/>
          <p:cNvSpPr/>
          <p:nvPr/>
        </p:nvSpPr>
        <p:spPr>
          <a:xfrm>
            <a:off x="4735440" y="3568680"/>
            <a:ext cx="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5"/>
          <p:cNvSpPr/>
          <p:nvPr/>
        </p:nvSpPr>
        <p:spPr>
          <a:xfrm>
            <a:off x="4683240" y="3506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6"/>
          <p:cNvSpPr/>
          <p:nvPr/>
        </p:nvSpPr>
        <p:spPr>
          <a:xfrm>
            <a:off x="4925880" y="4714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7"/>
          <p:cNvSpPr/>
          <p:nvPr/>
        </p:nvSpPr>
        <p:spPr>
          <a:xfrm>
            <a:off x="4799520" y="4560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8"/>
          <p:cNvSpPr/>
          <p:nvPr/>
        </p:nvSpPr>
        <p:spPr>
          <a:xfrm>
            <a:off x="4916160" y="32860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9"/>
          <p:cNvSpPr/>
          <p:nvPr/>
        </p:nvSpPr>
        <p:spPr>
          <a:xfrm>
            <a:off x="4804200" y="3127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30"/>
          <p:cNvSpPr/>
          <p:nvPr/>
        </p:nvSpPr>
        <p:spPr>
          <a:xfrm>
            <a:off x="4684680" y="4605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31"/>
          <p:cNvSpPr/>
          <p:nvPr/>
        </p:nvSpPr>
        <p:spPr>
          <a:xfrm>
            <a:off x="6027120" y="155880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Object 32"/>
              <p:cNvSpPr txBox="1"/>
              <p:nvPr/>
            </p:nvSpPr>
            <p:spPr>
              <a:xfrm>
                <a:off x="6445080" y="1744560"/>
                <a:ext cx="231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Text Box 33"/>
          <p:cNvSpPr/>
          <p:nvPr/>
        </p:nvSpPr>
        <p:spPr>
          <a:xfrm>
            <a:off x="6964560" y="1805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34"/>
          <p:cNvSpPr/>
          <p:nvPr/>
        </p:nvSpPr>
        <p:spPr>
          <a:xfrm>
            <a:off x="6643800" y="288144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35"/>
          <p:cNvSpPr/>
          <p:nvPr/>
        </p:nvSpPr>
        <p:spPr>
          <a:xfrm>
            <a:off x="6591240" y="2819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36"/>
          <p:cNvSpPr/>
          <p:nvPr/>
        </p:nvSpPr>
        <p:spPr>
          <a:xfrm>
            <a:off x="6862320" y="36655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37"/>
          <p:cNvSpPr/>
          <p:nvPr/>
        </p:nvSpPr>
        <p:spPr>
          <a:xfrm>
            <a:off x="6735600" y="3511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38"/>
          <p:cNvSpPr/>
          <p:nvPr/>
        </p:nvSpPr>
        <p:spPr>
          <a:xfrm>
            <a:off x="6824520" y="25988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39"/>
          <p:cNvSpPr/>
          <p:nvPr/>
        </p:nvSpPr>
        <p:spPr>
          <a:xfrm>
            <a:off x="6711840" y="2440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40"/>
          <p:cNvSpPr/>
          <p:nvPr/>
        </p:nvSpPr>
        <p:spPr>
          <a:xfrm>
            <a:off x="6588000" y="3517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44FD-989F-422D-9E5F-5A7197CAFA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очки, принадлежащие плоскостям проекций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5"/>
          <p:cNvSpPr/>
          <p:nvPr/>
        </p:nvSpPr>
        <p:spPr>
          <a:xfrm>
            <a:off x="253080" y="2395440"/>
            <a:ext cx="866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, принадлежащие горизонта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ронтальной) плоскости  проекций, на эпю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 имеют фронтальную (горизонтальную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ю, лежащую на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5798880" y="4111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8DAE-5459-412C-889E-07FE3BCCB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5"/>
          <p:cNvSpPr/>
          <p:nvPr/>
        </p:nvSpPr>
        <p:spPr>
          <a:xfrm>
            <a:off x="0" y="1461960"/>
            <a:ext cx="41958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6"/>
          <p:cNvSpPr/>
          <p:nvPr/>
        </p:nvSpPr>
        <p:spPr>
          <a:xfrm>
            <a:off x="95400" y="4491000"/>
            <a:ext cx="2749320" cy="1577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7"/>
          <p:cNvSpPr/>
          <p:nvPr/>
        </p:nvSpPr>
        <p:spPr>
          <a:xfrm flipV="1">
            <a:off x="2844720" y="476712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8"/>
          <p:cNvSpPr/>
          <p:nvPr/>
        </p:nvSpPr>
        <p:spPr>
          <a:xfrm>
            <a:off x="1231920" y="3189240"/>
            <a:ext cx="385920" cy="22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9"/>
          <p:cNvSpPr/>
          <p:nvPr/>
        </p:nvSpPr>
        <p:spPr>
          <a:xfrm flipV="1">
            <a:off x="95400" y="3189240"/>
            <a:ext cx="113652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0"/>
          <p:cNvSpPr/>
          <p:nvPr/>
        </p:nvSpPr>
        <p:spPr>
          <a:xfrm>
            <a:off x="1469880" y="3581280"/>
            <a:ext cx="1800" cy="296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1"/>
          <p:cNvSpPr/>
          <p:nvPr/>
        </p:nvSpPr>
        <p:spPr>
          <a:xfrm flipV="1">
            <a:off x="1469880" y="5703840"/>
            <a:ext cx="738360" cy="84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2"/>
          <p:cNvSpPr/>
          <p:nvPr/>
        </p:nvSpPr>
        <p:spPr>
          <a:xfrm flipV="1">
            <a:off x="1469880" y="397836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3"/>
          <p:cNvSpPr/>
          <p:nvPr/>
        </p:nvSpPr>
        <p:spPr>
          <a:xfrm flipV="1">
            <a:off x="1469880" y="227952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4"/>
          <p:cNvSpPr/>
          <p:nvPr/>
        </p:nvSpPr>
        <p:spPr>
          <a:xfrm>
            <a:off x="2606760" y="2279520"/>
            <a:ext cx="1440" cy="1698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"/>
          <p:cNvSpPr/>
          <p:nvPr/>
        </p:nvSpPr>
        <p:spPr>
          <a:xfrm>
            <a:off x="1617840" y="3411360"/>
            <a:ext cx="74520" cy="43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6"/>
          <p:cNvSpPr/>
          <p:nvPr/>
        </p:nvSpPr>
        <p:spPr>
          <a:xfrm>
            <a:off x="1770120" y="349740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7"/>
          <p:cNvSpPr/>
          <p:nvPr/>
        </p:nvSpPr>
        <p:spPr>
          <a:xfrm>
            <a:off x="1897200" y="357012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8"/>
          <p:cNvSpPr/>
          <p:nvPr/>
        </p:nvSpPr>
        <p:spPr>
          <a:xfrm>
            <a:off x="2023920" y="3643200"/>
            <a:ext cx="5112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9"/>
          <p:cNvSpPr/>
          <p:nvPr/>
        </p:nvSpPr>
        <p:spPr>
          <a:xfrm>
            <a:off x="2151000" y="37162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20"/>
          <p:cNvSpPr/>
          <p:nvPr/>
        </p:nvSpPr>
        <p:spPr>
          <a:xfrm>
            <a:off x="2278080" y="3789360"/>
            <a:ext cx="50760" cy="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21"/>
          <p:cNvSpPr/>
          <p:nvPr/>
        </p:nvSpPr>
        <p:spPr>
          <a:xfrm>
            <a:off x="2405160" y="3862440"/>
            <a:ext cx="50760" cy="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22"/>
          <p:cNvSpPr/>
          <p:nvPr/>
        </p:nvSpPr>
        <p:spPr>
          <a:xfrm>
            <a:off x="2532240" y="393552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3"/>
          <p:cNvSpPr/>
          <p:nvPr/>
        </p:nvSpPr>
        <p:spPr>
          <a:xfrm>
            <a:off x="2606760" y="3978360"/>
            <a:ext cx="1374840" cy="788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4"/>
          <p:cNvSpPr/>
          <p:nvPr/>
        </p:nvSpPr>
        <p:spPr>
          <a:xfrm>
            <a:off x="2606760" y="3978360"/>
            <a:ext cx="1440" cy="77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5"/>
          <p:cNvSpPr/>
          <p:nvPr/>
        </p:nvSpPr>
        <p:spPr>
          <a:xfrm>
            <a:off x="2606760" y="414324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6"/>
          <p:cNvSpPr/>
          <p:nvPr/>
        </p:nvSpPr>
        <p:spPr>
          <a:xfrm>
            <a:off x="2606760" y="42894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7"/>
          <p:cNvSpPr/>
          <p:nvPr/>
        </p:nvSpPr>
        <p:spPr>
          <a:xfrm>
            <a:off x="2606760" y="44370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8"/>
          <p:cNvSpPr/>
          <p:nvPr/>
        </p:nvSpPr>
        <p:spPr>
          <a:xfrm>
            <a:off x="2606760" y="45831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9"/>
          <p:cNvSpPr/>
          <p:nvPr/>
        </p:nvSpPr>
        <p:spPr>
          <a:xfrm>
            <a:off x="2606760" y="47307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30"/>
          <p:cNvSpPr/>
          <p:nvPr/>
        </p:nvSpPr>
        <p:spPr>
          <a:xfrm>
            <a:off x="2606760" y="487692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31"/>
          <p:cNvSpPr/>
          <p:nvPr/>
        </p:nvSpPr>
        <p:spPr>
          <a:xfrm>
            <a:off x="2606760" y="502272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32"/>
          <p:cNvSpPr/>
          <p:nvPr/>
        </p:nvSpPr>
        <p:spPr>
          <a:xfrm>
            <a:off x="2606760" y="517032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33"/>
          <p:cNvSpPr/>
          <p:nvPr/>
        </p:nvSpPr>
        <p:spPr>
          <a:xfrm flipV="1">
            <a:off x="2208240" y="5673600"/>
            <a:ext cx="2520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34"/>
          <p:cNvSpPr/>
          <p:nvPr/>
        </p:nvSpPr>
        <p:spPr>
          <a:xfrm flipV="1">
            <a:off x="2292480" y="5564160"/>
            <a:ext cx="37800" cy="44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35"/>
          <p:cNvSpPr/>
          <p:nvPr/>
        </p:nvSpPr>
        <p:spPr>
          <a:xfrm flipV="1">
            <a:off x="2387520" y="5452920"/>
            <a:ext cx="39600" cy="44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36"/>
          <p:cNvSpPr/>
          <p:nvPr/>
        </p:nvSpPr>
        <p:spPr>
          <a:xfrm flipV="1">
            <a:off x="2484360" y="5343120"/>
            <a:ext cx="3816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37"/>
          <p:cNvSpPr/>
          <p:nvPr/>
        </p:nvSpPr>
        <p:spPr>
          <a:xfrm flipV="1">
            <a:off x="2581200" y="5246640"/>
            <a:ext cx="255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42"/>
          <p:cNvSpPr/>
          <p:nvPr/>
        </p:nvSpPr>
        <p:spPr>
          <a:xfrm>
            <a:off x="1231920" y="1490760"/>
            <a:ext cx="385920" cy="220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43"/>
          <p:cNvSpPr/>
          <p:nvPr/>
        </p:nvSpPr>
        <p:spPr>
          <a:xfrm>
            <a:off x="1617840" y="1711440"/>
            <a:ext cx="988920" cy="56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44"/>
          <p:cNvSpPr/>
          <p:nvPr/>
        </p:nvSpPr>
        <p:spPr>
          <a:xfrm>
            <a:off x="2606760" y="2279520"/>
            <a:ext cx="1374840" cy="789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45"/>
          <p:cNvSpPr/>
          <p:nvPr/>
        </p:nvSpPr>
        <p:spPr>
          <a:xfrm>
            <a:off x="1231920" y="4457880"/>
            <a:ext cx="2844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46"/>
          <p:cNvSpPr/>
          <p:nvPr/>
        </p:nvSpPr>
        <p:spPr>
          <a:xfrm>
            <a:off x="1336680" y="4518000"/>
            <a:ext cx="50760" cy="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47"/>
          <p:cNvSpPr/>
          <p:nvPr/>
        </p:nvSpPr>
        <p:spPr>
          <a:xfrm>
            <a:off x="1463760" y="4591080"/>
            <a:ext cx="50760" cy="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48"/>
          <p:cNvSpPr/>
          <p:nvPr/>
        </p:nvSpPr>
        <p:spPr>
          <a:xfrm>
            <a:off x="1590840" y="4664160"/>
            <a:ext cx="2700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49"/>
          <p:cNvSpPr/>
          <p:nvPr/>
        </p:nvSpPr>
        <p:spPr>
          <a:xfrm>
            <a:off x="1617840" y="468000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50"/>
          <p:cNvSpPr/>
          <p:nvPr/>
        </p:nvSpPr>
        <p:spPr>
          <a:xfrm>
            <a:off x="1770120" y="47656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51"/>
          <p:cNvSpPr/>
          <p:nvPr/>
        </p:nvSpPr>
        <p:spPr>
          <a:xfrm>
            <a:off x="1897200" y="483876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2"/>
          <p:cNvSpPr/>
          <p:nvPr/>
        </p:nvSpPr>
        <p:spPr>
          <a:xfrm>
            <a:off x="2023920" y="4911840"/>
            <a:ext cx="5112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53"/>
          <p:cNvSpPr/>
          <p:nvPr/>
        </p:nvSpPr>
        <p:spPr>
          <a:xfrm>
            <a:off x="2151000" y="498492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54"/>
          <p:cNvSpPr/>
          <p:nvPr/>
        </p:nvSpPr>
        <p:spPr>
          <a:xfrm>
            <a:off x="2278080" y="505764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55"/>
          <p:cNvSpPr/>
          <p:nvPr/>
        </p:nvSpPr>
        <p:spPr>
          <a:xfrm>
            <a:off x="2405160" y="513072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56"/>
          <p:cNvSpPr/>
          <p:nvPr/>
        </p:nvSpPr>
        <p:spPr>
          <a:xfrm>
            <a:off x="2532240" y="520380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57"/>
          <p:cNvSpPr/>
          <p:nvPr/>
        </p:nvSpPr>
        <p:spPr>
          <a:xfrm>
            <a:off x="2606760" y="5246640"/>
            <a:ext cx="2520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58"/>
          <p:cNvSpPr/>
          <p:nvPr/>
        </p:nvSpPr>
        <p:spPr>
          <a:xfrm>
            <a:off x="2708280" y="530532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59"/>
          <p:cNvSpPr/>
          <p:nvPr/>
        </p:nvSpPr>
        <p:spPr>
          <a:xfrm>
            <a:off x="2836800" y="537840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60"/>
          <p:cNvSpPr/>
          <p:nvPr/>
        </p:nvSpPr>
        <p:spPr>
          <a:xfrm>
            <a:off x="2963880" y="54514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61"/>
          <p:cNvSpPr/>
          <p:nvPr/>
        </p:nvSpPr>
        <p:spPr>
          <a:xfrm>
            <a:off x="3090960" y="552456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62"/>
          <p:cNvSpPr/>
          <p:nvPr/>
        </p:nvSpPr>
        <p:spPr>
          <a:xfrm>
            <a:off x="3218040" y="5597640"/>
            <a:ext cx="25200" cy="14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63"/>
          <p:cNvSpPr/>
          <p:nvPr/>
        </p:nvSpPr>
        <p:spPr>
          <a:xfrm>
            <a:off x="1231920" y="1490760"/>
            <a:ext cx="1440" cy="16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64"/>
          <p:cNvSpPr/>
          <p:nvPr/>
        </p:nvSpPr>
        <p:spPr>
          <a:xfrm>
            <a:off x="3981600" y="3068640"/>
            <a:ext cx="1440" cy="296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65"/>
          <p:cNvSpPr/>
          <p:nvPr/>
        </p:nvSpPr>
        <p:spPr>
          <a:xfrm>
            <a:off x="3243240" y="5611680"/>
            <a:ext cx="73836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66"/>
          <p:cNvSpPr/>
          <p:nvPr/>
        </p:nvSpPr>
        <p:spPr>
          <a:xfrm>
            <a:off x="1231920" y="318924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67"/>
          <p:cNvSpPr/>
          <p:nvPr/>
        </p:nvSpPr>
        <p:spPr>
          <a:xfrm>
            <a:off x="1231920" y="335448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68"/>
          <p:cNvSpPr/>
          <p:nvPr/>
        </p:nvSpPr>
        <p:spPr>
          <a:xfrm>
            <a:off x="1231920" y="350028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69"/>
          <p:cNvSpPr/>
          <p:nvPr/>
        </p:nvSpPr>
        <p:spPr>
          <a:xfrm>
            <a:off x="1231920" y="364824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70"/>
          <p:cNvSpPr/>
          <p:nvPr/>
        </p:nvSpPr>
        <p:spPr>
          <a:xfrm>
            <a:off x="1231920" y="379404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71"/>
          <p:cNvSpPr/>
          <p:nvPr/>
        </p:nvSpPr>
        <p:spPr>
          <a:xfrm>
            <a:off x="1231920" y="39402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72"/>
          <p:cNvSpPr/>
          <p:nvPr/>
        </p:nvSpPr>
        <p:spPr>
          <a:xfrm>
            <a:off x="1231920" y="40878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73"/>
          <p:cNvSpPr/>
          <p:nvPr/>
        </p:nvSpPr>
        <p:spPr>
          <a:xfrm>
            <a:off x="1231920" y="42339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74"/>
          <p:cNvSpPr/>
          <p:nvPr/>
        </p:nvSpPr>
        <p:spPr>
          <a:xfrm>
            <a:off x="1231920" y="438156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80"/>
          <p:cNvSpPr/>
          <p:nvPr/>
        </p:nvSpPr>
        <p:spPr>
          <a:xfrm>
            <a:off x="1487520" y="561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81"/>
          <p:cNvSpPr/>
          <p:nvPr/>
        </p:nvSpPr>
        <p:spPr>
          <a:xfrm>
            <a:off x="1634760" y="57610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82"/>
          <p:cNvSpPr/>
          <p:nvPr/>
        </p:nvSpPr>
        <p:spPr>
          <a:xfrm>
            <a:off x="3458880" y="30211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83"/>
          <p:cNvSpPr/>
          <p:nvPr/>
        </p:nvSpPr>
        <p:spPr>
          <a:xfrm>
            <a:off x="3595320" y="31654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84"/>
          <p:cNvSpPr/>
          <p:nvPr/>
        </p:nvSpPr>
        <p:spPr>
          <a:xfrm>
            <a:off x="3474360" y="4151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85"/>
          <p:cNvSpPr/>
          <p:nvPr/>
        </p:nvSpPr>
        <p:spPr>
          <a:xfrm>
            <a:off x="3622320" y="42940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86"/>
          <p:cNvSpPr/>
          <p:nvPr/>
        </p:nvSpPr>
        <p:spPr>
          <a:xfrm>
            <a:off x="2639520" y="2346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87"/>
          <p:cNvSpPr/>
          <p:nvPr/>
        </p:nvSpPr>
        <p:spPr>
          <a:xfrm>
            <a:off x="2787480" y="24890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88"/>
          <p:cNvSpPr/>
          <p:nvPr/>
        </p:nvSpPr>
        <p:spPr>
          <a:xfrm>
            <a:off x="1602720" y="500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89"/>
          <p:cNvSpPr/>
          <p:nvPr/>
        </p:nvSpPr>
        <p:spPr>
          <a:xfrm>
            <a:off x="1751040" y="515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90"/>
          <p:cNvSpPr/>
          <p:nvPr/>
        </p:nvSpPr>
        <p:spPr>
          <a:xfrm>
            <a:off x="2570040" y="55213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91"/>
          <p:cNvSpPr/>
          <p:nvPr/>
        </p:nvSpPr>
        <p:spPr>
          <a:xfrm>
            <a:off x="2706480" y="56656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92"/>
          <p:cNvSpPr/>
          <p:nvPr/>
        </p:nvSpPr>
        <p:spPr>
          <a:xfrm>
            <a:off x="4438440" y="1765440"/>
            <a:ext cx="4853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ья дополн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ьная плоскость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й располаг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о 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ным плоскост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й, наз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профильной плоск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проекц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обозначае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я через П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93"/>
          <p:cNvSpPr/>
          <p:nvPr/>
        </p:nvSpPr>
        <p:spPr>
          <a:xfrm>
            <a:off x="6553440" y="5913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94"/>
          <p:cNvSpPr/>
          <p:nvPr/>
        </p:nvSpPr>
        <p:spPr>
          <a:xfrm>
            <a:off x="2594880" y="36241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581A-3E7B-4DED-A18C-743764A24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5"/>
          <p:cNvSpPr/>
          <p:nvPr/>
        </p:nvSpPr>
        <p:spPr>
          <a:xfrm>
            <a:off x="2320920" y="1528920"/>
            <a:ext cx="41958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"/>
          <p:cNvSpPr/>
          <p:nvPr/>
        </p:nvSpPr>
        <p:spPr>
          <a:xfrm>
            <a:off x="2416320" y="4557600"/>
            <a:ext cx="2749320" cy="1578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7"/>
          <p:cNvSpPr/>
          <p:nvPr/>
        </p:nvSpPr>
        <p:spPr>
          <a:xfrm flipV="1">
            <a:off x="5165640" y="483408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8"/>
          <p:cNvSpPr/>
          <p:nvPr/>
        </p:nvSpPr>
        <p:spPr>
          <a:xfrm>
            <a:off x="3552840" y="3255840"/>
            <a:ext cx="385920" cy="222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9"/>
          <p:cNvSpPr/>
          <p:nvPr/>
        </p:nvSpPr>
        <p:spPr>
          <a:xfrm flipV="1">
            <a:off x="2416320" y="3255840"/>
            <a:ext cx="113652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0"/>
          <p:cNvSpPr/>
          <p:nvPr/>
        </p:nvSpPr>
        <p:spPr>
          <a:xfrm>
            <a:off x="3790800" y="3648240"/>
            <a:ext cx="1800" cy="296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11"/>
          <p:cNvSpPr/>
          <p:nvPr/>
        </p:nvSpPr>
        <p:spPr>
          <a:xfrm flipV="1">
            <a:off x="3790800" y="5770440"/>
            <a:ext cx="738360" cy="84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2"/>
          <p:cNvSpPr/>
          <p:nvPr/>
        </p:nvSpPr>
        <p:spPr>
          <a:xfrm flipV="1">
            <a:off x="3790800" y="404496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13"/>
          <p:cNvSpPr/>
          <p:nvPr/>
        </p:nvSpPr>
        <p:spPr>
          <a:xfrm flipV="1">
            <a:off x="3790800" y="234648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14"/>
          <p:cNvSpPr/>
          <p:nvPr/>
        </p:nvSpPr>
        <p:spPr>
          <a:xfrm>
            <a:off x="4927680" y="2346480"/>
            <a:ext cx="1440" cy="16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15"/>
          <p:cNvSpPr/>
          <p:nvPr/>
        </p:nvSpPr>
        <p:spPr>
          <a:xfrm>
            <a:off x="3938760" y="347832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16"/>
          <p:cNvSpPr/>
          <p:nvPr/>
        </p:nvSpPr>
        <p:spPr>
          <a:xfrm>
            <a:off x="4091040" y="356400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17"/>
          <p:cNvSpPr/>
          <p:nvPr/>
        </p:nvSpPr>
        <p:spPr>
          <a:xfrm>
            <a:off x="4218120" y="363708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18"/>
          <p:cNvSpPr/>
          <p:nvPr/>
        </p:nvSpPr>
        <p:spPr>
          <a:xfrm>
            <a:off x="4344840" y="3710160"/>
            <a:ext cx="5112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19"/>
          <p:cNvSpPr/>
          <p:nvPr/>
        </p:nvSpPr>
        <p:spPr>
          <a:xfrm>
            <a:off x="4471920" y="37828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20"/>
          <p:cNvSpPr/>
          <p:nvPr/>
        </p:nvSpPr>
        <p:spPr>
          <a:xfrm>
            <a:off x="4599000" y="385596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21"/>
          <p:cNvSpPr/>
          <p:nvPr/>
        </p:nvSpPr>
        <p:spPr>
          <a:xfrm>
            <a:off x="4726080" y="3929040"/>
            <a:ext cx="50760" cy="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22"/>
          <p:cNvSpPr/>
          <p:nvPr/>
        </p:nvSpPr>
        <p:spPr>
          <a:xfrm>
            <a:off x="4853160" y="400212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23"/>
          <p:cNvSpPr/>
          <p:nvPr/>
        </p:nvSpPr>
        <p:spPr>
          <a:xfrm>
            <a:off x="4927680" y="4044960"/>
            <a:ext cx="1374840" cy="789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24"/>
          <p:cNvSpPr/>
          <p:nvPr/>
        </p:nvSpPr>
        <p:spPr>
          <a:xfrm>
            <a:off x="4927680" y="4044960"/>
            <a:ext cx="1440" cy="77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25"/>
          <p:cNvSpPr/>
          <p:nvPr/>
        </p:nvSpPr>
        <p:spPr>
          <a:xfrm>
            <a:off x="4927680" y="42102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26"/>
          <p:cNvSpPr/>
          <p:nvPr/>
        </p:nvSpPr>
        <p:spPr>
          <a:xfrm>
            <a:off x="4927680" y="43560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27"/>
          <p:cNvSpPr/>
          <p:nvPr/>
        </p:nvSpPr>
        <p:spPr>
          <a:xfrm>
            <a:off x="4927680" y="450360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28"/>
          <p:cNvSpPr/>
          <p:nvPr/>
        </p:nvSpPr>
        <p:spPr>
          <a:xfrm>
            <a:off x="4927680" y="46497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29"/>
          <p:cNvSpPr/>
          <p:nvPr/>
        </p:nvSpPr>
        <p:spPr>
          <a:xfrm>
            <a:off x="4927680" y="47973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30"/>
          <p:cNvSpPr/>
          <p:nvPr/>
        </p:nvSpPr>
        <p:spPr>
          <a:xfrm>
            <a:off x="4927680" y="494352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31"/>
          <p:cNvSpPr/>
          <p:nvPr/>
        </p:nvSpPr>
        <p:spPr>
          <a:xfrm>
            <a:off x="4927680" y="508968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32"/>
          <p:cNvSpPr/>
          <p:nvPr/>
        </p:nvSpPr>
        <p:spPr>
          <a:xfrm>
            <a:off x="4927680" y="5237280"/>
            <a:ext cx="1440" cy="75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33"/>
          <p:cNvSpPr/>
          <p:nvPr/>
        </p:nvSpPr>
        <p:spPr>
          <a:xfrm flipV="1">
            <a:off x="4529160" y="5740200"/>
            <a:ext cx="2520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34"/>
          <p:cNvSpPr/>
          <p:nvPr/>
        </p:nvSpPr>
        <p:spPr>
          <a:xfrm flipV="1">
            <a:off x="4613400" y="5630760"/>
            <a:ext cx="37800" cy="44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35"/>
          <p:cNvSpPr/>
          <p:nvPr/>
        </p:nvSpPr>
        <p:spPr>
          <a:xfrm flipV="1">
            <a:off x="4708440" y="5519520"/>
            <a:ext cx="39600" cy="44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36"/>
          <p:cNvSpPr/>
          <p:nvPr/>
        </p:nvSpPr>
        <p:spPr>
          <a:xfrm flipV="1">
            <a:off x="4805280" y="5409720"/>
            <a:ext cx="3816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37"/>
          <p:cNvSpPr/>
          <p:nvPr/>
        </p:nvSpPr>
        <p:spPr>
          <a:xfrm flipV="1">
            <a:off x="4902120" y="5313240"/>
            <a:ext cx="255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42"/>
          <p:cNvSpPr/>
          <p:nvPr/>
        </p:nvSpPr>
        <p:spPr>
          <a:xfrm>
            <a:off x="3552840" y="1557360"/>
            <a:ext cx="385920" cy="220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43"/>
          <p:cNvSpPr/>
          <p:nvPr/>
        </p:nvSpPr>
        <p:spPr>
          <a:xfrm>
            <a:off x="3938760" y="1778040"/>
            <a:ext cx="988920" cy="56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44"/>
          <p:cNvSpPr/>
          <p:nvPr/>
        </p:nvSpPr>
        <p:spPr>
          <a:xfrm>
            <a:off x="4927680" y="2346480"/>
            <a:ext cx="1374840" cy="788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45"/>
          <p:cNvSpPr/>
          <p:nvPr/>
        </p:nvSpPr>
        <p:spPr>
          <a:xfrm>
            <a:off x="3552840" y="4524480"/>
            <a:ext cx="2844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46"/>
          <p:cNvSpPr/>
          <p:nvPr/>
        </p:nvSpPr>
        <p:spPr>
          <a:xfrm>
            <a:off x="3657600" y="458460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47"/>
          <p:cNvSpPr/>
          <p:nvPr/>
        </p:nvSpPr>
        <p:spPr>
          <a:xfrm>
            <a:off x="3784680" y="465768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48"/>
          <p:cNvSpPr/>
          <p:nvPr/>
        </p:nvSpPr>
        <p:spPr>
          <a:xfrm>
            <a:off x="3911760" y="4730760"/>
            <a:ext cx="2700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49"/>
          <p:cNvSpPr/>
          <p:nvPr/>
        </p:nvSpPr>
        <p:spPr>
          <a:xfrm>
            <a:off x="3938760" y="474660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50"/>
          <p:cNvSpPr/>
          <p:nvPr/>
        </p:nvSpPr>
        <p:spPr>
          <a:xfrm>
            <a:off x="4091040" y="48322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51"/>
          <p:cNvSpPr/>
          <p:nvPr/>
        </p:nvSpPr>
        <p:spPr>
          <a:xfrm>
            <a:off x="4218120" y="490536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52"/>
          <p:cNvSpPr/>
          <p:nvPr/>
        </p:nvSpPr>
        <p:spPr>
          <a:xfrm>
            <a:off x="4344840" y="4978440"/>
            <a:ext cx="5112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53"/>
          <p:cNvSpPr/>
          <p:nvPr/>
        </p:nvSpPr>
        <p:spPr>
          <a:xfrm>
            <a:off x="4471920" y="505152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54"/>
          <p:cNvSpPr/>
          <p:nvPr/>
        </p:nvSpPr>
        <p:spPr>
          <a:xfrm>
            <a:off x="4599000" y="512460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55"/>
          <p:cNvSpPr/>
          <p:nvPr/>
        </p:nvSpPr>
        <p:spPr>
          <a:xfrm>
            <a:off x="4726080" y="519732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56"/>
          <p:cNvSpPr/>
          <p:nvPr/>
        </p:nvSpPr>
        <p:spPr>
          <a:xfrm>
            <a:off x="4853160" y="527040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57"/>
          <p:cNvSpPr/>
          <p:nvPr/>
        </p:nvSpPr>
        <p:spPr>
          <a:xfrm>
            <a:off x="4927680" y="5313240"/>
            <a:ext cx="2520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58"/>
          <p:cNvSpPr/>
          <p:nvPr/>
        </p:nvSpPr>
        <p:spPr>
          <a:xfrm>
            <a:off x="5029200" y="537228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59"/>
          <p:cNvSpPr/>
          <p:nvPr/>
        </p:nvSpPr>
        <p:spPr>
          <a:xfrm>
            <a:off x="5157720" y="544500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60"/>
          <p:cNvSpPr/>
          <p:nvPr/>
        </p:nvSpPr>
        <p:spPr>
          <a:xfrm>
            <a:off x="5284800" y="55180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61"/>
          <p:cNvSpPr/>
          <p:nvPr/>
        </p:nvSpPr>
        <p:spPr>
          <a:xfrm>
            <a:off x="5411880" y="559116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62"/>
          <p:cNvSpPr/>
          <p:nvPr/>
        </p:nvSpPr>
        <p:spPr>
          <a:xfrm>
            <a:off x="5538960" y="5664240"/>
            <a:ext cx="25200" cy="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63"/>
          <p:cNvSpPr/>
          <p:nvPr/>
        </p:nvSpPr>
        <p:spPr>
          <a:xfrm>
            <a:off x="3552840" y="1557360"/>
            <a:ext cx="1440" cy="16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64"/>
          <p:cNvSpPr/>
          <p:nvPr/>
        </p:nvSpPr>
        <p:spPr>
          <a:xfrm>
            <a:off x="6302520" y="3135240"/>
            <a:ext cx="1440" cy="296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65"/>
          <p:cNvSpPr/>
          <p:nvPr/>
        </p:nvSpPr>
        <p:spPr>
          <a:xfrm>
            <a:off x="5564160" y="5678640"/>
            <a:ext cx="73836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66"/>
          <p:cNvSpPr/>
          <p:nvPr/>
        </p:nvSpPr>
        <p:spPr>
          <a:xfrm>
            <a:off x="3552840" y="325584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67"/>
          <p:cNvSpPr/>
          <p:nvPr/>
        </p:nvSpPr>
        <p:spPr>
          <a:xfrm>
            <a:off x="3552840" y="342108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68"/>
          <p:cNvSpPr/>
          <p:nvPr/>
        </p:nvSpPr>
        <p:spPr>
          <a:xfrm>
            <a:off x="3552840" y="356724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69"/>
          <p:cNvSpPr/>
          <p:nvPr/>
        </p:nvSpPr>
        <p:spPr>
          <a:xfrm>
            <a:off x="3552840" y="371484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70"/>
          <p:cNvSpPr/>
          <p:nvPr/>
        </p:nvSpPr>
        <p:spPr>
          <a:xfrm>
            <a:off x="3552840" y="386064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71"/>
          <p:cNvSpPr/>
          <p:nvPr/>
        </p:nvSpPr>
        <p:spPr>
          <a:xfrm>
            <a:off x="3552840" y="40068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72"/>
          <p:cNvSpPr/>
          <p:nvPr/>
        </p:nvSpPr>
        <p:spPr>
          <a:xfrm>
            <a:off x="3552840" y="41544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73"/>
          <p:cNvSpPr/>
          <p:nvPr/>
        </p:nvSpPr>
        <p:spPr>
          <a:xfrm>
            <a:off x="3552840" y="43005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74"/>
          <p:cNvSpPr/>
          <p:nvPr/>
        </p:nvSpPr>
        <p:spPr>
          <a:xfrm>
            <a:off x="3552840" y="444816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80"/>
          <p:cNvSpPr/>
          <p:nvPr/>
        </p:nvSpPr>
        <p:spPr>
          <a:xfrm>
            <a:off x="3808440" y="56847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81"/>
          <p:cNvSpPr/>
          <p:nvPr/>
        </p:nvSpPr>
        <p:spPr>
          <a:xfrm>
            <a:off x="3955680" y="58276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82"/>
          <p:cNvSpPr/>
          <p:nvPr/>
        </p:nvSpPr>
        <p:spPr>
          <a:xfrm>
            <a:off x="5779800" y="30877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83"/>
          <p:cNvSpPr/>
          <p:nvPr/>
        </p:nvSpPr>
        <p:spPr>
          <a:xfrm>
            <a:off x="5916240" y="32320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84"/>
          <p:cNvSpPr/>
          <p:nvPr/>
        </p:nvSpPr>
        <p:spPr>
          <a:xfrm>
            <a:off x="5795280" y="42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85"/>
          <p:cNvSpPr/>
          <p:nvPr/>
        </p:nvSpPr>
        <p:spPr>
          <a:xfrm>
            <a:off x="5943240" y="43610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86"/>
          <p:cNvSpPr/>
          <p:nvPr/>
        </p:nvSpPr>
        <p:spPr>
          <a:xfrm>
            <a:off x="4960440" y="24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87"/>
          <p:cNvSpPr/>
          <p:nvPr/>
        </p:nvSpPr>
        <p:spPr>
          <a:xfrm>
            <a:off x="5108400" y="25560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88"/>
          <p:cNvSpPr/>
          <p:nvPr/>
        </p:nvSpPr>
        <p:spPr>
          <a:xfrm>
            <a:off x="3923640" y="5075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89"/>
          <p:cNvSpPr/>
          <p:nvPr/>
        </p:nvSpPr>
        <p:spPr>
          <a:xfrm>
            <a:off x="4071960" y="52182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90"/>
          <p:cNvSpPr/>
          <p:nvPr/>
        </p:nvSpPr>
        <p:spPr>
          <a:xfrm>
            <a:off x="4890960" y="5587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91"/>
          <p:cNvSpPr/>
          <p:nvPr/>
        </p:nvSpPr>
        <p:spPr>
          <a:xfrm>
            <a:off x="5027400" y="5732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98"/>
          <p:cNvSpPr/>
          <p:nvPr/>
        </p:nvSpPr>
        <p:spPr>
          <a:xfrm>
            <a:off x="4541760" y="400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99"/>
          <p:cNvSpPr/>
          <p:nvPr/>
        </p:nvSpPr>
        <p:spPr>
          <a:xfrm>
            <a:off x="4448520" y="3537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103"/>
          <p:cNvSpPr/>
          <p:nvPr/>
        </p:nvSpPr>
        <p:spPr>
          <a:xfrm>
            <a:off x="4924080" y="3745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E07E-3F67-4984-B79C-2A5BB1EC2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сновной метод начертательной г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9280" y="1628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метод начертательной геометрии – </a:t>
            </a: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метод проец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ализации метода проецирования необходимо задать в пространстве </a:t>
            </a: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аппарат проецир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парат проецирования состоит из двух частей – </a:t>
            </a: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геометричес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включает в себя геометрические объекты, входящие в аппарат и </a:t>
            </a: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алгоритмичес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ключающей набор действий и последовательность их выполнения необходимых для реализации операции проец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38AA-3797-451A-92CD-1485B3D5A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6"/>
          <p:cNvSpPr/>
          <p:nvPr/>
        </p:nvSpPr>
        <p:spPr>
          <a:xfrm>
            <a:off x="2416320" y="4557600"/>
            <a:ext cx="2749320" cy="1578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7"/>
          <p:cNvSpPr/>
          <p:nvPr/>
        </p:nvSpPr>
        <p:spPr>
          <a:xfrm flipV="1">
            <a:off x="5165640" y="483408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8"/>
          <p:cNvSpPr/>
          <p:nvPr/>
        </p:nvSpPr>
        <p:spPr>
          <a:xfrm>
            <a:off x="3552840" y="3255840"/>
            <a:ext cx="385920" cy="222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9"/>
          <p:cNvSpPr/>
          <p:nvPr/>
        </p:nvSpPr>
        <p:spPr>
          <a:xfrm flipV="1">
            <a:off x="2416320" y="3255840"/>
            <a:ext cx="113652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0"/>
          <p:cNvSpPr/>
          <p:nvPr/>
        </p:nvSpPr>
        <p:spPr>
          <a:xfrm>
            <a:off x="3790800" y="3648240"/>
            <a:ext cx="1800" cy="296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1"/>
          <p:cNvSpPr/>
          <p:nvPr/>
        </p:nvSpPr>
        <p:spPr>
          <a:xfrm flipV="1">
            <a:off x="3790800" y="5770440"/>
            <a:ext cx="738360" cy="84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2"/>
          <p:cNvSpPr/>
          <p:nvPr/>
        </p:nvSpPr>
        <p:spPr>
          <a:xfrm flipV="1">
            <a:off x="3790800" y="404496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3"/>
          <p:cNvSpPr/>
          <p:nvPr/>
        </p:nvSpPr>
        <p:spPr>
          <a:xfrm flipV="1">
            <a:off x="3790800" y="234648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"/>
          <p:cNvSpPr/>
          <p:nvPr/>
        </p:nvSpPr>
        <p:spPr>
          <a:xfrm>
            <a:off x="4927680" y="2346480"/>
            <a:ext cx="1440" cy="16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"/>
          <p:cNvSpPr/>
          <p:nvPr/>
        </p:nvSpPr>
        <p:spPr>
          <a:xfrm>
            <a:off x="3938760" y="347832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6"/>
          <p:cNvSpPr/>
          <p:nvPr/>
        </p:nvSpPr>
        <p:spPr>
          <a:xfrm>
            <a:off x="4091040" y="356400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7"/>
          <p:cNvSpPr/>
          <p:nvPr/>
        </p:nvSpPr>
        <p:spPr>
          <a:xfrm>
            <a:off x="4218120" y="363708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8"/>
          <p:cNvSpPr/>
          <p:nvPr/>
        </p:nvSpPr>
        <p:spPr>
          <a:xfrm>
            <a:off x="4344840" y="3710160"/>
            <a:ext cx="5112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9"/>
          <p:cNvSpPr/>
          <p:nvPr/>
        </p:nvSpPr>
        <p:spPr>
          <a:xfrm>
            <a:off x="4471920" y="37828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20"/>
          <p:cNvSpPr/>
          <p:nvPr/>
        </p:nvSpPr>
        <p:spPr>
          <a:xfrm>
            <a:off x="4599000" y="385596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21"/>
          <p:cNvSpPr/>
          <p:nvPr/>
        </p:nvSpPr>
        <p:spPr>
          <a:xfrm>
            <a:off x="4726080" y="3929040"/>
            <a:ext cx="50760" cy="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22"/>
          <p:cNvSpPr/>
          <p:nvPr/>
        </p:nvSpPr>
        <p:spPr>
          <a:xfrm>
            <a:off x="4853160" y="400212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23"/>
          <p:cNvSpPr/>
          <p:nvPr/>
        </p:nvSpPr>
        <p:spPr>
          <a:xfrm>
            <a:off x="4927680" y="4044960"/>
            <a:ext cx="1374840" cy="789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24"/>
          <p:cNvSpPr/>
          <p:nvPr/>
        </p:nvSpPr>
        <p:spPr>
          <a:xfrm>
            <a:off x="4927680" y="4044960"/>
            <a:ext cx="1440" cy="77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25"/>
          <p:cNvSpPr/>
          <p:nvPr/>
        </p:nvSpPr>
        <p:spPr>
          <a:xfrm>
            <a:off x="4927680" y="42102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26"/>
          <p:cNvSpPr/>
          <p:nvPr/>
        </p:nvSpPr>
        <p:spPr>
          <a:xfrm>
            <a:off x="4927680" y="43560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27"/>
          <p:cNvSpPr/>
          <p:nvPr/>
        </p:nvSpPr>
        <p:spPr>
          <a:xfrm>
            <a:off x="4927680" y="450360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28"/>
          <p:cNvSpPr/>
          <p:nvPr/>
        </p:nvSpPr>
        <p:spPr>
          <a:xfrm>
            <a:off x="4927680" y="46497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29"/>
          <p:cNvSpPr/>
          <p:nvPr/>
        </p:nvSpPr>
        <p:spPr>
          <a:xfrm>
            <a:off x="4927680" y="47973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30"/>
          <p:cNvSpPr/>
          <p:nvPr/>
        </p:nvSpPr>
        <p:spPr>
          <a:xfrm>
            <a:off x="4927680" y="494352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31"/>
          <p:cNvSpPr/>
          <p:nvPr/>
        </p:nvSpPr>
        <p:spPr>
          <a:xfrm>
            <a:off x="4927680" y="508968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32"/>
          <p:cNvSpPr/>
          <p:nvPr/>
        </p:nvSpPr>
        <p:spPr>
          <a:xfrm>
            <a:off x="4927680" y="5237280"/>
            <a:ext cx="1440" cy="75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33"/>
          <p:cNvSpPr/>
          <p:nvPr/>
        </p:nvSpPr>
        <p:spPr>
          <a:xfrm flipV="1">
            <a:off x="4529160" y="5740200"/>
            <a:ext cx="2520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34"/>
          <p:cNvSpPr/>
          <p:nvPr/>
        </p:nvSpPr>
        <p:spPr>
          <a:xfrm flipV="1">
            <a:off x="4613400" y="5630760"/>
            <a:ext cx="37800" cy="44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35"/>
          <p:cNvSpPr/>
          <p:nvPr/>
        </p:nvSpPr>
        <p:spPr>
          <a:xfrm flipV="1">
            <a:off x="4708440" y="5519520"/>
            <a:ext cx="39600" cy="44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36"/>
          <p:cNvSpPr/>
          <p:nvPr/>
        </p:nvSpPr>
        <p:spPr>
          <a:xfrm flipV="1">
            <a:off x="4805280" y="5409720"/>
            <a:ext cx="3816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37"/>
          <p:cNvSpPr/>
          <p:nvPr/>
        </p:nvSpPr>
        <p:spPr>
          <a:xfrm flipV="1">
            <a:off x="4902120" y="5313240"/>
            <a:ext cx="255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38"/>
          <p:cNvSpPr/>
          <p:nvPr/>
        </p:nvSpPr>
        <p:spPr>
          <a:xfrm>
            <a:off x="4611600" y="4070520"/>
            <a:ext cx="1800" cy="11667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42"/>
          <p:cNvSpPr/>
          <p:nvPr/>
        </p:nvSpPr>
        <p:spPr>
          <a:xfrm>
            <a:off x="3552840" y="1557360"/>
            <a:ext cx="385920" cy="220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43"/>
          <p:cNvSpPr/>
          <p:nvPr/>
        </p:nvSpPr>
        <p:spPr>
          <a:xfrm>
            <a:off x="3938760" y="1778040"/>
            <a:ext cx="988920" cy="56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44"/>
          <p:cNvSpPr/>
          <p:nvPr/>
        </p:nvSpPr>
        <p:spPr>
          <a:xfrm>
            <a:off x="4927680" y="2346480"/>
            <a:ext cx="1374840" cy="788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45"/>
          <p:cNvSpPr/>
          <p:nvPr/>
        </p:nvSpPr>
        <p:spPr>
          <a:xfrm>
            <a:off x="3552840" y="4524480"/>
            <a:ext cx="2844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46"/>
          <p:cNvSpPr/>
          <p:nvPr/>
        </p:nvSpPr>
        <p:spPr>
          <a:xfrm>
            <a:off x="3657600" y="458460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47"/>
          <p:cNvSpPr/>
          <p:nvPr/>
        </p:nvSpPr>
        <p:spPr>
          <a:xfrm>
            <a:off x="3784680" y="465768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48"/>
          <p:cNvSpPr/>
          <p:nvPr/>
        </p:nvSpPr>
        <p:spPr>
          <a:xfrm>
            <a:off x="3911760" y="4730760"/>
            <a:ext cx="2700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49"/>
          <p:cNvSpPr/>
          <p:nvPr/>
        </p:nvSpPr>
        <p:spPr>
          <a:xfrm>
            <a:off x="3938760" y="474660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50"/>
          <p:cNvSpPr/>
          <p:nvPr/>
        </p:nvSpPr>
        <p:spPr>
          <a:xfrm>
            <a:off x="4091040" y="48322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51"/>
          <p:cNvSpPr/>
          <p:nvPr/>
        </p:nvSpPr>
        <p:spPr>
          <a:xfrm>
            <a:off x="4218120" y="490536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52"/>
          <p:cNvSpPr/>
          <p:nvPr/>
        </p:nvSpPr>
        <p:spPr>
          <a:xfrm>
            <a:off x="4344840" y="4978440"/>
            <a:ext cx="5112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53"/>
          <p:cNvSpPr/>
          <p:nvPr/>
        </p:nvSpPr>
        <p:spPr>
          <a:xfrm>
            <a:off x="4471920" y="505152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54"/>
          <p:cNvSpPr/>
          <p:nvPr/>
        </p:nvSpPr>
        <p:spPr>
          <a:xfrm>
            <a:off x="4599000" y="512460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55"/>
          <p:cNvSpPr/>
          <p:nvPr/>
        </p:nvSpPr>
        <p:spPr>
          <a:xfrm>
            <a:off x="4726080" y="519732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56"/>
          <p:cNvSpPr/>
          <p:nvPr/>
        </p:nvSpPr>
        <p:spPr>
          <a:xfrm>
            <a:off x="4853160" y="527040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57"/>
          <p:cNvSpPr/>
          <p:nvPr/>
        </p:nvSpPr>
        <p:spPr>
          <a:xfrm>
            <a:off x="4927680" y="5313240"/>
            <a:ext cx="2520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58"/>
          <p:cNvSpPr/>
          <p:nvPr/>
        </p:nvSpPr>
        <p:spPr>
          <a:xfrm>
            <a:off x="5029200" y="537228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59"/>
          <p:cNvSpPr/>
          <p:nvPr/>
        </p:nvSpPr>
        <p:spPr>
          <a:xfrm>
            <a:off x="5157720" y="544500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60"/>
          <p:cNvSpPr/>
          <p:nvPr/>
        </p:nvSpPr>
        <p:spPr>
          <a:xfrm>
            <a:off x="5284800" y="55180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61"/>
          <p:cNvSpPr/>
          <p:nvPr/>
        </p:nvSpPr>
        <p:spPr>
          <a:xfrm>
            <a:off x="5411880" y="559116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62"/>
          <p:cNvSpPr/>
          <p:nvPr/>
        </p:nvSpPr>
        <p:spPr>
          <a:xfrm>
            <a:off x="5538960" y="5664240"/>
            <a:ext cx="25200" cy="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63"/>
          <p:cNvSpPr/>
          <p:nvPr/>
        </p:nvSpPr>
        <p:spPr>
          <a:xfrm>
            <a:off x="3552840" y="1557360"/>
            <a:ext cx="1440" cy="16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64"/>
          <p:cNvSpPr/>
          <p:nvPr/>
        </p:nvSpPr>
        <p:spPr>
          <a:xfrm>
            <a:off x="6302520" y="3135240"/>
            <a:ext cx="1440" cy="296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65"/>
          <p:cNvSpPr/>
          <p:nvPr/>
        </p:nvSpPr>
        <p:spPr>
          <a:xfrm>
            <a:off x="5564160" y="5678640"/>
            <a:ext cx="73836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66"/>
          <p:cNvSpPr/>
          <p:nvPr/>
        </p:nvSpPr>
        <p:spPr>
          <a:xfrm>
            <a:off x="3552840" y="325584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67"/>
          <p:cNvSpPr/>
          <p:nvPr/>
        </p:nvSpPr>
        <p:spPr>
          <a:xfrm>
            <a:off x="3552840" y="342108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68"/>
          <p:cNvSpPr/>
          <p:nvPr/>
        </p:nvSpPr>
        <p:spPr>
          <a:xfrm>
            <a:off x="3552840" y="356724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69"/>
          <p:cNvSpPr/>
          <p:nvPr/>
        </p:nvSpPr>
        <p:spPr>
          <a:xfrm>
            <a:off x="3552840" y="371484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70"/>
          <p:cNvSpPr/>
          <p:nvPr/>
        </p:nvSpPr>
        <p:spPr>
          <a:xfrm>
            <a:off x="3552840" y="386064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71"/>
          <p:cNvSpPr/>
          <p:nvPr/>
        </p:nvSpPr>
        <p:spPr>
          <a:xfrm>
            <a:off x="3552840" y="40068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72"/>
          <p:cNvSpPr/>
          <p:nvPr/>
        </p:nvSpPr>
        <p:spPr>
          <a:xfrm>
            <a:off x="3552840" y="41544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73"/>
          <p:cNvSpPr/>
          <p:nvPr/>
        </p:nvSpPr>
        <p:spPr>
          <a:xfrm>
            <a:off x="3552840" y="43005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74"/>
          <p:cNvSpPr/>
          <p:nvPr/>
        </p:nvSpPr>
        <p:spPr>
          <a:xfrm>
            <a:off x="3552840" y="444816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80"/>
          <p:cNvSpPr/>
          <p:nvPr/>
        </p:nvSpPr>
        <p:spPr>
          <a:xfrm>
            <a:off x="3808440" y="56847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81"/>
          <p:cNvSpPr/>
          <p:nvPr/>
        </p:nvSpPr>
        <p:spPr>
          <a:xfrm>
            <a:off x="3955680" y="58276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82"/>
          <p:cNvSpPr/>
          <p:nvPr/>
        </p:nvSpPr>
        <p:spPr>
          <a:xfrm>
            <a:off x="5779800" y="30877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83"/>
          <p:cNvSpPr/>
          <p:nvPr/>
        </p:nvSpPr>
        <p:spPr>
          <a:xfrm>
            <a:off x="5916240" y="32320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84"/>
          <p:cNvSpPr/>
          <p:nvPr/>
        </p:nvSpPr>
        <p:spPr>
          <a:xfrm>
            <a:off x="5795280" y="42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85"/>
          <p:cNvSpPr/>
          <p:nvPr/>
        </p:nvSpPr>
        <p:spPr>
          <a:xfrm>
            <a:off x="5943240" y="43610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86"/>
          <p:cNvSpPr/>
          <p:nvPr/>
        </p:nvSpPr>
        <p:spPr>
          <a:xfrm>
            <a:off x="4960440" y="24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87"/>
          <p:cNvSpPr/>
          <p:nvPr/>
        </p:nvSpPr>
        <p:spPr>
          <a:xfrm>
            <a:off x="5108400" y="25560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88"/>
          <p:cNvSpPr/>
          <p:nvPr/>
        </p:nvSpPr>
        <p:spPr>
          <a:xfrm>
            <a:off x="3923640" y="5075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89"/>
          <p:cNvSpPr/>
          <p:nvPr/>
        </p:nvSpPr>
        <p:spPr>
          <a:xfrm>
            <a:off x="4071960" y="52182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90"/>
          <p:cNvSpPr/>
          <p:nvPr/>
        </p:nvSpPr>
        <p:spPr>
          <a:xfrm>
            <a:off x="4890960" y="5587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91"/>
          <p:cNvSpPr/>
          <p:nvPr/>
        </p:nvSpPr>
        <p:spPr>
          <a:xfrm>
            <a:off x="5027400" y="5732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95"/>
          <p:cNvSpPr/>
          <p:nvPr/>
        </p:nvSpPr>
        <p:spPr>
          <a:xfrm>
            <a:off x="4570560" y="516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96"/>
          <p:cNvSpPr/>
          <p:nvPr/>
        </p:nvSpPr>
        <p:spPr>
          <a:xfrm>
            <a:off x="4417560" y="5367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7"/>
          <p:cNvSpPr/>
          <p:nvPr/>
        </p:nvSpPr>
        <p:spPr>
          <a:xfrm>
            <a:off x="4310280" y="520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98"/>
          <p:cNvSpPr/>
          <p:nvPr/>
        </p:nvSpPr>
        <p:spPr>
          <a:xfrm>
            <a:off x="4541760" y="400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99"/>
          <p:cNvSpPr/>
          <p:nvPr/>
        </p:nvSpPr>
        <p:spPr>
          <a:xfrm>
            <a:off x="4448520" y="3537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03"/>
          <p:cNvSpPr/>
          <p:nvPr/>
        </p:nvSpPr>
        <p:spPr>
          <a:xfrm>
            <a:off x="4924080" y="3745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03F4-8587-4CA2-B63C-A3CEC8EA5F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5"/>
          <p:cNvSpPr/>
          <p:nvPr/>
        </p:nvSpPr>
        <p:spPr>
          <a:xfrm>
            <a:off x="2320920" y="1528920"/>
            <a:ext cx="41958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"/>
          <p:cNvSpPr/>
          <p:nvPr/>
        </p:nvSpPr>
        <p:spPr>
          <a:xfrm>
            <a:off x="2416320" y="4557600"/>
            <a:ext cx="2749320" cy="1578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7"/>
          <p:cNvSpPr/>
          <p:nvPr/>
        </p:nvSpPr>
        <p:spPr>
          <a:xfrm flipV="1">
            <a:off x="5165640" y="483408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8"/>
          <p:cNvSpPr/>
          <p:nvPr/>
        </p:nvSpPr>
        <p:spPr>
          <a:xfrm>
            <a:off x="3552840" y="3255840"/>
            <a:ext cx="385920" cy="222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9"/>
          <p:cNvSpPr/>
          <p:nvPr/>
        </p:nvSpPr>
        <p:spPr>
          <a:xfrm flipV="1">
            <a:off x="2416320" y="3255840"/>
            <a:ext cx="113652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10"/>
          <p:cNvSpPr/>
          <p:nvPr/>
        </p:nvSpPr>
        <p:spPr>
          <a:xfrm>
            <a:off x="3790800" y="3648240"/>
            <a:ext cx="1800" cy="296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11"/>
          <p:cNvSpPr/>
          <p:nvPr/>
        </p:nvSpPr>
        <p:spPr>
          <a:xfrm flipV="1">
            <a:off x="3790800" y="5770440"/>
            <a:ext cx="738360" cy="84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12"/>
          <p:cNvSpPr/>
          <p:nvPr/>
        </p:nvSpPr>
        <p:spPr>
          <a:xfrm flipV="1">
            <a:off x="3790800" y="404496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13"/>
          <p:cNvSpPr/>
          <p:nvPr/>
        </p:nvSpPr>
        <p:spPr>
          <a:xfrm flipV="1">
            <a:off x="3790800" y="234648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14"/>
          <p:cNvSpPr/>
          <p:nvPr/>
        </p:nvSpPr>
        <p:spPr>
          <a:xfrm>
            <a:off x="4927680" y="2346480"/>
            <a:ext cx="1440" cy="16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15"/>
          <p:cNvSpPr/>
          <p:nvPr/>
        </p:nvSpPr>
        <p:spPr>
          <a:xfrm>
            <a:off x="3938760" y="347832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16"/>
          <p:cNvSpPr/>
          <p:nvPr/>
        </p:nvSpPr>
        <p:spPr>
          <a:xfrm>
            <a:off x="4091040" y="356400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17"/>
          <p:cNvSpPr/>
          <p:nvPr/>
        </p:nvSpPr>
        <p:spPr>
          <a:xfrm>
            <a:off x="4218120" y="363708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18"/>
          <p:cNvSpPr/>
          <p:nvPr/>
        </p:nvSpPr>
        <p:spPr>
          <a:xfrm>
            <a:off x="4344840" y="3710160"/>
            <a:ext cx="5112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19"/>
          <p:cNvSpPr/>
          <p:nvPr/>
        </p:nvSpPr>
        <p:spPr>
          <a:xfrm>
            <a:off x="4471920" y="37828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20"/>
          <p:cNvSpPr/>
          <p:nvPr/>
        </p:nvSpPr>
        <p:spPr>
          <a:xfrm>
            <a:off x="4599000" y="385596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21"/>
          <p:cNvSpPr/>
          <p:nvPr/>
        </p:nvSpPr>
        <p:spPr>
          <a:xfrm>
            <a:off x="4726080" y="3929040"/>
            <a:ext cx="50760" cy="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22"/>
          <p:cNvSpPr/>
          <p:nvPr/>
        </p:nvSpPr>
        <p:spPr>
          <a:xfrm>
            <a:off x="4853160" y="400212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23"/>
          <p:cNvSpPr/>
          <p:nvPr/>
        </p:nvSpPr>
        <p:spPr>
          <a:xfrm>
            <a:off x="4927680" y="4044960"/>
            <a:ext cx="1374840" cy="789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24"/>
          <p:cNvSpPr/>
          <p:nvPr/>
        </p:nvSpPr>
        <p:spPr>
          <a:xfrm>
            <a:off x="4927680" y="4044960"/>
            <a:ext cx="1440" cy="77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25"/>
          <p:cNvSpPr/>
          <p:nvPr/>
        </p:nvSpPr>
        <p:spPr>
          <a:xfrm>
            <a:off x="4927680" y="42102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26"/>
          <p:cNvSpPr/>
          <p:nvPr/>
        </p:nvSpPr>
        <p:spPr>
          <a:xfrm>
            <a:off x="4927680" y="43560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4927680" y="450360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4927680" y="46497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4927680" y="47973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30"/>
          <p:cNvSpPr/>
          <p:nvPr/>
        </p:nvSpPr>
        <p:spPr>
          <a:xfrm>
            <a:off x="4927680" y="494352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31"/>
          <p:cNvSpPr/>
          <p:nvPr/>
        </p:nvSpPr>
        <p:spPr>
          <a:xfrm>
            <a:off x="4927680" y="508968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32"/>
          <p:cNvSpPr/>
          <p:nvPr/>
        </p:nvSpPr>
        <p:spPr>
          <a:xfrm>
            <a:off x="4927680" y="5237280"/>
            <a:ext cx="1440" cy="75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33"/>
          <p:cNvSpPr/>
          <p:nvPr/>
        </p:nvSpPr>
        <p:spPr>
          <a:xfrm flipV="1">
            <a:off x="4529160" y="5740200"/>
            <a:ext cx="2520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34"/>
          <p:cNvSpPr/>
          <p:nvPr/>
        </p:nvSpPr>
        <p:spPr>
          <a:xfrm flipV="1">
            <a:off x="4613400" y="5630760"/>
            <a:ext cx="37800" cy="44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35"/>
          <p:cNvSpPr/>
          <p:nvPr/>
        </p:nvSpPr>
        <p:spPr>
          <a:xfrm flipV="1">
            <a:off x="4708440" y="5519520"/>
            <a:ext cx="39600" cy="44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36"/>
          <p:cNvSpPr/>
          <p:nvPr/>
        </p:nvSpPr>
        <p:spPr>
          <a:xfrm flipV="1">
            <a:off x="4805280" y="5409720"/>
            <a:ext cx="3816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37"/>
          <p:cNvSpPr/>
          <p:nvPr/>
        </p:nvSpPr>
        <p:spPr>
          <a:xfrm flipV="1">
            <a:off x="4902120" y="5313240"/>
            <a:ext cx="255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38"/>
          <p:cNvSpPr/>
          <p:nvPr/>
        </p:nvSpPr>
        <p:spPr>
          <a:xfrm>
            <a:off x="4611600" y="4070520"/>
            <a:ext cx="1800" cy="116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39"/>
          <p:cNvSpPr/>
          <p:nvPr/>
        </p:nvSpPr>
        <p:spPr>
          <a:xfrm>
            <a:off x="4129200" y="4959360"/>
            <a:ext cx="482400" cy="277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40"/>
          <p:cNvSpPr/>
          <p:nvPr/>
        </p:nvSpPr>
        <p:spPr>
          <a:xfrm flipV="1">
            <a:off x="4129200" y="3793680"/>
            <a:ext cx="1440" cy="11653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41"/>
          <p:cNvSpPr/>
          <p:nvPr/>
        </p:nvSpPr>
        <p:spPr>
          <a:xfrm>
            <a:off x="4129200" y="3794040"/>
            <a:ext cx="482400" cy="276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42"/>
          <p:cNvSpPr/>
          <p:nvPr/>
        </p:nvSpPr>
        <p:spPr>
          <a:xfrm>
            <a:off x="3552840" y="1557360"/>
            <a:ext cx="385920" cy="220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43"/>
          <p:cNvSpPr/>
          <p:nvPr/>
        </p:nvSpPr>
        <p:spPr>
          <a:xfrm>
            <a:off x="3938760" y="1778040"/>
            <a:ext cx="988920" cy="56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44"/>
          <p:cNvSpPr/>
          <p:nvPr/>
        </p:nvSpPr>
        <p:spPr>
          <a:xfrm>
            <a:off x="4927680" y="2346480"/>
            <a:ext cx="1374840" cy="788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45"/>
          <p:cNvSpPr/>
          <p:nvPr/>
        </p:nvSpPr>
        <p:spPr>
          <a:xfrm>
            <a:off x="3552840" y="4524480"/>
            <a:ext cx="2844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46"/>
          <p:cNvSpPr/>
          <p:nvPr/>
        </p:nvSpPr>
        <p:spPr>
          <a:xfrm>
            <a:off x="3657600" y="458460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47"/>
          <p:cNvSpPr/>
          <p:nvPr/>
        </p:nvSpPr>
        <p:spPr>
          <a:xfrm>
            <a:off x="3784680" y="465768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48"/>
          <p:cNvSpPr/>
          <p:nvPr/>
        </p:nvSpPr>
        <p:spPr>
          <a:xfrm>
            <a:off x="3911760" y="4730760"/>
            <a:ext cx="2700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49"/>
          <p:cNvSpPr/>
          <p:nvPr/>
        </p:nvSpPr>
        <p:spPr>
          <a:xfrm>
            <a:off x="3938760" y="474660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50"/>
          <p:cNvSpPr/>
          <p:nvPr/>
        </p:nvSpPr>
        <p:spPr>
          <a:xfrm>
            <a:off x="4091040" y="48322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51"/>
          <p:cNvSpPr/>
          <p:nvPr/>
        </p:nvSpPr>
        <p:spPr>
          <a:xfrm>
            <a:off x="4218120" y="490536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52"/>
          <p:cNvSpPr/>
          <p:nvPr/>
        </p:nvSpPr>
        <p:spPr>
          <a:xfrm>
            <a:off x="4344840" y="4978440"/>
            <a:ext cx="5112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53"/>
          <p:cNvSpPr/>
          <p:nvPr/>
        </p:nvSpPr>
        <p:spPr>
          <a:xfrm>
            <a:off x="4471920" y="505152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54"/>
          <p:cNvSpPr/>
          <p:nvPr/>
        </p:nvSpPr>
        <p:spPr>
          <a:xfrm>
            <a:off x="4599000" y="512460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55"/>
          <p:cNvSpPr/>
          <p:nvPr/>
        </p:nvSpPr>
        <p:spPr>
          <a:xfrm>
            <a:off x="4726080" y="519732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56"/>
          <p:cNvSpPr/>
          <p:nvPr/>
        </p:nvSpPr>
        <p:spPr>
          <a:xfrm>
            <a:off x="4853160" y="527040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57"/>
          <p:cNvSpPr/>
          <p:nvPr/>
        </p:nvSpPr>
        <p:spPr>
          <a:xfrm>
            <a:off x="4927680" y="5313240"/>
            <a:ext cx="2520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58"/>
          <p:cNvSpPr/>
          <p:nvPr/>
        </p:nvSpPr>
        <p:spPr>
          <a:xfrm>
            <a:off x="5029200" y="537228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59"/>
          <p:cNvSpPr/>
          <p:nvPr/>
        </p:nvSpPr>
        <p:spPr>
          <a:xfrm>
            <a:off x="5157720" y="544500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60"/>
          <p:cNvSpPr/>
          <p:nvPr/>
        </p:nvSpPr>
        <p:spPr>
          <a:xfrm>
            <a:off x="5284800" y="55180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61"/>
          <p:cNvSpPr/>
          <p:nvPr/>
        </p:nvSpPr>
        <p:spPr>
          <a:xfrm>
            <a:off x="5411880" y="559116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62"/>
          <p:cNvSpPr/>
          <p:nvPr/>
        </p:nvSpPr>
        <p:spPr>
          <a:xfrm>
            <a:off x="5538960" y="5664240"/>
            <a:ext cx="25200" cy="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63"/>
          <p:cNvSpPr/>
          <p:nvPr/>
        </p:nvSpPr>
        <p:spPr>
          <a:xfrm>
            <a:off x="3552840" y="1557360"/>
            <a:ext cx="1440" cy="16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64"/>
          <p:cNvSpPr/>
          <p:nvPr/>
        </p:nvSpPr>
        <p:spPr>
          <a:xfrm>
            <a:off x="6302520" y="3135240"/>
            <a:ext cx="1440" cy="296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65"/>
          <p:cNvSpPr/>
          <p:nvPr/>
        </p:nvSpPr>
        <p:spPr>
          <a:xfrm>
            <a:off x="5564160" y="5678640"/>
            <a:ext cx="73836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66"/>
          <p:cNvSpPr/>
          <p:nvPr/>
        </p:nvSpPr>
        <p:spPr>
          <a:xfrm>
            <a:off x="3552840" y="325584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67"/>
          <p:cNvSpPr/>
          <p:nvPr/>
        </p:nvSpPr>
        <p:spPr>
          <a:xfrm>
            <a:off x="3552840" y="342108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68"/>
          <p:cNvSpPr/>
          <p:nvPr/>
        </p:nvSpPr>
        <p:spPr>
          <a:xfrm>
            <a:off x="3552840" y="356724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69"/>
          <p:cNvSpPr/>
          <p:nvPr/>
        </p:nvSpPr>
        <p:spPr>
          <a:xfrm>
            <a:off x="3552840" y="371484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70"/>
          <p:cNvSpPr/>
          <p:nvPr/>
        </p:nvSpPr>
        <p:spPr>
          <a:xfrm>
            <a:off x="3552840" y="386064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71"/>
          <p:cNvSpPr/>
          <p:nvPr/>
        </p:nvSpPr>
        <p:spPr>
          <a:xfrm>
            <a:off x="3552840" y="40068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72"/>
          <p:cNvSpPr/>
          <p:nvPr/>
        </p:nvSpPr>
        <p:spPr>
          <a:xfrm>
            <a:off x="3552840" y="41544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73"/>
          <p:cNvSpPr/>
          <p:nvPr/>
        </p:nvSpPr>
        <p:spPr>
          <a:xfrm>
            <a:off x="3552840" y="43005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74"/>
          <p:cNvSpPr/>
          <p:nvPr/>
        </p:nvSpPr>
        <p:spPr>
          <a:xfrm>
            <a:off x="3552840" y="444816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80"/>
          <p:cNvSpPr/>
          <p:nvPr/>
        </p:nvSpPr>
        <p:spPr>
          <a:xfrm>
            <a:off x="3808440" y="56847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81"/>
          <p:cNvSpPr/>
          <p:nvPr/>
        </p:nvSpPr>
        <p:spPr>
          <a:xfrm>
            <a:off x="3955680" y="58276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82"/>
          <p:cNvSpPr/>
          <p:nvPr/>
        </p:nvSpPr>
        <p:spPr>
          <a:xfrm>
            <a:off x="5779800" y="30877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83"/>
          <p:cNvSpPr/>
          <p:nvPr/>
        </p:nvSpPr>
        <p:spPr>
          <a:xfrm>
            <a:off x="5916240" y="32320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84"/>
          <p:cNvSpPr/>
          <p:nvPr/>
        </p:nvSpPr>
        <p:spPr>
          <a:xfrm>
            <a:off x="5795280" y="42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85"/>
          <p:cNvSpPr/>
          <p:nvPr/>
        </p:nvSpPr>
        <p:spPr>
          <a:xfrm>
            <a:off x="5943240" y="43610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86"/>
          <p:cNvSpPr/>
          <p:nvPr/>
        </p:nvSpPr>
        <p:spPr>
          <a:xfrm>
            <a:off x="4960440" y="24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87"/>
          <p:cNvSpPr/>
          <p:nvPr/>
        </p:nvSpPr>
        <p:spPr>
          <a:xfrm>
            <a:off x="5108400" y="25560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88"/>
          <p:cNvSpPr/>
          <p:nvPr/>
        </p:nvSpPr>
        <p:spPr>
          <a:xfrm>
            <a:off x="3923640" y="5075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89"/>
          <p:cNvSpPr/>
          <p:nvPr/>
        </p:nvSpPr>
        <p:spPr>
          <a:xfrm>
            <a:off x="4071960" y="52182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90"/>
          <p:cNvSpPr/>
          <p:nvPr/>
        </p:nvSpPr>
        <p:spPr>
          <a:xfrm>
            <a:off x="4890960" y="5587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91"/>
          <p:cNvSpPr/>
          <p:nvPr/>
        </p:nvSpPr>
        <p:spPr>
          <a:xfrm>
            <a:off x="5027400" y="5732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92"/>
          <p:cNvSpPr/>
          <p:nvPr/>
        </p:nvSpPr>
        <p:spPr>
          <a:xfrm>
            <a:off x="4086360" y="3747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93"/>
          <p:cNvSpPr/>
          <p:nvPr/>
        </p:nvSpPr>
        <p:spPr>
          <a:xfrm>
            <a:off x="3843000" y="36655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94"/>
          <p:cNvSpPr/>
          <p:nvPr/>
        </p:nvSpPr>
        <p:spPr>
          <a:xfrm>
            <a:off x="3731040" y="3506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95"/>
          <p:cNvSpPr/>
          <p:nvPr/>
        </p:nvSpPr>
        <p:spPr>
          <a:xfrm>
            <a:off x="4570560" y="516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96"/>
          <p:cNvSpPr/>
          <p:nvPr/>
        </p:nvSpPr>
        <p:spPr>
          <a:xfrm>
            <a:off x="4417560" y="5367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97"/>
          <p:cNvSpPr/>
          <p:nvPr/>
        </p:nvSpPr>
        <p:spPr>
          <a:xfrm>
            <a:off x="4310280" y="520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98"/>
          <p:cNvSpPr/>
          <p:nvPr/>
        </p:nvSpPr>
        <p:spPr>
          <a:xfrm>
            <a:off x="4541760" y="400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99"/>
          <p:cNvSpPr/>
          <p:nvPr/>
        </p:nvSpPr>
        <p:spPr>
          <a:xfrm>
            <a:off x="4448520" y="3537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103"/>
          <p:cNvSpPr/>
          <p:nvPr/>
        </p:nvSpPr>
        <p:spPr>
          <a:xfrm>
            <a:off x="4924080" y="3745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8088-7269-44F3-9E9C-3F2F5049C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5"/>
          <p:cNvSpPr/>
          <p:nvPr/>
        </p:nvSpPr>
        <p:spPr>
          <a:xfrm>
            <a:off x="2320920" y="1528920"/>
            <a:ext cx="41958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6"/>
          <p:cNvSpPr/>
          <p:nvPr/>
        </p:nvSpPr>
        <p:spPr>
          <a:xfrm>
            <a:off x="2416320" y="4557600"/>
            <a:ext cx="2749320" cy="1578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7"/>
          <p:cNvSpPr/>
          <p:nvPr/>
        </p:nvSpPr>
        <p:spPr>
          <a:xfrm flipV="1">
            <a:off x="5165640" y="483408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8"/>
          <p:cNvSpPr/>
          <p:nvPr/>
        </p:nvSpPr>
        <p:spPr>
          <a:xfrm>
            <a:off x="3552840" y="3255840"/>
            <a:ext cx="385920" cy="222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9"/>
          <p:cNvSpPr/>
          <p:nvPr/>
        </p:nvSpPr>
        <p:spPr>
          <a:xfrm flipV="1">
            <a:off x="2416320" y="3255840"/>
            <a:ext cx="113652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0"/>
          <p:cNvSpPr/>
          <p:nvPr/>
        </p:nvSpPr>
        <p:spPr>
          <a:xfrm>
            <a:off x="3790800" y="3648240"/>
            <a:ext cx="1800" cy="296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1"/>
          <p:cNvSpPr/>
          <p:nvPr/>
        </p:nvSpPr>
        <p:spPr>
          <a:xfrm flipV="1">
            <a:off x="3790800" y="5770440"/>
            <a:ext cx="738360" cy="84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2"/>
          <p:cNvSpPr/>
          <p:nvPr/>
        </p:nvSpPr>
        <p:spPr>
          <a:xfrm flipV="1">
            <a:off x="3790800" y="404496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3"/>
          <p:cNvSpPr/>
          <p:nvPr/>
        </p:nvSpPr>
        <p:spPr>
          <a:xfrm flipV="1">
            <a:off x="3790800" y="234648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4"/>
          <p:cNvSpPr/>
          <p:nvPr/>
        </p:nvSpPr>
        <p:spPr>
          <a:xfrm>
            <a:off x="4927680" y="2346480"/>
            <a:ext cx="1440" cy="16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5"/>
          <p:cNvSpPr/>
          <p:nvPr/>
        </p:nvSpPr>
        <p:spPr>
          <a:xfrm>
            <a:off x="3938760" y="347832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6"/>
          <p:cNvSpPr/>
          <p:nvPr/>
        </p:nvSpPr>
        <p:spPr>
          <a:xfrm>
            <a:off x="4091040" y="356400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7"/>
          <p:cNvSpPr/>
          <p:nvPr/>
        </p:nvSpPr>
        <p:spPr>
          <a:xfrm>
            <a:off x="4218120" y="363708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18"/>
          <p:cNvSpPr/>
          <p:nvPr/>
        </p:nvSpPr>
        <p:spPr>
          <a:xfrm>
            <a:off x="4344840" y="3710160"/>
            <a:ext cx="5112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19"/>
          <p:cNvSpPr/>
          <p:nvPr/>
        </p:nvSpPr>
        <p:spPr>
          <a:xfrm>
            <a:off x="4471920" y="37828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Line 20"/>
          <p:cNvSpPr/>
          <p:nvPr/>
        </p:nvSpPr>
        <p:spPr>
          <a:xfrm>
            <a:off x="4599000" y="385596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21"/>
          <p:cNvSpPr/>
          <p:nvPr/>
        </p:nvSpPr>
        <p:spPr>
          <a:xfrm>
            <a:off x="4726080" y="3929040"/>
            <a:ext cx="50760" cy="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Line 22"/>
          <p:cNvSpPr/>
          <p:nvPr/>
        </p:nvSpPr>
        <p:spPr>
          <a:xfrm>
            <a:off x="4853160" y="400212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23"/>
          <p:cNvSpPr/>
          <p:nvPr/>
        </p:nvSpPr>
        <p:spPr>
          <a:xfrm>
            <a:off x="4927680" y="4044960"/>
            <a:ext cx="1374840" cy="789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24"/>
          <p:cNvSpPr/>
          <p:nvPr/>
        </p:nvSpPr>
        <p:spPr>
          <a:xfrm>
            <a:off x="4927680" y="4044960"/>
            <a:ext cx="1440" cy="77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25"/>
          <p:cNvSpPr/>
          <p:nvPr/>
        </p:nvSpPr>
        <p:spPr>
          <a:xfrm>
            <a:off x="4927680" y="42102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26"/>
          <p:cNvSpPr/>
          <p:nvPr/>
        </p:nvSpPr>
        <p:spPr>
          <a:xfrm>
            <a:off x="4927680" y="43560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27"/>
          <p:cNvSpPr/>
          <p:nvPr/>
        </p:nvSpPr>
        <p:spPr>
          <a:xfrm>
            <a:off x="4927680" y="450360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28"/>
          <p:cNvSpPr/>
          <p:nvPr/>
        </p:nvSpPr>
        <p:spPr>
          <a:xfrm>
            <a:off x="4927680" y="46497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29"/>
          <p:cNvSpPr/>
          <p:nvPr/>
        </p:nvSpPr>
        <p:spPr>
          <a:xfrm>
            <a:off x="4927680" y="47973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30"/>
          <p:cNvSpPr/>
          <p:nvPr/>
        </p:nvSpPr>
        <p:spPr>
          <a:xfrm>
            <a:off x="4927680" y="494352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31"/>
          <p:cNvSpPr/>
          <p:nvPr/>
        </p:nvSpPr>
        <p:spPr>
          <a:xfrm>
            <a:off x="4927680" y="508968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32"/>
          <p:cNvSpPr/>
          <p:nvPr/>
        </p:nvSpPr>
        <p:spPr>
          <a:xfrm>
            <a:off x="4927680" y="5237280"/>
            <a:ext cx="1440" cy="75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33"/>
          <p:cNvSpPr/>
          <p:nvPr/>
        </p:nvSpPr>
        <p:spPr>
          <a:xfrm flipV="1">
            <a:off x="4529160" y="5740200"/>
            <a:ext cx="2520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34"/>
          <p:cNvSpPr/>
          <p:nvPr/>
        </p:nvSpPr>
        <p:spPr>
          <a:xfrm flipV="1">
            <a:off x="4613400" y="5630760"/>
            <a:ext cx="37800" cy="44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35"/>
          <p:cNvSpPr/>
          <p:nvPr/>
        </p:nvSpPr>
        <p:spPr>
          <a:xfrm flipV="1">
            <a:off x="4708440" y="5519520"/>
            <a:ext cx="39600" cy="44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36"/>
          <p:cNvSpPr/>
          <p:nvPr/>
        </p:nvSpPr>
        <p:spPr>
          <a:xfrm flipV="1">
            <a:off x="4805280" y="5409720"/>
            <a:ext cx="3816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37"/>
          <p:cNvSpPr/>
          <p:nvPr/>
        </p:nvSpPr>
        <p:spPr>
          <a:xfrm flipV="1">
            <a:off x="4902120" y="5313240"/>
            <a:ext cx="255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38"/>
          <p:cNvSpPr/>
          <p:nvPr/>
        </p:nvSpPr>
        <p:spPr>
          <a:xfrm>
            <a:off x="4611600" y="4070520"/>
            <a:ext cx="1800" cy="116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39"/>
          <p:cNvSpPr/>
          <p:nvPr/>
        </p:nvSpPr>
        <p:spPr>
          <a:xfrm>
            <a:off x="4129200" y="4959360"/>
            <a:ext cx="48240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40"/>
          <p:cNvSpPr/>
          <p:nvPr/>
        </p:nvSpPr>
        <p:spPr>
          <a:xfrm flipV="1">
            <a:off x="4129200" y="3793680"/>
            <a:ext cx="1440" cy="1165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41"/>
          <p:cNvSpPr/>
          <p:nvPr/>
        </p:nvSpPr>
        <p:spPr>
          <a:xfrm>
            <a:off x="4129200" y="3794040"/>
            <a:ext cx="482400" cy="276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42"/>
          <p:cNvSpPr/>
          <p:nvPr/>
        </p:nvSpPr>
        <p:spPr>
          <a:xfrm>
            <a:off x="3552840" y="1557360"/>
            <a:ext cx="385920" cy="220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43"/>
          <p:cNvSpPr/>
          <p:nvPr/>
        </p:nvSpPr>
        <p:spPr>
          <a:xfrm>
            <a:off x="3938760" y="1778040"/>
            <a:ext cx="988920" cy="56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44"/>
          <p:cNvSpPr/>
          <p:nvPr/>
        </p:nvSpPr>
        <p:spPr>
          <a:xfrm>
            <a:off x="4927680" y="2346480"/>
            <a:ext cx="1374840" cy="788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45"/>
          <p:cNvSpPr/>
          <p:nvPr/>
        </p:nvSpPr>
        <p:spPr>
          <a:xfrm>
            <a:off x="3552840" y="4524480"/>
            <a:ext cx="2844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46"/>
          <p:cNvSpPr/>
          <p:nvPr/>
        </p:nvSpPr>
        <p:spPr>
          <a:xfrm>
            <a:off x="3657600" y="458460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47"/>
          <p:cNvSpPr/>
          <p:nvPr/>
        </p:nvSpPr>
        <p:spPr>
          <a:xfrm>
            <a:off x="3784680" y="465768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48"/>
          <p:cNvSpPr/>
          <p:nvPr/>
        </p:nvSpPr>
        <p:spPr>
          <a:xfrm>
            <a:off x="3911760" y="4730760"/>
            <a:ext cx="2700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49"/>
          <p:cNvSpPr/>
          <p:nvPr/>
        </p:nvSpPr>
        <p:spPr>
          <a:xfrm>
            <a:off x="3938760" y="474660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50"/>
          <p:cNvSpPr/>
          <p:nvPr/>
        </p:nvSpPr>
        <p:spPr>
          <a:xfrm>
            <a:off x="4091040" y="48322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51"/>
          <p:cNvSpPr/>
          <p:nvPr/>
        </p:nvSpPr>
        <p:spPr>
          <a:xfrm>
            <a:off x="4218120" y="490536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52"/>
          <p:cNvSpPr/>
          <p:nvPr/>
        </p:nvSpPr>
        <p:spPr>
          <a:xfrm>
            <a:off x="4344840" y="4978440"/>
            <a:ext cx="5112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53"/>
          <p:cNvSpPr/>
          <p:nvPr/>
        </p:nvSpPr>
        <p:spPr>
          <a:xfrm>
            <a:off x="4471920" y="505152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54"/>
          <p:cNvSpPr/>
          <p:nvPr/>
        </p:nvSpPr>
        <p:spPr>
          <a:xfrm>
            <a:off x="4599000" y="512460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55"/>
          <p:cNvSpPr/>
          <p:nvPr/>
        </p:nvSpPr>
        <p:spPr>
          <a:xfrm>
            <a:off x="4726080" y="519732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56"/>
          <p:cNvSpPr/>
          <p:nvPr/>
        </p:nvSpPr>
        <p:spPr>
          <a:xfrm>
            <a:off x="4853160" y="527040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57"/>
          <p:cNvSpPr/>
          <p:nvPr/>
        </p:nvSpPr>
        <p:spPr>
          <a:xfrm>
            <a:off x="4927680" y="5313240"/>
            <a:ext cx="2520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58"/>
          <p:cNvSpPr/>
          <p:nvPr/>
        </p:nvSpPr>
        <p:spPr>
          <a:xfrm>
            <a:off x="5029200" y="537228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59"/>
          <p:cNvSpPr/>
          <p:nvPr/>
        </p:nvSpPr>
        <p:spPr>
          <a:xfrm>
            <a:off x="5157720" y="544500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60"/>
          <p:cNvSpPr/>
          <p:nvPr/>
        </p:nvSpPr>
        <p:spPr>
          <a:xfrm>
            <a:off x="5284800" y="55180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61"/>
          <p:cNvSpPr/>
          <p:nvPr/>
        </p:nvSpPr>
        <p:spPr>
          <a:xfrm>
            <a:off x="5411880" y="559116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62"/>
          <p:cNvSpPr/>
          <p:nvPr/>
        </p:nvSpPr>
        <p:spPr>
          <a:xfrm>
            <a:off x="5538960" y="5664240"/>
            <a:ext cx="25200" cy="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63"/>
          <p:cNvSpPr/>
          <p:nvPr/>
        </p:nvSpPr>
        <p:spPr>
          <a:xfrm>
            <a:off x="3552840" y="1557360"/>
            <a:ext cx="1440" cy="16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64"/>
          <p:cNvSpPr/>
          <p:nvPr/>
        </p:nvSpPr>
        <p:spPr>
          <a:xfrm>
            <a:off x="6302520" y="3135240"/>
            <a:ext cx="1440" cy="296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65"/>
          <p:cNvSpPr/>
          <p:nvPr/>
        </p:nvSpPr>
        <p:spPr>
          <a:xfrm>
            <a:off x="5564160" y="5678640"/>
            <a:ext cx="73836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66"/>
          <p:cNvSpPr/>
          <p:nvPr/>
        </p:nvSpPr>
        <p:spPr>
          <a:xfrm>
            <a:off x="3552840" y="325584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67"/>
          <p:cNvSpPr/>
          <p:nvPr/>
        </p:nvSpPr>
        <p:spPr>
          <a:xfrm>
            <a:off x="3552840" y="342108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68"/>
          <p:cNvSpPr/>
          <p:nvPr/>
        </p:nvSpPr>
        <p:spPr>
          <a:xfrm>
            <a:off x="3552840" y="356724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69"/>
          <p:cNvSpPr/>
          <p:nvPr/>
        </p:nvSpPr>
        <p:spPr>
          <a:xfrm>
            <a:off x="3552840" y="371484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70"/>
          <p:cNvSpPr/>
          <p:nvPr/>
        </p:nvSpPr>
        <p:spPr>
          <a:xfrm>
            <a:off x="3552840" y="386064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71"/>
          <p:cNvSpPr/>
          <p:nvPr/>
        </p:nvSpPr>
        <p:spPr>
          <a:xfrm>
            <a:off x="3552840" y="40068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72"/>
          <p:cNvSpPr/>
          <p:nvPr/>
        </p:nvSpPr>
        <p:spPr>
          <a:xfrm>
            <a:off x="3552840" y="41544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73"/>
          <p:cNvSpPr/>
          <p:nvPr/>
        </p:nvSpPr>
        <p:spPr>
          <a:xfrm>
            <a:off x="3552840" y="43005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74"/>
          <p:cNvSpPr/>
          <p:nvPr/>
        </p:nvSpPr>
        <p:spPr>
          <a:xfrm>
            <a:off x="3552840" y="444816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75"/>
          <p:cNvSpPr/>
          <p:nvPr/>
        </p:nvSpPr>
        <p:spPr>
          <a:xfrm flipV="1">
            <a:off x="4611600" y="4322880"/>
            <a:ext cx="798480" cy="9144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76"/>
          <p:cNvSpPr/>
          <p:nvPr/>
        </p:nvSpPr>
        <p:spPr>
          <a:xfrm flipV="1">
            <a:off x="4611600" y="3157560"/>
            <a:ext cx="798480" cy="9129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77"/>
          <p:cNvSpPr/>
          <p:nvPr/>
        </p:nvSpPr>
        <p:spPr>
          <a:xfrm flipV="1">
            <a:off x="5410080" y="3157200"/>
            <a:ext cx="1800" cy="11653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78"/>
          <p:cNvSpPr/>
          <p:nvPr/>
        </p:nvSpPr>
        <p:spPr>
          <a:xfrm flipV="1">
            <a:off x="4129200" y="2879640"/>
            <a:ext cx="798480" cy="9144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79"/>
          <p:cNvSpPr/>
          <p:nvPr/>
        </p:nvSpPr>
        <p:spPr>
          <a:xfrm>
            <a:off x="4927680" y="2879640"/>
            <a:ext cx="482400" cy="277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80"/>
          <p:cNvSpPr/>
          <p:nvPr/>
        </p:nvSpPr>
        <p:spPr>
          <a:xfrm>
            <a:off x="3808440" y="56847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81"/>
          <p:cNvSpPr/>
          <p:nvPr/>
        </p:nvSpPr>
        <p:spPr>
          <a:xfrm>
            <a:off x="3955680" y="58276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82"/>
          <p:cNvSpPr/>
          <p:nvPr/>
        </p:nvSpPr>
        <p:spPr>
          <a:xfrm>
            <a:off x="5779800" y="30877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83"/>
          <p:cNvSpPr/>
          <p:nvPr/>
        </p:nvSpPr>
        <p:spPr>
          <a:xfrm>
            <a:off x="5916240" y="32320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84"/>
          <p:cNvSpPr/>
          <p:nvPr/>
        </p:nvSpPr>
        <p:spPr>
          <a:xfrm>
            <a:off x="5795280" y="42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85"/>
          <p:cNvSpPr/>
          <p:nvPr/>
        </p:nvSpPr>
        <p:spPr>
          <a:xfrm>
            <a:off x="5943240" y="43610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86"/>
          <p:cNvSpPr/>
          <p:nvPr/>
        </p:nvSpPr>
        <p:spPr>
          <a:xfrm>
            <a:off x="4960440" y="24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87"/>
          <p:cNvSpPr/>
          <p:nvPr/>
        </p:nvSpPr>
        <p:spPr>
          <a:xfrm>
            <a:off x="5108400" y="25560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88"/>
          <p:cNvSpPr/>
          <p:nvPr/>
        </p:nvSpPr>
        <p:spPr>
          <a:xfrm>
            <a:off x="3923640" y="5075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89"/>
          <p:cNvSpPr/>
          <p:nvPr/>
        </p:nvSpPr>
        <p:spPr>
          <a:xfrm>
            <a:off x="4071960" y="52182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90"/>
          <p:cNvSpPr/>
          <p:nvPr/>
        </p:nvSpPr>
        <p:spPr>
          <a:xfrm>
            <a:off x="4890960" y="5587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91"/>
          <p:cNvSpPr/>
          <p:nvPr/>
        </p:nvSpPr>
        <p:spPr>
          <a:xfrm>
            <a:off x="5027400" y="5732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92"/>
          <p:cNvSpPr/>
          <p:nvPr/>
        </p:nvSpPr>
        <p:spPr>
          <a:xfrm>
            <a:off x="4081320" y="3747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93"/>
          <p:cNvSpPr/>
          <p:nvPr/>
        </p:nvSpPr>
        <p:spPr>
          <a:xfrm>
            <a:off x="3843000" y="36655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94"/>
          <p:cNvSpPr/>
          <p:nvPr/>
        </p:nvSpPr>
        <p:spPr>
          <a:xfrm>
            <a:off x="3731040" y="3506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95"/>
          <p:cNvSpPr/>
          <p:nvPr/>
        </p:nvSpPr>
        <p:spPr>
          <a:xfrm>
            <a:off x="4570560" y="516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96"/>
          <p:cNvSpPr/>
          <p:nvPr/>
        </p:nvSpPr>
        <p:spPr>
          <a:xfrm>
            <a:off x="4417560" y="5367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97"/>
          <p:cNvSpPr/>
          <p:nvPr/>
        </p:nvSpPr>
        <p:spPr>
          <a:xfrm>
            <a:off x="4310280" y="520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Oval 98"/>
          <p:cNvSpPr/>
          <p:nvPr/>
        </p:nvSpPr>
        <p:spPr>
          <a:xfrm>
            <a:off x="4541760" y="400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99"/>
          <p:cNvSpPr/>
          <p:nvPr/>
        </p:nvSpPr>
        <p:spPr>
          <a:xfrm>
            <a:off x="4448520" y="3537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100"/>
          <p:cNvSpPr/>
          <p:nvPr/>
        </p:nvSpPr>
        <p:spPr>
          <a:xfrm>
            <a:off x="5567040" y="30510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101"/>
          <p:cNvSpPr/>
          <p:nvPr/>
        </p:nvSpPr>
        <p:spPr>
          <a:xfrm>
            <a:off x="5455080" y="2892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102"/>
          <p:cNvSpPr/>
          <p:nvPr/>
        </p:nvSpPr>
        <p:spPr>
          <a:xfrm>
            <a:off x="5351400" y="3105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103"/>
          <p:cNvSpPr/>
          <p:nvPr/>
        </p:nvSpPr>
        <p:spPr>
          <a:xfrm>
            <a:off x="4924080" y="3745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A9AF-D6B2-4522-A05C-973BE6E8BA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5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6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27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28"/>
          <p:cNvSpPr/>
          <p:nvPr/>
        </p:nvSpPr>
        <p:spPr>
          <a:xfrm>
            <a:off x="4753080" y="1998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29"/>
          <p:cNvSpPr/>
          <p:nvPr/>
        </p:nvSpPr>
        <p:spPr>
          <a:xfrm>
            <a:off x="4900320" y="2141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30"/>
          <p:cNvSpPr/>
          <p:nvPr/>
        </p:nvSpPr>
        <p:spPr>
          <a:xfrm>
            <a:off x="612468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32"/>
          <p:cNvSpPr/>
          <p:nvPr/>
        </p:nvSpPr>
        <p:spPr>
          <a:xfrm>
            <a:off x="416412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33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AutoShape 36"/>
          <p:cNvSpPr/>
          <p:nvPr/>
        </p:nvSpPr>
        <p:spPr>
          <a:xfrm>
            <a:off x="2495520" y="2028960"/>
            <a:ext cx="411336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38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39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D52D-090A-4139-B372-7F25B5021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23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24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25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27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28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29"/>
          <p:cNvSpPr/>
          <p:nvPr/>
        </p:nvSpPr>
        <p:spPr>
          <a:xfrm>
            <a:off x="416340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30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AutoShape 31"/>
          <p:cNvSpPr/>
          <p:nvPr/>
        </p:nvSpPr>
        <p:spPr>
          <a:xfrm>
            <a:off x="2495520" y="2028960"/>
            <a:ext cx="411336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32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33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41"/>
          <p:cNvSpPr/>
          <p:nvPr/>
        </p:nvSpPr>
        <p:spPr>
          <a:xfrm>
            <a:off x="4753080" y="1998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42"/>
          <p:cNvSpPr/>
          <p:nvPr/>
        </p:nvSpPr>
        <p:spPr>
          <a:xfrm>
            <a:off x="4900320" y="2141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Oval 43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44"/>
          <p:cNvSpPr/>
          <p:nvPr/>
        </p:nvSpPr>
        <p:spPr>
          <a:xfrm>
            <a:off x="3710160" y="2379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45"/>
          <p:cNvSpPr/>
          <p:nvPr/>
        </p:nvSpPr>
        <p:spPr>
          <a:xfrm>
            <a:off x="3919320" y="2522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774C-02DA-41D4-AEF5-A8B64E9B3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24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25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26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27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28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29"/>
          <p:cNvSpPr/>
          <p:nvPr/>
        </p:nvSpPr>
        <p:spPr>
          <a:xfrm>
            <a:off x="416340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30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AutoShape 31"/>
          <p:cNvSpPr/>
          <p:nvPr/>
        </p:nvSpPr>
        <p:spPr>
          <a:xfrm>
            <a:off x="2495520" y="2028960"/>
            <a:ext cx="411336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32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33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34"/>
          <p:cNvSpPr/>
          <p:nvPr/>
        </p:nvSpPr>
        <p:spPr>
          <a:xfrm>
            <a:off x="3598920" y="2855880"/>
            <a:ext cx="1440" cy="1893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41"/>
          <p:cNvSpPr/>
          <p:nvPr/>
        </p:nvSpPr>
        <p:spPr>
          <a:xfrm>
            <a:off x="4752360" y="1998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42"/>
          <p:cNvSpPr/>
          <p:nvPr/>
        </p:nvSpPr>
        <p:spPr>
          <a:xfrm>
            <a:off x="4900320" y="2141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43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44"/>
          <p:cNvSpPr/>
          <p:nvPr/>
        </p:nvSpPr>
        <p:spPr>
          <a:xfrm>
            <a:off x="3710160" y="2379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45"/>
          <p:cNvSpPr/>
          <p:nvPr/>
        </p:nvSpPr>
        <p:spPr>
          <a:xfrm>
            <a:off x="3919320" y="2522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Oval 46"/>
          <p:cNvSpPr/>
          <p:nvPr/>
        </p:nvSpPr>
        <p:spPr>
          <a:xfrm>
            <a:off x="3538440" y="468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47"/>
          <p:cNvSpPr/>
          <p:nvPr/>
        </p:nvSpPr>
        <p:spPr>
          <a:xfrm>
            <a:off x="3705480" y="4822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48"/>
          <p:cNvSpPr/>
          <p:nvPr/>
        </p:nvSpPr>
        <p:spPr>
          <a:xfrm>
            <a:off x="3914640" y="496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0FBD-020D-4C74-9169-B560BFFE5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4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5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6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7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 Box 8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9"/>
          <p:cNvSpPr/>
          <p:nvPr/>
        </p:nvSpPr>
        <p:spPr>
          <a:xfrm>
            <a:off x="416340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10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2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3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4"/>
          <p:cNvSpPr/>
          <p:nvPr/>
        </p:nvSpPr>
        <p:spPr>
          <a:xfrm>
            <a:off x="3598920" y="2855880"/>
            <a:ext cx="144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"/>
          <p:cNvSpPr/>
          <p:nvPr/>
        </p:nvSpPr>
        <p:spPr>
          <a:xfrm>
            <a:off x="3598920" y="2855880"/>
            <a:ext cx="184932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6"/>
          <p:cNvSpPr/>
          <p:nvPr/>
        </p:nvSpPr>
        <p:spPr>
          <a:xfrm flipV="1">
            <a:off x="3598920" y="4746240"/>
            <a:ext cx="105408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4752360" y="1998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900320" y="2141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Oval 21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3710160" y="2379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3919320" y="2522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Oval 24"/>
          <p:cNvSpPr/>
          <p:nvPr/>
        </p:nvSpPr>
        <p:spPr>
          <a:xfrm>
            <a:off x="3538440" y="468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3705480" y="4822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3914640" y="496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FB4A-93DA-490D-A263-667EE0455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5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6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7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8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9"/>
          <p:cNvSpPr/>
          <p:nvPr/>
        </p:nvSpPr>
        <p:spPr>
          <a:xfrm>
            <a:off x="416340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0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2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3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Line 14"/>
          <p:cNvSpPr/>
          <p:nvPr/>
        </p:nvSpPr>
        <p:spPr>
          <a:xfrm>
            <a:off x="3598920" y="2855880"/>
            <a:ext cx="144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15"/>
          <p:cNvSpPr/>
          <p:nvPr/>
        </p:nvSpPr>
        <p:spPr>
          <a:xfrm>
            <a:off x="3598920" y="2855880"/>
            <a:ext cx="184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Line 16"/>
          <p:cNvSpPr/>
          <p:nvPr/>
        </p:nvSpPr>
        <p:spPr>
          <a:xfrm flipV="1">
            <a:off x="3598920" y="4746240"/>
            <a:ext cx="1054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17"/>
          <p:cNvSpPr/>
          <p:nvPr/>
        </p:nvSpPr>
        <p:spPr>
          <a:xfrm flipV="1">
            <a:off x="4656240" y="3957120"/>
            <a:ext cx="792000" cy="792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19"/>
          <p:cNvSpPr/>
          <p:nvPr/>
        </p:nvSpPr>
        <p:spPr>
          <a:xfrm>
            <a:off x="4752360" y="1998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20"/>
          <p:cNvSpPr/>
          <p:nvPr/>
        </p:nvSpPr>
        <p:spPr>
          <a:xfrm>
            <a:off x="4900320" y="2141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Oval 21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22"/>
          <p:cNvSpPr/>
          <p:nvPr/>
        </p:nvSpPr>
        <p:spPr>
          <a:xfrm>
            <a:off x="3710160" y="2379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23"/>
          <p:cNvSpPr/>
          <p:nvPr/>
        </p:nvSpPr>
        <p:spPr>
          <a:xfrm>
            <a:off x="3919320" y="2522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Oval 24"/>
          <p:cNvSpPr/>
          <p:nvPr/>
        </p:nvSpPr>
        <p:spPr>
          <a:xfrm>
            <a:off x="3538440" y="468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25"/>
          <p:cNvSpPr/>
          <p:nvPr/>
        </p:nvSpPr>
        <p:spPr>
          <a:xfrm>
            <a:off x="3705480" y="4822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26"/>
          <p:cNvSpPr/>
          <p:nvPr/>
        </p:nvSpPr>
        <p:spPr>
          <a:xfrm>
            <a:off x="3914640" y="496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31"/>
          <p:cNvSpPr/>
          <p:nvPr/>
        </p:nvSpPr>
        <p:spPr>
          <a:xfrm>
            <a:off x="4610160" y="4167360"/>
            <a:ext cx="9036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32"/>
          <p:cNvSpPr/>
          <p:nvPr/>
        </p:nvSpPr>
        <p:spPr>
          <a:xfrm>
            <a:off x="4610160" y="4229280"/>
            <a:ext cx="9036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33"/>
          <p:cNvSpPr/>
          <p:nvPr/>
        </p:nvSpPr>
        <p:spPr>
          <a:xfrm flipH="1">
            <a:off x="4971960" y="3914640"/>
            <a:ext cx="763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34"/>
          <p:cNvSpPr/>
          <p:nvPr/>
        </p:nvSpPr>
        <p:spPr>
          <a:xfrm flipH="1">
            <a:off x="5029200" y="3914640"/>
            <a:ext cx="763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9114-BF86-491E-82F1-9D8E0725A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4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5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6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 Box 7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8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9"/>
          <p:cNvSpPr/>
          <p:nvPr/>
        </p:nvSpPr>
        <p:spPr>
          <a:xfrm>
            <a:off x="416340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10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11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12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13"/>
          <p:cNvSpPr/>
          <p:nvPr/>
        </p:nvSpPr>
        <p:spPr>
          <a:xfrm>
            <a:off x="3598920" y="2855880"/>
            <a:ext cx="144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14"/>
          <p:cNvSpPr/>
          <p:nvPr/>
        </p:nvSpPr>
        <p:spPr>
          <a:xfrm>
            <a:off x="3598920" y="2855880"/>
            <a:ext cx="184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15"/>
          <p:cNvSpPr/>
          <p:nvPr/>
        </p:nvSpPr>
        <p:spPr>
          <a:xfrm flipV="1">
            <a:off x="3598920" y="4746240"/>
            <a:ext cx="1054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16"/>
          <p:cNvSpPr/>
          <p:nvPr/>
        </p:nvSpPr>
        <p:spPr>
          <a:xfrm flipV="1">
            <a:off x="4656240" y="3957120"/>
            <a:ext cx="79200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17"/>
          <p:cNvSpPr/>
          <p:nvPr/>
        </p:nvSpPr>
        <p:spPr>
          <a:xfrm>
            <a:off x="4752360" y="1998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18"/>
          <p:cNvSpPr/>
          <p:nvPr/>
        </p:nvSpPr>
        <p:spPr>
          <a:xfrm>
            <a:off x="4900320" y="2141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Oval 19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20"/>
          <p:cNvSpPr/>
          <p:nvPr/>
        </p:nvSpPr>
        <p:spPr>
          <a:xfrm>
            <a:off x="3710160" y="2379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 Box 21"/>
          <p:cNvSpPr/>
          <p:nvPr/>
        </p:nvSpPr>
        <p:spPr>
          <a:xfrm>
            <a:off x="3919320" y="2522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val 22"/>
          <p:cNvSpPr/>
          <p:nvPr/>
        </p:nvSpPr>
        <p:spPr>
          <a:xfrm>
            <a:off x="3538440" y="468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Text Box 23"/>
          <p:cNvSpPr/>
          <p:nvPr/>
        </p:nvSpPr>
        <p:spPr>
          <a:xfrm>
            <a:off x="3705480" y="4822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24"/>
          <p:cNvSpPr/>
          <p:nvPr/>
        </p:nvSpPr>
        <p:spPr>
          <a:xfrm>
            <a:off x="3914640" y="496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26"/>
          <p:cNvSpPr/>
          <p:nvPr/>
        </p:nvSpPr>
        <p:spPr>
          <a:xfrm>
            <a:off x="4610160" y="4167360"/>
            <a:ext cx="9036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27"/>
          <p:cNvSpPr/>
          <p:nvPr/>
        </p:nvSpPr>
        <p:spPr>
          <a:xfrm>
            <a:off x="4610160" y="4229280"/>
            <a:ext cx="9036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28"/>
          <p:cNvSpPr/>
          <p:nvPr/>
        </p:nvSpPr>
        <p:spPr>
          <a:xfrm flipH="1">
            <a:off x="4971960" y="3914640"/>
            <a:ext cx="763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29"/>
          <p:cNvSpPr/>
          <p:nvPr/>
        </p:nvSpPr>
        <p:spPr>
          <a:xfrm flipH="1">
            <a:off x="5029200" y="3914640"/>
            <a:ext cx="763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30"/>
          <p:cNvSpPr/>
          <p:nvPr/>
        </p:nvSpPr>
        <p:spPr>
          <a:xfrm>
            <a:off x="4653000" y="3956040"/>
            <a:ext cx="792000" cy="792000"/>
          </a:xfrm>
          <a:custGeom>
            <a:avLst/>
            <a:gdLst/>
            <a:ahLst/>
            <a:rect l="l" t="t" r="r" b="b"/>
            <a:pathLst>
              <a:path w="4493" h="4496">
                <a:moveTo>
                  <a:pt x="0" y="4496"/>
                </a:moveTo>
                <a:lnTo>
                  <a:pt x="272" y="4488"/>
                </a:lnTo>
                <a:lnTo>
                  <a:pt x="541" y="4464"/>
                </a:lnTo>
                <a:lnTo>
                  <a:pt x="810" y="4422"/>
                </a:lnTo>
                <a:lnTo>
                  <a:pt x="1075" y="4366"/>
                </a:lnTo>
                <a:lnTo>
                  <a:pt x="1337" y="4292"/>
                </a:lnTo>
                <a:lnTo>
                  <a:pt x="1593" y="4204"/>
                </a:lnTo>
                <a:lnTo>
                  <a:pt x="1844" y="4099"/>
                </a:lnTo>
                <a:lnTo>
                  <a:pt x="2087" y="3980"/>
                </a:lnTo>
                <a:lnTo>
                  <a:pt x="2324" y="3847"/>
                </a:lnTo>
                <a:lnTo>
                  <a:pt x="2552" y="3700"/>
                </a:lnTo>
                <a:lnTo>
                  <a:pt x="2771" y="3539"/>
                </a:lnTo>
                <a:lnTo>
                  <a:pt x="2979" y="3365"/>
                </a:lnTo>
                <a:lnTo>
                  <a:pt x="3177" y="3179"/>
                </a:lnTo>
                <a:lnTo>
                  <a:pt x="3363" y="2981"/>
                </a:lnTo>
                <a:lnTo>
                  <a:pt x="3537" y="2772"/>
                </a:lnTo>
                <a:lnTo>
                  <a:pt x="3698" y="2554"/>
                </a:lnTo>
                <a:lnTo>
                  <a:pt x="3845" y="2325"/>
                </a:lnTo>
                <a:lnTo>
                  <a:pt x="3978" y="2090"/>
                </a:lnTo>
                <a:lnTo>
                  <a:pt x="4097" y="1845"/>
                </a:lnTo>
                <a:lnTo>
                  <a:pt x="4201" y="1594"/>
                </a:lnTo>
                <a:lnTo>
                  <a:pt x="4290" y="1337"/>
                </a:lnTo>
                <a:lnTo>
                  <a:pt x="4362" y="1076"/>
                </a:lnTo>
                <a:lnTo>
                  <a:pt x="4420" y="810"/>
                </a:lnTo>
                <a:lnTo>
                  <a:pt x="4460" y="541"/>
                </a:lnTo>
                <a:lnTo>
                  <a:pt x="4484" y="272"/>
                </a:lnTo>
                <a:lnTo>
                  <a:pt x="449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233E-FE7D-4ADE-9590-1C878CCCB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 Box 4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5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6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7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8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9"/>
          <p:cNvSpPr/>
          <p:nvPr/>
        </p:nvSpPr>
        <p:spPr>
          <a:xfrm>
            <a:off x="416340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10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11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12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13"/>
          <p:cNvSpPr/>
          <p:nvPr/>
        </p:nvSpPr>
        <p:spPr>
          <a:xfrm>
            <a:off x="3598920" y="2855880"/>
            <a:ext cx="144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14"/>
          <p:cNvSpPr/>
          <p:nvPr/>
        </p:nvSpPr>
        <p:spPr>
          <a:xfrm>
            <a:off x="3598920" y="2855880"/>
            <a:ext cx="184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15"/>
          <p:cNvSpPr/>
          <p:nvPr/>
        </p:nvSpPr>
        <p:spPr>
          <a:xfrm flipV="1">
            <a:off x="3598920" y="4746240"/>
            <a:ext cx="1054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16"/>
          <p:cNvSpPr/>
          <p:nvPr/>
        </p:nvSpPr>
        <p:spPr>
          <a:xfrm flipV="1">
            <a:off x="4656240" y="3957120"/>
            <a:ext cx="79200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17"/>
          <p:cNvSpPr/>
          <p:nvPr/>
        </p:nvSpPr>
        <p:spPr>
          <a:xfrm>
            <a:off x="4752360" y="1998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18"/>
          <p:cNvSpPr/>
          <p:nvPr/>
        </p:nvSpPr>
        <p:spPr>
          <a:xfrm>
            <a:off x="4900320" y="2141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Oval 19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20"/>
          <p:cNvSpPr/>
          <p:nvPr/>
        </p:nvSpPr>
        <p:spPr>
          <a:xfrm>
            <a:off x="3710160" y="2379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21"/>
          <p:cNvSpPr/>
          <p:nvPr/>
        </p:nvSpPr>
        <p:spPr>
          <a:xfrm>
            <a:off x="3919320" y="2522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Oval 22"/>
          <p:cNvSpPr/>
          <p:nvPr/>
        </p:nvSpPr>
        <p:spPr>
          <a:xfrm>
            <a:off x="3538440" y="468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23"/>
          <p:cNvSpPr/>
          <p:nvPr/>
        </p:nvSpPr>
        <p:spPr>
          <a:xfrm>
            <a:off x="3705480" y="4822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 Box 24"/>
          <p:cNvSpPr/>
          <p:nvPr/>
        </p:nvSpPr>
        <p:spPr>
          <a:xfrm>
            <a:off x="3914640" y="496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26"/>
          <p:cNvSpPr/>
          <p:nvPr/>
        </p:nvSpPr>
        <p:spPr>
          <a:xfrm>
            <a:off x="4610160" y="4167360"/>
            <a:ext cx="9036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27"/>
          <p:cNvSpPr/>
          <p:nvPr/>
        </p:nvSpPr>
        <p:spPr>
          <a:xfrm>
            <a:off x="4610160" y="4229280"/>
            <a:ext cx="9036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28"/>
          <p:cNvSpPr/>
          <p:nvPr/>
        </p:nvSpPr>
        <p:spPr>
          <a:xfrm flipH="1">
            <a:off x="4971960" y="3914640"/>
            <a:ext cx="763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29"/>
          <p:cNvSpPr/>
          <p:nvPr/>
        </p:nvSpPr>
        <p:spPr>
          <a:xfrm flipH="1">
            <a:off x="5029200" y="3914640"/>
            <a:ext cx="763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30"/>
          <p:cNvSpPr/>
          <p:nvPr/>
        </p:nvSpPr>
        <p:spPr>
          <a:xfrm>
            <a:off x="4653000" y="3956040"/>
            <a:ext cx="792000" cy="792000"/>
          </a:xfrm>
          <a:custGeom>
            <a:avLst/>
            <a:gdLst/>
            <a:ahLst/>
            <a:rect l="l" t="t" r="r" b="b"/>
            <a:pathLst>
              <a:path w="4493" h="4496">
                <a:moveTo>
                  <a:pt x="0" y="4496"/>
                </a:moveTo>
                <a:lnTo>
                  <a:pt x="272" y="4488"/>
                </a:lnTo>
                <a:lnTo>
                  <a:pt x="541" y="4464"/>
                </a:lnTo>
                <a:lnTo>
                  <a:pt x="810" y="4422"/>
                </a:lnTo>
                <a:lnTo>
                  <a:pt x="1075" y="4366"/>
                </a:lnTo>
                <a:lnTo>
                  <a:pt x="1337" y="4292"/>
                </a:lnTo>
                <a:lnTo>
                  <a:pt x="1593" y="4204"/>
                </a:lnTo>
                <a:lnTo>
                  <a:pt x="1844" y="4099"/>
                </a:lnTo>
                <a:lnTo>
                  <a:pt x="2087" y="3980"/>
                </a:lnTo>
                <a:lnTo>
                  <a:pt x="2324" y="3847"/>
                </a:lnTo>
                <a:lnTo>
                  <a:pt x="2552" y="3700"/>
                </a:lnTo>
                <a:lnTo>
                  <a:pt x="2771" y="3539"/>
                </a:lnTo>
                <a:lnTo>
                  <a:pt x="2979" y="3365"/>
                </a:lnTo>
                <a:lnTo>
                  <a:pt x="3177" y="3179"/>
                </a:lnTo>
                <a:lnTo>
                  <a:pt x="3363" y="2981"/>
                </a:lnTo>
                <a:lnTo>
                  <a:pt x="3537" y="2772"/>
                </a:lnTo>
                <a:lnTo>
                  <a:pt x="3698" y="2554"/>
                </a:lnTo>
                <a:lnTo>
                  <a:pt x="3845" y="2325"/>
                </a:lnTo>
                <a:lnTo>
                  <a:pt x="3978" y="2090"/>
                </a:lnTo>
                <a:lnTo>
                  <a:pt x="4097" y="1845"/>
                </a:lnTo>
                <a:lnTo>
                  <a:pt x="4201" y="1594"/>
                </a:lnTo>
                <a:lnTo>
                  <a:pt x="4290" y="1337"/>
                </a:lnTo>
                <a:lnTo>
                  <a:pt x="4362" y="1076"/>
                </a:lnTo>
                <a:lnTo>
                  <a:pt x="4420" y="810"/>
                </a:lnTo>
                <a:lnTo>
                  <a:pt x="4460" y="541"/>
                </a:lnTo>
                <a:lnTo>
                  <a:pt x="4484" y="272"/>
                </a:lnTo>
                <a:lnTo>
                  <a:pt x="449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31"/>
          <p:cNvSpPr/>
          <p:nvPr/>
        </p:nvSpPr>
        <p:spPr>
          <a:xfrm>
            <a:off x="4656240" y="3957480"/>
            <a:ext cx="1722240" cy="1722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32"/>
          <p:cNvSpPr/>
          <p:nvPr/>
        </p:nvSpPr>
        <p:spPr>
          <a:xfrm>
            <a:off x="5538960" y="4222800"/>
            <a:ext cx="342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ая линия черт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33"/>
          <p:cNvSpPr/>
          <p:nvPr/>
        </p:nvSpPr>
        <p:spPr>
          <a:xfrm flipV="1">
            <a:off x="5433840" y="4543560"/>
            <a:ext cx="17172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34"/>
          <p:cNvSpPr/>
          <p:nvPr/>
        </p:nvSpPr>
        <p:spPr>
          <a:xfrm flipV="1">
            <a:off x="5605560" y="4538520"/>
            <a:ext cx="330516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3946-C22F-4A2D-AD48-1B95C5D20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остейший аппарат проецирования</a:t>
            </a:r>
            <a:br>
              <a:rPr sz="4000"/>
            </a:b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(геометрическая ч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5"/>
          <p:cNvGrpSpPr/>
          <p:nvPr/>
        </p:nvGrpSpPr>
        <p:grpSpPr>
          <a:xfrm>
            <a:off x="-252360" y="2492280"/>
            <a:ext cx="4968720" cy="3176640"/>
            <a:chOff x="-252360" y="2492280"/>
            <a:chExt cx="4968720" cy="3176640"/>
          </a:xfrm>
        </p:grpSpPr>
        <p:sp>
          <p:nvSpPr>
            <p:cNvPr id="65" name="AutoShape 28"/>
            <p:cNvSpPr/>
            <p:nvPr/>
          </p:nvSpPr>
          <p:spPr>
            <a:xfrm>
              <a:off x="-252360" y="2492280"/>
              <a:ext cx="4968720" cy="31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1765080" y="2509920"/>
              <a:ext cx="580680" cy="2247840"/>
            </a:xfrm>
            <a:custGeom>
              <a:avLst/>
              <a:gdLst/>
              <a:ahLst/>
              <a:rect l="l" t="t" r="r" b="b"/>
              <a:pathLst>
                <a:path w="4020" h="15575">
                  <a:moveTo>
                    <a:pt x="4020" y="0"/>
                  </a:moveTo>
                  <a:lnTo>
                    <a:pt x="3334" y="807"/>
                  </a:lnTo>
                  <a:lnTo>
                    <a:pt x="2998" y="1213"/>
                  </a:lnTo>
                  <a:lnTo>
                    <a:pt x="2669" y="1622"/>
                  </a:lnTo>
                  <a:lnTo>
                    <a:pt x="2351" y="2035"/>
                  </a:lnTo>
                  <a:lnTo>
                    <a:pt x="2047" y="2452"/>
                  </a:lnTo>
                  <a:lnTo>
                    <a:pt x="1901" y="2663"/>
                  </a:lnTo>
                  <a:lnTo>
                    <a:pt x="1761" y="2875"/>
                  </a:lnTo>
                  <a:lnTo>
                    <a:pt x="1624" y="3090"/>
                  </a:lnTo>
                  <a:lnTo>
                    <a:pt x="1492" y="3305"/>
                  </a:lnTo>
                  <a:lnTo>
                    <a:pt x="1365" y="3524"/>
                  </a:lnTo>
                  <a:lnTo>
                    <a:pt x="1246" y="3744"/>
                  </a:lnTo>
                  <a:lnTo>
                    <a:pt x="1131" y="3966"/>
                  </a:lnTo>
                  <a:lnTo>
                    <a:pt x="1024" y="4190"/>
                  </a:lnTo>
                  <a:lnTo>
                    <a:pt x="922" y="4417"/>
                  </a:lnTo>
                  <a:lnTo>
                    <a:pt x="826" y="4646"/>
                  </a:lnTo>
                  <a:lnTo>
                    <a:pt x="738" y="4878"/>
                  </a:lnTo>
                  <a:lnTo>
                    <a:pt x="654" y="5111"/>
                  </a:lnTo>
                  <a:lnTo>
                    <a:pt x="576" y="5345"/>
                  </a:lnTo>
                  <a:lnTo>
                    <a:pt x="505" y="5583"/>
                  </a:lnTo>
                  <a:lnTo>
                    <a:pt x="438" y="5822"/>
                  </a:lnTo>
                  <a:lnTo>
                    <a:pt x="377" y="6063"/>
                  </a:lnTo>
                  <a:lnTo>
                    <a:pt x="321" y="6306"/>
                  </a:lnTo>
                  <a:lnTo>
                    <a:pt x="270" y="6551"/>
                  </a:lnTo>
                  <a:lnTo>
                    <a:pt x="224" y="6798"/>
                  </a:lnTo>
                  <a:lnTo>
                    <a:pt x="183" y="7046"/>
                  </a:lnTo>
                  <a:lnTo>
                    <a:pt x="146" y="7296"/>
                  </a:lnTo>
                  <a:lnTo>
                    <a:pt x="114" y="7547"/>
                  </a:lnTo>
                  <a:lnTo>
                    <a:pt x="86" y="7800"/>
                  </a:lnTo>
                  <a:lnTo>
                    <a:pt x="62" y="8055"/>
                  </a:lnTo>
                  <a:lnTo>
                    <a:pt x="42" y="8310"/>
                  </a:lnTo>
                  <a:lnTo>
                    <a:pt x="26" y="8568"/>
                  </a:lnTo>
                  <a:lnTo>
                    <a:pt x="7" y="9086"/>
                  </a:lnTo>
                  <a:lnTo>
                    <a:pt x="0" y="9609"/>
                  </a:lnTo>
                  <a:lnTo>
                    <a:pt x="5" y="10138"/>
                  </a:lnTo>
                  <a:lnTo>
                    <a:pt x="23" y="10670"/>
                  </a:lnTo>
                  <a:lnTo>
                    <a:pt x="51" y="11205"/>
                  </a:lnTo>
                  <a:lnTo>
                    <a:pt x="88" y="11744"/>
                  </a:lnTo>
                  <a:lnTo>
                    <a:pt x="134" y="12286"/>
                  </a:lnTo>
                  <a:lnTo>
                    <a:pt x="185" y="12830"/>
                  </a:lnTo>
                  <a:lnTo>
                    <a:pt x="243" y="13377"/>
                  </a:lnTo>
                  <a:lnTo>
                    <a:pt x="371" y="14474"/>
                  </a:lnTo>
                  <a:lnTo>
                    <a:pt x="509" y="1557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2346120" y="2509920"/>
              <a:ext cx="1658520" cy="923760"/>
            </a:xfrm>
            <a:custGeom>
              <a:avLst/>
              <a:gdLst/>
              <a:ahLst/>
              <a:rect l="l" t="t" r="r" b="b"/>
              <a:pathLst>
                <a:path w="11498" h="6399">
                  <a:moveTo>
                    <a:pt x="0" y="0"/>
                  </a:moveTo>
                  <a:lnTo>
                    <a:pt x="367" y="871"/>
                  </a:lnTo>
                  <a:lnTo>
                    <a:pt x="555" y="1301"/>
                  </a:lnTo>
                  <a:lnTo>
                    <a:pt x="748" y="1724"/>
                  </a:lnTo>
                  <a:lnTo>
                    <a:pt x="949" y="2137"/>
                  </a:lnTo>
                  <a:lnTo>
                    <a:pt x="1052" y="2338"/>
                  </a:lnTo>
                  <a:lnTo>
                    <a:pt x="1158" y="2537"/>
                  </a:lnTo>
                  <a:lnTo>
                    <a:pt x="1267" y="2733"/>
                  </a:lnTo>
                  <a:lnTo>
                    <a:pt x="1379" y="2923"/>
                  </a:lnTo>
                  <a:lnTo>
                    <a:pt x="1494" y="3110"/>
                  </a:lnTo>
                  <a:lnTo>
                    <a:pt x="1611" y="3293"/>
                  </a:lnTo>
                  <a:lnTo>
                    <a:pt x="1733" y="3469"/>
                  </a:lnTo>
                  <a:lnTo>
                    <a:pt x="1859" y="3642"/>
                  </a:lnTo>
                  <a:lnTo>
                    <a:pt x="1989" y="3809"/>
                  </a:lnTo>
                  <a:lnTo>
                    <a:pt x="2123" y="3970"/>
                  </a:lnTo>
                  <a:lnTo>
                    <a:pt x="2262" y="4125"/>
                  </a:lnTo>
                  <a:lnTo>
                    <a:pt x="2405" y="4273"/>
                  </a:lnTo>
                  <a:lnTo>
                    <a:pt x="2553" y="4415"/>
                  </a:lnTo>
                  <a:lnTo>
                    <a:pt x="2706" y="4551"/>
                  </a:lnTo>
                  <a:lnTo>
                    <a:pt x="2865" y="4680"/>
                  </a:lnTo>
                  <a:lnTo>
                    <a:pt x="3027" y="4803"/>
                  </a:lnTo>
                  <a:lnTo>
                    <a:pt x="3195" y="4919"/>
                  </a:lnTo>
                  <a:lnTo>
                    <a:pt x="3366" y="5030"/>
                  </a:lnTo>
                  <a:lnTo>
                    <a:pt x="3542" y="5134"/>
                  </a:lnTo>
                  <a:lnTo>
                    <a:pt x="3723" y="5234"/>
                  </a:lnTo>
                  <a:lnTo>
                    <a:pt x="3907" y="5327"/>
                  </a:lnTo>
                  <a:lnTo>
                    <a:pt x="4096" y="5416"/>
                  </a:lnTo>
                  <a:lnTo>
                    <a:pt x="4287" y="5499"/>
                  </a:lnTo>
                  <a:lnTo>
                    <a:pt x="4484" y="5576"/>
                  </a:lnTo>
                  <a:lnTo>
                    <a:pt x="4683" y="5650"/>
                  </a:lnTo>
                  <a:lnTo>
                    <a:pt x="4886" y="5719"/>
                  </a:lnTo>
                  <a:lnTo>
                    <a:pt x="5092" y="5784"/>
                  </a:lnTo>
                  <a:lnTo>
                    <a:pt x="5302" y="5843"/>
                  </a:lnTo>
                  <a:lnTo>
                    <a:pt x="5515" y="5899"/>
                  </a:lnTo>
                  <a:lnTo>
                    <a:pt x="5730" y="5951"/>
                  </a:lnTo>
                  <a:lnTo>
                    <a:pt x="5949" y="5998"/>
                  </a:lnTo>
                  <a:lnTo>
                    <a:pt x="6170" y="6042"/>
                  </a:lnTo>
                  <a:lnTo>
                    <a:pt x="6394" y="6083"/>
                  </a:lnTo>
                  <a:lnTo>
                    <a:pt x="6621" y="6120"/>
                  </a:lnTo>
                  <a:lnTo>
                    <a:pt x="7082" y="6184"/>
                  </a:lnTo>
                  <a:lnTo>
                    <a:pt x="7550" y="6238"/>
                  </a:lnTo>
                  <a:lnTo>
                    <a:pt x="8026" y="6281"/>
                  </a:lnTo>
                  <a:lnTo>
                    <a:pt x="8510" y="6314"/>
                  </a:lnTo>
                  <a:lnTo>
                    <a:pt x="9000" y="6341"/>
                  </a:lnTo>
                  <a:lnTo>
                    <a:pt x="9493" y="6359"/>
                  </a:lnTo>
                  <a:lnTo>
                    <a:pt x="9991" y="6374"/>
                  </a:lnTo>
                  <a:lnTo>
                    <a:pt x="10491" y="6385"/>
                  </a:lnTo>
                  <a:lnTo>
                    <a:pt x="11498" y="63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2"/>
            <p:cNvSpPr/>
            <p:nvPr/>
          </p:nvSpPr>
          <p:spPr>
            <a:xfrm>
              <a:off x="3592440" y="3433680"/>
              <a:ext cx="428040" cy="2214720"/>
            </a:xfrm>
            <a:custGeom>
              <a:avLst/>
              <a:gdLst/>
              <a:ahLst/>
              <a:rect l="l" t="t" r="r" b="b"/>
              <a:pathLst>
                <a:path w="2973" h="15348">
                  <a:moveTo>
                    <a:pt x="2861" y="0"/>
                  </a:moveTo>
                  <a:lnTo>
                    <a:pt x="2228" y="863"/>
                  </a:lnTo>
                  <a:lnTo>
                    <a:pt x="1921" y="1296"/>
                  </a:lnTo>
                  <a:lnTo>
                    <a:pt x="1625" y="1731"/>
                  </a:lnTo>
                  <a:lnTo>
                    <a:pt x="1482" y="1949"/>
                  </a:lnTo>
                  <a:lnTo>
                    <a:pt x="1343" y="2168"/>
                  </a:lnTo>
                  <a:lnTo>
                    <a:pt x="1209" y="2387"/>
                  </a:lnTo>
                  <a:lnTo>
                    <a:pt x="1079" y="2607"/>
                  </a:lnTo>
                  <a:lnTo>
                    <a:pt x="956" y="2829"/>
                  </a:lnTo>
                  <a:lnTo>
                    <a:pt x="839" y="3050"/>
                  </a:lnTo>
                  <a:lnTo>
                    <a:pt x="727" y="3273"/>
                  </a:lnTo>
                  <a:lnTo>
                    <a:pt x="622" y="3497"/>
                  </a:lnTo>
                  <a:lnTo>
                    <a:pt x="526" y="3722"/>
                  </a:lnTo>
                  <a:lnTo>
                    <a:pt x="435" y="3948"/>
                  </a:lnTo>
                  <a:lnTo>
                    <a:pt x="354" y="4175"/>
                  </a:lnTo>
                  <a:lnTo>
                    <a:pt x="282" y="4404"/>
                  </a:lnTo>
                  <a:lnTo>
                    <a:pt x="218" y="4633"/>
                  </a:lnTo>
                  <a:lnTo>
                    <a:pt x="162" y="4864"/>
                  </a:lnTo>
                  <a:lnTo>
                    <a:pt x="116" y="5098"/>
                  </a:lnTo>
                  <a:lnTo>
                    <a:pt x="77" y="5331"/>
                  </a:lnTo>
                  <a:lnTo>
                    <a:pt x="46" y="5566"/>
                  </a:lnTo>
                  <a:lnTo>
                    <a:pt x="23" y="5802"/>
                  </a:lnTo>
                  <a:lnTo>
                    <a:pt x="9" y="6039"/>
                  </a:lnTo>
                  <a:lnTo>
                    <a:pt x="1" y="6278"/>
                  </a:lnTo>
                  <a:lnTo>
                    <a:pt x="0" y="6518"/>
                  </a:lnTo>
                  <a:lnTo>
                    <a:pt x="6" y="6758"/>
                  </a:lnTo>
                  <a:lnTo>
                    <a:pt x="20" y="6999"/>
                  </a:lnTo>
                  <a:lnTo>
                    <a:pt x="40" y="7242"/>
                  </a:lnTo>
                  <a:lnTo>
                    <a:pt x="66" y="7486"/>
                  </a:lnTo>
                  <a:lnTo>
                    <a:pt x="99" y="7729"/>
                  </a:lnTo>
                  <a:lnTo>
                    <a:pt x="138" y="7975"/>
                  </a:lnTo>
                  <a:lnTo>
                    <a:pt x="182" y="8221"/>
                  </a:lnTo>
                  <a:lnTo>
                    <a:pt x="232" y="8468"/>
                  </a:lnTo>
                  <a:lnTo>
                    <a:pt x="288" y="8716"/>
                  </a:lnTo>
                  <a:lnTo>
                    <a:pt x="348" y="8965"/>
                  </a:lnTo>
                  <a:lnTo>
                    <a:pt x="414" y="9215"/>
                  </a:lnTo>
                  <a:lnTo>
                    <a:pt x="485" y="9465"/>
                  </a:lnTo>
                  <a:lnTo>
                    <a:pt x="559" y="9716"/>
                  </a:lnTo>
                  <a:lnTo>
                    <a:pt x="639" y="9967"/>
                  </a:lnTo>
                  <a:lnTo>
                    <a:pt x="723" y="10219"/>
                  </a:lnTo>
                  <a:lnTo>
                    <a:pt x="902" y="10725"/>
                  </a:lnTo>
                  <a:lnTo>
                    <a:pt x="1096" y="11233"/>
                  </a:lnTo>
                  <a:lnTo>
                    <a:pt x="1302" y="11743"/>
                  </a:lnTo>
                  <a:lnTo>
                    <a:pt x="1521" y="12255"/>
                  </a:lnTo>
                  <a:lnTo>
                    <a:pt x="1748" y="12769"/>
                  </a:lnTo>
                  <a:lnTo>
                    <a:pt x="1983" y="13283"/>
                  </a:lnTo>
                  <a:lnTo>
                    <a:pt x="2225" y="13799"/>
                  </a:lnTo>
                  <a:lnTo>
                    <a:pt x="2472" y="14315"/>
                  </a:lnTo>
                  <a:lnTo>
                    <a:pt x="2973" y="153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3"/>
            <p:cNvSpPr/>
            <p:nvPr/>
          </p:nvSpPr>
          <p:spPr>
            <a:xfrm>
              <a:off x="1838160" y="4757760"/>
              <a:ext cx="2182320" cy="893880"/>
            </a:xfrm>
            <a:custGeom>
              <a:avLst/>
              <a:gdLst/>
              <a:ahLst/>
              <a:rect l="l" t="t" r="r" b="b"/>
              <a:pathLst>
                <a:path w="15121" h="6191">
                  <a:moveTo>
                    <a:pt x="0" y="0"/>
                  </a:moveTo>
                  <a:lnTo>
                    <a:pt x="678" y="880"/>
                  </a:lnTo>
                  <a:lnTo>
                    <a:pt x="1020" y="1314"/>
                  </a:lnTo>
                  <a:lnTo>
                    <a:pt x="1367" y="1741"/>
                  </a:lnTo>
                  <a:lnTo>
                    <a:pt x="1719" y="2157"/>
                  </a:lnTo>
                  <a:lnTo>
                    <a:pt x="2078" y="2561"/>
                  </a:lnTo>
                  <a:lnTo>
                    <a:pt x="2261" y="2756"/>
                  </a:lnTo>
                  <a:lnTo>
                    <a:pt x="2445" y="2948"/>
                  </a:lnTo>
                  <a:lnTo>
                    <a:pt x="2633" y="3135"/>
                  </a:lnTo>
                  <a:lnTo>
                    <a:pt x="2823" y="3318"/>
                  </a:lnTo>
                  <a:lnTo>
                    <a:pt x="3016" y="3494"/>
                  </a:lnTo>
                  <a:lnTo>
                    <a:pt x="3212" y="3665"/>
                  </a:lnTo>
                  <a:lnTo>
                    <a:pt x="3410" y="3832"/>
                  </a:lnTo>
                  <a:lnTo>
                    <a:pt x="3613" y="3991"/>
                  </a:lnTo>
                  <a:lnTo>
                    <a:pt x="3818" y="4144"/>
                  </a:lnTo>
                  <a:lnTo>
                    <a:pt x="4028" y="4290"/>
                  </a:lnTo>
                  <a:lnTo>
                    <a:pt x="4241" y="4430"/>
                  </a:lnTo>
                  <a:lnTo>
                    <a:pt x="4458" y="4562"/>
                  </a:lnTo>
                  <a:lnTo>
                    <a:pt x="4679" y="4687"/>
                  </a:lnTo>
                  <a:lnTo>
                    <a:pt x="4903" y="4807"/>
                  </a:lnTo>
                  <a:lnTo>
                    <a:pt x="5130" y="4919"/>
                  </a:lnTo>
                  <a:lnTo>
                    <a:pt x="5361" y="5027"/>
                  </a:lnTo>
                  <a:lnTo>
                    <a:pt x="5594" y="5127"/>
                  </a:lnTo>
                  <a:lnTo>
                    <a:pt x="5832" y="5222"/>
                  </a:lnTo>
                  <a:lnTo>
                    <a:pt x="6071" y="5311"/>
                  </a:lnTo>
                  <a:lnTo>
                    <a:pt x="6315" y="5395"/>
                  </a:lnTo>
                  <a:lnTo>
                    <a:pt x="6561" y="5474"/>
                  </a:lnTo>
                  <a:lnTo>
                    <a:pt x="6809" y="5547"/>
                  </a:lnTo>
                  <a:lnTo>
                    <a:pt x="7061" y="5615"/>
                  </a:lnTo>
                  <a:lnTo>
                    <a:pt x="7315" y="5679"/>
                  </a:lnTo>
                  <a:lnTo>
                    <a:pt x="7571" y="5738"/>
                  </a:lnTo>
                  <a:lnTo>
                    <a:pt x="7831" y="5792"/>
                  </a:lnTo>
                  <a:lnTo>
                    <a:pt x="8092" y="5842"/>
                  </a:lnTo>
                  <a:lnTo>
                    <a:pt x="8355" y="5888"/>
                  </a:lnTo>
                  <a:lnTo>
                    <a:pt x="8621" y="5929"/>
                  </a:lnTo>
                  <a:lnTo>
                    <a:pt x="8889" y="5968"/>
                  </a:lnTo>
                  <a:lnTo>
                    <a:pt x="9430" y="6033"/>
                  </a:lnTo>
                  <a:lnTo>
                    <a:pt x="9979" y="6085"/>
                  </a:lnTo>
                  <a:lnTo>
                    <a:pt x="10534" y="6125"/>
                  </a:lnTo>
                  <a:lnTo>
                    <a:pt x="11095" y="6154"/>
                  </a:lnTo>
                  <a:lnTo>
                    <a:pt x="11662" y="6174"/>
                  </a:lnTo>
                  <a:lnTo>
                    <a:pt x="12231" y="6186"/>
                  </a:lnTo>
                  <a:lnTo>
                    <a:pt x="12805" y="6191"/>
                  </a:lnTo>
                  <a:lnTo>
                    <a:pt x="13382" y="6191"/>
                  </a:lnTo>
                  <a:lnTo>
                    <a:pt x="13961" y="6187"/>
                  </a:lnTo>
                  <a:lnTo>
                    <a:pt x="15121" y="61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>
              <a:off x="442800" y="3900600"/>
              <a:ext cx="94680" cy="95040"/>
            </a:xfrm>
            <a:custGeom>
              <a:avLst/>
              <a:gdLst/>
              <a:ahLst/>
              <a:rect l="l" t="t" r="r" b="b"/>
              <a:pathLst>
                <a:path w="660" h="660">
                  <a:moveTo>
                    <a:pt x="660" y="330"/>
                  </a:moveTo>
                  <a:lnTo>
                    <a:pt x="651" y="256"/>
                  </a:lnTo>
                  <a:lnTo>
                    <a:pt x="627" y="186"/>
                  </a:lnTo>
                  <a:lnTo>
                    <a:pt x="587" y="124"/>
                  </a:lnTo>
                  <a:lnTo>
                    <a:pt x="536" y="71"/>
                  </a:lnTo>
                  <a:lnTo>
                    <a:pt x="473" y="32"/>
                  </a:lnTo>
                  <a:lnTo>
                    <a:pt x="403" y="7"/>
                  </a:lnTo>
                  <a:lnTo>
                    <a:pt x="330" y="0"/>
                  </a:lnTo>
                  <a:lnTo>
                    <a:pt x="256" y="7"/>
                  </a:lnTo>
                  <a:lnTo>
                    <a:pt x="186" y="32"/>
                  </a:lnTo>
                  <a:lnTo>
                    <a:pt x="124" y="71"/>
                  </a:lnTo>
                  <a:lnTo>
                    <a:pt x="71" y="124"/>
                  </a:lnTo>
                  <a:lnTo>
                    <a:pt x="32" y="186"/>
                  </a:lnTo>
                  <a:lnTo>
                    <a:pt x="7" y="256"/>
                  </a:lnTo>
                  <a:lnTo>
                    <a:pt x="0" y="330"/>
                  </a:lnTo>
                  <a:lnTo>
                    <a:pt x="7" y="403"/>
                  </a:lnTo>
                  <a:lnTo>
                    <a:pt x="32" y="472"/>
                  </a:lnTo>
                  <a:lnTo>
                    <a:pt x="71" y="536"/>
                  </a:lnTo>
                  <a:lnTo>
                    <a:pt x="124" y="588"/>
                  </a:lnTo>
                  <a:lnTo>
                    <a:pt x="186" y="627"/>
                  </a:lnTo>
                  <a:lnTo>
                    <a:pt x="256" y="651"/>
                  </a:lnTo>
                  <a:lnTo>
                    <a:pt x="330" y="660"/>
                  </a:lnTo>
                  <a:lnTo>
                    <a:pt x="403" y="651"/>
                  </a:lnTo>
                  <a:lnTo>
                    <a:pt x="473" y="627"/>
                  </a:lnTo>
                  <a:lnTo>
                    <a:pt x="536" y="588"/>
                  </a:lnTo>
                  <a:lnTo>
                    <a:pt x="587" y="536"/>
                  </a:lnTo>
                  <a:lnTo>
                    <a:pt x="627" y="472"/>
                  </a:lnTo>
                  <a:lnTo>
                    <a:pt x="651" y="403"/>
                  </a:lnTo>
                  <a:lnTo>
                    <a:pt x="660" y="33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6"/>
          <p:cNvSpPr/>
          <p:nvPr/>
        </p:nvSpPr>
        <p:spPr>
          <a:xfrm>
            <a:off x="313200" y="3500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7"/>
          <p:cNvSpPr/>
          <p:nvPr/>
        </p:nvSpPr>
        <p:spPr>
          <a:xfrm>
            <a:off x="2125440" y="2781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4359600" y="3716280"/>
            <a:ext cx="454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 прое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 – поверхность прое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9"/>
          <p:cNvSpPr/>
          <p:nvPr/>
        </p:nvSpPr>
        <p:spPr>
          <a:xfrm>
            <a:off x="2827080" y="193824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0"/>
              <p:cNvSpPr txBox="1"/>
              <p:nvPr/>
            </p:nvSpPr>
            <p:spPr>
              <a:xfrm>
                <a:off x="3160800" y="2090880"/>
                <a:ext cx="2602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29F0-B8A2-4B4A-AEC6-5C27FA458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4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5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6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7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8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9"/>
          <p:cNvSpPr/>
          <p:nvPr/>
        </p:nvSpPr>
        <p:spPr>
          <a:xfrm>
            <a:off x="416340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0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1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2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3"/>
          <p:cNvSpPr/>
          <p:nvPr/>
        </p:nvSpPr>
        <p:spPr>
          <a:xfrm>
            <a:off x="3598920" y="2855880"/>
            <a:ext cx="144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14"/>
          <p:cNvSpPr/>
          <p:nvPr/>
        </p:nvSpPr>
        <p:spPr>
          <a:xfrm>
            <a:off x="3598920" y="2855880"/>
            <a:ext cx="184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5"/>
          <p:cNvSpPr/>
          <p:nvPr/>
        </p:nvSpPr>
        <p:spPr>
          <a:xfrm flipV="1">
            <a:off x="3598920" y="4746240"/>
            <a:ext cx="10573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6"/>
          <p:cNvSpPr/>
          <p:nvPr/>
        </p:nvSpPr>
        <p:spPr>
          <a:xfrm flipV="1">
            <a:off x="4656240" y="3957120"/>
            <a:ext cx="79200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17"/>
          <p:cNvSpPr/>
          <p:nvPr/>
        </p:nvSpPr>
        <p:spPr>
          <a:xfrm>
            <a:off x="4752360" y="1998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8"/>
          <p:cNvSpPr/>
          <p:nvPr/>
        </p:nvSpPr>
        <p:spPr>
          <a:xfrm>
            <a:off x="4900320" y="2141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19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20"/>
          <p:cNvSpPr/>
          <p:nvPr/>
        </p:nvSpPr>
        <p:spPr>
          <a:xfrm>
            <a:off x="3710160" y="2379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21"/>
          <p:cNvSpPr/>
          <p:nvPr/>
        </p:nvSpPr>
        <p:spPr>
          <a:xfrm>
            <a:off x="3919320" y="2522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22"/>
          <p:cNvSpPr/>
          <p:nvPr/>
        </p:nvSpPr>
        <p:spPr>
          <a:xfrm>
            <a:off x="3538440" y="468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23"/>
          <p:cNvSpPr/>
          <p:nvPr/>
        </p:nvSpPr>
        <p:spPr>
          <a:xfrm>
            <a:off x="3705480" y="4822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 Box 24"/>
          <p:cNvSpPr/>
          <p:nvPr/>
        </p:nvSpPr>
        <p:spPr>
          <a:xfrm>
            <a:off x="3914640" y="496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26"/>
          <p:cNvSpPr/>
          <p:nvPr/>
        </p:nvSpPr>
        <p:spPr>
          <a:xfrm>
            <a:off x="4610160" y="4167360"/>
            <a:ext cx="9036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27"/>
          <p:cNvSpPr/>
          <p:nvPr/>
        </p:nvSpPr>
        <p:spPr>
          <a:xfrm>
            <a:off x="4610160" y="4229280"/>
            <a:ext cx="9036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28"/>
          <p:cNvSpPr/>
          <p:nvPr/>
        </p:nvSpPr>
        <p:spPr>
          <a:xfrm flipH="1">
            <a:off x="4971960" y="3914640"/>
            <a:ext cx="763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29"/>
          <p:cNvSpPr/>
          <p:nvPr/>
        </p:nvSpPr>
        <p:spPr>
          <a:xfrm flipH="1">
            <a:off x="5029200" y="3914640"/>
            <a:ext cx="763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Freeform 30"/>
          <p:cNvSpPr/>
          <p:nvPr/>
        </p:nvSpPr>
        <p:spPr>
          <a:xfrm>
            <a:off x="4653000" y="3956040"/>
            <a:ext cx="792000" cy="792000"/>
          </a:xfrm>
          <a:custGeom>
            <a:avLst/>
            <a:gdLst/>
            <a:ahLst/>
            <a:rect l="l" t="t" r="r" b="b"/>
            <a:pathLst>
              <a:path w="4493" h="4496">
                <a:moveTo>
                  <a:pt x="0" y="4496"/>
                </a:moveTo>
                <a:lnTo>
                  <a:pt x="272" y="4488"/>
                </a:lnTo>
                <a:lnTo>
                  <a:pt x="541" y="4464"/>
                </a:lnTo>
                <a:lnTo>
                  <a:pt x="810" y="4422"/>
                </a:lnTo>
                <a:lnTo>
                  <a:pt x="1075" y="4366"/>
                </a:lnTo>
                <a:lnTo>
                  <a:pt x="1337" y="4292"/>
                </a:lnTo>
                <a:lnTo>
                  <a:pt x="1593" y="4204"/>
                </a:lnTo>
                <a:lnTo>
                  <a:pt x="1844" y="4099"/>
                </a:lnTo>
                <a:lnTo>
                  <a:pt x="2087" y="3980"/>
                </a:lnTo>
                <a:lnTo>
                  <a:pt x="2324" y="3847"/>
                </a:lnTo>
                <a:lnTo>
                  <a:pt x="2552" y="3700"/>
                </a:lnTo>
                <a:lnTo>
                  <a:pt x="2771" y="3539"/>
                </a:lnTo>
                <a:lnTo>
                  <a:pt x="2979" y="3365"/>
                </a:lnTo>
                <a:lnTo>
                  <a:pt x="3177" y="3179"/>
                </a:lnTo>
                <a:lnTo>
                  <a:pt x="3363" y="2981"/>
                </a:lnTo>
                <a:lnTo>
                  <a:pt x="3537" y="2772"/>
                </a:lnTo>
                <a:lnTo>
                  <a:pt x="3698" y="2554"/>
                </a:lnTo>
                <a:lnTo>
                  <a:pt x="3845" y="2325"/>
                </a:lnTo>
                <a:lnTo>
                  <a:pt x="3978" y="2090"/>
                </a:lnTo>
                <a:lnTo>
                  <a:pt x="4097" y="1845"/>
                </a:lnTo>
                <a:lnTo>
                  <a:pt x="4201" y="1594"/>
                </a:lnTo>
                <a:lnTo>
                  <a:pt x="4290" y="1337"/>
                </a:lnTo>
                <a:lnTo>
                  <a:pt x="4362" y="1076"/>
                </a:lnTo>
                <a:lnTo>
                  <a:pt x="4420" y="810"/>
                </a:lnTo>
                <a:lnTo>
                  <a:pt x="4460" y="541"/>
                </a:lnTo>
                <a:lnTo>
                  <a:pt x="4484" y="272"/>
                </a:lnTo>
                <a:lnTo>
                  <a:pt x="449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31"/>
          <p:cNvSpPr/>
          <p:nvPr/>
        </p:nvSpPr>
        <p:spPr>
          <a:xfrm>
            <a:off x="4656240" y="3957480"/>
            <a:ext cx="1722240" cy="172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35"/>
          <p:cNvSpPr/>
          <p:nvPr/>
        </p:nvSpPr>
        <p:spPr>
          <a:xfrm>
            <a:off x="4657680" y="4749840"/>
            <a:ext cx="793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36"/>
          <p:cNvSpPr/>
          <p:nvPr/>
        </p:nvSpPr>
        <p:spPr>
          <a:xfrm>
            <a:off x="5445000" y="3959280"/>
            <a:ext cx="3240" cy="787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D7A4-E1DE-438B-9E27-6E071A60A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4"/>
          <p:cNvSpPr/>
          <p:nvPr/>
        </p:nvSpPr>
        <p:spPr>
          <a:xfrm flipH="1" flipV="1">
            <a:off x="5450040" y="2855880"/>
            <a:ext cx="2880" cy="1098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6"/>
          <p:cNvSpPr/>
          <p:nvPr/>
        </p:nvSpPr>
        <p:spPr>
          <a:xfrm>
            <a:off x="5538960" y="2365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7"/>
          <p:cNvSpPr/>
          <p:nvPr/>
        </p:nvSpPr>
        <p:spPr>
          <a:xfrm>
            <a:off x="5748120" y="25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8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9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10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11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12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13"/>
          <p:cNvSpPr/>
          <p:nvPr/>
        </p:nvSpPr>
        <p:spPr>
          <a:xfrm>
            <a:off x="416340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14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5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6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7"/>
          <p:cNvSpPr/>
          <p:nvPr/>
        </p:nvSpPr>
        <p:spPr>
          <a:xfrm>
            <a:off x="3598920" y="2855880"/>
            <a:ext cx="144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8"/>
          <p:cNvSpPr/>
          <p:nvPr/>
        </p:nvSpPr>
        <p:spPr>
          <a:xfrm>
            <a:off x="3598920" y="2855880"/>
            <a:ext cx="184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9"/>
          <p:cNvSpPr/>
          <p:nvPr/>
        </p:nvSpPr>
        <p:spPr>
          <a:xfrm flipV="1">
            <a:off x="3598920" y="4746240"/>
            <a:ext cx="10573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20"/>
          <p:cNvSpPr/>
          <p:nvPr/>
        </p:nvSpPr>
        <p:spPr>
          <a:xfrm flipV="1">
            <a:off x="4656240" y="3957120"/>
            <a:ext cx="79200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21"/>
          <p:cNvSpPr/>
          <p:nvPr/>
        </p:nvSpPr>
        <p:spPr>
          <a:xfrm>
            <a:off x="4752360" y="1998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22"/>
          <p:cNvSpPr/>
          <p:nvPr/>
        </p:nvSpPr>
        <p:spPr>
          <a:xfrm>
            <a:off x="4900320" y="2141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23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 Box 24"/>
          <p:cNvSpPr/>
          <p:nvPr/>
        </p:nvSpPr>
        <p:spPr>
          <a:xfrm>
            <a:off x="3710160" y="2379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25"/>
          <p:cNvSpPr/>
          <p:nvPr/>
        </p:nvSpPr>
        <p:spPr>
          <a:xfrm>
            <a:off x="3919320" y="2522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Oval 26"/>
          <p:cNvSpPr/>
          <p:nvPr/>
        </p:nvSpPr>
        <p:spPr>
          <a:xfrm>
            <a:off x="3538440" y="468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27"/>
          <p:cNvSpPr/>
          <p:nvPr/>
        </p:nvSpPr>
        <p:spPr>
          <a:xfrm>
            <a:off x="3705480" y="4822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 Box 28"/>
          <p:cNvSpPr/>
          <p:nvPr/>
        </p:nvSpPr>
        <p:spPr>
          <a:xfrm>
            <a:off x="3914640" y="496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30"/>
          <p:cNvSpPr/>
          <p:nvPr/>
        </p:nvSpPr>
        <p:spPr>
          <a:xfrm>
            <a:off x="4610160" y="4167360"/>
            <a:ext cx="9036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31"/>
          <p:cNvSpPr/>
          <p:nvPr/>
        </p:nvSpPr>
        <p:spPr>
          <a:xfrm>
            <a:off x="4610160" y="4229280"/>
            <a:ext cx="9036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32"/>
          <p:cNvSpPr/>
          <p:nvPr/>
        </p:nvSpPr>
        <p:spPr>
          <a:xfrm flipH="1">
            <a:off x="4971960" y="3914640"/>
            <a:ext cx="763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33"/>
          <p:cNvSpPr/>
          <p:nvPr/>
        </p:nvSpPr>
        <p:spPr>
          <a:xfrm flipH="1">
            <a:off x="5029200" y="3914640"/>
            <a:ext cx="763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Freeform 34"/>
          <p:cNvSpPr/>
          <p:nvPr/>
        </p:nvSpPr>
        <p:spPr>
          <a:xfrm>
            <a:off x="4653000" y="3956040"/>
            <a:ext cx="792000" cy="792000"/>
          </a:xfrm>
          <a:custGeom>
            <a:avLst/>
            <a:gdLst/>
            <a:ahLst/>
            <a:rect l="l" t="t" r="r" b="b"/>
            <a:pathLst>
              <a:path w="4493" h="4496">
                <a:moveTo>
                  <a:pt x="0" y="4496"/>
                </a:moveTo>
                <a:lnTo>
                  <a:pt x="272" y="4488"/>
                </a:lnTo>
                <a:lnTo>
                  <a:pt x="541" y="4464"/>
                </a:lnTo>
                <a:lnTo>
                  <a:pt x="810" y="4422"/>
                </a:lnTo>
                <a:lnTo>
                  <a:pt x="1075" y="4366"/>
                </a:lnTo>
                <a:lnTo>
                  <a:pt x="1337" y="4292"/>
                </a:lnTo>
                <a:lnTo>
                  <a:pt x="1593" y="4204"/>
                </a:lnTo>
                <a:lnTo>
                  <a:pt x="1844" y="4099"/>
                </a:lnTo>
                <a:lnTo>
                  <a:pt x="2087" y="3980"/>
                </a:lnTo>
                <a:lnTo>
                  <a:pt x="2324" y="3847"/>
                </a:lnTo>
                <a:lnTo>
                  <a:pt x="2552" y="3700"/>
                </a:lnTo>
                <a:lnTo>
                  <a:pt x="2771" y="3539"/>
                </a:lnTo>
                <a:lnTo>
                  <a:pt x="2979" y="3365"/>
                </a:lnTo>
                <a:lnTo>
                  <a:pt x="3177" y="3179"/>
                </a:lnTo>
                <a:lnTo>
                  <a:pt x="3363" y="2981"/>
                </a:lnTo>
                <a:lnTo>
                  <a:pt x="3537" y="2772"/>
                </a:lnTo>
                <a:lnTo>
                  <a:pt x="3698" y="2554"/>
                </a:lnTo>
                <a:lnTo>
                  <a:pt x="3845" y="2325"/>
                </a:lnTo>
                <a:lnTo>
                  <a:pt x="3978" y="2090"/>
                </a:lnTo>
                <a:lnTo>
                  <a:pt x="4097" y="1845"/>
                </a:lnTo>
                <a:lnTo>
                  <a:pt x="4201" y="1594"/>
                </a:lnTo>
                <a:lnTo>
                  <a:pt x="4290" y="1337"/>
                </a:lnTo>
                <a:lnTo>
                  <a:pt x="4362" y="1076"/>
                </a:lnTo>
                <a:lnTo>
                  <a:pt x="4420" y="810"/>
                </a:lnTo>
                <a:lnTo>
                  <a:pt x="4460" y="541"/>
                </a:lnTo>
                <a:lnTo>
                  <a:pt x="4484" y="272"/>
                </a:lnTo>
                <a:lnTo>
                  <a:pt x="449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35"/>
          <p:cNvSpPr/>
          <p:nvPr/>
        </p:nvSpPr>
        <p:spPr>
          <a:xfrm>
            <a:off x="4656240" y="3957480"/>
            <a:ext cx="1722240" cy="172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36"/>
          <p:cNvSpPr/>
          <p:nvPr/>
        </p:nvSpPr>
        <p:spPr>
          <a:xfrm>
            <a:off x="4657680" y="4749840"/>
            <a:ext cx="79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37"/>
          <p:cNvSpPr/>
          <p:nvPr/>
        </p:nvSpPr>
        <p:spPr>
          <a:xfrm>
            <a:off x="5445000" y="3959280"/>
            <a:ext cx="3240" cy="78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Oval 38"/>
          <p:cNvSpPr/>
          <p:nvPr/>
        </p:nvSpPr>
        <p:spPr>
          <a:xfrm>
            <a:off x="5381640" y="2793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CA9E-EF36-4A73-92E7-C49F61487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6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7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8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9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10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11"/>
          <p:cNvSpPr/>
          <p:nvPr/>
        </p:nvSpPr>
        <p:spPr>
          <a:xfrm>
            <a:off x="4169160" y="56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12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AutoShape 13"/>
          <p:cNvSpPr/>
          <p:nvPr/>
        </p:nvSpPr>
        <p:spPr>
          <a:xfrm>
            <a:off x="2495520" y="2028960"/>
            <a:ext cx="411336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4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5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16"/>
          <p:cNvSpPr/>
          <p:nvPr/>
        </p:nvSpPr>
        <p:spPr>
          <a:xfrm>
            <a:off x="3598920" y="2855880"/>
            <a:ext cx="144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17"/>
          <p:cNvSpPr/>
          <p:nvPr/>
        </p:nvSpPr>
        <p:spPr>
          <a:xfrm>
            <a:off x="3598920" y="2855880"/>
            <a:ext cx="184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18"/>
          <p:cNvSpPr/>
          <p:nvPr/>
        </p:nvSpPr>
        <p:spPr>
          <a:xfrm flipV="1">
            <a:off x="3598920" y="4746240"/>
            <a:ext cx="1054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Line 19"/>
          <p:cNvSpPr/>
          <p:nvPr/>
        </p:nvSpPr>
        <p:spPr>
          <a:xfrm flipV="1">
            <a:off x="4656240" y="3957120"/>
            <a:ext cx="79200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20"/>
          <p:cNvSpPr/>
          <p:nvPr/>
        </p:nvSpPr>
        <p:spPr>
          <a:xfrm flipH="1" flipV="1">
            <a:off x="5450040" y="2855880"/>
            <a:ext cx="2880" cy="109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 Box 21"/>
          <p:cNvSpPr/>
          <p:nvPr/>
        </p:nvSpPr>
        <p:spPr>
          <a:xfrm>
            <a:off x="4752360" y="1998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22"/>
          <p:cNvSpPr/>
          <p:nvPr/>
        </p:nvSpPr>
        <p:spPr>
          <a:xfrm>
            <a:off x="4900320" y="2141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Oval 23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24"/>
          <p:cNvSpPr/>
          <p:nvPr/>
        </p:nvSpPr>
        <p:spPr>
          <a:xfrm>
            <a:off x="3710160" y="2379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25"/>
          <p:cNvSpPr/>
          <p:nvPr/>
        </p:nvSpPr>
        <p:spPr>
          <a:xfrm>
            <a:off x="3919320" y="2522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Oval 26"/>
          <p:cNvSpPr/>
          <p:nvPr/>
        </p:nvSpPr>
        <p:spPr>
          <a:xfrm>
            <a:off x="3538440" y="468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27"/>
          <p:cNvSpPr/>
          <p:nvPr/>
        </p:nvSpPr>
        <p:spPr>
          <a:xfrm>
            <a:off x="3705480" y="4822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28"/>
          <p:cNvSpPr/>
          <p:nvPr/>
        </p:nvSpPr>
        <p:spPr>
          <a:xfrm>
            <a:off x="3914640" y="496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Oval 29"/>
          <p:cNvSpPr/>
          <p:nvPr/>
        </p:nvSpPr>
        <p:spPr>
          <a:xfrm>
            <a:off x="5381640" y="2793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 Box 30"/>
          <p:cNvSpPr/>
          <p:nvPr/>
        </p:nvSpPr>
        <p:spPr>
          <a:xfrm>
            <a:off x="5538960" y="2365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31"/>
          <p:cNvSpPr/>
          <p:nvPr/>
        </p:nvSpPr>
        <p:spPr>
          <a:xfrm>
            <a:off x="5748120" y="25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9" name="Object 32"/>
              <p:cNvSpPr txBox="1"/>
              <p:nvPr/>
            </p:nvSpPr>
            <p:spPr>
              <a:xfrm>
                <a:off x="3298680" y="2984400"/>
                <a:ext cx="722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640" name="Text Box 33"/>
          <p:cNvSpPr/>
          <p:nvPr/>
        </p:nvSpPr>
        <p:spPr>
          <a:xfrm>
            <a:off x="4063320" y="32036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34"/>
          <p:cNvSpPr/>
          <p:nvPr/>
        </p:nvSpPr>
        <p:spPr>
          <a:xfrm>
            <a:off x="4454280" y="338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2" name="Object 35"/>
              <p:cNvSpPr txBox="1"/>
              <p:nvPr/>
            </p:nvSpPr>
            <p:spPr>
              <a:xfrm>
                <a:off x="3398760" y="3994200"/>
                <a:ext cx="593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643" name="Text Box 36"/>
          <p:cNvSpPr/>
          <p:nvPr/>
        </p:nvSpPr>
        <p:spPr>
          <a:xfrm>
            <a:off x="4022280" y="41292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 Box 37"/>
          <p:cNvSpPr/>
          <p:nvPr/>
        </p:nvSpPr>
        <p:spPr>
          <a:xfrm>
            <a:off x="4413240" y="430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36EE-DAD7-4F1D-9CC3-A7604441D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96800" y="4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Text Box 6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 Box 7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8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 Box 9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10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11"/>
          <p:cNvSpPr/>
          <p:nvPr/>
        </p:nvSpPr>
        <p:spPr>
          <a:xfrm>
            <a:off x="416340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12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AutoShape 13"/>
          <p:cNvSpPr/>
          <p:nvPr/>
        </p:nvSpPr>
        <p:spPr>
          <a:xfrm>
            <a:off x="2495520" y="2028960"/>
            <a:ext cx="411336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14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5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6"/>
          <p:cNvSpPr/>
          <p:nvPr/>
        </p:nvSpPr>
        <p:spPr>
          <a:xfrm>
            <a:off x="3598920" y="2855880"/>
            <a:ext cx="144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7"/>
          <p:cNvSpPr/>
          <p:nvPr/>
        </p:nvSpPr>
        <p:spPr>
          <a:xfrm>
            <a:off x="3598920" y="2855880"/>
            <a:ext cx="184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18"/>
          <p:cNvSpPr/>
          <p:nvPr/>
        </p:nvSpPr>
        <p:spPr>
          <a:xfrm flipV="1">
            <a:off x="3598920" y="4746240"/>
            <a:ext cx="1054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9"/>
          <p:cNvSpPr/>
          <p:nvPr/>
        </p:nvSpPr>
        <p:spPr>
          <a:xfrm flipV="1">
            <a:off x="4656240" y="3957120"/>
            <a:ext cx="79200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20"/>
          <p:cNvSpPr/>
          <p:nvPr/>
        </p:nvSpPr>
        <p:spPr>
          <a:xfrm flipH="1" flipV="1">
            <a:off x="5450040" y="2855880"/>
            <a:ext cx="2880" cy="109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 Box 21"/>
          <p:cNvSpPr/>
          <p:nvPr/>
        </p:nvSpPr>
        <p:spPr>
          <a:xfrm>
            <a:off x="4752360" y="1998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 Box 22"/>
          <p:cNvSpPr/>
          <p:nvPr/>
        </p:nvSpPr>
        <p:spPr>
          <a:xfrm>
            <a:off x="4900320" y="2141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23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 Box 24"/>
          <p:cNvSpPr/>
          <p:nvPr/>
        </p:nvSpPr>
        <p:spPr>
          <a:xfrm>
            <a:off x="3710160" y="2379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25"/>
          <p:cNvSpPr/>
          <p:nvPr/>
        </p:nvSpPr>
        <p:spPr>
          <a:xfrm>
            <a:off x="3919320" y="2522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Oval 26"/>
          <p:cNvSpPr/>
          <p:nvPr/>
        </p:nvSpPr>
        <p:spPr>
          <a:xfrm>
            <a:off x="3538440" y="468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27"/>
          <p:cNvSpPr/>
          <p:nvPr/>
        </p:nvSpPr>
        <p:spPr>
          <a:xfrm>
            <a:off x="3705480" y="4822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28"/>
          <p:cNvSpPr/>
          <p:nvPr/>
        </p:nvSpPr>
        <p:spPr>
          <a:xfrm>
            <a:off x="3914640" y="496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Oval 29"/>
          <p:cNvSpPr/>
          <p:nvPr/>
        </p:nvSpPr>
        <p:spPr>
          <a:xfrm>
            <a:off x="5381640" y="2793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30"/>
          <p:cNvSpPr/>
          <p:nvPr/>
        </p:nvSpPr>
        <p:spPr>
          <a:xfrm>
            <a:off x="5538960" y="2365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31"/>
          <p:cNvSpPr/>
          <p:nvPr/>
        </p:nvSpPr>
        <p:spPr>
          <a:xfrm>
            <a:off x="5748120" y="25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4" name="Object 32"/>
              <p:cNvSpPr txBox="1"/>
              <p:nvPr/>
            </p:nvSpPr>
            <p:spPr>
              <a:xfrm>
                <a:off x="3298680" y="2984400"/>
                <a:ext cx="722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675" name="Text Box 33"/>
          <p:cNvSpPr/>
          <p:nvPr/>
        </p:nvSpPr>
        <p:spPr>
          <a:xfrm>
            <a:off x="4063320" y="32036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34"/>
          <p:cNvSpPr/>
          <p:nvPr/>
        </p:nvSpPr>
        <p:spPr>
          <a:xfrm>
            <a:off x="4454280" y="338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7" name="Object 35"/>
              <p:cNvSpPr txBox="1"/>
              <p:nvPr/>
            </p:nvSpPr>
            <p:spPr>
              <a:xfrm>
                <a:off x="3411360" y="3994200"/>
                <a:ext cx="594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678" name="Text Box 36"/>
          <p:cNvSpPr/>
          <p:nvPr/>
        </p:nvSpPr>
        <p:spPr>
          <a:xfrm>
            <a:off x="4022280" y="41292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37"/>
          <p:cNvSpPr/>
          <p:nvPr/>
        </p:nvSpPr>
        <p:spPr>
          <a:xfrm>
            <a:off x="4413240" y="430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0" name="Object 38"/>
              <p:cNvSpPr txBox="1"/>
              <p:nvPr/>
            </p:nvSpPr>
            <p:spPr>
              <a:xfrm>
                <a:off x="5070600" y="2981160"/>
                <a:ext cx="72216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681" name="Text Box 39"/>
          <p:cNvSpPr/>
          <p:nvPr/>
        </p:nvSpPr>
        <p:spPr>
          <a:xfrm>
            <a:off x="5822280" y="31212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 Box 40"/>
          <p:cNvSpPr/>
          <p:nvPr/>
        </p:nvSpPr>
        <p:spPr>
          <a:xfrm>
            <a:off x="6213240" y="330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62"/>
          <p:cNvSpPr/>
          <p:nvPr/>
        </p:nvSpPr>
        <p:spPr>
          <a:xfrm>
            <a:off x="113184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 Box 76"/>
          <p:cNvSpPr/>
          <p:nvPr/>
        </p:nvSpPr>
        <p:spPr>
          <a:xfrm>
            <a:off x="1252440" y="277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6F40-76AF-4431-9541-7C3D33C00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96800" y="4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416340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AutoShape 13"/>
          <p:cNvSpPr/>
          <p:nvPr/>
        </p:nvSpPr>
        <p:spPr>
          <a:xfrm>
            <a:off x="2495520" y="2028960"/>
            <a:ext cx="411336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14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15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16"/>
          <p:cNvSpPr/>
          <p:nvPr/>
        </p:nvSpPr>
        <p:spPr>
          <a:xfrm>
            <a:off x="3598920" y="2855880"/>
            <a:ext cx="144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7"/>
          <p:cNvSpPr/>
          <p:nvPr/>
        </p:nvSpPr>
        <p:spPr>
          <a:xfrm>
            <a:off x="3598920" y="2855880"/>
            <a:ext cx="184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18"/>
          <p:cNvSpPr/>
          <p:nvPr/>
        </p:nvSpPr>
        <p:spPr>
          <a:xfrm flipV="1">
            <a:off x="3598920" y="4746240"/>
            <a:ext cx="1054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19"/>
          <p:cNvSpPr/>
          <p:nvPr/>
        </p:nvSpPr>
        <p:spPr>
          <a:xfrm flipV="1">
            <a:off x="4656240" y="3957120"/>
            <a:ext cx="79200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20"/>
          <p:cNvSpPr/>
          <p:nvPr/>
        </p:nvSpPr>
        <p:spPr>
          <a:xfrm flipH="1" flipV="1">
            <a:off x="5450040" y="2855880"/>
            <a:ext cx="2880" cy="109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152240" y="195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300200" y="20937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Oval 23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3710160" y="2379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3919320" y="2522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Oval 26"/>
          <p:cNvSpPr/>
          <p:nvPr/>
        </p:nvSpPr>
        <p:spPr>
          <a:xfrm>
            <a:off x="3538440" y="468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3705480" y="4822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3914640" y="496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Oval 29"/>
          <p:cNvSpPr/>
          <p:nvPr/>
        </p:nvSpPr>
        <p:spPr>
          <a:xfrm>
            <a:off x="5381640" y="2793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5538960" y="2365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5748120" y="25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3" name="Object 32"/>
              <p:cNvSpPr txBox="1"/>
              <p:nvPr/>
            </p:nvSpPr>
            <p:spPr>
              <a:xfrm>
                <a:off x="3298680" y="2984400"/>
                <a:ext cx="722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714" name="Text Box 33"/>
          <p:cNvSpPr/>
          <p:nvPr/>
        </p:nvSpPr>
        <p:spPr>
          <a:xfrm>
            <a:off x="4063320" y="32036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54280" y="338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6" name="Object 35"/>
              <p:cNvSpPr txBox="1"/>
              <p:nvPr/>
            </p:nvSpPr>
            <p:spPr>
              <a:xfrm>
                <a:off x="3411360" y="3994200"/>
                <a:ext cx="594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717" name="Text Box 36"/>
          <p:cNvSpPr/>
          <p:nvPr/>
        </p:nvSpPr>
        <p:spPr>
          <a:xfrm>
            <a:off x="4022280" y="41292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37"/>
          <p:cNvSpPr/>
          <p:nvPr/>
        </p:nvSpPr>
        <p:spPr>
          <a:xfrm>
            <a:off x="4413240" y="430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9" name="Object 38"/>
              <p:cNvSpPr txBox="1"/>
              <p:nvPr/>
            </p:nvSpPr>
            <p:spPr>
              <a:xfrm>
                <a:off x="5057640" y="2943360"/>
                <a:ext cx="722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720" name="Text Box 39"/>
          <p:cNvSpPr/>
          <p:nvPr/>
        </p:nvSpPr>
        <p:spPr>
          <a:xfrm>
            <a:off x="5822280" y="3162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 Box 40"/>
          <p:cNvSpPr/>
          <p:nvPr/>
        </p:nvSpPr>
        <p:spPr>
          <a:xfrm>
            <a:off x="6213240" y="33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 Box 41"/>
          <p:cNvSpPr/>
          <p:nvPr/>
        </p:nvSpPr>
        <p:spPr>
          <a:xfrm>
            <a:off x="113184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42"/>
          <p:cNvSpPr/>
          <p:nvPr/>
        </p:nvSpPr>
        <p:spPr>
          <a:xfrm>
            <a:off x="1252440" y="277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4" name="Picture 43" descr="50"/>
          <p:cNvPicPr/>
          <p:nvPr/>
        </p:nvPicPr>
        <p:blipFill>
          <a:blip r:embed="rId1"/>
          <a:srcRect l="24526" t="29174" r="0" b="27590"/>
          <a:stretch/>
        </p:blipFill>
        <p:spPr>
          <a:xfrm>
            <a:off x="4667400" y="2516040"/>
            <a:ext cx="718920" cy="262080"/>
          </a:xfrm>
          <a:prstGeom prst="rect">
            <a:avLst/>
          </a:prstGeom>
          <a:ln w="0">
            <a:noFill/>
          </a:ln>
        </p:spPr>
      </p:pic>
      <p:sp>
        <p:nvSpPr>
          <p:cNvPr id="1725" name="Text Box 44"/>
          <p:cNvSpPr/>
          <p:nvPr/>
        </p:nvSpPr>
        <p:spPr>
          <a:xfrm>
            <a:off x="4693680" y="20430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45"/>
          <p:cNvSpPr/>
          <p:nvPr/>
        </p:nvSpPr>
        <p:spPr>
          <a:xfrm>
            <a:off x="5084640" y="222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231B-9B86-44D5-9894-64B2F7BCF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96800" y="4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Text Box 5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Text Box 6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Text Box 7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 Box 8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9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 Box 10"/>
          <p:cNvSpPr/>
          <p:nvPr/>
        </p:nvSpPr>
        <p:spPr>
          <a:xfrm>
            <a:off x="416340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Text Box 11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AutoShape 12"/>
          <p:cNvSpPr/>
          <p:nvPr/>
        </p:nvSpPr>
        <p:spPr>
          <a:xfrm>
            <a:off x="2495520" y="2028960"/>
            <a:ext cx="411336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3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4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5"/>
          <p:cNvSpPr/>
          <p:nvPr/>
        </p:nvSpPr>
        <p:spPr>
          <a:xfrm>
            <a:off x="3598920" y="2855880"/>
            <a:ext cx="144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6"/>
          <p:cNvSpPr/>
          <p:nvPr/>
        </p:nvSpPr>
        <p:spPr>
          <a:xfrm>
            <a:off x="3598920" y="2855880"/>
            <a:ext cx="184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7"/>
          <p:cNvSpPr/>
          <p:nvPr/>
        </p:nvSpPr>
        <p:spPr>
          <a:xfrm flipV="1">
            <a:off x="3598920" y="4746240"/>
            <a:ext cx="1054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8"/>
          <p:cNvSpPr/>
          <p:nvPr/>
        </p:nvSpPr>
        <p:spPr>
          <a:xfrm flipV="1">
            <a:off x="4656240" y="3957120"/>
            <a:ext cx="79200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9"/>
          <p:cNvSpPr/>
          <p:nvPr/>
        </p:nvSpPr>
        <p:spPr>
          <a:xfrm flipH="1" flipV="1">
            <a:off x="5450040" y="2855880"/>
            <a:ext cx="2880" cy="109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Text Box 20"/>
          <p:cNvSpPr/>
          <p:nvPr/>
        </p:nvSpPr>
        <p:spPr>
          <a:xfrm>
            <a:off x="4285800" y="177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Text Box 21"/>
          <p:cNvSpPr/>
          <p:nvPr/>
        </p:nvSpPr>
        <p:spPr>
          <a:xfrm>
            <a:off x="4433760" y="19130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Oval 22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Text Box 23"/>
          <p:cNvSpPr/>
          <p:nvPr/>
        </p:nvSpPr>
        <p:spPr>
          <a:xfrm>
            <a:off x="3048480" y="2370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 Box 24"/>
          <p:cNvSpPr/>
          <p:nvPr/>
        </p:nvSpPr>
        <p:spPr>
          <a:xfrm>
            <a:off x="325728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Oval 25"/>
          <p:cNvSpPr/>
          <p:nvPr/>
        </p:nvSpPr>
        <p:spPr>
          <a:xfrm>
            <a:off x="3538440" y="468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Text Box 26"/>
          <p:cNvSpPr/>
          <p:nvPr/>
        </p:nvSpPr>
        <p:spPr>
          <a:xfrm>
            <a:off x="2934000" y="47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3143160" y="488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Oval 28"/>
          <p:cNvSpPr/>
          <p:nvPr/>
        </p:nvSpPr>
        <p:spPr>
          <a:xfrm>
            <a:off x="5381640" y="2793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29"/>
          <p:cNvSpPr/>
          <p:nvPr/>
        </p:nvSpPr>
        <p:spPr>
          <a:xfrm>
            <a:off x="5538960" y="2365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30"/>
          <p:cNvSpPr/>
          <p:nvPr/>
        </p:nvSpPr>
        <p:spPr>
          <a:xfrm>
            <a:off x="5748120" y="25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Object 31"/>
              <p:cNvSpPr txBox="1"/>
              <p:nvPr/>
            </p:nvSpPr>
            <p:spPr>
              <a:xfrm>
                <a:off x="3298680" y="2984400"/>
                <a:ext cx="722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756" name="Text Box 32"/>
          <p:cNvSpPr/>
          <p:nvPr/>
        </p:nvSpPr>
        <p:spPr>
          <a:xfrm>
            <a:off x="4063320" y="32036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 Box 33"/>
          <p:cNvSpPr/>
          <p:nvPr/>
        </p:nvSpPr>
        <p:spPr>
          <a:xfrm>
            <a:off x="4454280" y="338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8" name="Object 34"/>
              <p:cNvSpPr txBox="1"/>
              <p:nvPr/>
            </p:nvSpPr>
            <p:spPr>
              <a:xfrm>
                <a:off x="3411360" y="3994200"/>
                <a:ext cx="594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759" name="Text Box 35"/>
          <p:cNvSpPr/>
          <p:nvPr/>
        </p:nvSpPr>
        <p:spPr>
          <a:xfrm>
            <a:off x="4022280" y="41292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 Box 36"/>
          <p:cNvSpPr/>
          <p:nvPr/>
        </p:nvSpPr>
        <p:spPr>
          <a:xfrm>
            <a:off x="4413240" y="430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1" name="Object 37"/>
              <p:cNvSpPr txBox="1"/>
              <p:nvPr/>
            </p:nvSpPr>
            <p:spPr>
              <a:xfrm>
                <a:off x="5057640" y="2943360"/>
                <a:ext cx="722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762" name="Text Box 38"/>
          <p:cNvSpPr/>
          <p:nvPr/>
        </p:nvSpPr>
        <p:spPr>
          <a:xfrm>
            <a:off x="5822280" y="3162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39"/>
          <p:cNvSpPr/>
          <p:nvPr/>
        </p:nvSpPr>
        <p:spPr>
          <a:xfrm>
            <a:off x="6213240" y="33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40"/>
          <p:cNvSpPr/>
          <p:nvPr/>
        </p:nvSpPr>
        <p:spPr>
          <a:xfrm>
            <a:off x="113184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 Box 41"/>
          <p:cNvSpPr/>
          <p:nvPr/>
        </p:nvSpPr>
        <p:spPr>
          <a:xfrm>
            <a:off x="1252440" y="277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6" name="Picture 42" descr="50"/>
          <p:cNvPicPr/>
          <p:nvPr/>
        </p:nvPicPr>
        <p:blipFill>
          <a:blip r:embed="rId1"/>
          <a:srcRect l="24526" t="29174" r="0" b="27590"/>
          <a:stretch/>
        </p:blipFill>
        <p:spPr>
          <a:xfrm>
            <a:off x="4667400" y="2516040"/>
            <a:ext cx="718920" cy="262080"/>
          </a:xfrm>
          <a:prstGeom prst="rect">
            <a:avLst/>
          </a:prstGeom>
          <a:ln w="0">
            <a:noFill/>
          </a:ln>
        </p:spPr>
      </p:pic>
      <p:sp>
        <p:nvSpPr>
          <p:cNvPr id="1767" name="Text Box 43"/>
          <p:cNvSpPr/>
          <p:nvPr/>
        </p:nvSpPr>
        <p:spPr>
          <a:xfrm>
            <a:off x="4693680" y="20430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44"/>
          <p:cNvSpPr/>
          <p:nvPr/>
        </p:nvSpPr>
        <p:spPr>
          <a:xfrm>
            <a:off x="5084640" y="222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50"/>
          <p:cNvPicPr/>
          <p:nvPr/>
        </p:nvPicPr>
        <p:blipFill>
          <a:blip r:embed="rId2"/>
          <a:srcRect l="24526" t="29174" r="0" b="27590"/>
          <a:stretch/>
        </p:blipFill>
        <p:spPr>
          <a:xfrm>
            <a:off x="3630600" y="2432160"/>
            <a:ext cx="1014480" cy="369720"/>
          </a:xfrm>
          <a:prstGeom prst="rect">
            <a:avLst/>
          </a:prstGeom>
          <a:ln w="0">
            <a:noFill/>
          </a:ln>
        </p:spPr>
      </p:pic>
      <p:sp>
        <p:nvSpPr>
          <p:cNvPr id="1770" name="Text Box 46"/>
          <p:cNvSpPr/>
          <p:nvPr/>
        </p:nvSpPr>
        <p:spPr>
          <a:xfrm>
            <a:off x="3833280" y="20876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47"/>
          <p:cNvSpPr/>
          <p:nvPr/>
        </p:nvSpPr>
        <p:spPr>
          <a:xfrm>
            <a:off x="4224240" y="2266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Picture 48" descr="50"/>
          <p:cNvPicPr/>
          <p:nvPr/>
        </p:nvPicPr>
        <p:blipFill>
          <a:blip r:embed="rId3"/>
          <a:srcRect l="24526" t="29174" r="0" b="27590"/>
          <a:stretch/>
        </p:blipFill>
        <p:spPr>
          <a:xfrm rot="10800000">
            <a:off x="3635280" y="4808520"/>
            <a:ext cx="1014480" cy="370080"/>
          </a:xfrm>
          <a:prstGeom prst="rect">
            <a:avLst/>
          </a:prstGeom>
          <a:ln w="0">
            <a:noFill/>
          </a:ln>
        </p:spPr>
      </p:pic>
      <p:sp>
        <p:nvSpPr>
          <p:cNvPr id="1773" name="Text Box 49"/>
          <p:cNvSpPr/>
          <p:nvPr/>
        </p:nvSpPr>
        <p:spPr>
          <a:xfrm>
            <a:off x="3785760" y="51688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 Box 50"/>
          <p:cNvSpPr/>
          <p:nvPr/>
        </p:nvSpPr>
        <p:spPr>
          <a:xfrm>
            <a:off x="4176720" y="5348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CE8C-0319-4755-BDF1-DF4B6DE90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96800" y="4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 Box 5"/>
          <p:cNvSpPr/>
          <p:nvPr/>
        </p:nvSpPr>
        <p:spPr>
          <a:xfrm>
            <a:off x="256968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2717640" y="3716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7"/>
          <p:cNvSpPr/>
          <p:nvPr/>
        </p:nvSpPr>
        <p:spPr>
          <a:xfrm>
            <a:off x="463968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Text Box 8"/>
          <p:cNvSpPr/>
          <p:nvPr/>
        </p:nvSpPr>
        <p:spPr>
          <a:xfrm>
            <a:off x="6123960" y="347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Text Box 9"/>
          <p:cNvSpPr/>
          <p:nvPr/>
        </p:nvSpPr>
        <p:spPr>
          <a:xfrm>
            <a:off x="6271920" y="3621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Text Box 10"/>
          <p:cNvSpPr/>
          <p:nvPr/>
        </p:nvSpPr>
        <p:spPr>
          <a:xfrm>
            <a:off x="4163400" y="567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 Box 11"/>
          <p:cNvSpPr/>
          <p:nvPr/>
        </p:nvSpPr>
        <p:spPr>
          <a:xfrm>
            <a:off x="4311360" y="5818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3"/>
          <p:cNvSpPr/>
          <p:nvPr/>
        </p:nvSpPr>
        <p:spPr>
          <a:xfrm>
            <a:off x="2629080" y="3957480"/>
            <a:ext cx="388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14"/>
          <p:cNvSpPr/>
          <p:nvPr/>
        </p:nvSpPr>
        <p:spPr>
          <a:xfrm>
            <a:off x="4656240" y="20509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15"/>
          <p:cNvSpPr/>
          <p:nvPr/>
        </p:nvSpPr>
        <p:spPr>
          <a:xfrm>
            <a:off x="3598920" y="2855880"/>
            <a:ext cx="144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16"/>
          <p:cNvSpPr/>
          <p:nvPr/>
        </p:nvSpPr>
        <p:spPr>
          <a:xfrm>
            <a:off x="3598920" y="2855880"/>
            <a:ext cx="184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17"/>
          <p:cNvSpPr/>
          <p:nvPr/>
        </p:nvSpPr>
        <p:spPr>
          <a:xfrm flipV="1">
            <a:off x="3598920" y="4746240"/>
            <a:ext cx="1054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18"/>
          <p:cNvSpPr/>
          <p:nvPr/>
        </p:nvSpPr>
        <p:spPr>
          <a:xfrm flipV="1">
            <a:off x="4656240" y="3957120"/>
            <a:ext cx="79200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19"/>
          <p:cNvSpPr/>
          <p:nvPr/>
        </p:nvSpPr>
        <p:spPr>
          <a:xfrm flipH="1" flipV="1">
            <a:off x="5450040" y="2855880"/>
            <a:ext cx="2880" cy="109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Text Box 20"/>
          <p:cNvSpPr/>
          <p:nvPr/>
        </p:nvSpPr>
        <p:spPr>
          <a:xfrm>
            <a:off x="4285800" y="177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Text Box 21"/>
          <p:cNvSpPr/>
          <p:nvPr/>
        </p:nvSpPr>
        <p:spPr>
          <a:xfrm>
            <a:off x="4433760" y="19130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Oval 22"/>
          <p:cNvSpPr/>
          <p:nvPr/>
        </p:nvSpPr>
        <p:spPr>
          <a:xfrm>
            <a:off x="3552840" y="280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Text Box 23"/>
          <p:cNvSpPr/>
          <p:nvPr/>
        </p:nvSpPr>
        <p:spPr>
          <a:xfrm>
            <a:off x="3048480" y="2370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Text Box 24"/>
          <p:cNvSpPr/>
          <p:nvPr/>
        </p:nvSpPr>
        <p:spPr>
          <a:xfrm>
            <a:off x="325728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Oval 25"/>
          <p:cNvSpPr/>
          <p:nvPr/>
        </p:nvSpPr>
        <p:spPr>
          <a:xfrm>
            <a:off x="3538440" y="468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26"/>
          <p:cNvSpPr/>
          <p:nvPr/>
        </p:nvSpPr>
        <p:spPr>
          <a:xfrm>
            <a:off x="2934000" y="47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27"/>
          <p:cNvSpPr/>
          <p:nvPr/>
        </p:nvSpPr>
        <p:spPr>
          <a:xfrm>
            <a:off x="3143160" y="488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28"/>
          <p:cNvSpPr/>
          <p:nvPr/>
        </p:nvSpPr>
        <p:spPr>
          <a:xfrm>
            <a:off x="5381640" y="2793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 Box 29"/>
          <p:cNvSpPr/>
          <p:nvPr/>
        </p:nvSpPr>
        <p:spPr>
          <a:xfrm>
            <a:off x="5538960" y="2365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40"/>
          <p:cNvSpPr/>
          <p:nvPr/>
        </p:nvSpPr>
        <p:spPr>
          <a:xfrm>
            <a:off x="113184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41"/>
          <p:cNvSpPr/>
          <p:nvPr/>
        </p:nvSpPr>
        <p:spPr>
          <a:xfrm>
            <a:off x="1252440" y="277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47"/>
          <p:cNvSpPr/>
          <p:nvPr/>
        </p:nvSpPr>
        <p:spPr>
          <a:xfrm>
            <a:off x="5784840" y="25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Oval 51"/>
          <p:cNvSpPr/>
          <p:nvPr/>
        </p:nvSpPr>
        <p:spPr>
          <a:xfrm>
            <a:off x="4603680" y="33195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 Box 52"/>
          <p:cNvSpPr/>
          <p:nvPr/>
        </p:nvSpPr>
        <p:spPr>
          <a:xfrm>
            <a:off x="4117680" y="30211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53"/>
          <p:cNvSpPr/>
          <p:nvPr/>
        </p:nvSpPr>
        <p:spPr>
          <a:xfrm>
            <a:off x="4346280" y="316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Oval 54"/>
          <p:cNvSpPr/>
          <p:nvPr/>
        </p:nvSpPr>
        <p:spPr>
          <a:xfrm>
            <a:off x="4595760" y="5187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55"/>
          <p:cNvSpPr/>
          <p:nvPr/>
        </p:nvSpPr>
        <p:spPr>
          <a:xfrm>
            <a:off x="4098600" y="5075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56"/>
          <p:cNvSpPr/>
          <p:nvPr/>
        </p:nvSpPr>
        <p:spPr>
          <a:xfrm>
            <a:off x="4346280" y="5218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57"/>
          <p:cNvSpPr/>
          <p:nvPr/>
        </p:nvSpPr>
        <p:spPr>
          <a:xfrm flipV="1">
            <a:off x="4691160" y="3948120"/>
            <a:ext cx="1230120" cy="12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58"/>
          <p:cNvSpPr/>
          <p:nvPr/>
        </p:nvSpPr>
        <p:spPr>
          <a:xfrm>
            <a:off x="4713120" y="3373560"/>
            <a:ext cx="1176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59"/>
          <p:cNvSpPr/>
          <p:nvPr/>
        </p:nvSpPr>
        <p:spPr>
          <a:xfrm>
            <a:off x="5900760" y="3367080"/>
            <a:ext cx="1440" cy="59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Oval 60"/>
          <p:cNvSpPr/>
          <p:nvPr/>
        </p:nvSpPr>
        <p:spPr>
          <a:xfrm>
            <a:off x="5848200" y="33051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Text Box 61"/>
          <p:cNvSpPr/>
          <p:nvPr/>
        </p:nvSpPr>
        <p:spPr>
          <a:xfrm>
            <a:off x="5973480" y="2997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 Box 62"/>
          <p:cNvSpPr/>
          <p:nvPr/>
        </p:nvSpPr>
        <p:spPr>
          <a:xfrm>
            <a:off x="6244920" y="316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65"/>
          <p:cNvSpPr/>
          <p:nvPr/>
        </p:nvSpPr>
        <p:spPr>
          <a:xfrm>
            <a:off x="6739920" y="2075040"/>
            <a:ext cx="12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7" name="Object 66"/>
              <p:cNvSpPr txBox="1"/>
              <p:nvPr/>
            </p:nvSpPr>
            <p:spPr>
              <a:xfrm>
                <a:off x="7278840" y="2273400"/>
                <a:ext cx="2314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8" name="Text Box 67"/>
          <p:cNvSpPr/>
          <p:nvPr/>
        </p:nvSpPr>
        <p:spPr>
          <a:xfrm>
            <a:off x="7878960" y="2333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972C-B5B0-4A45-8A2B-664297E00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96800" y="4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Третья дополнительная плоскость проекций в системе Монжа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Box 5"/>
          <p:cNvSpPr/>
          <p:nvPr/>
        </p:nvSpPr>
        <p:spPr>
          <a:xfrm>
            <a:off x="194760" y="1938240"/>
            <a:ext cx="8736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ояние от точки до П   на эпюре оп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деляется растоянием от горизонталь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фронтальной проекции до оси 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z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принадлежащие П   имеют гор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нтальную и фронтальную проекции леж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е на оси 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(z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Text Box 6"/>
          <p:cNvSpPr/>
          <p:nvPr/>
        </p:nvSpPr>
        <p:spPr>
          <a:xfrm>
            <a:off x="5986440" y="2243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Text Box 7"/>
          <p:cNvSpPr/>
          <p:nvPr/>
        </p:nvSpPr>
        <p:spPr>
          <a:xfrm>
            <a:off x="7167240" y="318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8"/>
          <p:cNvSpPr/>
          <p:nvPr/>
        </p:nvSpPr>
        <p:spPr>
          <a:xfrm>
            <a:off x="7772400" y="320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Text Box 9"/>
          <p:cNvSpPr/>
          <p:nvPr/>
        </p:nvSpPr>
        <p:spPr>
          <a:xfrm>
            <a:off x="5850000" y="4110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Text Box 10"/>
          <p:cNvSpPr/>
          <p:nvPr/>
        </p:nvSpPr>
        <p:spPr>
          <a:xfrm>
            <a:off x="2701800" y="5157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11"/>
          <p:cNvSpPr/>
          <p:nvPr/>
        </p:nvSpPr>
        <p:spPr>
          <a:xfrm>
            <a:off x="3466800" y="5157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A774-7359-4D3B-A975-594F41D36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4280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Связь системы Монжа с прямоугольной системой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AutoShape 5"/>
          <p:cNvSpPr/>
          <p:nvPr/>
        </p:nvSpPr>
        <p:spPr>
          <a:xfrm>
            <a:off x="2232000" y="1743120"/>
            <a:ext cx="41958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Line 6"/>
          <p:cNvSpPr/>
          <p:nvPr/>
        </p:nvSpPr>
        <p:spPr>
          <a:xfrm>
            <a:off x="2327400" y="4772160"/>
            <a:ext cx="2749320" cy="1577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Line 7"/>
          <p:cNvSpPr/>
          <p:nvPr/>
        </p:nvSpPr>
        <p:spPr>
          <a:xfrm flipV="1">
            <a:off x="5076720" y="504828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8"/>
          <p:cNvSpPr/>
          <p:nvPr/>
        </p:nvSpPr>
        <p:spPr>
          <a:xfrm>
            <a:off x="3463920" y="3470400"/>
            <a:ext cx="385920" cy="22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Line 9"/>
          <p:cNvSpPr/>
          <p:nvPr/>
        </p:nvSpPr>
        <p:spPr>
          <a:xfrm flipV="1">
            <a:off x="2327400" y="3470400"/>
            <a:ext cx="113652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10"/>
          <p:cNvSpPr/>
          <p:nvPr/>
        </p:nvSpPr>
        <p:spPr>
          <a:xfrm>
            <a:off x="3701880" y="3862440"/>
            <a:ext cx="1800" cy="296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Line 11"/>
          <p:cNvSpPr/>
          <p:nvPr/>
        </p:nvSpPr>
        <p:spPr>
          <a:xfrm flipV="1">
            <a:off x="3701880" y="5985000"/>
            <a:ext cx="738360" cy="84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12"/>
          <p:cNvSpPr/>
          <p:nvPr/>
        </p:nvSpPr>
        <p:spPr>
          <a:xfrm flipV="1">
            <a:off x="3084480" y="4258800"/>
            <a:ext cx="1754280" cy="198756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13"/>
          <p:cNvSpPr/>
          <p:nvPr/>
        </p:nvSpPr>
        <p:spPr>
          <a:xfrm flipV="1">
            <a:off x="3701880" y="2560680"/>
            <a:ext cx="1136880" cy="130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14"/>
          <p:cNvSpPr/>
          <p:nvPr/>
        </p:nvSpPr>
        <p:spPr>
          <a:xfrm>
            <a:off x="4838760" y="2076480"/>
            <a:ext cx="1440" cy="218268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15"/>
          <p:cNvSpPr/>
          <p:nvPr/>
        </p:nvSpPr>
        <p:spPr>
          <a:xfrm>
            <a:off x="3849840" y="369252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16"/>
          <p:cNvSpPr/>
          <p:nvPr/>
        </p:nvSpPr>
        <p:spPr>
          <a:xfrm>
            <a:off x="4002120" y="377820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17"/>
          <p:cNvSpPr/>
          <p:nvPr/>
        </p:nvSpPr>
        <p:spPr>
          <a:xfrm>
            <a:off x="4129200" y="38512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18"/>
          <p:cNvSpPr/>
          <p:nvPr/>
        </p:nvSpPr>
        <p:spPr>
          <a:xfrm>
            <a:off x="4255920" y="3924360"/>
            <a:ext cx="5112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19"/>
          <p:cNvSpPr/>
          <p:nvPr/>
        </p:nvSpPr>
        <p:spPr>
          <a:xfrm>
            <a:off x="4383000" y="399744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20"/>
          <p:cNvSpPr/>
          <p:nvPr/>
        </p:nvSpPr>
        <p:spPr>
          <a:xfrm>
            <a:off x="4510080" y="4070520"/>
            <a:ext cx="50760" cy="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21"/>
          <p:cNvSpPr/>
          <p:nvPr/>
        </p:nvSpPr>
        <p:spPr>
          <a:xfrm>
            <a:off x="4637160" y="414324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22"/>
          <p:cNvSpPr/>
          <p:nvPr/>
        </p:nvSpPr>
        <p:spPr>
          <a:xfrm>
            <a:off x="4764240" y="421632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23"/>
          <p:cNvSpPr/>
          <p:nvPr/>
        </p:nvSpPr>
        <p:spPr>
          <a:xfrm>
            <a:off x="4838760" y="4259160"/>
            <a:ext cx="1805040" cy="10303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24"/>
          <p:cNvSpPr/>
          <p:nvPr/>
        </p:nvSpPr>
        <p:spPr>
          <a:xfrm>
            <a:off x="4838760" y="4259160"/>
            <a:ext cx="1440" cy="77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25"/>
          <p:cNvSpPr/>
          <p:nvPr/>
        </p:nvSpPr>
        <p:spPr>
          <a:xfrm>
            <a:off x="4838760" y="44244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26"/>
          <p:cNvSpPr/>
          <p:nvPr/>
        </p:nvSpPr>
        <p:spPr>
          <a:xfrm>
            <a:off x="4838760" y="45705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27"/>
          <p:cNvSpPr/>
          <p:nvPr/>
        </p:nvSpPr>
        <p:spPr>
          <a:xfrm>
            <a:off x="4838760" y="47181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28"/>
          <p:cNvSpPr/>
          <p:nvPr/>
        </p:nvSpPr>
        <p:spPr>
          <a:xfrm>
            <a:off x="4838760" y="486396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29"/>
          <p:cNvSpPr/>
          <p:nvPr/>
        </p:nvSpPr>
        <p:spPr>
          <a:xfrm>
            <a:off x="4838760" y="501156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30"/>
          <p:cNvSpPr/>
          <p:nvPr/>
        </p:nvSpPr>
        <p:spPr>
          <a:xfrm>
            <a:off x="4838760" y="515772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31"/>
          <p:cNvSpPr/>
          <p:nvPr/>
        </p:nvSpPr>
        <p:spPr>
          <a:xfrm>
            <a:off x="4838760" y="530388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32"/>
          <p:cNvSpPr/>
          <p:nvPr/>
        </p:nvSpPr>
        <p:spPr>
          <a:xfrm>
            <a:off x="4838760" y="545148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33"/>
          <p:cNvSpPr/>
          <p:nvPr/>
        </p:nvSpPr>
        <p:spPr>
          <a:xfrm flipV="1">
            <a:off x="4440240" y="5954760"/>
            <a:ext cx="255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34"/>
          <p:cNvSpPr/>
          <p:nvPr/>
        </p:nvSpPr>
        <p:spPr>
          <a:xfrm flipV="1">
            <a:off x="4524480" y="5844960"/>
            <a:ext cx="38160" cy="44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35"/>
          <p:cNvSpPr/>
          <p:nvPr/>
        </p:nvSpPr>
        <p:spPr>
          <a:xfrm flipV="1">
            <a:off x="4619520" y="5733720"/>
            <a:ext cx="39960" cy="44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36"/>
          <p:cNvSpPr/>
          <p:nvPr/>
        </p:nvSpPr>
        <p:spPr>
          <a:xfrm flipV="1">
            <a:off x="4716360" y="5624280"/>
            <a:ext cx="3816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37"/>
          <p:cNvSpPr/>
          <p:nvPr/>
        </p:nvSpPr>
        <p:spPr>
          <a:xfrm flipV="1">
            <a:off x="4813200" y="5527440"/>
            <a:ext cx="255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38"/>
          <p:cNvSpPr/>
          <p:nvPr/>
        </p:nvSpPr>
        <p:spPr>
          <a:xfrm>
            <a:off x="3463920" y="1771560"/>
            <a:ext cx="385920" cy="220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39"/>
          <p:cNvSpPr/>
          <p:nvPr/>
        </p:nvSpPr>
        <p:spPr>
          <a:xfrm>
            <a:off x="3849840" y="1992240"/>
            <a:ext cx="988920" cy="56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40"/>
          <p:cNvSpPr/>
          <p:nvPr/>
        </p:nvSpPr>
        <p:spPr>
          <a:xfrm>
            <a:off x="4838760" y="2560680"/>
            <a:ext cx="1374840" cy="789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Line 41"/>
          <p:cNvSpPr/>
          <p:nvPr/>
        </p:nvSpPr>
        <p:spPr>
          <a:xfrm>
            <a:off x="3463920" y="4738680"/>
            <a:ext cx="2844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Line 42"/>
          <p:cNvSpPr/>
          <p:nvPr/>
        </p:nvSpPr>
        <p:spPr>
          <a:xfrm>
            <a:off x="3568680" y="4799160"/>
            <a:ext cx="50760" cy="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43"/>
          <p:cNvSpPr/>
          <p:nvPr/>
        </p:nvSpPr>
        <p:spPr>
          <a:xfrm>
            <a:off x="3695760" y="4871880"/>
            <a:ext cx="50760" cy="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44"/>
          <p:cNvSpPr/>
          <p:nvPr/>
        </p:nvSpPr>
        <p:spPr>
          <a:xfrm>
            <a:off x="3822840" y="4944960"/>
            <a:ext cx="2700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45"/>
          <p:cNvSpPr/>
          <p:nvPr/>
        </p:nvSpPr>
        <p:spPr>
          <a:xfrm>
            <a:off x="3849840" y="496080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46"/>
          <p:cNvSpPr/>
          <p:nvPr/>
        </p:nvSpPr>
        <p:spPr>
          <a:xfrm>
            <a:off x="4002120" y="504684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47"/>
          <p:cNvSpPr/>
          <p:nvPr/>
        </p:nvSpPr>
        <p:spPr>
          <a:xfrm>
            <a:off x="4129200" y="511956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48"/>
          <p:cNvSpPr/>
          <p:nvPr/>
        </p:nvSpPr>
        <p:spPr>
          <a:xfrm>
            <a:off x="4255920" y="5192640"/>
            <a:ext cx="5112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49"/>
          <p:cNvSpPr/>
          <p:nvPr/>
        </p:nvSpPr>
        <p:spPr>
          <a:xfrm>
            <a:off x="4383000" y="526572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50"/>
          <p:cNvSpPr/>
          <p:nvPr/>
        </p:nvSpPr>
        <p:spPr>
          <a:xfrm>
            <a:off x="4510080" y="533880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Line 51"/>
          <p:cNvSpPr/>
          <p:nvPr/>
        </p:nvSpPr>
        <p:spPr>
          <a:xfrm>
            <a:off x="4637160" y="54118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Line 52"/>
          <p:cNvSpPr/>
          <p:nvPr/>
        </p:nvSpPr>
        <p:spPr>
          <a:xfrm>
            <a:off x="4764240" y="5484960"/>
            <a:ext cx="74520" cy="42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53"/>
          <p:cNvSpPr/>
          <p:nvPr/>
        </p:nvSpPr>
        <p:spPr>
          <a:xfrm>
            <a:off x="4838760" y="5527800"/>
            <a:ext cx="25200" cy="1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54"/>
          <p:cNvSpPr/>
          <p:nvPr/>
        </p:nvSpPr>
        <p:spPr>
          <a:xfrm>
            <a:off x="4940280" y="558648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55"/>
          <p:cNvSpPr/>
          <p:nvPr/>
        </p:nvSpPr>
        <p:spPr>
          <a:xfrm>
            <a:off x="5068800" y="565956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56"/>
          <p:cNvSpPr/>
          <p:nvPr/>
        </p:nvSpPr>
        <p:spPr>
          <a:xfrm>
            <a:off x="5195880" y="5732640"/>
            <a:ext cx="50760" cy="2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57"/>
          <p:cNvSpPr/>
          <p:nvPr/>
        </p:nvSpPr>
        <p:spPr>
          <a:xfrm>
            <a:off x="5322960" y="5805360"/>
            <a:ext cx="50760" cy="30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58"/>
          <p:cNvSpPr/>
          <p:nvPr/>
        </p:nvSpPr>
        <p:spPr>
          <a:xfrm>
            <a:off x="5450040" y="5878440"/>
            <a:ext cx="25200" cy="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59"/>
          <p:cNvSpPr/>
          <p:nvPr/>
        </p:nvSpPr>
        <p:spPr>
          <a:xfrm>
            <a:off x="3463920" y="1771560"/>
            <a:ext cx="1440" cy="1698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Line 60"/>
          <p:cNvSpPr/>
          <p:nvPr/>
        </p:nvSpPr>
        <p:spPr>
          <a:xfrm>
            <a:off x="6213600" y="3349800"/>
            <a:ext cx="1440" cy="296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61"/>
          <p:cNvSpPr/>
          <p:nvPr/>
        </p:nvSpPr>
        <p:spPr>
          <a:xfrm>
            <a:off x="5475240" y="5892840"/>
            <a:ext cx="73836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Line 62"/>
          <p:cNvSpPr/>
          <p:nvPr/>
        </p:nvSpPr>
        <p:spPr>
          <a:xfrm>
            <a:off x="3463920" y="3470400"/>
            <a:ext cx="1440" cy="75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Line 63"/>
          <p:cNvSpPr/>
          <p:nvPr/>
        </p:nvSpPr>
        <p:spPr>
          <a:xfrm>
            <a:off x="3463920" y="363528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Line 64"/>
          <p:cNvSpPr/>
          <p:nvPr/>
        </p:nvSpPr>
        <p:spPr>
          <a:xfrm>
            <a:off x="3463920" y="378144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Line 65"/>
          <p:cNvSpPr/>
          <p:nvPr/>
        </p:nvSpPr>
        <p:spPr>
          <a:xfrm>
            <a:off x="3463920" y="392904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66"/>
          <p:cNvSpPr/>
          <p:nvPr/>
        </p:nvSpPr>
        <p:spPr>
          <a:xfrm>
            <a:off x="3463920" y="407520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Line 67"/>
          <p:cNvSpPr/>
          <p:nvPr/>
        </p:nvSpPr>
        <p:spPr>
          <a:xfrm>
            <a:off x="3463920" y="4221000"/>
            <a:ext cx="1440" cy="59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Line 68"/>
          <p:cNvSpPr/>
          <p:nvPr/>
        </p:nvSpPr>
        <p:spPr>
          <a:xfrm>
            <a:off x="3463920" y="43689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Line 69"/>
          <p:cNvSpPr/>
          <p:nvPr/>
        </p:nvSpPr>
        <p:spPr>
          <a:xfrm>
            <a:off x="3463920" y="4514760"/>
            <a:ext cx="1440" cy="5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70"/>
          <p:cNvSpPr/>
          <p:nvPr/>
        </p:nvSpPr>
        <p:spPr>
          <a:xfrm>
            <a:off x="3463920" y="4662360"/>
            <a:ext cx="144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Text Box 71"/>
          <p:cNvSpPr/>
          <p:nvPr/>
        </p:nvSpPr>
        <p:spPr>
          <a:xfrm>
            <a:off x="3719520" y="58993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Text Box 72"/>
          <p:cNvSpPr/>
          <p:nvPr/>
        </p:nvSpPr>
        <p:spPr>
          <a:xfrm>
            <a:off x="3866760" y="6041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Text Box 73"/>
          <p:cNvSpPr/>
          <p:nvPr/>
        </p:nvSpPr>
        <p:spPr>
          <a:xfrm>
            <a:off x="5690880" y="3301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Text Box 74"/>
          <p:cNvSpPr/>
          <p:nvPr/>
        </p:nvSpPr>
        <p:spPr>
          <a:xfrm>
            <a:off x="5827320" y="3446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 Box 75"/>
          <p:cNvSpPr/>
          <p:nvPr/>
        </p:nvSpPr>
        <p:spPr>
          <a:xfrm>
            <a:off x="5706720" y="44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Text Box 76"/>
          <p:cNvSpPr/>
          <p:nvPr/>
        </p:nvSpPr>
        <p:spPr>
          <a:xfrm>
            <a:off x="5854320" y="4575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Text Box 77"/>
          <p:cNvSpPr/>
          <p:nvPr/>
        </p:nvSpPr>
        <p:spPr>
          <a:xfrm>
            <a:off x="4871520" y="262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 Box 78"/>
          <p:cNvSpPr/>
          <p:nvPr/>
        </p:nvSpPr>
        <p:spPr>
          <a:xfrm>
            <a:off x="5019480" y="27702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Text Box 79"/>
          <p:cNvSpPr/>
          <p:nvPr/>
        </p:nvSpPr>
        <p:spPr>
          <a:xfrm>
            <a:off x="3834720" y="5289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80"/>
          <p:cNvSpPr/>
          <p:nvPr/>
        </p:nvSpPr>
        <p:spPr>
          <a:xfrm>
            <a:off x="3983040" y="5432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Text Box 81"/>
          <p:cNvSpPr/>
          <p:nvPr/>
        </p:nvSpPr>
        <p:spPr>
          <a:xfrm>
            <a:off x="4802040" y="58024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Text Box 82"/>
          <p:cNvSpPr/>
          <p:nvPr/>
        </p:nvSpPr>
        <p:spPr>
          <a:xfrm>
            <a:off x="4938480" y="59468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83"/>
          <p:cNvSpPr/>
          <p:nvPr/>
        </p:nvSpPr>
        <p:spPr>
          <a:xfrm>
            <a:off x="4827240" y="3905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85"/>
          <p:cNvSpPr/>
          <p:nvPr/>
        </p:nvSpPr>
        <p:spPr>
          <a:xfrm>
            <a:off x="4880880" y="1874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86"/>
          <p:cNvSpPr/>
          <p:nvPr/>
        </p:nvSpPr>
        <p:spPr>
          <a:xfrm>
            <a:off x="6548040" y="475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87"/>
          <p:cNvSpPr/>
          <p:nvPr/>
        </p:nvSpPr>
        <p:spPr>
          <a:xfrm>
            <a:off x="2741040" y="5892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D999-995D-4143-8768-A43F06636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4280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Связь системы Монжа с прямоугольной системой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 Box 5"/>
          <p:cNvSpPr/>
          <p:nvPr/>
        </p:nvSpPr>
        <p:spPr>
          <a:xfrm>
            <a:off x="2568240" y="376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2717640" y="3890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7"/>
          <p:cNvSpPr/>
          <p:nvPr/>
        </p:nvSpPr>
        <p:spPr>
          <a:xfrm>
            <a:off x="4639680" y="3711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Text Box 9"/>
          <p:cNvSpPr/>
          <p:nvPr/>
        </p:nvSpPr>
        <p:spPr>
          <a:xfrm>
            <a:off x="4898880" y="18986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11"/>
          <p:cNvSpPr/>
          <p:nvPr/>
        </p:nvSpPr>
        <p:spPr>
          <a:xfrm>
            <a:off x="7249680" y="38656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 Box 13"/>
          <p:cNvSpPr/>
          <p:nvPr/>
        </p:nvSpPr>
        <p:spPr>
          <a:xfrm>
            <a:off x="4051080" y="64771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5"/>
          <p:cNvSpPr/>
          <p:nvPr/>
        </p:nvSpPr>
        <p:spPr>
          <a:xfrm>
            <a:off x="1579680" y="4132440"/>
            <a:ext cx="569124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6"/>
          <p:cNvSpPr/>
          <p:nvPr/>
        </p:nvSpPr>
        <p:spPr>
          <a:xfrm>
            <a:off x="4656240" y="1930320"/>
            <a:ext cx="1440" cy="465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Text Box 18"/>
          <p:cNvSpPr/>
          <p:nvPr/>
        </p:nvSpPr>
        <p:spPr>
          <a:xfrm>
            <a:off x="4748400" y="173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Text Box 19"/>
          <p:cNvSpPr/>
          <p:nvPr/>
        </p:nvSpPr>
        <p:spPr>
          <a:xfrm>
            <a:off x="7020000" y="367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 Box 20"/>
          <p:cNvSpPr/>
          <p:nvPr/>
        </p:nvSpPr>
        <p:spPr>
          <a:xfrm>
            <a:off x="3859560" y="626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1EBB-A8A3-47AE-88D1-340D9ABCB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остейший аппарат проецирования</a:t>
            </a:r>
            <a:br>
              <a:rPr sz="3200"/>
            </a:b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(алгоритмическая ч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5"/>
          <p:cNvSpPr/>
          <p:nvPr/>
        </p:nvSpPr>
        <p:spPr>
          <a:xfrm>
            <a:off x="2178000" y="2598840"/>
            <a:ext cx="609480" cy="2369880"/>
          </a:xfrm>
          <a:custGeom>
            <a:avLst/>
            <a:gdLst/>
            <a:ahLst/>
            <a:rect l="l" t="t" r="r" b="b"/>
            <a:pathLst>
              <a:path w="4004" h="15514">
                <a:moveTo>
                  <a:pt x="4004" y="0"/>
                </a:moveTo>
                <a:lnTo>
                  <a:pt x="3320" y="804"/>
                </a:lnTo>
                <a:lnTo>
                  <a:pt x="2986" y="1208"/>
                </a:lnTo>
                <a:lnTo>
                  <a:pt x="2658" y="1616"/>
                </a:lnTo>
                <a:lnTo>
                  <a:pt x="2342" y="2027"/>
                </a:lnTo>
                <a:lnTo>
                  <a:pt x="2039" y="2443"/>
                </a:lnTo>
                <a:lnTo>
                  <a:pt x="1894" y="2653"/>
                </a:lnTo>
                <a:lnTo>
                  <a:pt x="1754" y="2865"/>
                </a:lnTo>
                <a:lnTo>
                  <a:pt x="1617" y="3078"/>
                </a:lnTo>
                <a:lnTo>
                  <a:pt x="1486" y="3293"/>
                </a:lnTo>
                <a:lnTo>
                  <a:pt x="1360" y="3510"/>
                </a:lnTo>
                <a:lnTo>
                  <a:pt x="1241" y="3729"/>
                </a:lnTo>
                <a:lnTo>
                  <a:pt x="1127" y="3951"/>
                </a:lnTo>
                <a:lnTo>
                  <a:pt x="1020" y="4174"/>
                </a:lnTo>
                <a:lnTo>
                  <a:pt x="918" y="4400"/>
                </a:lnTo>
                <a:lnTo>
                  <a:pt x="823" y="4629"/>
                </a:lnTo>
                <a:lnTo>
                  <a:pt x="735" y="4859"/>
                </a:lnTo>
                <a:lnTo>
                  <a:pt x="651" y="5091"/>
                </a:lnTo>
                <a:lnTo>
                  <a:pt x="574" y="5325"/>
                </a:lnTo>
                <a:lnTo>
                  <a:pt x="503" y="5561"/>
                </a:lnTo>
                <a:lnTo>
                  <a:pt x="437" y="5800"/>
                </a:lnTo>
                <a:lnTo>
                  <a:pt x="376" y="6040"/>
                </a:lnTo>
                <a:lnTo>
                  <a:pt x="320" y="6281"/>
                </a:lnTo>
                <a:lnTo>
                  <a:pt x="269" y="6525"/>
                </a:lnTo>
                <a:lnTo>
                  <a:pt x="223" y="6771"/>
                </a:lnTo>
                <a:lnTo>
                  <a:pt x="182" y="7018"/>
                </a:lnTo>
                <a:lnTo>
                  <a:pt x="146" y="7268"/>
                </a:lnTo>
                <a:lnTo>
                  <a:pt x="113" y="7518"/>
                </a:lnTo>
                <a:lnTo>
                  <a:pt x="86" y="7770"/>
                </a:lnTo>
                <a:lnTo>
                  <a:pt x="62" y="8023"/>
                </a:lnTo>
                <a:lnTo>
                  <a:pt x="42" y="8278"/>
                </a:lnTo>
                <a:lnTo>
                  <a:pt x="27" y="8534"/>
                </a:lnTo>
                <a:lnTo>
                  <a:pt x="7" y="9050"/>
                </a:lnTo>
                <a:lnTo>
                  <a:pt x="0" y="9572"/>
                </a:lnTo>
                <a:lnTo>
                  <a:pt x="6" y="10098"/>
                </a:lnTo>
                <a:lnTo>
                  <a:pt x="23" y="10628"/>
                </a:lnTo>
                <a:lnTo>
                  <a:pt x="51" y="11161"/>
                </a:lnTo>
                <a:lnTo>
                  <a:pt x="88" y="11698"/>
                </a:lnTo>
                <a:lnTo>
                  <a:pt x="133" y="12238"/>
                </a:lnTo>
                <a:lnTo>
                  <a:pt x="185" y="12780"/>
                </a:lnTo>
                <a:lnTo>
                  <a:pt x="242" y="13325"/>
                </a:lnTo>
                <a:lnTo>
                  <a:pt x="370" y="14418"/>
                </a:lnTo>
                <a:lnTo>
                  <a:pt x="507" y="155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787480" y="2598840"/>
            <a:ext cx="1749600" cy="973080"/>
          </a:xfrm>
          <a:custGeom>
            <a:avLst/>
            <a:gdLst/>
            <a:ahLst/>
            <a:rect l="l" t="t" r="r" b="b"/>
            <a:pathLst>
              <a:path w="11451" h="6375">
                <a:moveTo>
                  <a:pt x="0" y="0"/>
                </a:moveTo>
                <a:lnTo>
                  <a:pt x="365" y="868"/>
                </a:lnTo>
                <a:lnTo>
                  <a:pt x="553" y="1296"/>
                </a:lnTo>
                <a:lnTo>
                  <a:pt x="745" y="1717"/>
                </a:lnTo>
                <a:lnTo>
                  <a:pt x="945" y="2129"/>
                </a:lnTo>
                <a:lnTo>
                  <a:pt x="1048" y="2330"/>
                </a:lnTo>
                <a:lnTo>
                  <a:pt x="1153" y="2528"/>
                </a:lnTo>
                <a:lnTo>
                  <a:pt x="1261" y="2722"/>
                </a:lnTo>
                <a:lnTo>
                  <a:pt x="1373" y="2912"/>
                </a:lnTo>
                <a:lnTo>
                  <a:pt x="1487" y="3098"/>
                </a:lnTo>
                <a:lnTo>
                  <a:pt x="1605" y="3280"/>
                </a:lnTo>
                <a:lnTo>
                  <a:pt x="1726" y="3456"/>
                </a:lnTo>
                <a:lnTo>
                  <a:pt x="1852" y="3628"/>
                </a:lnTo>
                <a:lnTo>
                  <a:pt x="1980" y="3794"/>
                </a:lnTo>
                <a:lnTo>
                  <a:pt x="2114" y="3954"/>
                </a:lnTo>
                <a:lnTo>
                  <a:pt x="2252" y="4109"/>
                </a:lnTo>
                <a:lnTo>
                  <a:pt x="2395" y="4257"/>
                </a:lnTo>
                <a:lnTo>
                  <a:pt x="2542" y="4398"/>
                </a:lnTo>
                <a:lnTo>
                  <a:pt x="2695" y="4533"/>
                </a:lnTo>
                <a:lnTo>
                  <a:pt x="2853" y="4662"/>
                </a:lnTo>
                <a:lnTo>
                  <a:pt x="3014" y="4784"/>
                </a:lnTo>
                <a:lnTo>
                  <a:pt x="3182" y="4900"/>
                </a:lnTo>
                <a:lnTo>
                  <a:pt x="3353" y="5011"/>
                </a:lnTo>
                <a:lnTo>
                  <a:pt x="3527" y="5114"/>
                </a:lnTo>
                <a:lnTo>
                  <a:pt x="3707" y="5214"/>
                </a:lnTo>
                <a:lnTo>
                  <a:pt x="3891" y="5307"/>
                </a:lnTo>
                <a:lnTo>
                  <a:pt x="4079" y="5395"/>
                </a:lnTo>
                <a:lnTo>
                  <a:pt x="4269" y="5478"/>
                </a:lnTo>
                <a:lnTo>
                  <a:pt x="4465" y="5555"/>
                </a:lnTo>
                <a:lnTo>
                  <a:pt x="4664" y="5628"/>
                </a:lnTo>
                <a:lnTo>
                  <a:pt x="4866" y="5697"/>
                </a:lnTo>
                <a:lnTo>
                  <a:pt x="5071" y="5761"/>
                </a:lnTo>
                <a:lnTo>
                  <a:pt x="5281" y="5821"/>
                </a:lnTo>
                <a:lnTo>
                  <a:pt x="5492" y="5876"/>
                </a:lnTo>
                <a:lnTo>
                  <a:pt x="5707" y="5928"/>
                </a:lnTo>
                <a:lnTo>
                  <a:pt x="5924" y="5975"/>
                </a:lnTo>
                <a:lnTo>
                  <a:pt x="6145" y="6019"/>
                </a:lnTo>
                <a:lnTo>
                  <a:pt x="6368" y="6060"/>
                </a:lnTo>
                <a:lnTo>
                  <a:pt x="6594" y="6096"/>
                </a:lnTo>
                <a:lnTo>
                  <a:pt x="7053" y="6160"/>
                </a:lnTo>
                <a:lnTo>
                  <a:pt x="7519" y="6213"/>
                </a:lnTo>
                <a:lnTo>
                  <a:pt x="7994" y="6256"/>
                </a:lnTo>
                <a:lnTo>
                  <a:pt x="8475" y="6290"/>
                </a:lnTo>
                <a:lnTo>
                  <a:pt x="8963" y="6316"/>
                </a:lnTo>
                <a:lnTo>
                  <a:pt x="9454" y="6335"/>
                </a:lnTo>
                <a:lnTo>
                  <a:pt x="9950" y="6350"/>
                </a:lnTo>
                <a:lnTo>
                  <a:pt x="10448" y="6360"/>
                </a:lnTo>
                <a:lnTo>
                  <a:pt x="11451" y="63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7"/>
          <p:cNvSpPr/>
          <p:nvPr/>
        </p:nvSpPr>
        <p:spPr>
          <a:xfrm>
            <a:off x="4102200" y="3571920"/>
            <a:ext cx="450720" cy="2333520"/>
          </a:xfrm>
          <a:custGeom>
            <a:avLst/>
            <a:gdLst/>
            <a:ahLst/>
            <a:rect l="l" t="t" r="r" b="b"/>
            <a:pathLst>
              <a:path w="2961" h="15287">
                <a:moveTo>
                  <a:pt x="2849" y="0"/>
                </a:moveTo>
                <a:lnTo>
                  <a:pt x="2219" y="859"/>
                </a:lnTo>
                <a:lnTo>
                  <a:pt x="1913" y="1290"/>
                </a:lnTo>
                <a:lnTo>
                  <a:pt x="1618" y="1724"/>
                </a:lnTo>
                <a:lnTo>
                  <a:pt x="1476" y="1940"/>
                </a:lnTo>
                <a:lnTo>
                  <a:pt x="1337" y="2158"/>
                </a:lnTo>
                <a:lnTo>
                  <a:pt x="1203" y="2377"/>
                </a:lnTo>
                <a:lnTo>
                  <a:pt x="1075" y="2596"/>
                </a:lnTo>
                <a:lnTo>
                  <a:pt x="952" y="2817"/>
                </a:lnTo>
                <a:lnTo>
                  <a:pt x="835" y="3038"/>
                </a:lnTo>
                <a:lnTo>
                  <a:pt x="724" y="3260"/>
                </a:lnTo>
                <a:lnTo>
                  <a:pt x="619" y="3482"/>
                </a:lnTo>
                <a:lnTo>
                  <a:pt x="523" y="3707"/>
                </a:lnTo>
                <a:lnTo>
                  <a:pt x="433" y="3932"/>
                </a:lnTo>
                <a:lnTo>
                  <a:pt x="353" y="4158"/>
                </a:lnTo>
                <a:lnTo>
                  <a:pt x="280" y="4386"/>
                </a:lnTo>
                <a:lnTo>
                  <a:pt x="216" y="4614"/>
                </a:lnTo>
                <a:lnTo>
                  <a:pt x="161" y="4844"/>
                </a:lnTo>
                <a:lnTo>
                  <a:pt x="115" y="5077"/>
                </a:lnTo>
                <a:lnTo>
                  <a:pt x="76" y="5309"/>
                </a:lnTo>
                <a:lnTo>
                  <a:pt x="46" y="5544"/>
                </a:lnTo>
                <a:lnTo>
                  <a:pt x="23" y="5778"/>
                </a:lnTo>
                <a:lnTo>
                  <a:pt x="8" y="6015"/>
                </a:lnTo>
                <a:lnTo>
                  <a:pt x="1" y="6252"/>
                </a:lnTo>
                <a:lnTo>
                  <a:pt x="0" y="6491"/>
                </a:lnTo>
                <a:lnTo>
                  <a:pt x="6" y="6731"/>
                </a:lnTo>
                <a:lnTo>
                  <a:pt x="20" y="6971"/>
                </a:lnTo>
                <a:lnTo>
                  <a:pt x="40" y="7212"/>
                </a:lnTo>
                <a:lnTo>
                  <a:pt x="66" y="7455"/>
                </a:lnTo>
                <a:lnTo>
                  <a:pt x="98" y="7698"/>
                </a:lnTo>
                <a:lnTo>
                  <a:pt x="137" y="7943"/>
                </a:lnTo>
                <a:lnTo>
                  <a:pt x="181" y="8188"/>
                </a:lnTo>
                <a:lnTo>
                  <a:pt x="231" y="8434"/>
                </a:lnTo>
                <a:lnTo>
                  <a:pt x="287" y="8681"/>
                </a:lnTo>
                <a:lnTo>
                  <a:pt x="346" y="8929"/>
                </a:lnTo>
                <a:lnTo>
                  <a:pt x="412" y="9177"/>
                </a:lnTo>
                <a:lnTo>
                  <a:pt x="482" y="9426"/>
                </a:lnTo>
                <a:lnTo>
                  <a:pt x="557" y="9677"/>
                </a:lnTo>
                <a:lnTo>
                  <a:pt x="636" y="9927"/>
                </a:lnTo>
                <a:lnTo>
                  <a:pt x="720" y="10178"/>
                </a:lnTo>
                <a:lnTo>
                  <a:pt x="898" y="10682"/>
                </a:lnTo>
                <a:lnTo>
                  <a:pt x="1092" y="11188"/>
                </a:lnTo>
                <a:lnTo>
                  <a:pt x="1297" y="11696"/>
                </a:lnTo>
                <a:lnTo>
                  <a:pt x="1514" y="12206"/>
                </a:lnTo>
                <a:lnTo>
                  <a:pt x="1740" y="12718"/>
                </a:lnTo>
                <a:lnTo>
                  <a:pt x="1975" y="13230"/>
                </a:lnTo>
                <a:lnTo>
                  <a:pt x="2216" y="13744"/>
                </a:lnTo>
                <a:lnTo>
                  <a:pt x="2462" y="14258"/>
                </a:lnTo>
                <a:lnTo>
                  <a:pt x="2961" y="152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2254320" y="4968720"/>
            <a:ext cx="2298600" cy="939960"/>
          </a:xfrm>
          <a:custGeom>
            <a:avLst/>
            <a:gdLst/>
            <a:ahLst/>
            <a:rect l="l" t="t" r="r" b="b"/>
            <a:pathLst>
              <a:path w="15060" h="6167">
                <a:moveTo>
                  <a:pt x="0" y="0"/>
                </a:moveTo>
                <a:lnTo>
                  <a:pt x="675" y="877"/>
                </a:lnTo>
                <a:lnTo>
                  <a:pt x="1016" y="1309"/>
                </a:lnTo>
                <a:lnTo>
                  <a:pt x="1362" y="1734"/>
                </a:lnTo>
                <a:lnTo>
                  <a:pt x="1712" y="2149"/>
                </a:lnTo>
                <a:lnTo>
                  <a:pt x="2069" y="2551"/>
                </a:lnTo>
                <a:lnTo>
                  <a:pt x="2251" y="2745"/>
                </a:lnTo>
                <a:lnTo>
                  <a:pt x="2436" y="2936"/>
                </a:lnTo>
                <a:lnTo>
                  <a:pt x="2622" y="3122"/>
                </a:lnTo>
                <a:lnTo>
                  <a:pt x="2811" y="3304"/>
                </a:lnTo>
                <a:lnTo>
                  <a:pt x="3004" y="3480"/>
                </a:lnTo>
                <a:lnTo>
                  <a:pt x="3199" y="3651"/>
                </a:lnTo>
                <a:lnTo>
                  <a:pt x="3396" y="3816"/>
                </a:lnTo>
                <a:lnTo>
                  <a:pt x="3599" y="3975"/>
                </a:lnTo>
                <a:lnTo>
                  <a:pt x="3803" y="4127"/>
                </a:lnTo>
                <a:lnTo>
                  <a:pt x="4012" y="4273"/>
                </a:lnTo>
                <a:lnTo>
                  <a:pt x="4223" y="4412"/>
                </a:lnTo>
                <a:lnTo>
                  <a:pt x="4440" y="4544"/>
                </a:lnTo>
                <a:lnTo>
                  <a:pt x="4660" y="4668"/>
                </a:lnTo>
                <a:lnTo>
                  <a:pt x="4883" y="4788"/>
                </a:lnTo>
                <a:lnTo>
                  <a:pt x="5109" y="4900"/>
                </a:lnTo>
                <a:lnTo>
                  <a:pt x="5339" y="5007"/>
                </a:lnTo>
                <a:lnTo>
                  <a:pt x="5572" y="5107"/>
                </a:lnTo>
                <a:lnTo>
                  <a:pt x="5808" y="5201"/>
                </a:lnTo>
                <a:lnTo>
                  <a:pt x="6047" y="5290"/>
                </a:lnTo>
                <a:lnTo>
                  <a:pt x="6290" y="5374"/>
                </a:lnTo>
                <a:lnTo>
                  <a:pt x="6535" y="5453"/>
                </a:lnTo>
                <a:lnTo>
                  <a:pt x="6782" y="5525"/>
                </a:lnTo>
                <a:lnTo>
                  <a:pt x="7033" y="5593"/>
                </a:lnTo>
                <a:lnTo>
                  <a:pt x="7285" y="5657"/>
                </a:lnTo>
                <a:lnTo>
                  <a:pt x="7540" y="5715"/>
                </a:lnTo>
                <a:lnTo>
                  <a:pt x="7799" y="5769"/>
                </a:lnTo>
                <a:lnTo>
                  <a:pt x="8060" y="5819"/>
                </a:lnTo>
                <a:lnTo>
                  <a:pt x="8321" y="5865"/>
                </a:lnTo>
                <a:lnTo>
                  <a:pt x="8586" y="5906"/>
                </a:lnTo>
                <a:lnTo>
                  <a:pt x="8853" y="5945"/>
                </a:lnTo>
                <a:lnTo>
                  <a:pt x="9392" y="6009"/>
                </a:lnTo>
                <a:lnTo>
                  <a:pt x="9938" y="6061"/>
                </a:lnTo>
                <a:lnTo>
                  <a:pt x="10491" y="6101"/>
                </a:lnTo>
                <a:lnTo>
                  <a:pt x="11050" y="6130"/>
                </a:lnTo>
                <a:lnTo>
                  <a:pt x="11614" y="6150"/>
                </a:lnTo>
                <a:lnTo>
                  <a:pt x="12181" y="6161"/>
                </a:lnTo>
                <a:lnTo>
                  <a:pt x="12753" y="6167"/>
                </a:lnTo>
                <a:lnTo>
                  <a:pt x="13328" y="6167"/>
                </a:lnTo>
                <a:lnTo>
                  <a:pt x="13904" y="6162"/>
                </a:lnTo>
                <a:lnTo>
                  <a:pt x="15060" y="61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9"/>
          <p:cNvSpPr/>
          <p:nvPr/>
        </p:nvSpPr>
        <p:spPr>
          <a:xfrm>
            <a:off x="665280" y="4006800"/>
            <a:ext cx="153720" cy="15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1698480" y="4191120"/>
            <a:ext cx="154080" cy="153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41520" y="3413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2562120" y="2720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1695960" y="3687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C1DB-2AF6-4F29-96D4-A572C5402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4280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Связь системы Монжа с прямоугольной системой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Text Box 7"/>
          <p:cNvSpPr/>
          <p:nvPr/>
        </p:nvSpPr>
        <p:spPr>
          <a:xfrm>
            <a:off x="4639680" y="3711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"/>
          <p:cNvSpPr/>
          <p:nvPr/>
        </p:nvSpPr>
        <p:spPr>
          <a:xfrm>
            <a:off x="1579680" y="4132440"/>
            <a:ext cx="569124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5"/>
          <p:cNvSpPr/>
          <p:nvPr/>
        </p:nvSpPr>
        <p:spPr>
          <a:xfrm>
            <a:off x="4656240" y="1930320"/>
            <a:ext cx="1440" cy="465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Text Box 16"/>
          <p:cNvSpPr/>
          <p:nvPr/>
        </p:nvSpPr>
        <p:spPr>
          <a:xfrm>
            <a:off x="1468080" y="3687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Text Box 17"/>
          <p:cNvSpPr/>
          <p:nvPr/>
        </p:nvSpPr>
        <p:spPr>
          <a:xfrm>
            <a:off x="4747680" y="173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Text Box 18"/>
          <p:cNvSpPr/>
          <p:nvPr/>
        </p:nvSpPr>
        <p:spPr>
          <a:xfrm>
            <a:off x="7019280" y="367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Text Box 19"/>
          <p:cNvSpPr/>
          <p:nvPr/>
        </p:nvSpPr>
        <p:spPr>
          <a:xfrm>
            <a:off x="4236480" y="626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79"/>
          <p:cNvSpPr/>
          <p:nvPr/>
        </p:nvSpPr>
        <p:spPr>
          <a:xfrm>
            <a:off x="4645080" y="2913120"/>
            <a:ext cx="1440" cy="298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80"/>
          <p:cNvSpPr/>
          <p:nvPr/>
        </p:nvSpPr>
        <p:spPr>
          <a:xfrm flipH="1">
            <a:off x="1661760" y="4130640"/>
            <a:ext cx="470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 Box 96"/>
          <p:cNvSpPr/>
          <p:nvPr/>
        </p:nvSpPr>
        <p:spPr>
          <a:xfrm>
            <a:off x="230400" y="1789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30;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97"/>
          <p:cNvSpPr/>
          <p:nvPr/>
        </p:nvSpPr>
        <p:spPr>
          <a:xfrm>
            <a:off x="4186080" y="4132440"/>
            <a:ext cx="479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Text Box 98"/>
          <p:cNvSpPr/>
          <p:nvPr/>
        </p:nvSpPr>
        <p:spPr>
          <a:xfrm>
            <a:off x="4195440" y="3738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5DDE-4DA3-4BCB-96F1-3BD080BBF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4280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Связь системы Монжа с прямоугольной системой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Text Box 5"/>
          <p:cNvSpPr/>
          <p:nvPr/>
        </p:nvSpPr>
        <p:spPr>
          <a:xfrm>
            <a:off x="4639680" y="3711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6"/>
          <p:cNvSpPr/>
          <p:nvPr/>
        </p:nvSpPr>
        <p:spPr>
          <a:xfrm>
            <a:off x="1579680" y="4132440"/>
            <a:ext cx="569124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7"/>
          <p:cNvSpPr/>
          <p:nvPr/>
        </p:nvSpPr>
        <p:spPr>
          <a:xfrm>
            <a:off x="4656240" y="1930320"/>
            <a:ext cx="1440" cy="465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Text Box 8"/>
          <p:cNvSpPr/>
          <p:nvPr/>
        </p:nvSpPr>
        <p:spPr>
          <a:xfrm>
            <a:off x="1468080" y="3687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Text Box 9"/>
          <p:cNvSpPr/>
          <p:nvPr/>
        </p:nvSpPr>
        <p:spPr>
          <a:xfrm>
            <a:off x="4747680" y="173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Text Box 10"/>
          <p:cNvSpPr/>
          <p:nvPr/>
        </p:nvSpPr>
        <p:spPr>
          <a:xfrm>
            <a:off x="7019280" y="367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Text Box 11"/>
          <p:cNvSpPr/>
          <p:nvPr/>
        </p:nvSpPr>
        <p:spPr>
          <a:xfrm>
            <a:off x="4236480" y="626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2"/>
          <p:cNvSpPr/>
          <p:nvPr/>
        </p:nvSpPr>
        <p:spPr>
          <a:xfrm>
            <a:off x="4189320" y="413064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13"/>
          <p:cNvSpPr/>
          <p:nvPr/>
        </p:nvSpPr>
        <p:spPr>
          <a:xfrm flipV="1">
            <a:off x="4189320" y="2595600"/>
            <a:ext cx="1800" cy="153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14"/>
          <p:cNvSpPr/>
          <p:nvPr/>
        </p:nvSpPr>
        <p:spPr>
          <a:xfrm>
            <a:off x="4645080" y="2913120"/>
            <a:ext cx="1440" cy="298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Line 15"/>
          <p:cNvSpPr/>
          <p:nvPr/>
        </p:nvSpPr>
        <p:spPr>
          <a:xfrm flipH="1">
            <a:off x="1661760" y="4130640"/>
            <a:ext cx="470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16"/>
          <p:cNvSpPr/>
          <p:nvPr/>
        </p:nvSpPr>
        <p:spPr>
          <a:xfrm>
            <a:off x="230400" y="1789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10; 30;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Line 17"/>
          <p:cNvSpPr/>
          <p:nvPr/>
        </p:nvSpPr>
        <p:spPr>
          <a:xfrm flipH="1">
            <a:off x="4185720" y="4133880"/>
            <a:ext cx="466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293C-965B-42D3-BDF7-75EE22F4B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4280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Связь системы Монжа с прямоугольной системой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Text Box 5"/>
          <p:cNvSpPr/>
          <p:nvPr/>
        </p:nvSpPr>
        <p:spPr>
          <a:xfrm>
            <a:off x="4639680" y="3711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6"/>
          <p:cNvSpPr/>
          <p:nvPr/>
        </p:nvSpPr>
        <p:spPr>
          <a:xfrm>
            <a:off x="1579680" y="4132440"/>
            <a:ext cx="569124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7"/>
          <p:cNvSpPr/>
          <p:nvPr/>
        </p:nvSpPr>
        <p:spPr>
          <a:xfrm>
            <a:off x="4656240" y="1930320"/>
            <a:ext cx="1440" cy="465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Text Box 8"/>
          <p:cNvSpPr/>
          <p:nvPr/>
        </p:nvSpPr>
        <p:spPr>
          <a:xfrm>
            <a:off x="1468080" y="3687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Text Box 9"/>
          <p:cNvSpPr/>
          <p:nvPr/>
        </p:nvSpPr>
        <p:spPr>
          <a:xfrm>
            <a:off x="4747680" y="173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Text Box 10"/>
          <p:cNvSpPr/>
          <p:nvPr/>
        </p:nvSpPr>
        <p:spPr>
          <a:xfrm>
            <a:off x="7019280" y="367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 Box 11"/>
          <p:cNvSpPr/>
          <p:nvPr/>
        </p:nvSpPr>
        <p:spPr>
          <a:xfrm>
            <a:off x="4236480" y="626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13"/>
          <p:cNvSpPr/>
          <p:nvPr/>
        </p:nvSpPr>
        <p:spPr>
          <a:xfrm>
            <a:off x="4189320" y="413064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14"/>
          <p:cNvSpPr/>
          <p:nvPr/>
        </p:nvSpPr>
        <p:spPr>
          <a:xfrm flipV="1">
            <a:off x="4189320" y="2595600"/>
            <a:ext cx="1800" cy="153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Line 19"/>
          <p:cNvSpPr/>
          <p:nvPr/>
        </p:nvSpPr>
        <p:spPr>
          <a:xfrm>
            <a:off x="4645080" y="2913120"/>
            <a:ext cx="1440" cy="298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Line 20"/>
          <p:cNvSpPr/>
          <p:nvPr/>
        </p:nvSpPr>
        <p:spPr>
          <a:xfrm flipH="1">
            <a:off x="1661760" y="4130640"/>
            <a:ext cx="470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Oval 33"/>
          <p:cNvSpPr/>
          <p:nvPr/>
        </p:nvSpPr>
        <p:spPr>
          <a:xfrm>
            <a:off x="4133880" y="543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Text Box 34"/>
          <p:cNvSpPr/>
          <p:nvPr/>
        </p:nvSpPr>
        <p:spPr>
          <a:xfrm>
            <a:off x="3662640" y="5504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Text Box 35"/>
          <p:cNvSpPr/>
          <p:nvPr/>
        </p:nvSpPr>
        <p:spPr>
          <a:xfrm>
            <a:off x="38718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720" y="1789200"/>
            <a:ext cx="26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10; 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Line 38"/>
          <p:cNvSpPr/>
          <p:nvPr/>
        </p:nvSpPr>
        <p:spPr>
          <a:xfrm flipH="1">
            <a:off x="4185720" y="4133880"/>
            <a:ext cx="466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39"/>
          <p:cNvSpPr/>
          <p:nvPr/>
        </p:nvSpPr>
        <p:spPr>
          <a:xfrm flipH="1">
            <a:off x="4187520" y="4130640"/>
            <a:ext cx="3240" cy="130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41"/>
          <p:cNvSpPr/>
          <p:nvPr/>
        </p:nvSpPr>
        <p:spPr>
          <a:xfrm>
            <a:off x="4141440" y="46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C761-6BE9-4695-934E-FCC1524AA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4280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Связь системы Монжа с прямоугольной системой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Text Box 20"/>
          <p:cNvSpPr/>
          <p:nvPr/>
        </p:nvSpPr>
        <p:spPr>
          <a:xfrm>
            <a:off x="4639680" y="3711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21"/>
          <p:cNvSpPr/>
          <p:nvPr/>
        </p:nvSpPr>
        <p:spPr>
          <a:xfrm>
            <a:off x="1579680" y="4132440"/>
            <a:ext cx="569124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Line 22"/>
          <p:cNvSpPr/>
          <p:nvPr/>
        </p:nvSpPr>
        <p:spPr>
          <a:xfrm>
            <a:off x="4656240" y="1930320"/>
            <a:ext cx="1440" cy="465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Text Box 23"/>
          <p:cNvSpPr/>
          <p:nvPr/>
        </p:nvSpPr>
        <p:spPr>
          <a:xfrm>
            <a:off x="1468080" y="3687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24"/>
          <p:cNvSpPr/>
          <p:nvPr/>
        </p:nvSpPr>
        <p:spPr>
          <a:xfrm>
            <a:off x="4747680" y="173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Text Box 25"/>
          <p:cNvSpPr/>
          <p:nvPr/>
        </p:nvSpPr>
        <p:spPr>
          <a:xfrm>
            <a:off x="7019280" y="367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26"/>
          <p:cNvSpPr/>
          <p:nvPr/>
        </p:nvSpPr>
        <p:spPr>
          <a:xfrm>
            <a:off x="4236480" y="626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27"/>
          <p:cNvSpPr/>
          <p:nvPr/>
        </p:nvSpPr>
        <p:spPr>
          <a:xfrm>
            <a:off x="4189320" y="413064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28"/>
          <p:cNvSpPr/>
          <p:nvPr/>
        </p:nvSpPr>
        <p:spPr>
          <a:xfrm flipV="1">
            <a:off x="4189320" y="2595600"/>
            <a:ext cx="1800" cy="153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33"/>
          <p:cNvSpPr/>
          <p:nvPr/>
        </p:nvSpPr>
        <p:spPr>
          <a:xfrm>
            <a:off x="4645080" y="2913120"/>
            <a:ext cx="1440" cy="298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Line 34"/>
          <p:cNvSpPr/>
          <p:nvPr/>
        </p:nvSpPr>
        <p:spPr>
          <a:xfrm flipH="1">
            <a:off x="1661760" y="4130640"/>
            <a:ext cx="470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 Box 41"/>
          <p:cNvSpPr/>
          <p:nvPr/>
        </p:nvSpPr>
        <p:spPr>
          <a:xfrm>
            <a:off x="4215240" y="2678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Oval 42"/>
          <p:cNvSpPr/>
          <p:nvPr/>
        </p:nvSpPr>
        <p:spPr>
          <a:xfrm>
            <a:off x="4129200" y="3156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43"/>
          <p:cNvSpPr/>
          <p:nvPr/>
        </p:nvSpPr>
        <p:spPr>
          <a:xfrm>
            <a:off x="4424040" y="282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Oval 47"/>
          <p:cNvSpPr/>
          <p:nvPr/>
        </p:nvSpPr>
        <p:spPr>
          <a:xfrm>
            <a:off x="4133880" y="543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48"/>
          <p:cNvSpPr/>
          <p:nvPr/>
        </p:nvSpPr>
        <p:spPr>
          <a:xfrm>
            <a:off x="3662640" y="5504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49"/>
          <p:cNvSpPr/>
          <p:nvPr/>
        </p:nvSpPr>
        <p:spPr>
          <a:xfrm>
            <a:off x="38718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 Box 50"/>
          <p:cNvSpPr/>
          <p:nvPr/>
        </p:nvSpPr>
        <p:spPr>
          <a:xfrm>
            <a:off x="360" y="1789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10; 30; 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Line 51"/>
          <p:cNvSpPr/>
          <p:nvPr/>
        </p:nvSpPr>
        <p:spPr>
          <a:xfrm flipH="1">
            <a:off x="4185720" y="4133880"/>
            <a:ext cx="466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Line 52"/>
          <p:cNvSpPr/>
          <p:nvPr/>
        </p:nvSpPr>
        <p:spPr>
          <a:xfrm flipH="1">
            <a:off x="4187520" y="4130640"/>
            <a:ext cx="3240" cy="130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 Box 53"/>
          <p:cNvSpPr/>
          <p:nvPr/>
        </p:nvSpPr>
        <p:spPr>
          <a:xfrm>
            <a:off x="4136760" y="3463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Line 54"/>
          <p:cNvSpPr/>
          <p:nvPr/>
        </p:nvSpPr>
        <p:spPr>
          <a:xfrm>
            <a:off x="4186080" y="3274920"/>
            <a:ext cx="0" cy="85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3769-AA1A-45BC-AE79-625DBD5C6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4280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Связь системы Монжа с прямоугольной системой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Text Box 5"/>
          <p:cNvSpPr/>
          <p:nvPr/>
        </p:nvSpPr>
        <p:spPr>
          <a:xfrm>
            <a:off x="4639680" y="3711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Line 6"/>
          <p:cNvSpPr/>
          <p:nvPr/>
        </p:nvSpPr>
        <p:spPr>
          <a:xfrm>
            <a:off x="1579680" y="4132440"/>
            <a:ext cx="569124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7"/>
          <p:cNvSpPr/>
          <p:nvPr/>
        </p:nvSpPr>
        <p:spPr>
          <a:xfrm>
            <a:off x="4656240" y="1930320"/>
            <a:ext cx="1440" cy="465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8"/>
          <p:cNvSpPr/>
          <p:nvPr/>
        </p:nvSpPr>
        <p:spPr>
          <a:xfrm>
            <a:off x="1468080" y="3687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9"/>
          <p:cNvSpPr/>
          <p:nvPr/>
        </p:nvSpPr>
        <p:spPr>
          <a:xfrm>
            <a:off x="4747680" y="173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10"/>
          <p:cNvSpPr/>
          <p:nvPr/>
        </p:nvSpPr>
        <p:spPr>
          <a:xfrm>
            <a:off x="7019280" y="367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 Box 11"/>
          <p:cNvSpPr/>
          <p:nvPr/>
        </p:nvSpPr>
        <p:spPr>
          <a:xfrm>
            <a:off x="4236480" y="626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14"/>
          <p:cNvSpPr/>
          <p:nvPr/>
        </p:nvSpPr>
        <p:spPr>
          <a:xfrm>
            <a:off x="4189320" y="5500800"/>
            <a:ext cx="4557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15"/>
          <p:cNvSpPr/>
          <p:nvPr/>
        </p:nvSpPr>
        <p:spPr>
          <a:xfrm>
            <a:off x="4189320" y="3216240"/>
            <a:ext cx="18255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16"/>
          <p:cNvSpPr/>
          <p:nvPr/>
        </p:nvSpPr>
        <p:spPr>
          <a:xfrm flipV="1">
            <a:off x="4645080" y="4130640"/>
            <a:ext cx="1369800" cy="137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17"/>
          <p:cNvSpPr/>
          <p:nvPr/>
        </p:nvSpPr>
        <p:spPr>
          <a:xfrm flipV="1">
            <a:off x="6014880" y="3216240"/>
            <a:ext cx="1800" cy="91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18"/>
          <p:cNvSpPr/>
          <p:nvPr/>
        </p:nvSpPr>
        <p:spPr>
          <a:xfrm>
            <a:off x="4645080" y="2913120"/>
            <a:ext cx="1440" cy="298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19"/>
          <p:cNvSpPr/>
          <p:nvPr/>
        </p:nvSpPr>
        <p:spPr>
          <a:xfrm flipH="1">
            <a:off x="1661760" y="4130640"/>
            <a:ext cx="470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Text Box 26"/>
          <p:cNvSpPr/>
          <p:nvPr/>
        </p:nvSpPr>
        <p:spPr>
          <a:xfrm>
            <a:off x="4215240" y="2678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Oval 27"/>
          <p:cNvSpPr/>
          <p:nvPr/>
        </p:nvSpPr>
        <p:spPr>
          <a:xfrm>
            <a:off x="4129200" y="3156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 Box 28"/>
          <p:cNvSpPr/>
          <p:nvPr/>
        </p:nvSpPr>
        <p:spPr>
          <a:xfrm>
            <a:off x="4424040" y="282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Oval 29"/>
          <p:cNvSpPr/>
          <p:nvPr/>
        </p:nvSpPr>
        <p:spPr>
          <a:xfrm>
            <a:off x="5952960" y="31561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Text Box 30"/>
          <p:cNvSpPr/>
          <p:nvPr/>
        </p:nvSpPr>
        <p:spPr>
          <a:xfrm>
            <a:off x="6110640" y="272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Text Box 31"/>
          <p:cNvSpPr/>
          <p:nvPr/>
        </p:nvSpPr>
        <p:spPr>
          <a:xfrm>
            <a:off x="6356160" y="289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Oval 32"/>
          <p:cNvSpPr/>
          <p:nvPr/>
        </p:nvSpPr>
        <p:spPr>
          <a:xfrm>
            <a:off x="4133880" y="543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 Box 33"/>
          <p:cNvSpPr/>
          <p:nvPr/>
        </p:nvSpPr>
        <p:spPr>
          <a:xfrm>
            <a:off x="3662640" y="5504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Text Box 34"/>
          <p:cNvSpPr/>
          <p:nvPr/>
        </p:nvSpPr>
        <p:spPr>
          <a:xfrm>
            <a:off x="38718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Text Box 35"/>
          <p:cNvSpPr/>
          <p:nvPr/>
        </p:nvSpPr>
        <p:spPr>
          <a:xfrm>
            <a:off x="360" y="1789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10; 30;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36"/>
          <p:cNvSpPr/>
          <p:nvPr/>
        </p:nvSpPr>
        <p:spPr>
          <a:xfrm flipH="1">
            <a:off x="4185720" y="4133880"/>
            <a:ext cx="466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37"/>
          <p:cNvSpPr/>
          <p:nvPr/>
        </p:nvSpPr>
        <p:spPr>
          <a:xfrm flipH="1">
            <a:off x="4187520" y="4130640"/>
            <a:ext cx="3240" cy="1305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39"/>
          <p:cNvSpPr/>
          <p:nvPr/>
        </p:nvSpPr>
        <p:spPr>
          <a:xfrm>
            <a:off x="4186080" y="3274920"/>
            <a:ext cx="0" cy="85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9DA5-B4F0-4D76-8130-D7FD6A6E40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4280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Связь системы Монжа с прямоугольной системой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 Box 5"/>
          <p:cNvSpPr/>
          <p:nvPr/>
        </p:nvSpPr>
        <p:spPr>
          <a:xfrm>
            <a:off x="4639680" y="3711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Line 6"/>
          <p:cNvSpPr/>
          <p:nvPr/>
        </p:nvSpPr>
        <p:spPr>
          <a:xfrm>
            <a:off x="1579680" y="4132440"/>
            <a:ext cx="569124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7"/>
          <p:cNvSpPr/>
          <p:nvPr/>
        </p:nvSpPr>
        <p:spPr>
          <a:xfrm>
            <a:off x="4656240" y="1930320"/>
            <a:ext cx="1440" cy="465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 Box 8"/>
          <p:cNvSpPr/>
          <p:nvPr/>
        </p:nvSpPr>
        <p:spPr>
          <a:xfrm>
            <a:off x="1468080" y="3687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Text Box 9"/>
          <p:cNvSpPr/>
          <p:nvPr/>
        </p:nvSpPr>
        <p:spPr>
          <a:xfrm>
            <a:off x="4747680" y="173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0"/>
          <p:cNvSpPr/>
          <p:nvPr/>
        </p:nvSpPr>
        <p:spPr>
          <a:xfrm>
            <a:off x="7019280" y="367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ext Box 11"/>
          <p:cNvSpPr/>
          <p:nvPr/>
        </p:nvSpPr>
        <p:spPr>
          <a:xfrm>
            <a:off x="4236480" y="626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2"/>
          <p:cNvSpPr/>
          <p:nvPr/>
        </p:nvSpPr>
        <p:spPr>
          <a:xfrm>
            <a:off x="4189320" y="55008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13"/>
          <p:cNvSpPr/>
          <p:nvPr/>
        </p:nvSpPr>
        <p:spPr>
          <a:xfrm>
            <a:off x="4189320" y="3216240"/>
            <a:ext cx="1825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14"/>
          <p:cNvSpPr/>
          <p:nvPr/>
        </p:nvSpPr>
        <p:spPr>
          <a:xfrm flipV="1">
            <a:off x="4645080" y="4130640"/>
            <a:ext cx="1369800" cy="137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15"/>
          <p:cNvSpPr/>
          <p:nvPr/>
        </p:nvSpPr>
        <p:spPr>
          <a:xfrm flipV="1">
            <a:off x="6014880" y="3216240"/>
            <a:ext cx="180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Line 16"/>
          <p:cNvSpPr/>
          <p:nvPr/>
        </p:nvSpPr>
        <p:spPr>
          <a:xfrm>
            <a:off x="4645080" y="2913120"/>
            <a:ext cx="1440" cy="298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Line 17"/>
          <p:cNvSpPr/>
          <p:nvPr/>
        </p:nvSpPr>
        <p:spPr>
          <a:xfrm flipH="1">
            <a:off x="1661760" y="4130640"/>
            <a:ext cx="470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Text Box 18"/>
          <p:cNvSpPr/>
          <p:nvPr/>
        </p:nvSpPr>
        <p:spPr>
          <a:xfrm>
            <a:off x="3352320" y="267804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x,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19"/>
          <p:cNvSpPr/>
          <p:nvPr/>
        </p:nvSpPr>
        <p:spPr>
          <a:xfrm>
            <a:off x="4129200" y="3156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Text Box 20"/>
          <p:cNvSpPr/>
          <p:nvPr/>
        </p:nvSpPr>
        <p:spPr>
          <a:xfrm>
            <a:off x="3563640" y="282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Oval 21"/>
          <p:cNvSpPr/>
          <p:nvPr/>
        </p:nvSpPr>
        <p:spPr>
          <a:xfrm>
            <a:off x="5952960" y="31561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 Box 22"/>
          <p:cNvSpPr/>
          <p:nvPr/>
        </p:nvSpPr>
        <p:spPr>
          <a:xfrm>
            <a:off x="6108120" y="27273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y,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 Box 23"/>
          <p:cNvSpPr/>
          <p:nvPr/>
        </p:nvSpPr>
        <p:spPr>
          <a:xfrm>
            <a:off x="6356160" y="289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Oval 24"/>
          <p:cNvSpPr/>
          <p:nvPr/>
        </p:nvSpPr>
        <p:spPr>
          <a:xfrm>
            <a:off x="4133880" y="543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Text Box 25"/>
          <p:cNvSpPr/>
          <p:nvPr/>
        </p:nvSpPr>
        <p:spPr>
          <a:xfrm>
            <a:off x="3471480" y="56116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Text Box 26"/>
          <p:cNvSpPr/>
          <p:nvPr/>
        </p:nvSpPr>
        <p:spPr>
          <a:xfrm>
            <a:off x="3682800" y="575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 Box 27"/>
          <p:cNvSpPr/>
          <p:nvPr/>
        </p:nvSpPr>
        <p:spPr>
          <a:xfrm>
            <a:off x="360" y="1789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10; 30;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28"/>
          <p:cNvSpPr/>
          <p:nvPr/>
        </p:nvSpPr>
        <p:spPr>
          <a:xfrm flipH="1">
            <a:off x="4185720" y="4133880"/>
            <a:ext cx="466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Line 29"/>
          <p:cNvSpPr/>
          <p:nvPr/>
        </p:nvSpPr>
        <p:spPr>
          <a:xfrm flipH="1">
            <a:off x="4187520" y="4130640"/>
            <a:ext cx="3240" cy="130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30"/>
          <p:cNvSpPr/>
          <p:nvPr/>
        </p:nvSpPr>
        <p:spPr>
          <a:xfrm>
            <a:off x="4186080" y="3274920"/>
            <a:ext cx="0" cy="85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DE37-289B-4ACC-B90D-9F84F4743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4280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Связь системы Монжа с прямоугольной системой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Text Box 5"/>
          <p:cNvSpPr/>
          <p:nvPr/>
        </p:nvSpPr>
        <p:spPr>
          <a:xfrm>
            <a:off x="182520" y="2166840"/>
            <a:ext cx="8961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ояние от точки до П   опреде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этому для точек принадлеж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х П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ояние от точки до П   опреде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этому для точек принадлеж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х П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ояние от точки до П   опреде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этому для точек принадлеж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х П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Text Box 8"/>
          <p:cNvSpPr/>
          <p:nvPr/>
        </p:nvSpPr>
        <p:spPr>
          <a:xfrm>
            <a:off x="6005880" y="2395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 Box 9"/>
          <p:cNvSpPr/>
          <p:nvPr/>
        </p:nvSpPr>
        <p:spPr>
          <a:xfrm>
            <a:off x="6042240" y="385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 Box 10"/>
          <p:cNvSpPr/>
          <p:nvPr/>
        </p:nvSpPr>
        <p:spPr>
          <a:xfrm>
            <a:off x="1433880" y="63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Text Box 11"/>
          <p:cNvSpPr/>
          <p:nvPr/>
        </p:nvSpPr>
        <p:spPr>
          <a:xfrm>
            <a:off x="1430640" y="334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12"/>
          <p:cNvSpPr/>
          <p:nvPr/>
        </p:nvSpPr>
        <p:spPr>
          <a:xfrm>
            <a:off x="1403640" y="484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Text Box 13"/>
          <p:cNvSpPr/>
          <p:nvPr/>
        </p:nvSpPr>
        <p:spPr>
          <a:xfrm>
            <a:off x="6056640" y="53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78EF-A524-41B1-9BB6-EA41A5FF7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Конкурирующие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4"/>
          <p:cNvSpPr/>
          <p:nvPr/>
        </p:nvSpPr>
        <p:spPr>
          <a:xfrm>
            <a:off x="106920" y="1603440"/>
            <a:ext cx="904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называются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фронталь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горизо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таль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профильно конкурирующи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падают их фронтальные, горизонт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профильные проекции, соответ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212A-BF72-4FC2-AF29-44015DDC0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Конкурирующие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 Box 5"/>
          <p:cNvSpPr/>
          <p:nvPr/>
        </p:nvSpPr>
        <p:spPr>
          <a:xfrm>
            <a:off x="330480" y="1967040"/>
            <a:ext cx="845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, проходящая через конкуриру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щие точки, перпендикулярна соответств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щей плоскости проек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A1FB-E0C2-475F-A896-BB552E7F0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Text Box 4"/>
          <p:cNvSpPr/>
          <p:nvPr/>
        </p:nvSpPr>
        <p:spPr>
          <a:xfrm>
            <a:off x="1412280" y="3359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5"/>
          <p:cNvSpPr/>
          <p:nvPr/>
        </p:nvSpPr>
        <p:spPr>
          <a:xfrm>
            <a:off x="1560240" y="3502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6"/>
          <p:cNvSpPr/>
          <p:nvPr/>
        </p:nvSpPr>
        <p:spPr>
          <a:xfrm>
            <a:off x="5876280" y="3416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7"/>
          <p:cNvSpPr/>
          <p:nvPr/>
        </p:nvSpPr>
        <p:spPr>
          <a:xfrm>
            <a:off x="7360560" y="3357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Text Box 8"/>
          <p:cNvSpPr/>
          <p:nvPr/>
        </p:nvSpPr>
        <p:spPr>
          <a:xfrm>
            <a:off x="7508520" y="35002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Text Box 10"/>
          <p:cNvSpPr/>
          <p:nvPr/>
        </p:nvSpPr>
        <p:spPr>
          <a:xfrm>
            <a:off x="5549040" y="5697360"/>
            <a:ext cx="4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AutoShape 11"/>
          <p:cNvSpPr/>
          <p:nvPr/>
        </p:nvSpPr>
        <p:spPr>
          <a:xfrm>
            <a:off x="3732120" y="1908000"/>
            <a:ext cx="41133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"/>
          <p:cNvSpPr/>
          <p:nvPr/>
        </p:nvSpPr>
        <p:spPr>
          <a:xfrm>
            <a:off x="1338120" y="3836880"/>
            <a:ext cx="6416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3"/>
          <p:cNvSpPr/>
          <p:nvPr/>
        </p:nvSpPr>
        <p:spPr>
          <a:xfrm>
            <a:off x="5892840" y="1930320"/>
            <a:ext cx="1440" cy="402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5"/>
          <p:cNvSpPr/>
          <p:nvPr/>
        </p:nvSpPr>
        <p:spPr>
          <a:xfrm>
            <a:off x="4835520" y="2735280"/>
            <a:ext cx="18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Text Box 19"/>
          <p:cNvSpPr/>
          <p:nvPr/>
        </p:nvSpPr>
        <p:spPr>
          <a:xfrm>
            <a:off x="5988960" y="187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Text Box 20"/>
          <p:cNvSpPr/>
          <p:nvPr/>
        </p:nvSpPr>
        <p:spPr>
          <a:xfrm>
            <a:off x="6136920" y="20210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Oval 21"/>
          <p:cNvSpPr/>
          <p:nvPr/>
        </p:nvSpPr>
        <p:spPr>
          <a:xfrm>
            <a:off x="4789440" y="268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Text Box 22"/>
          <p:cNvSpPr/>
          <p:nvPr/>
        </p:nvSpPr>
        <p:spPr>
          <a:xfrm>
            <a:off x="4610520" y="2236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Text Box 23"/>
          <p:cNvSpPr/>
          <p:nvPr/>
        </p:nvSpPr>
        <p:spPr>
          <a:xfrm>
            <a:off x="4819680" y="237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Oval 27"/>
          <p:cNvSpPr/>
          <p:nvPr/>
        </p:nvSpPr>
        <p:spPr>
          <a:xfrm>
            <a:off x="5299200" y="2685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Text Box 28"/>
          <p:cNvSpPr/>
          <p:nvPr/>
        </p:nvSpPr>
        <p:spPr>
          <a:xfrm>
            <a:off x="5361120" y="2244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Text Box 29"/>
          <p:cNvSpPr/>
          <p:nvPr/>
        </p:nvSpPr>
        <p:spPr>
          <a:xfrm>
            <a:off x="5570280" y="23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Конкурирующие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9" name="Object 56"/>
              <p:cNvSpPr txBox="1"/>
              <p:nvPr/>
            </p:nvSpPr>
            <p:spPr>
              <a:xfrm>
                <a:off x="2413080" y="3741840"/>
                <a:ext cx="127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90" name="Line 37"/>
          <p:cNvSpPr/>
          <p:nvPr/>
        </p:nvSpPr>
        <p:spPr>
          <a:xfrm>
            <a:off x="1943280" y="3309840"/>
            <a:ext cx="144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Oval 38"/>
          <p:cNvSpPr/>
          <p:nvPr/>
        </p:nvSpPr>
        <p:spPr>
          <a:xfrm>
            <a:off x="1897200" y="3262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Text Box 39"/>
          <p:cNvSpPr/>
          <p:nvPr/>
        </p:nvSpPr>
        <p:spPr>
          <a:xfrm>
            <a:off x="2054520" y="283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ext Box 40"/>
          <p:cNvSpPr/>
          <p:nvPr/>
        </p:nvSpPr>
        <p:spPr>
          <a:xfrm>
            <a:off x="2263680" y="297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Oval 41"/>
          <p:cNvSpPr/>
          <p:nvPr/>
        </p:nvSpPr>
        <p:spPr>
          <a:xfrm>
            <a:off x="1882800" y="51436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Text Box 42"/>
          <p:cNvSpPr/>
          <p:nvPr/>
        </p:nvSpPr>
        <p:spPr>
          <a:xfrm>
            <a:off x="2049840" y="5276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Text Box 43"/>
          <p:cNvSpPr/>
          <p:nvPr/>
        </p:nvSpPr>
        <p:spPr>
          <a:xfrm>
            <a:off x="2259000" y="5419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44"/>
          <p:cNvSpPr/>
          <p:nvPr/>
        </p:nvSpPr>
        <p:spPr>
          <a:xfrm>
            <a:off x="3301920" y="2305080"/>
            <a:ext cx="180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Oval 45"/>
          <p:cNvSpPr/>
          <p:nvPr/>
        </p:nvSpPr>
        <p:spPr>
          <a:xfrm>
            <a:off x="3255840" y="22575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Text Box 46"/>
          <p:cNvSpPr/>
          <p:nvPr/>
        </p:nvSpPr>
        <p:spPr>
          <a:xfrm>
            <a:off x="3413160" y="1828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Text Box 47"/>
          <p:cNvSpPr/>
          <p:nvPr/>
        </p:nvSpPr>
        <p:spPr>
          <a:xfrm>
            <a:off x="3649680" y="19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Oval 48"/>
          <p:cNvSpPr/>
          <p:nvPr/>
        </p:nvSpPr>
        <p:spPr>
          <a:xfrm>
            <a:off x="3241800" y="413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Oval 51"/>
          <p:cNvSpPr/>
          <p:nvPr/>
        </p:nvSpPr>
        <p:spPr>
          <a:xfrm>
            <a:off x="1881360" y="4294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 Box 52"/>
          <p:cNvSpPr/>
          <p:nvPr/>
        </p:nvSpPr>
        <p:spPr>
          <a:xfrm>
            <a:off x="2048400" y="442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Text Box 53"/>
          <p:cNvSpPr/>
          <p:nvPr/>
        </p:nvSpPr>
        <p:spPr>
          <a:xfrm>
            <a:off x="2257200" y="457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Text Box 54"/>
          <p:cNvSpPr/>
          <p:nvPr/>
        </p:nvSpPr>
        <p:spPr>
          <a:xfrm>
            <a:off x="2591280" y="283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Text Box 55"/>
          <p:cNvSpPr/>
          <p:nvPr/>
        </p:nvSpPr>
        <p:spPr>
          <a:xfrm>
            <a:off x="2800080" y="297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7" name="Object 58"/>
              <p:cNvSpPr txBox="1"/>
              <p:nvPr/>
            </p:nvSpPr>
            <p:spPr>
              <a:xfrm>
                <a:off x="2463840" y="2975040"/>
                <a:ext cx="1555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08" name="Oval 60"/>
          <p:cNvSpPr/>
          <p:nvPr/>
        </p:nvSpPr>
        <p:spPr>
          <a:xfrm>
            <a:off x="3240000" y="2860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61"/>
          <p:cNvSpPr/>
          <p:nvPr/>
        </p:nvSpPr>
        <p:spPr>
          <a:xfrm>
            <a:off x="3384360" y="2432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Text Box 62"/>
          <p:cNvSpPr/>
          <p:nvPr/>
        </p:nvSpPr>
        <p:spPr>
          <a:xfrm>
            <a:off x="3620880" y="257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63"/>
          <p:cNvSpPr/>
          <p:nvPr/>
        </p:nvSpPr>
        <p:spPr>
          <a:xfrm>
            <a:off x="3491640" y="4056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 Box 64"/>
          <p:cNvSpPr/>
          <p:nvPr/>
        </p:nvSpPr>
        <p:spPr>
          <a:xfrm>
            <a:off x="3700440" y="419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Text Box 65"/>
          <p:cNvSpPr/>
          <p:nvPr/>
        </p:nvSpPr>
        <p:spPr>
          <a:xfrm>
            <a:off x="4028400" y="405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Text Box 66"/>
          <p:cNvSpPr/>
          <p:nvPr/>
        </p:nvSpPr>
        <p:spPr>
          <a:xfrm>
            <a:off x="4236840" y="420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5" name="Object 67"/>
              <p:cNvSpPr txBox="1"/>
              <p:nvPr/>
            </p:nvSpPr>
            <p:spPr>
              <a:xfrm>
                <a:off x="3900600" y="4197240"/>
                <a:ext cx="1555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6" name="Text Box 68"/>
          <p:cNvSpPr/>
          <p:nvPr/>
        </p:nvSpPr>
        <p:spPr>
          <a:xfrm>
            <a:off x="6656760" y="2197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 Box 69"/>
          <p:cNvSpPr/>
          <p:nvPr/>
        </p:nvSpPr>
        <p:spPr>
          <a:xfrm>
            <a:off x="6865920" y="234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 Box 70"/>
          <p:cNvSpPr/>
          <p:nvPr/>
        </p:nvSpPr>
        <p:spPr>
          <a:xfrm>
            <a:off x="7193160" y="22003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Text Box 71"/>
          <p:cNvSpPr/>
          <p:nvPr/>
        </p:nvSpPr>
        <p:spPr>
          <a:xfrm>
            <a:off x="7402320" y="234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0" name="Object 72"/>
              <p:cNvSpPr txBox="1"/>
              <p:nvPr/>
            </p:nvSpPr>
            <p:spPr>
              <a:xfrm>
                <a:off x="7066080" y="2338560"/>
                <a:ext cx="15552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21" name="Oval 73"/>
          <p:cNvSpPr/>
          <p:nvPr/>
        </p:nvSpPr>
        <p:spPr>
          <a:xfrm>
            <a:off x="6670800" y="2676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TextBox 1"/>
          <p:cNvSpPr/>
          <p:nvPr/>
        </p:nvSpPr>
        <p:spPr>
          <a:xfrm>
            <a:off x="179280" y="1930320"/>
            <a:ext cx="26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А и В фронтально-конкурирующие точки, где А видимая т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TextBox 2"/>
          <p:cNvSpPr/>
          <p:nvPr/>
        </p:nvSpPr>
        <p:spPr>
          <a:xfrm>
            <a:off x="2376360" y="5737320"/>
            <a:ext cx="289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и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горизонта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нкурирующие точки, где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идимая т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Box 3"/>
          <p:cNvSpPr/>
          <p:nvPr/>
        </p:nvSpPr>
        <p:spPr>
          <a:xfrm>
            <a:off x="6256440" y="4570560"/>
            <a:ext cx="267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Е и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офи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нкурирующие точки, где Е видимая т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FC7D-4D69-4DC4-A35D-B56DBA53A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остейший аппарат проецирования</a:t>
            </a:r>
            <a:br>
              <a:rPr sz="3200"/>
            </a:b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(алгоритмическая ч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"/>
          <p:cNvSpPr/>
          <p:nvPr/>
        </p:nvSpPr>
        <p:spPr>
          <a:xfrm>
            <a:off x="2178000" y="2598840"/>
            <a:ext cx="609480" cy="2369880"/>
          </a:xfrm>
          <a:custGeom>
            <a:avLst/>
            <a:gdLst/>
            <a:ahLst/>
            <a:rect l="l" t="t" r="r" b="b"/>
            <a:pathLst>
              <a:path w="4004" h="15514">
                <a:moveTo>
                  <a:pt x="4004" y="0"/>
                </a:moveTo>
                <a:lnTo>
                  <a:pt x="3320" y="804"/>
                </a:lnTo>
                <a:lnTo>
                  <a:pt x="2986" y="1208"/>
                </a:lnTo>
                <a:lnTo>
                  <a:pt x="2658" y="1616"/>
                </a:lnTo>
                <a:lnTo>
                  <a:pt x="2342" y="2027"/>
                </a:lnTo>
                <a:lnTo>
                  <a:pt x="2039" y="2443"/>
                </a:lnTo>
                <a:lnTo>
                  <a:pt x="1894" y="2653"/>
                </a:lnTo>
                <a:lnTo>
                  <a:pt x="1754" y="2865"/>
                </a:lnTo>
                <a:lnTo>
                  <a:pt x="1617" y="3078"/>
                </a:lnTo>
                <a:lnTo>
                  <a:pt x="1486" y="3293"/>
                </a:lnTo>
                <a:lnTo>
                  <a:pt x="1360" y="3510"/>
                </a:lnTo>
                <a:lnTo>
                  <a:pt x="1241" y="3729"/>
                </a:lnTo>
                <a:lnTo>
                  <a:pt x="1127" y="3951"/>
                </a:lnTo>
                <a:lnTo>
                  <a:pt x="1020" y="4174"/>
                </a:lnTo>
                <a:lnTo>
                  <a:pt x="918" y="4400"/>
                </a:lnTo>
                <a:lnTo>
                  <a:pt x="823" y="4629"/>
                </a:lnTo>
                <a:lnTo>
                  <a:pt x="735" y="4859"/>
                </a:lnTo>
                <a:lnTo>
                  <a:pt x="651" y="5091"/>
                </a:lnTo>
                <a:lnTo>
                  <a:pt x="574" y="5325"/>
                </a:lnTo>
                <a:lnTo>
                  <a:pt x="503" y="5561"/>
                </a:lnTo>
                <a:lnTo>
                  <a:pt x="437" y="5800"/>
                </a:lnTo>
                <a:lnTo>
                  <a:pt x="376" y="6040"/>
                </a:lnTo>
                <a:lnTo>
                  <a:pt x="320" y="6281"/>
                </a:lnTo>
                <a:lnTo>
                  <a:pt x="269" y="6525"/>
                </a:lnTo>
                <a:lnTo>
                  <a:pt x="223" y="6771"/>
                </a:lnTo>
                <a:lnTo>
                  <a:pt x="182" y="7018"/>
                </a:lnTo>
                <a:lnTo>
                  <a:pt x="146" y="7268"/>
                </a:lnTo>
                <a:lnTo>
                  <a:pt x="113" y="7518"/>
                </a:lnTo>
                <a:lnTo>
                  <a:pt x="86" y="7770"/>
                </a:lnTo>
                <a:lnTo>
                  <a:pt x="62" y="8023"/>
                </a:lnTo>
                <a:lnTo>
                  <a:pt x="42" y="8278"/>
                </a:lnTo>
                <a:lnTo>
                  <a:pt x="27" y="8534"/>
                </a:lnTo>
                <a:lnTo>
                  <a:pt x="7" y="9050"/>
                </a:lnTo>
                <a:lnTo>
                  <a:pt x="0" y="9572"/>
                </a:lnTo>
                <a:lnTo>
                  <a:pt x="6" y="10098"/>
                </a:lnTo>
                <a:lnTo>
                  <a:pt x="23" y="10628"/>
                </a:lnTo>
                <a:lnTo>
                  <a:pt x="51" y="11161"/>
                </a:lnTo>
                <a:lnTo>
                  <a:pt x="88" y="11698"/>
                </a:lnTo>
                <a:lnTo>
                  <a:pt x="133" y="12238"/>
                </a:lnTo>
                <a:lnTo>
                  <a:pt x="185" y="12780"/>
                </a:lnTo>
                <a:lnTo>
                  <a:pt x="242" y="13325"/>
                </a:lnTo>
                <a:lnTo>
                  <a:pt x="370" y="14418"/>
                </a:lnTo>
                <a:lnTo>
                  <a:pt x="507" y="155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3"/>
          <p:cNvSpPr/>
          <p:nvPr/>
        </p:nvSpPr>
        <p:spPr>
          <a:xfrm>
            <a:off x="2787480" y="2598840"/>
            <a:ext cx="1749600" cy="973080"/>
          </a:xfrm>
          <a:custGeom>
            <a:avLst/>
            <a:gdLst/>
            <a:ahLst/>
            <a:rect l="l" t="t" r="r" b="b"/>
            <a:pathLst>
              <a:path w="11451" h="6375">
                <a:moveTo>
                  <a:pt x="0" y="0"/>
                </a:moveTo>
                <a:lnTo>
                  <a:pt x="365" y="868"/>
                </a:lnTo>
                <a:lnTo>
                  <a:pt x="553" y="1296"/>
                </a:lnTo>
                <a:lnTo>
                  <a:pt x="745" y="1717"/>
                </a:lnTo>
                <a:lnTo>
                  <a:pt x="945" y="2129"/>
                </a:lnTo>
                <a:lnTo>
                  <a:pt x="1048" y="2330"/>
                </a:lnTo>
                <a:lnTo>
                  <a:pt x="1153" y="2528"/>
                </a:lnTo>
                <a:lnTo>
                  <a:pt x="1261" y="2722"/>
                </a:lnTo>
                <a:lnTo>
                  <a:pt x="1373" y="2912"/>
                </a:lnTo>
                <a:lnTo>
                  <a:pt x="1487" y="3098"/>
                </a:lnTo>
                <a:lnTo>
                  <a:pt x="1605" y="3280"/>
                </a:lnTo>
                <a:lnTo>
                  <a:pt x="1726" y="3456"/>
                </a:lnTo>
                <a:lnTo>
                  <a:pt x="1852" y="3628"/>
                </a:lnTo>
                <a:lnTo>
                  <a:pt x="1980" y="3794"/>
                </a:lnTo>
                <a:lnTo>
                  <a:pt x="2114" y="3954"/>
                </a:lnTo>
                <a:lnTo>
                  <a:pt x="2252" y="4109"/>
                </a:lnTo>
                <a:lnTo>
                  <a:pt x="2395" y="4257"/>
                </a:lnTo>
                <a:lnTo>
                  <a:pt x="2542" y="4398"/>
                </a:lnTo>
                <a:lnTo>
                  <a:pt x="2695" y="4533"/>
                </a:lnTo>
                <a:lnTo>
                  <a:pt x="2853" y="4662"/>
                </a:lnTo>
                <a:lnTo>
                  <a:pt x="3014" y="4784"/>
                </a:lnTo>
                <a:lnTo>
                  <a:pt x="3182" y="4900"/>
                </a:lnTo>
                <a:lnTo>
                  <a:pt x="3353" y="5011"/>
                </a:lnTo>
                <a:lnTo>
                  <a:pt x="3527" y="5114"/>
                </a:lnTo>
                <a:lnTo>
                  <a:pt x="3707" y="5214"/>
                </a:lnTo>
                <a:lnTo>
                  <a:pt x="3891" y="5307"/>
                </a:lnTo>
                <a:lnTo>
                  <a:pt x="4079" y="5395"/>
                </a:lnTo>
                <a:lnTo>
                  <a:pt x="4269" y="5478"/>
                </a:lnTo>
                <a:lnTo>
                  <a:pt x="4465" y="5555"/>
                </a:lnTo>
                <a:lnTo>
                  <a:pt x="4664" y="5628"/>
                </a:lnTo>
                <a:lnTo>
                  <a:pt x="4866" y="5697"/>
                </a:lnTo>
                <a:lnTo>
                  <a:pt x="5071" y="5761"/>
                </a:lnTo>
                <a:lnTo>
                  <a:pt x="5281" y="5821"/>
                </a:lnTo>
                <a:lnTo>
                  <a:pt x="5492" y="5876"/>
                </a:lnTo>
                <a:lnTo>
                  <a:pt x="5707" y="5928"/>
                </a:lnTo>
                <a:lnTo>
                  <a:pt x="5924" y="5975"/>
                </a:lnTo>
                <a:lnTo>
                  <a:pt x="6145" y="6019"/>
                </a:lnTo>
                <a:lnTo>
                  <a:pt x="6368" y="6060"/>
                </a:lnTo>
                <a:lnTo>
                  <a:pt x="6594" y="6096"/>
                </a:lnTo>
                <a:lnTo>
                  <a:pt x="7053" y="6160"/>
                </a:lnTo>
                <a:lnTo>
                  <a:pt x="7519" y="6213"/>
                </a:lnTo>
                <a:lnTo>
                  <a:pt x="7994" y="6256"/>
                </a:lnTo>
                <a:lnTo>
                  <a:pt x="8475" y="6290"/>
                </a:lnTo>
                <a:lnTo>
                  <a:pt x="8963" y="6316"/>
                </a:lnTo>
                <a:lnTo>
                  <a:pt x="9454" y="6335"/>
                </a:lnTo>
                <a:lnTo>
                  <a:pt x="9950" y="6350"/>
                </a:lnTo>
                <a:lnTo>
                  <a:pt x="10448" y="6360"/>
                </a:lnTo>
                <a:lnTo>
                  <a:pt x="11451" y="63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4"/>
          <p:cNvSpPr/>
          <p:nvPr/>
        </p:nvSpPr>
        <p:spPr>
          <a:xfrm>
            <a:off x="4102200" y="3571920"/>
            <a:ext cx="450720" cy="2333520"/>
          </a:xfrm>
          <a:custGeom>
            <a:avLst/>
            <a:gdLst/>
            <a:ahLst/>
            <a:rect l="l" t="t" r="r" b="b"/>
            <a:pathLst>
              <a:path w="2961" h="15287">
                <a:moveTo>
                  <a:pt x="2849" y="0"/>
                </a:moveTo>
                <a:lnTo>
                  <a:pt x="2219" y="859"/>
                </a:lnTo>
                <a:lnTo>
                  <a:pt x="1913" y="1290"/>
                </a:lnTo>
                <a:lnTo>
                  <a:pt x="1618" y="1724"/>
                </a:lnTo>
                <a:lnTo>
                  <a:pt x="1476" y="1940"/>
                </a:lnTo>
                <a:lnTo>
                  <a:pt x="1337" y="2158"/>
                </a:lnTo>
                <a:lnTo>
                  <a:pt x="1203" y="2377"/>
                </a:lnTo>
                <a:lnTo>
                  <a:pt x="1075" y="2596"/>
                </a:lnTo>
                <a:lnTo>
                  <a:pt x="952" y="2817"/>
                </a:lnTo>
                <a:lnTo>
                  <a:pt x="835" y="3038"/>
                </a:lnTo>
                <a:lnTo>
                  <a:pt x="724" y="3260"/>
                </a:lnTo>
                <a:lnTo>
                  <a:pt x="619" y="3482"/>
                </a:lnTo>
                <a:lnTo>
                  <a:pt x="523" y="3707"/>
                </a:lnTo>
                <a:lnTo>
                  <a:pt x="433" y="3932"/>
                </a:lnTo>
                <a:lnTo>
                  <a:pt x="353" y="4158"/>
                </a:lnTo>
                <a:lnTo>
                  <a:pt x="280" y="4386"/>
                </a:lnTo>
                <a:lnTo>
                  <a:pt x="216" y="4614"/>
                </a:lnTo>
                <a:lnTo>
                  <a:pt x="161" y="4844"/>
                </a:lnTo>
                <a:lnTo>
                  <a:pt x="115" y="5077"/>
                </a:lnTo>
                <a:lnTo>
                  <a:pt x="76" y="5309"/>
                </a:lnTo>
                <a:lnTo>
                  <a:pt x="46" y="5544"/>
                </a:lnTo>
                <a:lnTo>
                  <a:pt x="23" y="5778"/>
                </a:lnTo>
                <a:lnTo>
                  <a:pt x="8" y="6015"/>
                </a:lnTo>
                <a:lnTo>
                  <a:pt x="1" y="6252"/>
                </a:lnTo>
                <a:lnTo>
                  <a:pt x="0" y="6491"/>
                </a:lnTo>
                <a:lnTo>
                  <a:pt x="6" y="6731"/>
                </a:lnTo>
                <a:lnTo>
                  <a:pt x="20" y="6971"/>
                </a:lnTo>
                <a:lnTo>
                  <a:pt x="40" y="7212"/>
                </a:lnTo>
                <a:lnTo>
                  <a:pt x="66" y="7455"/>
                </a:lnTo>
                <a:lnTo>
                  <a:pt x="98" y="7698"/>
                </a:lnTo>
                <a:lnTo>
                  <a:pt x="137" y="7943"/>
                </a:lnTo>
                <a:lnTo>
                  <a:pt x="181" y="8188"/>
                </a:lnTo>
                <a:lnTo>
                  <a:pt x="231" y="8434"/>
                </a:lnTo>
                <a:lnTo>
                  <a:pt x="287" y="8681"/>
                </a:lnTo>
                <a:lnTo>
                  <a:pt x="346" y="8929"/>
                </a:lnTo>
                <a:lnTo>
                  <a:pt x="412" y="9177"/>
                </a:lnTo>
                <a:lnTo>
                  <a:pt x="482" y="9426"/>
                </a:lnTo>
                <a:lnTo>
                  <a:pt x="557" y="9677"/>
                </a:lnTo>
                <a:lnTo>
                  <a:pt x="636" y="9927"/>
                </a:lnTo>
                <a:lnTo>
                  <a:pt x="720" y="10178"/>
                </a:lnTo>
                <a:lnTo>
                  <a:pt x="898" y="10682"/>
                </a:lnTo>
                <a:lnTo>
                  <a:pt x="1092" y="11188"/>
                </a:lnTo>
                <a:lnTo>
                  <a:pt x="1297" y="11696"/>
                </a:lnTo>
                <a:lnTo>
                  <a:pt x="1514" y="12206"/>
                </a:lnTo>
                <a:lnTo>
                  <a:pt x="1740" y="12718"/>
                </a:lnTo>
                <a:lnTo>
                  <a:pt x="1975" y="13230"/>
                </a:lnTo>
                <a:lnTo>
                  <a:pt x="2216" y="13744"/>
                </a:lnTo>
                <a:lnTo>
                  <a:pt x="2462" y="14258"/>
                </a:lnTo>
                <a:lnTo>
                  <a:pt x="2961" y="152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5"/>
          <p:cNvSpPr/>
          <p:nvPr/>
        </p:nvSpPr>
        <p:spPr>
          <a:xfrm>
            <a:off x="2254320" y="4968720"/>
            <a:ext cx="2298600" cy="939960"/>
          </a:xfrm>
          <a:custGeom>
            <a:avLst/>
            <a:gdLst/>
            <a:ahLst/>
            <a:rect l="l" t="t" r="r" b="b"/>
            <a:pathLst>
              <a:path w="15060" h="6167">
                <a:moveTo>
                  <a:pt x="0" y="0"/>
                </a:moveTo>
                <a:lnTo>
                  <a:pt x="675" y="877"/>
                </a:lnTo>
                <a:lnTo>
                  <a:pt x="1016" y="1309"/>
                </a:lnTo>
                <a:lnTo>
                  <a:pt x="1362" y="1734"/>
                </a:lnTo>
                <a:lnTo>
                  <a:pt x="1712" y="2149"/>
                </a:lnTo>
                <a:lnTo>
                  <a:pt x="2069" y="2551"/>
                </a:lnTo>
                <a:lnTo>
                  <a:pt x="2251" y="2745"/>
                </a:lnTo>
                <a:lnTo>
                  <a:pt x="2436" y="2936"/>
                </a:lnTo>
                <a:lnTo>
                  <a:pt x="2622" y="3122"/>
                </a:lnTo>
                <a:lnTo>
                  <a:pt x="2811" y="3304"/>
                </a:lnTo>
                <a:lnTo>
                  <a:pt x="3004" y="3480"/>
                </a:lnTo>
                <a:lnTo>
                  <a:pt x="3199" y="3651"/>
                </a:lnTo>
                <a:lnTo>
                  <a:pt x="3396" y="3816"/>
                </a:lnTo>
                <a:lnTo>
                  <a:pt x="3599" y="3975"/>
                </a:lnTo>
                <a:lnTo>
                  <a:pt x="3803" y="4127"/>
                </a:lnTo>
                <a:lnTo>
                  <a:pt x="4012" y="4273"/>
                </a:lnTo>
                <a:lnTo>
                  <a:pt x="4223" y="4412"/>
                </a:lnTo>
                <a:lnTo>
                  <a:pt x="4440" y="4544"/>
                </a:lnTo>
                <a:lnTo>
                  <a:pt x="4660" y="4668"/>
                </a:lnTo>
                <a:lnTo>
                  <a:pt x="4883" y="4788"/>
                </a:lnTo>
                <a:lnTo>
                  <a:pt x="5109" y="4900"/>
                </a:lnTo>
                <a:lnTo>
                  <a:pt x="5339" y="5007"/>
                </a:lnTo>
                <a:lnTo>
                  <a:pt x="5572" y="5107"/>
                </a:lnTo>
                <a:lnTo>
                  <a:pt x="5808" y="5201"/>
                </a:lnTo>
                <a:lnTo>
                  <a:pt x="6047" y="5290"/>
                </a:lnTo>
                <a:lnTo>
                  <a:pt x="6290" y="5374"/>
                </a:lnTo>
                <a:lnTo>
                  <a:pt x="6535" y="5453"/>
                </a:lnTo>
                <a:lnTo>
                  <a:pt x="6782" y="5525"/>
                </a:lnTo>
                <a:lnTo>
                  <a:pt x="7033" y="5593"/>
                </a:lnTo>
                <a:lnTo>
                  <a:pt x="7285" y="5657"/>
                </a:lnTo>
                <a:lnTo>
                  <a:pt x="7540" y="5715"/>
                </a:lnTo>
                <a:lnTo>
                  <a:pt x="7799" y="5769"/>
                </a:lnTo>
                <a:lnTo>
                  <a:pt x="8060" y="5819"/>
                </a:lnTo>
                <a:lnTo>
                  <a:pt x="8321" y="5865"/>
                </a:lnTo>
                <a:lnTo>
                  <a:pt x="8586" y="5906"/>
                </a:lnTo>
                <a:lnTo>
                  <a:pt x="8853" y="5945"/>
                </a:lnTo>
                <a:lnTo>
                  <a:pt x="9392" y="6009"/>
                </a:lnTo>
                <a:lnTo>
                  <a:pt x="9938" y="6061"/>
                </a:lnTo>
                <a:lnTo>
                  <a:pt x="10491" y="6101"/>
                </a:lnTo>
                <a:lnTo>
                  <a:pt x="11050" y="6130"/>
                </a:lnTo>
                <a:lnTo>
                  <a:pt x="11614" y="6150"/>
                </a:lnTo>
                <a:lnTo>
                  <a:pt x="12181" y="6161"/>
                </a:lnTo>
                <a:lnTo>
                  <a:pt x="12753" y="6167"/>
                </a:lnTo>
                <a:lnTo>
                  <a:pt x="13328" y="6167"/>
                </a:lnTo>
                <a:lnTo>
                  <a:pt x="13904" y="6162"/>
                </a:lnTo>
                <a:lnTo>
                  <a:pt x="15060" y="61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665280" y="4006800"/>
            <a:ext cx="153720" cy="154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7"/>
          <p:cNvSpPr/>
          <p:nvPr/>
        </p:nvSpPr>
        <p:spPr>
          <a:xfrm>
            <a:off x="822240" y="4089240"/>
            <a:ext cx="2382840" cy="428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1698480" y="4191120"/>
            <a:ext cx="154080" cy="153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3187800" y="4514760"/>
            <a:ext cx="9255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4095720" y="4657680"/>
            <a:ext cx="388800" cy="57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41520" y="3359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2562120" y="2720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1695960" y="36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4516920" y="2532240"/>
            <a:ext cx="497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цирующий л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B4E4-52EC-4901-BCE3-EE293C643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Конкурирующие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5"/>
          <p:cNvSpPr/>
          <p:nvPr/>
        </p:nvSpPr>
        <p:spPr>
          <a:xfrm>
            <a:off x="582480" y="2316240"/>
            <a:ext cx="821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Из нескольких конкурирующих точ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идима та точка, другая проекция которой находится дальше от оси про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86E4-EA70-498A-9FB5-15939E836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остейший аппарат проецирования</a:t>
            </a:r>
            <a:br>
              <a:rPr sz="3200"/>
            </a:b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(алгоритмическая ч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665280" y="2598840"/>
            <a:ext cx="3886920" cy="3309120"/>
            <a:chOff x="665280" y="2598840"/>
            <a:chExt cx="3886920" cy="3309120"/>
          </a:xfrm>
        </p:grpSpPr>
        <p:sp>
          <p:nvSpPr>
            <p:cNvPr id="105" name="Freeform 6"/>
            <p:cNvSpPr/>
            <p:nvPr/>
          </p:nvSpPr>
          <p:spPr>
            <a:xfrm>
              <a:off x="2177280" y="2598840"/>
              <a:ext cx="610200" cy="2369160"/>
            </a:xfrm>
            <a:custGeom>
              <a:avLst/>
              <a:gdLst/>
              <a:ahLst/>
              <a:rect l="l" t="t" r="r" b="b"/>
              <a:pathLst>
                <a:path w="4004" h="15514">
                  <a:moveTo>
                    <a:pt x="4004" y="0"/>
                  </a:moveTo>
                  <a:lnTo>
                    <a:pt x="3320" y="804"/>
                  </a:lnTo>
                  <a:lnTo>
                    <a:pt x="2986" y="1208"/>
                  </a:lnTo>
                  <a:lnTo>
                    <a:pt x="2658" y="1616"/>
                  </a:lnTo>
                  <a:lnTo>
                    <a:pt x="2342" y="2027"/>
                  </a:lnTo>
                  <a:lnTo>
                    <a:pt x="2039" y="2443"/>
                  </a:lnTo>
                  <a:lnTo>
                    <a:pt x="1894" y="2653"/>
                  </a:lnTo>
                  <a:lnTo>
                    <a:pt x="1754" y="2865"/>
                  </a:lnTo>
                  <a:lnTo>
                    <a:pt x="1617" y="3078"/>
                  </a:lnTo>
                  <a:lnTo>
                    <a:pt x="1486" y="3293"/>
                  </a:lnTo>
                  <a:lnTo>
                    <a:pt x="1360" y="3510"/>
                  </a:lnTo>
                  <a:lnTo>
                    <a:pt x="1241" y="3729"/>
                  </a:lnTo>
                  <a:lnTo>
                    <a:pt x="1127" y="3951"/>
                  </a:lnTo>
                  <a:lnTo>
                    <a:pt x="1020" y="4174"/>
                  </a:lnTo>
                  <a:lnTo>
                    <a:pt x="918" y="4400"/>
                  </a:lnTo>
                  <a:lnTo>
                    <a:pt x="823" y="4629"/>
                  </a:lnTo>
                  <a:lnTo>
                    <a:pt x="735" y="4859"/>
                  </a:lnTo>
                  <a:lnTo>
                    <a:pt x="651" y="5091"/>
                  </a:lnTo>
                  <a:lnTo>
                    <a:pt x="574" y="5325"/>
                  </a:lnTo>
                  <a:lnTo>
                    <a:pt x="503" y="5561"/>
                  </a:lnTo>
                  <a:lnTo>
                    <a:pt x="437" y="5800"/>
                  </a:lnTo>
                  <a:lnTo>
                    <a:pt x="376" y="6040"/>
                  </a:lnTo>
                  <a:lnTo>
                    <a:pt x="320" y="6281"/>
                  </a:lnTo>
                  <a:lnTo>
                    <a:pt x="269" y="6525"/>
                  </a:lnTo>
                  <a:lnTo>
                    <a:pt x="223" y="6771"/>
                  </a:lnTo>
                  <a:lnTo>
                    <a:pt x="182" y="7018"/>
                  </a:lnTo>
                  <a:lnTo>
                    <a:pt x="146" y="7268"/>
                  </a:lnTo>
                  <a:lnTo>
                    <a:pt x="113" y="7518"/>
                  </a:lnTo>
                  <a:lnTo>
                    <a:pt x="86" y="7770"/>
                  </a:lnTo>
                  <a:lnTo>
                    <a:pt x="62" y="8023"/>
                  </a:lnTo>
                  <a:lnTo>
                    <a:pt x="42" y="8278"/>
                  </a:lnTo>
                  <a:lnTo>
                    <a:pt x="27" y="8534"/>
                  </a:lnTo>
                  <a:lnTo>
                    <a:pt x="7" y="9050"/>
                  </a:lnTo>
                  <a:lnTo>
                    <a:pt x="0" y="9572"/>
                  </a:lnTo>
                  <a:lnTo>
                    <a:pt x="6" y="10098"/>
                  </a:lnTo>
                  <a:lnTo>
                    <a:pt x="23" y="10628"/>
                  </a:lnTo>
                  <a:lnTo>
                    <a:pt x="51" y="11161"/>
                  </a:lnTo>
                  <a:lnTo>
                    <a:pt x="88" y="11698"/>
                  </a:lnTo>
                  <a:lnTo>
                    <a:pt x="133" y="12238"/>
                  </a:lnTo>
                  <a:lnTo>
                    <a:pt x="185" y="12780"/>
                  </a:lnTo>
                  <a:lnTo>
                    <a:pt x="242" y="13325"/>
                  </a:lnTo>
                  <a:lnTo>
                    <a:pt x="370" y="14418"/>
                  </a:lnTo>
                  <a:lnTo>
                    <a:pt x="507" y="155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2787840" y="2598840"/>
              <a:ext cx="1747800" cy="973080"/>
            </a:xfrm>
            <a:custGeom>
              <a:avLst/>
              <a:gdLst/>
              <a:ahLst/>
              <a:rect l="l" t="t" r="r" b="b"/>
              <a:pathLst>
                <a:path w="11451" h="6375">
                  <a:moveTo>
                    <a:pt x="0" y="0"/>
                  </a:moveTo>
                  <a:lnTo>
                    <a:pt x="365" y="868"/>
                  </a:lnTo>
                  <a:lnTo>
                    <a:pt x="553" y="1296"/>
                  </a:lnTo>
                  <a:lnTo>
                    <a:pt x="745" y="1717"/>
                  </a:lnTo>
                  <a:lnTo>
                    <a:pt x="945" y="2129"/>
                  </a:lnTo>
                  <a:lnTo>
                    <a:pt x="1048" y="2330"/>
                  </a:lnTo>
                  <a:lnTo>
                    <a:pt x="1153" y="2528"/>
                  </a:lnTo>
                  <a:lnTo>
                    <a:pt x="1261" y="2722"/>
                  </a:lnTo>
                  <a:lnTo>
                    <a:pt x="1373" y="2912"/>
                  </a:lnTo>
                  <a:lnTo>
                    <a:pt x="1487" y="3098"/>
                  </a:lnTo>
                  <a:lnTo>
                    <a:pt x="1605" y="3280"/>
                  </a:lnTo>
                  <a:lnTo>
                    <a:pt x="1726" y="3456"/>
                  </a:lnTo>
                  <a:lnTo>
                    <a:pt x="1852" y="3628"/>
                  </a:lnTo>
                  <a:lnTo>
                    <a:pt x="1980" y="3794"/>
                  </a:lnTo>
                  <a:lnTo>
                    <a:pt x="2114" y="3954"/>
                  </a:lnTo>
                  <a:lnTo>
                    <a:pt x="2252" y="4109"/>
                  </a:lnTo>
                  <a:lnTo>
                    <a:pt x="2395" y="4257"/>
                  </a:lnTo>
                  <a:lnTo>
                    <a:pt x="2542" y="4398"/>
                  </a:lnTo>
                  <a:lnTo>
                    <a:pt x="2695" y="4533"/>
                  </a:lnTo>
                  <a:lnTo>
                    <a:pt x="2853" y="4662"/>
                  </a:lnTo>
                  <a:lnTo>
                    <a:pt x="3014" y="4784"/>
                  </a:lnTo>
                  <a:lnTo>
                    <a:pt x="3182" y="4900"/>
                  </a:lnTo>
                  <a:lnTo>
                    <a:pt x="3353" y="5011"/>
                  </a:lnTo>
                  <a:lnTo>
                    <a:pt x="3527" y="5114"/>
                  </a:lnTo>
                  <a:lnTo>
                    <a:pt x="3707" y="5214"/>
                  </a:lnTo>
                  <a:lnTo>
                    <a:pt x="3891" y="5307"/>
                  </a:lnTo>
                  <a:lnTo>
                    <a:pt x="4079" y="5395"/>
                  </a:lnTo>
                  <a:lnTo>
                    <a:pt x="4269" y="5478"/>
                  </a:lnTo>
                  <a:lnTo>
                    <a:pt x="4465" y="5555"/>
                  </a:lnTo>
                  <a:lnTo>
                    <a:pt x="4664" y="5628"/>
                  </a:lnTo>
                  <a:lnTo>
                    <a:pt x="4866" y="5697"/>
                  </a:lnTo>
                  <a:lnTo>
                    <a:pt x="5071" y="5761"/>
                  </a:lnTo>
                  <a:lnTo>
                    <a:pt x="5281" y="5821"/>
                  </a:lnTo>
                  <a:lnTo>
                    <a:pt x="5492" y="5876"/>
                  </a:lnTo>
                  <a:lnTo>
                    <a:pt x="5707" y="5928"/>
                  </a:lnTo>
                  <a:lnTo>
                    <a:pt x="5924" y="5975"/>
                  </a:lnTo>
                  <a:lnTo>
                    <a:pt x="6145" y="6019"/>
                  </a:lnTo>
                  <a:lnTo>
                    <a:pt x="6368" y="6060"/>
                  </a:lnTo>
                  <a:lnTo>
                    <a:pt x="6594" y="6096"/>
                  </a:lnTo>
                  <a:lnTo>
                    <a:pt x="7053" y="6160"/>
                  </a:lnTo>
                  <a:lnTo>
                    <a:pt x="7519" y="6213"/>
                  </a:lnTo>
                  <a:lnTo>
                    <a:pt x="7994" y="6256"/>
                  </a:lnTo>
                  <a:lnTo>
                    <a:pt x="8475" y="6290"/>
                  </a:lnTo>
                  <a:lnTo>
                    <a:pt x="8963" y="6316"/>
                  </a:lnTo>
                  <a:lnTo>
                    <a:pt x="9454" y="6335"/>
                  </a:lnTo>
                  <a:lnTo>
                    <a:pt x="9950" y="6350"/>
                  </a:lnTo>
                  <a:lnTo>
                    <a:pt x="10448" y="6360"/>
                  </a:lnTo>
                  <a:lnTo>
                    <a:pt x="11451" y="637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4101120" y="3571920"/>
              <a:ext cx="451080" cy="2333880"/>
            </a:xfrm>
            <a:custGeom>
              <a:avLst/>
              <a:gdLst/>
              <a:ahLst/>
              <a:rect l="l" t="t" r="r" b="b"/>
              <a:pathLst>
                <a:path w="2961" h="15287">
                  <a:moveTo>
                    <a:pt x="2849" y="0"/>
                  </a:moveTo>
                  <a:lnTo>
                    <a:pt x="2219" y="859"/>
                  </a:lnTo>
                  <a:lnTo>
                    <a:pt x="1913" y="1290"/>
                  </a:lnTo>
                  <a:lnTo>
                    <a:pt x="1618" y="1724"/>
                  </a:lnTo>
                  <a:lnTo>
                    <a:pt x="1476" y="1940"/>
                  </a:lnTo>
                  <a:lnTo>
                    <a:pt x="1337" y="2158"/>
                  </a:lnTo>
                  <a:lnTo>
                    <a:pt x="1203" y="2377"/>
                  </a:lnTo>
                  <a:lnTo>
                    <a:pt x="1075" y="2596"/>
                  </a:lnTo>
                  <a:lnTo>
                    <a:pt x="952" y="2817"/>
                  </a:lnTo>
                  <a:lnTo>
                    <a:pt x="835" y="3038"/>
                  </a:lnTo>
                  <a:lnTo>
                    <a:pt x="724" y="3260"/>
                  </a:lnTo>
                  <a:lnTo>
                    <a:pt x="619" y="3482"/>
                  </a:lnTo>
                  <a:lnTo>
                    <a:pt x="523" y="3707"/>
                  </a:lnTo>
                  <a:lnTo>
                    <a:pt x="433" y="3932"/>
                  </a:lnTo>
                  <a:lnTo>
                    <a:pt x="353" y="4158"/>
                  </a:lnTo>
                  <a:lnTo>
                    <a:pt x="280" y="4386"/>
                  </a:lnTo>
                  <a:lnTo>
                    <a:pt x="216" y="4614"/>
                  </a:lnTo>
                  <a:lnTo>
                    <a:pt x="161" y="4844"/>
                  </a:lnTo>
                  <a:lnTo>
                    <a:pt x="115" y="5077"/>
                  </a:lnTo>
                  <a:lnTo>
                    <a:pt x="76" y="5309"/>
                  </a:lnTo>
                  <a:lnTo>
                    <a:pt x="46" y="5544"/>
                  </a:lnTo>
                  <a:lnTo>
                    <a:pt x="23" y="5778"/>
                  </a:lnTo>
                  <a:lnTo>
                    <a:pt x="8" y="6015"/>
                  </a:lnTo>
                  <a:lnTo>
                    <a:pt x="1" y="6252"/>
                  </a:lnTo>
                  <a:lnTo>
                    <a:pt x="0" y="6491"/>
                  </a:lnTo>
                  <a:lnTo>
                    <a:pt x="6" y="6731"/>
                  </a:lnTo>
                  <a:lnTo>
                    <a:pt x="20" y="6971"/>
                  </a:lnTo>
                  <a:lnTo>
                    <a:pt x="40" y="7212"/>
                  </a:lnTo>
                  <a:lnTo>
                    <a:pt x="66" y="7455"/>
                  </a:lnTo>
                  <a:lnTo>
                    <a:pt x="98" y="7698"/>
                  </a:lnTo>
                  <a:lnTo>
                    <a:pt x="137" y="7943"/>
                  </a:lnTo>
                  <a:lnTo>
                    <a:pt x="181" y="8188"/>
                  </a:lnTo>
                  <a:lnTo>
                    <a:pt x="231" y="8434"/>
                  </a:lnTo>
                  <a:lnTo>
                    <a:pt x="287" y="8681"/>
                  </a:lnTo>
                  <a:lnTo>
                    <a:pt x="346" y="8929"/>
                  </a:lnTo>
                  <a:lnTo>
                    <a:pt x="412" y="9177"/>
                  </a:lnTo>
                  <a:lnTo>
                    <a:pt x="482" y="9426"/>
                  </a:lnTo>
                  <a:lnTo>
                    <a:pt x="557" y="9677"/>
                  </a:lnTo>
                  <a:lnTo>
                    <a:pt x="636" y="9927"/>
                  </a:lnTo>
                  <a:lnTo>
                    <a:pt x="720" y="10178"/>
                  </a:lnTo>
                  <a:lnTo>
                    <a:pt x="898" y="10682"/>
                  </a:lnTo>
                  <a:lnTo>
                    <a:pt x="1092" y="11188"/>
                  </a:lnTo>
                  <a:lnTo>
                    <a:pt x="1297" y="11696"/>
                  </a:lnTo>
                  <a:lnTo>
                    <a:pt x="1514" y="12206"/>
                  </a:lnTo>
                  <a:lnTo>
                    <a:pt x="1740" y="12718"/>
                  </a:lnTo>
                  <a:lnTo>
                    <a:pt x="1975" y="13230"/>
                  </a:lnTo>
                  <a:lnTo>
                    <a:pt x="2216" y="13744"/>
                  </a:lnTo>
                  <a:lnTo>
                    <a:pt x="2462" y="14258"/>
                  </a:lnTo>
                  <a:lnTo>
                    <a:pt x="2961" y="1528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2253960" y="4968000"/>
              <a:ext cx="2298240" cy="939960"/>
            </a:xfrm>
            <a:custGeom>
              <a:avLst/>
              <a:gdLst/>
              <a:ahLst/>
              <a:rect l="l" t="t" r="r" b="b"/>
              <a:pathLst>
                <a:path w="15060" h="6167">
                  <a:moveTo>
                    <a:pt x="0" y="0"/>
                  </a:moveTo>
                  <a:lnTo>
                    <a:pt x="675" y="877"/>
                  </a:lnTo>
                  <a:lnTo>
                    <a:pt x="1016" y="1309"/>
                  </a:lnTo>
                  <a:lnTo>
                    <a:pt x="1362" y="1734"/>
                  </a:lnTo>
                  <a:lnTo>
                    <a:pt x="1712" y="2149"/>
                  </a:lnTo>
                  <a:lnTo>
                    <a:pt x="2069" y="2551"/>
                  </a:lnTo>
                  <a:lnTo>
                    <a:pt x="2251" y="2745"/>
                  </a:lnTo>
                  <a:lnTo>
                    <a:pt x="2436" y="2936"/>
                  </a:lnTo>
                  <a:lnTo>
                    <a:pt x="2622" y="3122"/>
                  </a:lnTo>
                  <a:lnTo>
                    <a:pt x="2811" y="3304"/>
                  </a:lnTo>
                  <a:lnTo>
                    <a:pt x="3004" y="3480"/>
                  </a:lnTo>
                  <a:lnTo>
                    <a:pt x="3199" y="3651"/>
                  </a:lnTo>
                  <a:lnTo>
                    <a:pt x="3396" y="3816"/>
                  </a:lnTo>
                  <a:lnTo>
                    <a:pt x="3599" y="3975"/>
                  </a:lnTo>
                  <a:lnTo>
                    <a:pt x="3803" y="4127"/>
                  </a:lnTo>
                  <a:lnTo>
                    <a:pt x="4012" y="4273"/>
                  </a:lnTo>
                  <a:lnTo>
                    <a:pt x="4223" y="4412"/>
                  </a:lnTo>
                  <a:lnTo>
                    <a:pt x="4440" y="4544"/>
                  </a:lnTo>
                  <a:lnTo>
                    <a:pt x="4660" y="4668"/>
                  </a:lnTo>
                  <a:lnTo>
                    <a:pt x="4883" y="4788"/>
                  </a:lnTo>
                  <a:lnTo>
                    <a:pt x="5109" y="4900"/>
                  </a:lnTo>
                  <a:lnTo>
                    <a:pt x="5339" y="5007"/>
                  </a:lnTo>
                  <a:lnTo>
                    <a:pt x="5572" y="5107"/>
                  </a:lnTo>
                  <a:lnTo>
                    <a:pt x="5808" y="5201"/>
                  </a:lnTo>
                  <a:lnTo>
                    <a:pt x="6047" y="5290"/>
                  </a:lnTo>
                  <a:lnTo>
                    <a:pt x="6290" y="5374"/>
                  </a:lnTo>
                  <a:lnTo>
                    <a:pt x="6535" y="5453"/>
                  </a:lnTo>
                  <a:lnTo>
                    <a:pt x="6782" y="5525"/>
                  </a:lnTo>
                  <a:lnTo>
                    <a:pt x="7033" y="5593"/>
                  </a:lnTo>
                  <a:lnTo>
                    <a:pt x="7285" y="5657"/>
                  </a:lnTo>
                  <a:lnTo>
                    <a:pt x="7540" y="5715"/>
                  </a:lnTo>
                  <a:lnTo>
                    <a:pt x="7799" y="5769"/>
                  </a:lnTo>
                  <a:lnTo>
                    <a:pt x="8060" y="5819"/>
                  </a:lnTo>
                  <a:lnTo>
                    <a:pt x="8321" y="5865"/>
                  </a:lnTo>
                  <a:lnTo>
                    <a:pt x="8586" y="5906"/>
                  </a:lnTo>
                  <a:lnTo>
                    <a:pt x="8853" y="5945"/>
                  </a:lnTo>
                  <a:lnTo>
                    <a:pt x="9392" y="6009"/>
                  </a:lnTo>
                  <a:lnTo>
                    <a:pt x="9938" y="6061"/>
                  </a:lnTo>
                  <a:lnTo>
                    <a:pt x="10491" y="6101"/>
                  </a:lnTo>
                  <a:lnTo>
                    <a:pt x="11050" y="6130"/>
                  </a:lnTo>
                  <a:lnTo>
                    <a:pt x="11614" y="6150"/>
                  </a:lnTo>
                  <a:lnTo>
                    <a:pt x="12181" y="6161"/>
                  </a:lnTo>
                  <a:lnTo>
                    <a:pt x="12753" y="6167"/>
                  </a:lnTo>
                  <a:lnTo>
                    <a:pt x="13328" y="6167"/>
                  </a:lnTo>
                  <a:lnTo>
                    <a:pt x="13904" y="6162"/>
                  </a:lnTo>
                  <a:lnTo>
                    <a:pt x="15060" y="61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0"/>
            <p:cNvSpPr/>
            <p:nvPr/>
          </p:nvSpPr>
          <p:spPr>
            <a:xfrm>
              <a:off x="665280" y="4005720"/>
              <a:ext cx="153720" cy="153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822240" y="4088520"/>
              <a:ext cx="2382840" cy="42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2"/>
            <p:cNvSpPr/>
            <p:nvPr/>
          </p:nvSpPr>
          <p:spPr>
            <a:xfrm>
              <a:off x="1698480" y="4190040"/>
              <a:ext cx="153720" cy="153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3"/>
            <p:cNvSpPr/>
            <p:nvPr/>
          </p:nvSpPr>
          <p:spPr>
            <a:xfrm>
              <a:off x="3205440" y="4459320"/>
              <a:ext cx="153720" cy="153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>
              <a:off x="3361680" y="4541760"/>
              <a:ext cx="750240" cy="11592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5"/>
            <p:cNvSpPr/>
            <p:nvPr/>
          </p:nvSpPr>
          <p:spPr>
            <a:xfrm>
              <a:off x="4096080" y="4657680"/>
              <a:ext cx="3870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6"/>
          <p:cNvSpPr/>
          <p:nvPr/>
        </p:nvSpPr>
        <p:spPr>
          <a:xfrm>
            <a:off x="628920" y="345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562120" y="2720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1683000" y="3605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145320" y="38847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516920" y="2532240"/>
            <a:ext cx="497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цирующий л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231D-7520-404D-AE70-AE5D5E588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ипы аппаратов проец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169920" y="2379600"/>
            <a:ext cx="876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Аппараты проецирования делятся на типы, в зависимости от вида поверхности проекций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6:37:43Z</dcterms:created>
  <dc:creator>Папа</dc:creator>
  <dc:description/>
  <dc:language>en-US</dc:language>
  <cp:lastModifiedBy>Victoria Sukhomlinova</cp:lastModifiedBy>
  <dcterms:modified xsi:type="dcterms:W3CDTF">2022-02-02T15:01:23Z</dcterms:modified>
  <cp:revision>228</cp:revision>
  <dc:subject/>
  <dc:title>Слайд 1</dc:title>
</cp:coreProperties>
</file>