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EBE-5E7A-4871-A6CF-31B31A7C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2B2-6CD0-48CB-9454-A2C27BDC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A5B-B9D5-499B-AD95-857C337F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8CF-299C-426E-8F7D-A055822E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99D-09B0-4F82-A033-5F7E4A68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3FC-6C84-4D28-A52A-862407B6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C61-3FC3-4EE7-8101-31469CD7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4B6-D439-4D62-87B1-0FF50624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251-6F7F-4CA9-B55E-D320B64C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7C2-6C67-42C6-9314-467F8C69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AB8-27E2-4125-9C67-012084F6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917-207C-4BAA-8285-0E901FE3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D4D4-9D7C-4359-B2FD-745BFEA94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E209-8FF6-4394-A55E-5A72F1E55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оскос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16527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ь задается определи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ль плоскости – это минима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ый набор геометрических объек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дно-значно определяющий задаваемую плос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77A2-72FC-4AFB-8B27-446CCDF14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цирующие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-5400" y="2289240"/>
            <a:ext cx="925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ующие плоскости расположены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е перпендикулярно одной из пл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тей 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три вида проецирующих пл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A93B-B0A8-4D3C-AA8A-7D25A74B1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но-проецирующие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-3600" y="2143080"/>
            <a:ext cx="91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, перпендикулярные П   , наз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ются горизонтально-проецирующими и обоз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ются чере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234200" y="2406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6616-6740-4DD9-B7D8-9E756960C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но-проецирующие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68360" y="304812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15960" y="3191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 rot="1743600">
            <a:off x="3952080" y="50176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 rot="1773600">
            <a:off x="4069080" y="525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8"/>
          <p:cNvSpPr/>
          <p:nvPr/>
        </p:nvSpPr>
        <p:spPr>
          <a:xfrm>
            <a:off x="520560" y="3430440"/>
            <a:ext cx="3984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1147680" y="3919680"/>
            <a:ext cx="3154320" cy="170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57840" y="1652760"/>
            <a:ext cx="14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095480" y="1882800"/>
                <a:ext cx="21888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3" name="Text Box 25"/>
          <p:cNvSpPr/>
          <p:nvPr/>
        </p:nvSpPr>
        <p:spPr>
          <a:xfrm>
            <a:off x="1621080" y="189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4517280" y="1746360"/>
            <a:ext cx="46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Горизонтальной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ей плоскости яв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ется прямая ли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EDE8-9DD6-4658-9AD6-2800B6357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но-проецирующие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68360" y="304812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194520" y="4449600"/>
            <a:ext cx="4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 rot="1743600">
            <a:off x="3952080" y="50176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 rot="1773600">
            <a:off x="4069080" y="525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520560" y="3430440"/>
            <a:ext cx="3984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1147680" y="3919680"/>
            <a:ext cx="3154320" cy="170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2054160" y="3430440"/>
            <a:ext cx="246240" cy="978120"/>
          </a:xfrm>
          <a:custGeom>
            <a:avLst/>
            <a:gdLst/>
            <a:ahLst/>
            <a:rect l="l" t="t" r="r" b="b"/>
            <a:pathLst>
              <a:path w="2018" h="8001">
                <a:moveTo>
                  <a:pt x="0" y="8001"/>
                </a:moveTo>
                <a:lnTo>
                  <a:pt x="317" y="7382"/>
                </a:lnTo>
                <a:lnTo>
                  <a:pt x="608" y="6752"/>
                </a:lnTo>
                <a:lnTo>
                  <a:pt x="873" y="6110"/>
                </a:lnTo>
                <a:lnTo>
                  <a:pt x="1111" y="5457"/>
                </a:lnTo>
                <a:lnTo>
                  <a:pt x="1322" y="4796"/>
                </a:lnTo>
                <a:lnTo>
                  <a:pt x="1506" y="4126"/>
                </a:lnTo>
                <a:lnTo>
                  <a:pt x="1661" y="3448"/>
                </a:lnTo>
                <a:lnTo>
                  <a:pt x="1790" y="2766"/>
                </a:lnTo>
                <a:lnTo>
                  <a:pt x="1889" y="2078"/>
                </a:lnTo>
                <a:lnTo>
                  <a:pt x="1961" y="1388"/>
                </a:lnTo>
                <a:lnTo>
                  <a:pt x="2003" y="694"/>
                </a:lnTo>
                <a:lnTo>
                  <a:pt x="2018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373120" y="3710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357840" y="1652760"/>
            <a:ext cx="14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1095480" y="1882800"/>
                <a:ext cx="21888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Text Box 15"/>
          <p:cNvSpPr/>
          <p:nvPr/>
        </p:nvSpPr>
        <p:spPr>
          <a:xfrm>
            <a:off x="1621080" y="189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4517280" y="1746360"/>
            <a:ext cx="470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Горизонтальной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ей плоскости яв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ется прямая ли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Горизонтальная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я составляет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ь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 нак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 к П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615960" y="3191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7485120" y="49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FC1C-E263-4D47-BB0C-C2C6AA7FD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но-проецирующие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0" y="2313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, перпендикулярные П , назы-ваются фронтально-проецирующими и обоз-начаются чере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78920" y="260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267F-64A7-4B94-9B3F-C44CB4ABD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95200" y="478296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42800" y="49258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58200" y="1652760"/>
            <a:ext cx="13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4"/>
              <p:cNvSpPr txBox="1"/>
              <p:nvPr/>
            </p:nvSpPr>
            <p:spPr>
              <a:xfrm>
                <a:off x="984240" y="1797120"/>
                <a:ext cx="2890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0" name="Text Box 15"/>
          <p:cNvSpPr/>
          <p:nvPr/>
        </p:nvSpPr>
        <p:spPr>
          <a:xfrm>
            <a:off x="1621080" y="189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4517280" y="1746360"/>
            <a:ext cx="459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Фронта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плоскости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прямая ли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но-проецирующие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2"/>
          <p:cNvSpPr/>
          <p:nvPr/>
        </p:nvSpPr>
        <p:spPr>
          <a:xfrm>
            <a:off x="243000" y="5243400"/>
            <a:ext cx="430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3"/>
          <p:cNvSpPr/>
          <p:nvPr/>
        </p:nvSpPr>
        <p:spPr>
          <a:xfrm>
            <a:off x="1071720" y="2662200"/>
            <a:ext cx="3003480" cy="1957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 rot="2002800">
            <a:off x="1416240" y="24476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 rot="1971600">
            <a:off x="1478160" y="267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A897-B905-4393-BCD4-783E763C6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95200" y="478296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42800" y="49258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58200" y="1652760"/>
            <a:ext cx="13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984240" y="1836720"/>
                <a:ext cx="2890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Text Box 8"/>
          <p:cNvSpPr/>
          <p:nvPr/>
        </p:nvSpPr>
        <p:spPr>
          <a:xfrm>
            <a:off x="1621080" y="189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517280" y="1746360"/>
            <a:ext cx="4702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Фронта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плоскости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прямая ли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Фронтальная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я составляет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ь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 нак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 к П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но-проецирующие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243000" y="5243400"/>
            <a:ext cx="430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1071720" y="2662200"/>
            <a:ext cx="3003480" cy="19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3"/>
          <p:cNvSpPr/>
          <p:nvPr/>
        </p:nvSpPr>
        <p:spPr>
          <a:xfrm>
            <a:off x="3114720" y="4195800"/>
            <a:ext cx="311040" cy="1047600"/>
          </a:xfrm>
          <a:custGeom>
            <a:avLst/>
            <a:gdLst/>
            <a:ahLst/>
            <a:rect l="l" t="t" r="r" b="b"/>
            <a:pathLst>
              <a:path w="2348" h="7911">
                <a:moveTo>
                  <a:pt x="2348" y="0"/>
                </a:moveTo>
                <a:lnTo>
                  <a:pt x="2009" y="548"/>
                </a:lnTo>
                <a:lnTo>
                  <a:pt x="1694" y="1109"/>
                </a:lnTo>
                <a:lnTo>
                  <a:pt x="1405" y="1684"/>
                </a:lnTo>
                <a:lnTo>
                  <a:pt x="1142" y="2271"/>
                </a:lnTo>
                <a:lnTo>
                  <a:pt x="905" y="2870"/>
                </a:lnTo>
                <a:lnTo>
                  <a:pt x="694" y="3478"/>
                </a:lnTo>
                <a:lnTo>
                  <a:pt x="511" y="4094"/>
                </a:lnTo>
                <a:lnTo>
                  <a:pt x="356" y="4719"/>
                </a:lnTo>
                <a:lnTo>
                  <a:pt x="228" y="5350"/>
                </a:lnTo>
                <a:lnTo>
                  <a:pt x="128" y="5986"/>
                </a:lnTo>
                <a:lnTo>
                  <a:pt x="57" y="6625"/>
                </a:lnTo>
                <a:lnTo>
                  <a:pt x="14" y="7267"/>
                </a:lnTo>
                <a:lnTo>
                  <a:pt x="0" y="791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 rot="2002800">
            <a:off x="1416240" y="24476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 rot="1971600">
            <a:off x="1478160" y="267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2719080" y="44370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6194520" y="4449600"/>
            <a:ext cx="4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7472520" y="495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9FD5-BC1D-4CFF-B26F-91CABEEDC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0" y="2143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, перпендикулярные П  , назы-ваются профильно-проецирующими и обозна-чаются чере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301160" y="2424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F5D-665D-4148-A0E4-B45613FC4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357840" y="165276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009800" y="1849320"/>
                <a:ext cx="2887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" name="Text Box 6"/>
          <p:cNvSpPr/>
          <p:nvPr/>
        </p:nvSpPr>
        <p:spPr>
          <a:xfrm>
            <a:off x="1621080" y="189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517280" y="1746360"/>
            <a:ext cx="459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Профи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плоскости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прямая ли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1832040" y="3022560"/>
            <a:ext cx="1797120" cy="149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57120" y="4913280"/>
            <a:ext cx="4146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1254240" y="2635200"/>
            <a:ext cx="1440" cy="281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255600" y="44514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403200" y="45943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1355760" y="512748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503360" y="5270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938760" y="44388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086360" y="458136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1407960" y="238428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1555920" y="25272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 rot="2289000">
            <a:off x="3507120" y="3924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3"/>
          <p:cNvSpPr/>
          <p:nvPr/>
        </p:nvSpPr>
        <p:spPr>
          <a:xfrm rot="2291400">
            <a:off x="3538800" y="416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476C-C898-4C60-8851-3FA17DD09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57840" y="165276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7"/>
              <p:cNvSpPr txBox="1"/>
              <p:nvPr/>
            </p:nvSpPr>
            <p:spPr>
              <a:xfrm>
                <a:off x="1009800" y="1849320"/>
                <a:ext cx="2887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9" name="Text Box 8"/>
          <p:cNvSpPr/>
          <p:nvPr/>
        </p:nvSpPr>
        <p:spPr>
          <a:xfrm>
            <a:off x="1621080" y="189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4517280" y="1746360"/>
            <a:ext cx="4702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Профи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плоскости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прямая ли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Профильная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я составляет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ь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 нак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 к П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2"/>
          <p:cNvSpPr/>
          <p:nvPr/>
        </p:nvSpPr>
        <p:spPr>
          <a:xfrm>
            <a:off x="1254240" y="3411360"/>
            <a:ext cx="1047600" cy="492480"/>
          </a:xfrm>
          <a:custGeom>
            <a:avLst/>
            <a:gdLst/>
            <a:ahLst/>
            <a:rect l="l" t="t" r="r" b="b"/>
            <a:pathLst>
              <a:path w="7911" h="3711">
                <a:moveTo>
                  <a:pt x="0" y="3711"/>
                </a:moveTo>
                <a:lnTo>
                  <a:pt x="564" y="3695"/>
                </a:lnTo>
                <a:lnTo>
                  <a:pt x="1125" y="3649"/>
                </a:lnTo>
                <a:lnTo>
                  <a:pt x="1684" y="3572"/>
                </a:lnTo>
                <a:lnTo>
                  <a:pt x="2237" y="3465"/>
                </a:lnTo>
                <a:lnTo>
                  <a:pt x="2784" y="3327"/>
                </a:lnTo>
                <a:lnTo>
                  <a:pt x="3323" y="3160"/>
                </a:lnTo>
                <a:lnTo>
                  <a:pt x="3851" y="2963"/>
                </a:lnTo>
                <a:lnTo>
                  <a:pt x="4368" y="2737"/>
                </a:lnTo>
                <a:lnTo>
                  <a:pt x="4872" y="2484"/>
                </a:lnTo>
                <a:lnTo>
                  <a:pt x="5362" y="2203"/>
                </a:lnTo>
                <a:lnTo>
                  <a:pt x="5834" y="1897"/>
                </a:lnTo>
                <a:lnTo>
                  <a:pt x="6290" y="1563"/>
                </a:lnTo>
                <a:lnTo>
                  <a:pt x="6727" y="1207"/>
                </a:lnTo>
                <a:lnTo>
                  <a:pt x="7144" y="826"/>
                </a:lnTo>
                <a:lnTo>
                  <a:pt x="7539" y="424"/>
                </a:lnTo>
                <a:lnTo>
                  <a:pt x="7911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1832040" y="3022560"/>
            <a:ext cx="179712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357120" y="4913280"/>
            <a:ext cx="4146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1254240" y="2635200"/>
            <a:ext cx="1440" cy="281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55600" y="44514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403200" y="45943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>
            <a:off x="1355760" y="512748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1503360" y="5270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3938760" y="44388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1"/>
          <p:cNvSpPr/>
          <p:nvPr/>
        </p:nvSpPr>
        <p:spPr>
          <a:xfrm>
            <a:off x="4086360" y="458136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2"/>
          <p:cNvSpPr/>
          <p:nvPr/>
        </p:nvSpPr>
        <p:spPr>
          <a:xfrm>
            <a:off x="1407960" y="238428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3"/>
          <p:cNvSpPr/>
          <p:nvPr/>
        </p:nvSpPr>
        <p:spPr>
          <a:xfrm>
            <a:off x="1555920" y="25272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4"/>
          <p:cNvSpPr/>
          <p:nvPr/>
        </p:nvSpPr>
        <p:spPr>
          <a:xfrm>
            <a:off x="1725480" y="3841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5"/>
          <p:cNvSpPr/>
          <p:nvPr/>
        </p:nvSpPr>
        <p:spPr>
          <a:xfrm rot="2289000">
            <a:off x="3507120" y="3924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 rot="2291400">
            <a:off x="3538800" y="416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7"/>
          <p:cNvSpPr/>
          <p:nvPr/>
        </p:nvSpPr>
        <p:spPr>
          <a:xfrm>
            <a:off x="6194520" y="4449600"/>
            <a:ext cx="4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8"/>
          <p:cNvSpPr/>
          <p:nvPr/>
        </p:nvSpPr>
        <p:spPr>
          <a:xfrm>
            <a:off x="7446960" y="494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EC0D-07F4-472B-87CC-A2110C1CD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10240" y="1413000"/>
            <a:ext cx="831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точки, не лежащих на одной пря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001960" y="4094280"/>
            <a:ext cx="584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3095640" y="3308400"/>
            <a:ext cx="1440" cy="84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3095640" y="4149720"/>
            <a:ext cx="1440" cy="13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3032280" y="3252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3035160" y="54849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34560" y="365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982520" y="3800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78520" y="29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500280" y="3121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316680" y="5281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525840" y="5424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4260960" y="2538360"/>
            <a:ext cx="1440" cy="84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4260960" y="3379680"/>
            <a:ext cx="1440" cy="27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4197240" y="2482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199040" y="6100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4443840" y="2208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665600" y="2351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3454920" y="581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3663720" y="596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>
            <a:off x="5916600" y="3736800"/>
            <a:ext cx="1440" cy="80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7"/>
          <p:cNvSpPr/>
          <p:nvPr/>
        </p:nvSpPr>
        <p:spPr>
          <a:xfrm>
            <a:off x="5853240" y="3689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"/>
          <p:cNvSpPr/>
          <p:nvPr/>
        </p:nvSpPr>
        <p:spPr>
          <a:xfrm>
            <a:off x="5859360" y="44895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9"/>
          <p:cNvSpPr/>
          <p:nvPr/>
        </p:nvSpPr>
        <p:spPr>
          <a:xfrm>
            <a:off x="6099120" y="34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6321240" y="355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6137280" y="4286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6346800" y="442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078-CF4A-42F8-B095-1B907B6B5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оскости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-6120" y="1771560"/>
            <a:ext cx="924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 уровня расположены в прос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стве параллельно одной из плоскостей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й, а так как плоскости проекций взаим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ы, то эти плоскости перпенд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ярны двум другим плоскостям 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три вида плоскостей уров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8242-A5FD-4625-9172-757B8BBBB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-5760" y="2143080"/>
            <a:ext cx="911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, параллельные П   и перпенд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ярные П   и П   , называются гризонтальн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 плоскостями уровня и обозначаются че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25288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264120" y="2881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6429600" y="2365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ные плоскости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1737-BF4A-4844-B058-BC1070C2D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39880" y="26748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039680" y="2844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55680" y="1652760"/>
            <a:ext cx="45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289320" y="19382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547520" y="2343240"/>
            <a:ext cx="459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Фронта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плоскости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линия пара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ьная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ные плоскости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4087800" y="1793880"/>
                <a:ext cx="2905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6" name="Text Box 11"/>
          <p:cNvSpPr/>
          <p:nvPr/>
        </p:nvSpPr>
        <p:spPr>
          <a:xfrm>
            <a:off x="4786200" y="19224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7581960" y="4057560"/>
            <a:ext cx="4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3"/>
              <p:cNvSpPr txBox="1"/>
              <p:nvPr/>
            </p:nvSpPr>
            <p:spPr>
              <a:xfrm>
                <a:off x="2616120" y="1816200"/>
                <a:ext cx="27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9" name="Line 14"/>
          <p:cNvSpPr/>
          <p:nvPr/>
        </p:nvSpPr>
        <p:spPr>
          <a:xfrm>
            <a:off x="241200" y="3916440"/>
            <a:ext cx="4299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763560" y="3116160"/>
            <a:ext cx="33004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9"/>
          <p:cNvSpPr/>
          <p:nvPr/>
        </p:nvSpPr>
        <p:spPr>
          <a:xfrm>
            <a:off x="270000" y="34704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0"/>
          <p:cNvSpPr/>
          <p:nvPr/>
        </p:nvSpPr>
        <p:spPr>
          <a:xfrm>
            <a:off x="417600" y="361332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3"/>
          <p:cNvSpPr/>
          <p:nvPr/>
        </p:nvSpPr>
        <p:spPr>
          <a:xfrm>
            <a:off x="1830240" y="19242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9C6A-5AAF-47C3-A183-55FD37CE0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39880" y="26748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039680" y="2844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55680" y="1652760"/>
            <a:ext cx="45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3289320" y="19382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4548600" y="2343240"/>
            <a:ext cx="469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Фронта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плоскости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линия пара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ьная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   отсек плоск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 проецируется в н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раль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ные плоскости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7"/>
              <p:cNvSpPr txBox="1"/>
              <p:nvPr/>
            </p:nvSpPr>
            <p:spPr>
              <a:xfrm>
                <a:off x="4087800" y="1793880"/>
                <a:ext cx="2905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2" name="Text Box 15"/>
          <p:cNvSpPr/>
          <p:nvPr/>
        </p:nvSpPr>
        <p:spPr>
          <a:xfrm>
            <a:off x="4786200" y="19224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81960" y="4057560"/>
            <a:ext cx="4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23"/>
              <p:cNvSpPr txBox="1"/>
              <p:nvPr/>
            </p:nvSpPr>
            <p:spPr>
              <a:xfrm>
                <a:off x="2616120" y="1816200"/>
                <a:ext cx="27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5" name="Line 28"/>
          <p:cNvSpPr/>
          <p:nvPr/>
        </p:nvSpPr>
        <p:spPr>
          <a:xfrm>
            <a:off x="241200" y="3916440"/>
            <a:ext cx="4299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9"/>
          <p:cNvSpPr/>
          <p:nvPr/>
        </p:nvSpPr>
        <p:spPr>
          <a:xfrm>
            <a:off x="763560" y="3116160"/>
            <a:ext cx="3300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0"/>
          <p:cNvSpPr/>
          <p:nvPr/>
        </p:nvSpPr>
        <p:spPr>
          <a:xfrm>
            <a:off x="1446120" y="4059360"/>
            <a:ext cx="1763640" cy="1390680"/>
          </a:xfrm>
          <a:custGeom>
            <a:avLst/>
            <a:gdLst/>
            <a:ahLst/>
            <a:rect l="l" t="t" r="r" b="b"/>
            <a:pathLst>
              <a:path w="14440" h="11382">
                <a:moveTo>
                  <a:pt x="66" y="4833"/>
                </a:moveTo>
                <a:lnTo>
                  <a:pt x="31" y="4689"/>
                </a:lnTo>
                <a:lnTo>
                  <a:pt x="9" y="4546"/>
                </a:lnTo>
                <a:lnTo>
                  <a:pt x="0" y="4403"/>
                </a:lnTo>
                <a:lnTo>
                  <a:pt x="2" y="4261"/>
                </a:lnTo>
                <a:lnTo>
                  <a:pt x="15" y="4119"/>
                </a:lnTo>
                <a:lnTo>
                  <a:pt x="39" y="3978"/>
                </a:lnTo>
                <a:lnTo>
                  <a:pt x="73" y="3839"/>
                </a:lnTo>
                <a:lnTo>
                  <a:pt x="119" y="3700"/>
                </a:lnTo>
                <a:lnTo>
                  <a:pt x="172" y="3564"/>
                </a:lnTo>
                <a:lnTo>
                  <a:pt x="236" y="3427"/>
                </a:lnTo>
                <a:lnTo>
                  <a:pt x="307" y="3293"/>
                </a:lnTo>
                <a:lnTo>
                  <a:pt x="387" y="3160"/>
                </a:lnTo>
                <a:lnTo>
                  <a:pt x="474" y="3029"/>
                </a:lnTo>
                <a:lnTo>
                  <a:pt x="569" y="2899"/>
                </a:lnTo>
                <a:lnTo>
                  <a:pt x="670" y="2771"/>
                </a:lnTo>
                <a:lnTo>
                  <a:pt x="778" y="2646"/>
                </a:lnTo>
                <a:lnTo>
                  <a:pt x="892" y="2522"/>
                </a:lnTo>
                <a:lnTo>
                  <a:pt x="1010" y="2401"/>
                </a:lnTo>
                <a:lnTo>
                  <a:pt x="1134" y="2282"/>
                </a:lnTo>
                <a:lnTo>
                  <a:pt x="1262" y="2165"/>
                </a:lnTo>
                <a:lnTo>
                  <a:pt x="1395" y="2050"/>
                </a:lnTo>
                <a:lnTo>
                  <a:pt x="1530" y="1939"/>
                </a:lnTo>
                <a:lnTo>
                  <a:pt x="1811" y="1723"/>
                </a:lnTo>
                <a:lnTo>
                  <a:pt x="2101" y="1520"/>
                </a:lnTo>
                <a:lnTo>
                  <a:pt x="2395" y="1329"/>
                </a:lnTo>
                <a:lnTo>
                  <a:pt x="2693" y="1151"/>
                </a:lnTo>
                <a:lnTo>
                  <a:pt x="2994" y="985"/>
                </a:lnTo>
                <a:lnTo>
                  <a:pt x="3296" y="832"/>
                </a:lnTo>
                <a:lnTo>
                  <a:pt x="3601" y="694"/>
                </a:lnTo>
                <a:lnTo>
                  <a:pt x="3909" y="567"/>
                </a:lnTo>
                <a:lnTo>
                  <a:pt x="4217" y="452"/>
                </a:lnTo>
                <a:lnTo>
                  <a:pt x="4528" y="352"/>
                </a:lnTo>
                <a:lnTo>
                  <a:pt x="4839" y="263"/>
                </a:lnTo>
                <a:lnTo>
                  <a:pt x="5150" y="187"/>
                </a:lnTo>
                <a:lnTo>
                  <a:pt x="5463" y="124"/>
                </a:lnTo>
                <a:lnTo>
                  <a:pt x="5776" y="75"/>
                </a:lnTo>
                <a:lnTo>
                  <a:pt x="6089" y="37"/>
                </a:lnTo>
                <a:lnTo>
                  <a:pt x="6402" y="12"/>
                </a:lnTo>
                <a:lnTo>
                  <a:pt x="6714" y="0"/>
                </a:lnTo>
                <a:lnTo>
                  <a:pt x="7024" y="0"/>
                </a:lnTo>
                <a:lnTo>
                  <a:pt x="7334" y="13"/>
                </a:lnTo>
                <a:lnTo>
                  <a:pt x="7642" y="38"/>
                </a:lnTo>
                <a:lnTo>
                  <a:pt x="7950" y="76"/>
                </a:lnTo>
                <a:lnTo>
                  <a:pt x="8255" y="125"/>
                </a:lnTo>
                <a:lnTo>
                  <a:pt x="8557" y="188"/>
                </a:lnTo>
                <a:lnTo>
                  <a:pt x="8857" y="263"/>
                </a:lnTo>
                <a:lnTo>
                  <a:pt x="9155" y="351"/>
                </a:lnTo>
                <a:lnTo>
                  <a:pt x="9449" y="450"/>
                </a:lnTo>
                <a:lnTo>
                  <a:pt x="9740" y="563"/>
                </a:lnTo>
                <a:lnTo>
                  <a:pt x="10027" y="687"/>
                </a:lnTo>
                <a:lnTo>
                  <a:pt x="10311" y="824"/>
                </a:lnTo>
                <a:lnTo>
                  <a:pt x="10590" y="973"/>
                </a:lnTo>
                <a:lnTo>
                  <a:pt x="10865" y="1134"/>
                </a:lnTo>
                <a:lnTo>
                  <a:pt x="11136" y="1308"/>
                </a:lnTo>
                <a:lnTo>
                  <a:pt x="11401" y="1493"/>
                </a:lnTo>
                <a:lnTo>
                  <a:pt x="11661" y="1691"/>
                </a:lnTo>
                <a:lnTo>
                  <a:pt x="11914" y="1900"/>
                </a:lnTo>
                <a:lnTo>
                  <a:pt x="12161" y="2121"/>
                </a:lnTo>
                <a:lnTo>
                  <a:pt x="12400" y="2351"/>
                </a:lnTo>
                <a:lnTo>
                  <a:pt x="12631" y="2590"/>
                </a:lnTo>
                <a:lnTo>
                  <a:pt x="12852" y="2839"/>
                </a:lnTo>
                <a:lnTo>
                  <a:pt x="13062" y="3095"/>
                </a:lnTo>
                <a:lnTo>
                  <a:pt x="13261" y="3359"/>
                </a:lnTo>
                <a:lnTo>
                  <a:pt x="13447" y="3630"/>
                </a:lnTo>
                <a:lnTo>
                  <a:pt x="13620" y="3906"/>
                </a:lnTo>
                <a:lnTo>
                  <a:pt x="13780" y="4186"/>
                </a:lnTo>
                <a:lnTo>
                  <a:pt x="13924" y="4472"/>
                </a:lnTo>
                <a:lnTo>
                  <a:pt x="14052" y="4761"/>
                </a:lnTo>
                <a:lnTo>
                  <a:pt x="14111" y="4907"/>
                </a:lnTo>
                <a:lnTo>
                  <a:pt x="14165" y="5053"/>
                </a:lnTo>
                <a:lnTo>
                  <a:pt x="14213" y="5200"/>
                </a:lnTo>
                <a:lnTo>
                  <a:pt x="14258" y="5348"/>
                </a:lnTo>
                <a:lnTo>
                  <a:pt x="14298" y="5495"/>
                </a:lnTo>
                <a:lnTo>
                  <a:pt x="14334" y="5643"/>
                </a:lnTo>
                <a:lnTo>
                  <a:pt x="14364" y="5792"/>
                </a:lnTo>
                <a:lnTo>
                  <a:pt x="14390" y="5940"/>
                </a:lnTo>
                <a:lnTo>
                  <a:pt x="14410" y="6088"/>
                </a:lnTo>
                <a:lnTo>
                  <a:pt x="14426" y="6236"/>
                </a:lnTo>
                <a:lnTo>
                  <a:pt x="14435" y="6385"/>
                </a:lnTo>
                <a:lnTo>
                  <a:pt x="14440" y="6532"/>
                </a:lnTo>
                <a:lnTo>
                  <a:pt x="14439" y="6679"/>
                </a:lnTo>
                <a:lnTo>
                  <a:pt x="14431" y="6826"/>
                </a:lnTo>
                <a:lnTo>
                  <a:pt x="14419" y="6974"/>
                </a:lnTo>
                <a:lnTo>
                  <a:pt x="14401" y="7119"/>
                </a:lnTo>
                <a:lnTo>
                  <a:pt x="14376" y="7264"/>
                </a:lnTo>
                <a:lnTo>
                  <a:pt x="14345" y="7409"/>
                </a:lnTo>
                <a:lnTo>
                  <a:pt x="14309" y="7552"/>
                </a:lnTo>
                <a:lnTo>
                  <a:pt x="14266" y="7695"/>
                </a:lnTo>
                <a:lnTo>
                  <a:pt x="14218" y="7835"/>
                </a:lnTo>
                <a:lnTo>
                  <a:pt x="14163" y="7976"/>
                </a:lnTo>
                <a:lnTo>
                  <a:pt x="14103" y="8115"/>
                </a:lnTo>
                <a:lnTo>
                  <a:pt x="14037" y="8252"/>
                </a:lnTo>
                <a:lnTo>
                  <a:pt x="13967" y="8388"/>
                </a:lnTo>
                <a:lnTo>
                  <a:pt x="13891" y="8522"/>
                </a:lnTo>
                <a:lnTo>
                  <a:pt x="13810" y="8655"/>
                </a:lnTo>
                <a:lnTo>
                  <a:pt x="13724" y="8785"/>
                </a:lnTo>
                <a:lnTo>
                  <a:pt x="13633" y="8914"/>
                </a:lnTo>
                <a:lnTo>
                  <a:pt x="13539" y="9040"/>
                </a:lnTo>
                <a:lnTo>
                  <a:pt x="13440" y="9165"/>
                </a:lnTo>
                <a:lnTo>
                  <a:pt x="13338" y="9287"/>
                </a:lnTo>
                <a:lnTo>
                  <a:pt x="13230" y="9407"/>
                </a:lnTo>
                <a:lnTo>
                  <a:pt x="13120" y="9524"/>
                </a:lnTo>
                <a:lnTo>
                  <a:pt x="13006" y="9639"/>
                </a:lnTo>
                <a:lnTo>
                  <a:pt x="12888" y="9752"/>
                </a:lnTo>
                <a:lnTo>
                  <a:pt x="12645" y="9967"/>
                </a:lnTo>
                <a:lnTo>
                  <a:pt x="12388" y="10170"/>
                </a:lnTo>
                <a:lnTo>
                  <a:pt x="12123" y="10362"/>
                </a:lnTo>
                <a:lnTo>
                  <a:pt x="11848" y="10539"/>
                </a:lnTo>
                <a:lnTo>
                  <a:pt x="11567" y="10702"/>
                </a:lnTo>
                <a:lnTo>
                  <a:pt x="11280" y="10849"/>
                </a:lnTo>
                <a:lnTo>
                  <a:pt x="11134" y="10916"/>
                </a:lnTo>
                <a:lnTo>
                  <a:pt x="10987" y="10980"/>
                </a:lnTo>
                <a:lnTo>
                  <a:pt x="10840" y="11039"/>
                </a:lnTo>
                <a:lnTo>
                  <a:pt x="10692" y="11094"/>
                </a:lnTo>
                <a:lnTo>
                  <a:pt x="10544" y="11144"/>
                </a:lnTo>
                <a:lnTo>
                  <a:pt x="10394" y="11190"/>
                </a:lnTo>
                <a:lnTo>
                  <a:pt x="10246" y="11231"/>
                </a:lnTo>
                <a:lnTo>
                  <a:pt x="10097" y="11267"/>
                </a:lnTo>
                <a:lnTo>
                  <a:pt x="9948" y="11299"/>
                </a:lnTo>
                <a:lnTo>
                  <a:pt x="9800" y="11324"/>
                </a:lnTo>
                <a:lnTo>
                  <a:pt x="9653" y="11346"/>
                </a:lnTo>
                <a:lnTo>
                  <a:pt x="9507" y="11362"/>
                </a:lnTo>
                <a:lnTo>
                  <a:pt x="9359" y="11373"/>
                </a:lnTo>
                <a:lnTo>
                  <a:pt x="9214" y="11380"/>
                </a:lnTo>
                <a:lnTo>
                  <a:pt x="9069" y="11382"/>
                </a:lnTo>
                <a:lnTo>
                  <a:pt x="8924" y="11379"/>
                </a:lnTo>
                <a:lnTo>
                  <a:pt x="8780" y="11371"/>
                </a:lnTo>
                <a:lnTo>
                  <a:pt x="8636" y="11360"/>
                </a:lnTo>
                <a:lnTo>
                  <a:pt x="8350" y="11324"/>
                </a:lnTo>
                <a:lnTo>
                  <a:pt x="8066" y="11275"/>
                </a:lnTo>
                <a:lnTo>
                  <a:pt x="7782" y="11210"/>
                </a:lnTo>
                <a:lnTo>
                  <a:pt x="7500" y="11133"/>
                </a:lnTo>
                <a:lnTo>
                  <a:pt x="7218" y="11043"/>
                </a:lnTo>
                <a:lnTo>
                  <a:pt x="6937" y="10942"/>
                </a:lnTo>
                <a:lnTo>
                  <a:pt x="6655" y="10833"/>
                </a:lnTo>
                <a:lnTo>
                  <a:pt x="6375" y="10714"/>
                </a:lnTo>
                <a:lnTo>
                  <a:pt x="6093" y="10587"/>
                </a:lnTo>
                <a:lnTo>
                  <a:pt x="5811" y="10455"/>
                </a:lnTo>
                <a:lnTo>
                  <a:pt x="5528" y="10318"/>
                </a:lnTo>
                <a:lnTo>
                  <a:pt x="5243" y="10176"/>
                </a:lnTo>
                <a:lnTo>
                  <a:pt x="4672" y="9885"/>
                </a:lnTo>
                <a:lnTo>
                  <a:pt x="4093" y="9590"/>
                </a:lnTo>
                <a:lnTo>
                  <a:pt x="3505" y="9301"/>
                </a:lnTo>
                <a:lnTo>
                  <a:pt x="2916" y="9015"/>
                </a:lnTo>
                <a:lnTo>
                  <a:pt x="2628" y="8870"/>
                </a:lnTo>
                <a:lnTo>
                  <a:pt x="2347" y="8721"/>
                </a:lnTo>
                <a:lnTo>
                  <a:pt x="2074" y="8565"/>
                </a:lnTo>
                <a:lnTo>
                  <a:pt x="1814" y="8403"/>
                </a:lnTo>
                <a:lnTo>
                  <a:pt x="1690" y="8317"/>
                </a:lnTo>
                <a:lnTo>
                  <a:pt x="1568" y="8231"/>
                </a:lnTo>
                <a:lnTo>
                  <a:pt x="1451" y="8140"/>
                </a:lnTo>
                <a:lnTo>
                  <a:pt x="1340" y="8047"/>
                </a:lnTo>
                <a:lnTo>
                  <a:pt x="1233" y="7950"/>
                </a:lnTo>
                <a:lnTo>
                  <a:pt x="1130" y="7851"/>
                </a:lnTo>
                <a:lnTo>
                  <a:pt x="1033" y="7747"/>
                </a:lnTo>
                <a:lnTo>
                  <a:pt x="943" y="7639"/>
                </a:lnTo>
                <a:lnTo>
                  <a:pt x="857" y="7528"/>
                </a:lnTo>
                <a:lnTo>
                  <a:pt x="779" y="7412"/>
                </a:lnTo>
                <a:lnTo>
                  <a:pt x="707" y="7292"/>
                </a:lnTo>
                <a:lnTo>
                  <a:pt x="642" y="7166"/>
                </a:lnTo>
                <a:lnTo>
                  <a:pt x="583" y="7036"/>
                </a:lnTo>
                <a:lnTo>
                  <a:pt x="532" y="6902"/>
                </a:lnTo>
                <a:lnTo>
                  <a:pt x="486" y="6765"/>
                </a:lnTo>
                <a:lnTo>
                  <a:pt x="445" y="6623"/>
                </a:lnTo>
                <a:lnTo>
                  <a:pt x="373" y="6333"/>
                </a:lnTo>
                <a:lnTo>
                  <a:pt x="314" y="6034"/>
                </a:lnTo>
                <a:lnTo>
                  <a:pt x="202" y="5427"/>
                </a:lnTo>
                <a:lnTo>
                  <a:pt x="140" y="5127"/>
                </a:lnTo>
                <a:lnTo>
                  <a:pt x="105" y="4979"/>
                </a:lnTo>
                <a:lnTo>
                  <a:pt x="66" y="4833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1"/>
          <p:cNvSpPr/>
          <p:nvPr/>
        </p:nvSpPr>
        <p:spPr>
          <a:xfrm flipV="1">
            <a:off x="1457280" y="4191120"/>
            <a:ext cx="333360" cy="334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 flipV="1">
            <a:off x="1450800" y="4109760"/>
            <a:ext cx="527400" cy="525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3"/>
          <p:cNvSpPr/>
          <p:nvPr/>
        </p:nvSpPr>
        <p:spPr>
          <a:xfrm flipV="1">
            <a:off x="1471680" y="4073400"/>
            <a:ext cx="647640" cy="64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4"/>
          <p:cNvSpPr/>
          <p:nvPr/>
        </p:nvSpPr>
        <p:spPr>
          <a:xfrm flipV="1">
            <a:off x="1487520" y="4060440"/>
            <a:ext cx="749160" cy="749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5"/>
          <p:cNvSpPr/>
          <p:nvPr/>
        </p:nvSpPr>
        <p:spPr>
          <a:xfrm flipV="1">
            <a:off x="1509840" y="4060440"/>
            <a:ext cx="831600" cy="833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6"/>
          <p:cNvSpPr/>
          <p:nvPr/>
        </p:nvSpPr>
        <p:spPr>
          <a:xfrm flipV="1">
            <a:off x="1542960" y="4071600"/>
            <a:ext cx="893880" cy="89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7"/>
          <p:cNvSpPr/>
          <p:nvPr/>
        </p:nvSpPr>
        <p:spPr>
          <a:xfrm flipV="1">
            <a:off x="1590840" y="4088880"/>
            <a:ext cx="931680" cy="933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8"/>
          <p:cNvSpPr/>
          <p:nvPr/>
        </p:nvSpPr>
        <p:spPr>
          <a:xfrm flipV="1">
            <a:off x="1647720" y="4114440"/>
            <a:ext cx="955800" cy="95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9"/>
          <p:cNvSpPr/>
          <p:nvPr/>
        </p:nvSpPr>
        <p:spPr>
          <a:xfrm flipV="1">
            <a:off x="1711440" y="4146120"/>
            <a:ext cx="965160" cy="965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0"/>
          <p:cNvSpPr/>
          <p:nvPr/>
        </p:nvSpPr>
        <p:spPr>
          <a:xfrm flipV="1">
            <a:off x="1779480" y="4181400"/>
            <a:ext cx="966960" cy="966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1"/>
          <p:cNvSpPr/>
          <p:nvPr/>
        </p:nvSpPr>
        <p:spPr>
          <a:xfrm flipV="1">
            <a:off x="1851120" y="4222800"/>
            <a:ext cx="960480" cy="960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2"/>
          <p:cNvSpPr/>
          <p:nvPr/>
        </p:nvSpPr>
        <p:spPr>
          <a:xfrm flipV="1">
            <a:off x="1920960" y="4267080"/>
            <a:ext cx="950760" cy="95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3"/>
          <p:cNvSpPr/>
          <p:nvPr/>
        </p:nvSpPr>
        <p:spPr>
          <a:xfrm flipV="1">
            <a:off x="1990800" y="4314960"/>
            <a:ext cx="938160" cy="938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4"/>
          <p:cNvSpPr/>
          <p:nvPr/>
        </p:nvSpPr>
        <p:spPr>
          <a:xfrm flipV="1">
            <a:off x="2060640" y="4367160"/>
            <a:ext cx="920520" cy="922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5"/>
          <p:cNvSpPr/>
          <p:nvPr/>
        </p:nvSpPr>
        <p:spPr>
          <a:xfrm flipV="1">
            <a:off x="2130480" y="4422240"/>
            <a:ext cx="900000" cy="90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2201760" y="4483080"/>
            <a:ext cx="874800" cy="874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7"/>
          <p:cNvSpPr/>
          <p:nvPr/>
        </p:nvSpPr>
        <p:spPr>
          <a:xfrm flipV="1">
            <a:off x="2276640" y="4547880"/>
            <a:ext cx="839520" cy="841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8"/>
          <p:cNvSpPr/>
          <p:nvPr/>
        </p:nvSpPr>
        <p:spPr>
          <a:xfrm flipV="1">
            <a:off x="2354400" y="4615920"/>
            <a:ext cx="798480" cy="800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9"/>
          <p:cNvSpPr/>
          <p:nvPr/>
        </p:nvSpPr>
        <p:spPr>
          <a:xfrm flipV="1">
            <a:off x="2438280" y="4692600"/>
            <a:ext cx="743040" cy="744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0"/>
          <p:cNvSpPr/>
          <p:nvPr/>
        </p:nvSpPr>
        <p:spPr>
          <a:xfrm flipV="1">
            <a:off x="2532240" y="4776480"/>
            <a:ext cx="671400" cy="671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1"/>
          <p:cNvSpPr/>
          <p:nvPr/>
        </p:nvSpPr>
        <p:spPr>
          <a:xfrm flipV="1">
            <a:off x="2643120" y="4874760"/>
            <a:ext cx="566640" cy="56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2"/>
          <p:cNvSpPr/>
          <p:nvPr/>
        </p:nvSpPr>
        <p:spPr>
          <a:xfrm flipV="1">
            <a:off x="2790720" y="5002200"/>
            <a:ext cx="397080" cy="39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3"/>
          <p:cNvSpPr/>
          <p:nvPr/>
        </p:nvSpPr>
        <p:spPr>
          <a:xfrm>
            <a:off x="270000" y="34704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4"/>
          <p:cNvSpPr/>
          <p:nvPr/>
        </p:nvSpPr>
        <p:spPr>
          <a:xfrm>
            <a:off x="417600" y="361332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6"/>
          <p:cNvSpPr/>
          <p:nvPr/>
        </p:nvSpPr>
        <p:spPr>
          <a:xfrm>
            <a:off x="2026440" y="4478400"/>
            <a:ext cx="59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9"/>
          <p:cNvSpPr/>
          <p:nvPr/>
        </p:nvSpPr>
        <p:spPr>
          <a:xfrm>
            <a:off x="5884920" y="4522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0"/>
          <p:cNvSpPr/>
          <p:nvPr/>
        </p:nvSpPr>
        <p:spPr>
          <a:xfrm>
            <a:off x="1830240" y="19242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42DF-5AA7-49AC-88A9-FC78DCB44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-5040" y="2143080"/>
            <a:ext cx="92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, параллельные П   и перпенд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ярные П   и П   , называются фронта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ями уровня и обозначаются чере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225288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3264120" y="2881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6391440" y="243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ные плоскости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610D-70AB-41B8-A7E6-84712497E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866880" y="499284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066680" y="5162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57480" y="1652760"/>
            <a:ext cx="46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343320" y="1938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4547880" y="2343240"/>
            <a:ext cx="45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Горизонтальной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ей плоскости яв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ется линия пара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ьная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"/>
              <p:cNvSpPr txBox="1"/>
              <p:nvPr/>
            </p:nvSpPr>
            <p:spPr>
              <a:xfrm>
                <a:off x="4259160" y="1846440"/>
                <a:ext cx="2905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8" name="Text Box 10"/>
          <p:cNvSpPr/>
          <p:nvPr/>
        </p:nvSpPr>
        <p:spPr>
          <a:xfrm>
            <a:off x="4890960" y="1909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7581960" y="4057560"/>
            <a:ext cx="4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12"/>
              <p:cNvSpPr txBox="1"/>
              <p:nvPr/>
            </p:nvSpPr>
            <p:spPr>
              <a:xfrm>
                <a:off x="2616120" y="1816200"/>
                <a:ext cx="27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1" name="Line 13"/>
          <p:cNvSpPr/>
          <p:nvPr/>
        </p:nvSpPr>
        <p:spPr>
          <a:xfrm>
            <a:off x="320760" y="4246560"/>
            <a:ext cx="4298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790560" y="5433840"/>
            <a:ext cx="33004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8"/>
          <p:cNvSpPr/>
          <p:nvPr/>
        </p:nvSpPr>
        <p:spPr>
          <a:xfrm>
            <a:off x="349200" y="380052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96800" y="3943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1830240" y="19242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ные плоскости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D58D-F42B-4EBE-A344-E348F9378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866880" y="499284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066680" y="5162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357480" y="1652760"/>
            <a:ext cx="46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343320" y="1938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4548600" y="2343240"/>
            <a:ext cx="469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Горизонтальной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ей плоскости яв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ется линия пара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ьная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   отсек плоск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 проецируется в н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раль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0"/>
              <p:cNvSpPr txBox="1"/>
              <p:nvPr/>
            </p:nvSpPr>
            <p:spPr>
              <a:xfrm>
                <a:off x="4259160" y="1846440"/>
                <a:ext cx="2905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4" name="Text Box 11"/>
          <p:cNvSpPr/>
          <p:nvPr/>
        </p:nvSpPr>
        <p:spPr>
          <a:xfrm>
            <a:off x="4890960" y="1909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7581960" y="4057560"/>
            <a:ext cx="4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3"/>
              <p:cNvSpPr txBox="1"/>
              <p:nvPr/>
            </p:nvSpPr>
            <p:spPr>
              <a:xfrm>
                <a:off x="2616120" y="1816200"/>
                <a:ext cx="27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7" name="Line 14"/>
          <p:cNvSpPr/>
          <p:nvPr/>
        </p:nvSpPr>
        <p:spPr>
          <a:xfrm>
            <a:off x="320760" y="4246560"/>
            <a:ext cx="4298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5"/>
          <p:cNvSpPr/>
          <p:nvPr/>
        </p:nvSpPr>
        <p:spPr>
          <a:xfrm>
            <a:off x="790560" y="5433840"/>
            <a:ext cx="3300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6"/>
          <p:cNvSpPr/>
          <p:nvPr/>
        </p:nvSpPr>
        <p:spPr>
          <a:xfrm>
            <a:off x="1763640" y="2494080"/>
            <a:ext cx="1763640" cy="1390680"/>
          </a:xfrm>
          <a:custGeom>
            <a:avLst/>
            <a:gdLst/>
            <a:ahLst/>
            <a:rect l="l" t="t" r="r" b="b"/>
            <a:pathLst>
              <a:path w="14440" h="11382">
                <a:moveTo>
                  <a:pt x="66" y="4833"/>
                </a:moveTo>
                <a:lnTo>
                  <a:pt x="31" y="4689"/>
                </a:lnTo>
                <a:lnTo>
                  <a:pt x="9" y="4546"/>
                </a:lnTo>
                <a:lnTo>
                  <a:pt x="0" y="4403"/>
                </a:lnTo>
                <a:lnTo>
                  <a:pt x="2" y="4261"/>
                </a:lnTo>
                <a:lnTo>
                  <a:pt x="15" y="4119"/>
                </a:lnTo>
                <a:lnTo>
                  <a:pt x="39" y="3978"/>
                </a:lnTo>
                <a:lnTo>
                  <a:pt x="73" y="3839"/>
                </a:lnTo>
                <a:lnTo>
                  <a:pt x="119" y="3700"/>
                </a:lnTo>
                <a:lnTo>
                  <a:pt x="172" y="3564"/>
                </a:lnTo>
                <a:lnTo>
                  <a:pt x="236" y="3427"/>
                </a:lnTo>
                <a:lnTo>
                  <a:pt x="307" y="3293"/>
                </a:lnTo>
                <a:lnTo>
                  <a:pt x="387" y="3160"/>
                </a:lnTo>
                <a:lnTo>
                  <a:pt x="474" y="3029"/>
                </a:lnTo>
                <a:lnTo>
                  <a:pt x="569" y="2899"/>
                </a:lnTo>
                <a:lnTo>
                  <a:pt x="670" y="2771"/>
                </a:lnTo>
                <a:lnTo>
                  <a:pt x="778" y="2646"/>
                </a:lnTo>
                <a:lnTo>
                  <a:pt x="892" y="2522"/>
                </a:lnTo>
                <a:lnTo>
                  <a:pt x="1010" y="2401"/>
                </a:lnTo>
                <a:lnTo>
                  <a:pt x="1134" y="2282"/>
                </a:lnTo>
                <a:lnTo>
                  <a:pt x="1262" y="2165"/>
                </a:lnTo>
                <a:lnTo>
                  <a:pt x="1395" y="2050"/>
                </a:lnTo>
                <a:lnTo>
                  <a:pt x="1530" y="1939"/>
                </a:lnTo>
                <a:lnTo>
                  <a:pt x="1811" y="1723"/>
                </a:lnTo>
                <a:lnTo>
                  <a:pt x="2101" y="1520"/>
                </a:lnTo>
                <a:lnTo>
                  <a:pt x="2395" y="1329"/>
                </a:lnTo>
                <a:lnTo>
                  <a:pt x="2693" y="1151"/>
                </a:lnTo>
                <a:lnTo>
                  <a:pt x="2994" y="985"/>
                </a:lnTo>
                <a:lnTo>
                  <a:pt x="3296" y="832"/>
                </a:lnTo>
                <a:lnTo>
                  <a:pt x="3601" y="694"/>
                </a:lnTo>
                <a:lnTo>
                  <a:pt x="3909" y="567"/>
                </a:lnTo>
                <a:lnTo>
                  <a:pt x="4217" y="452"/>
                </a:lnTo>
                <a:lnTo>
                  <a:pt x="4528" y="352"/>
                </a:lnTo>
                <a:lnTo>
                  <a:pt x="4839" y="263"/>
                </a:lnTo>
                <a:lnTo>
                  <a:pt x="5150" y="187"/>
                </a:lnTo>
                <a:lnTo>
                  <a:pt x="5463" y="124"/>
                </a:lnTo>
                <a:lnTo>
                  <a:pt x="5776" y="75"/>
                </a:lnTo>
                <a:lnTo>
                  <a:pt x="6089" y="37"/>
                </a:lnTo>
                <a:lnTo>
                  <a:pt x="6402" y="12"/>
                </a:lnTo>
                <a:lnTo>
                  <a:pt x="6714" y="0"/>
                </a:lnTo>
                <a:lnTo>
                  <a:pt x="7024" y="0"/>
                </a:lnTo>
                <a:lnTo>
                  <a:pt x="7334" y="13"/>
                </a:lnTo>
                <a:lnTo>
                  <a:pt x="7642" y="38"/>
                </a:lnTo>
                <a:lnTo>
                  <a:pt x="7950" y="76"/>
                </a:lnTo>
                <a:lnTo>
                  <a:pt x="8255" y="125"/>
                </a:lnTo>
                <a:lnTo>
                  <a:pt x="8557" y="188"/>
                </a:lnTo>
                <a:lnTo>
                  <a:pt x="8857" y="263"/>
                </a:lnTo>
                <a:lnTo>
                  <a:pt x="9155" y="351"/>
                </a:lnTo>
                <a:lnTo>
                  <a:pt x="9449" y="450"/>
                </a:lnTo>
                <a:lnTo>
                  <a:pt x="9740" y="563"/>
                </a:lnTo>
                <a:lnTo>
                  <a:pt x="10027" y="687"/>
                </a:lnTo>
                <a:lnTo>
                  <a:pt x="10311" y="824"/>
                </a:lnTo>
                <a:lnTo>
                  <a:pt x="10590" y="973"/>
                </a:lnTo>
                <a:lnTo>
                  <a:pt x="10865" y="1134"/>
                </a:lnTo>
                <a:lnTo>
                  <a:pt x="11136" y="1308"/>
                </a:lnTo>
                <a:lnTo>
                  <a:pt x="11401" y="1493"/>
                </a:lnTo>
                <a:lnTo>
                  <a:pt x="11661" y="1691"/>
                </a:lnTo>
                <a:lnTo>
                  <a:pt x="11914" y="1900"/>
                </a:lnTo>
                <a:lnTo>
                  <a:pt x="12161" y="2121"/>
                </a:lnTo>
                <a:lnTo>
                  <a:pt x="12400" y="2351"/>
                </a:lnTo>
                <a:lnTo>
                  <a:pt x="12631" y="2590"/>
                </a:lnTo>
                <a:lnTo>
                  <a:pt x="12852" y="2839"/>
                </a:lnTo>
                <a:lnTo>
                  <a:pt x="13062" y="3095"/>
                </a:lnTo>
                <a:lnTo>
                  <a:pt x="13261" y="3359"/>
                </a:lnTo>
                <a:lnTo>
                  <a:pt x="13447" y="3630"/>
                </a:lnTo>
                <a:lnTo>
                  <a:pt x="13620" y="3906"/>
                </a:lnTo>
                <a:lnTo>
                  <a:pt x="13780" y="4186"/>
                </a:lnTo>
                <a:lnTo>
                  <a:pt x="13924" y="4472"/>
                </a:lnTo>
                <a:lnTo>
                  <a:pt x="14052" y="4761"/>
                </a:lnTo>
                <a:lnTo>
                  <a:pt x="14111" y="4907"/>
                </a:lnTo>
                <a:lnTo>
                  <a:pt x="14165" y="5053"/>
                </a:lnTo>
                <a:lnTo>
                  <a:pt x="14213" y="5200"/>
                </a:lnTo>
                <a:lnTo>
                  <a:pt x="14258" y="5348"/>
                </a:lnTo>
                <a:lnTo>
                  <a:pt x="14298" y="5495"/>
                </a:lnTo>
                <a:lnTo>
                  <a:pt x="14334" y="5643"/>
                </a:lnTo>
                <a:lnTo>
                  <a:pt x="14364" y="5792"/>
                </a:lnTo>
                <a:lnTo>
                  <a:pt x="14390" y="5940"/>
                </a:lnTo>
                <a:lnTo>
                  <a:pt x="14410" y="6088"/>
                </a:lnTo>
                <a:lnTo>
                  <a:pt x="14426" y="6236"/>
                </a:lnTo>
                <a:lnTo>
                  <a:pt x="14435" y="6385"/>
                </a:lnTo>
                <a:lnTo>
                  <a:pt x="14440" y="6532"/>
                </a:lnTo>
                <a:lnTo>
                  <a:pt x="14439" y="6679"/>
                </a:lnTo>
                <a:lnTo>
                  <a:pt x="14431" y="6826"/>
                </a:lnTo>
                <a:lnTo>
                  <a:pt x="14419" y="6974"/>
                </a:lnTo>
                <a:lnTo>
                  <a:pt x="14401" y="7119"/>
                </a:lnTo>
                <a:lnTo>
                  <a:pt x="14376" y="7264"/>
                </a:lnTo>
                <a:lnTo>
                  <a:pt x="14345" y="7409"/>
                </a:lnTo>
                <a:lnTo>
                  <a:pt x="14309" y="7552"/>
                </a:lnTo>
                <a:lnTo>
                  <a:pt x="14266" y="7695"/>
                </a:lnTo>
                <a:lnTo>
                  <a:pt x="14218" y="7835"/>
                </a:lnTo>
                <a:lnTo>
                  <a:pt x="14163" y="7976"/>
                </a:lnTo>
                <a:lnTo>
                  <a:pt x="14103" y="8115"/>
                </a:lnTo>
                <a:lnTo>
                  <a:pt x="14037" y="8252"/>
                </a:lnTo>
                <a:lnTo>
                  <a:pt x="13967" y="8388"/>
                </a:lnTo>
                <a:lnTo>
                  <a:pt x="13891" y="8522"/>
                </a:lnTo>
                <a:lnTo>
                  <a:pt x="13810" y="8655"/>
                </a:lnTo>
                <a:lnTo>
                  <a:pt x="13724" y="8785"/>
                </a:lnTo>
                <a:lnTo>
                  <a:pt x="13633" y="8914"/>
                </a:lnTo>
                <a:lnTo>
                  <a:pt x="13539" y="9040"/>
                </a:lnTo>
                <a:lnTo>
                  <a:pt x="13440" y="9165"/>
                </a:lnTo>
                <a:lnTo>
                  <a:pt x="13338" y="9287"/>
                </a:lnTo>
                <a:lnTo>
                  <a:pt x="13230" y="9407"/>
                </a:lnTo>
                <a:lnTo>
                  <a:pt x="13120" y="9524"/>
                </a:lnTo>
                <a:lnTo>
                  <a:pt x="13006" y="9639"/>
                </a:lnTo>
                <a:lnTo>
                  <a:pt x="12888" y="9752"/>
                </a:lnTo>
                <a:lnTo>
                  <a:pt x="12645" y="9967"/>
                </a:lnTo>
                <a:lnTo>
                  <a:pt x="12388" y="10170"/>
                </a:lnTo>
                <a:lnTo>
                  <a:pt x="12123" y="10362"/>
                </a:lnTo>
                <a:lnTo>
                  <a:pt x="11848" y="10539"/>
                </a:lnTo>
                <a:lnTo>
                  <a:pt x="11567" y="10702"/>
                </a:lnTo>
                <a:lnTo>
                  <a:pt x="11280" y="10849"/>
                </a:lnTo>
                <a:lnTo>
                  <a:pt x="11134" y="10916"/>
                </a:lnTo>
                <a:lnTo>
                  <a:pt x="10987" y="10980"/>
                </a:lnTo>
                <a:lnTo>
                  <a:pt x="10840" y="11039"/>
                </a:lnTo>
                <a:lnTo>
                  <a:pt x="10692" y="11094"/>
                </a:lnTo>
                <a:lnTo>
                  <a:pt x="10544" y="11144"/>
                </a:lnTo>
                <a:lnTo>
                  <a:pt x="10394" y="11190"/>
                </a:lnTo>
                <a:lnTo>
                  <a:pt x="10246" y="11231"/>
                </a:lnTo>
                <a:lnTo>
                  <a:pt x="10097" y="11267"/>
                </a:lnTo>
                <a:lnTo>
                  <a:pt x="9948" y="11299"/>
                </a:lnTo>
                <a:lnTo>
                  <a:pt x="9800" y="11324"/>
                </a:lnTo>
                <a:lnTo>
                  <a:pt x="9653" y="11346"/>
                </a:lnTo>
                <a:lnTo>
                  <a:pt x="9507" y="11362"/>
                </a:lnTo>
                <a:lnTo>
                  <a:pt x="9359" y="11373"/>
                </a:lnTo>
                <a:lnTo>
                  <a:pt x="9214" y="11380"/>
                </a:lnTo>
                <a:lnTo>
                  <a:pt x="9069" y="11382"/>
                </a:lnTo>
                <a:lnTo>
                  <a:pt x="8924" y="11379"/>
                </a:lnTo>
                <a:lnTo>
                  <a:pt x="8780" y="11371"/>
                </a:lnTo>
                <a:lnTo>
                  <a:pt x="8636" y="11360"/>
                </a:lnTo>
                <a:lnTo>
                  <a:pt x="8350" y="11324"/>
                </a:lnTo>
                <a:lnTo>
                  <a:pt x="8066" y="11275"/>
                </a:lnTo>
                <a:lnTo>
                  <a:pt x="7782" y="11210"/>
                </a:lnTo>
                <a:lnTo>
                  <a:pt x="7500" y="11133"/>
                </a:lnTo>
                <a:lnTo>
                  <a:pt x="7218" y="11043"/>
                </a:lnTo>
                <a:lnTo>
                  <a:pt x="6937" y="10942"/>
                </a:lnTo>
                <a:lnTo>
                  <a:pt x="6655" y="10833"/>
                </a:lnTo>
                <a:lnTo>
                  <a:pt x="6375" y="10714"/>
                </a:lnTo>
                <a:lnTo>
                  <a:pt x="6093" y="10587"/>
                </a:lnTo>
                <a:lnTo>
                  <a:pt x="5811" y="10455"/>
                </a:lnTo>
                <a:lnTo>
                  <a:pt x="5528" y="10318"/>
                </a:lnTo>
                <a:lnTo>
                  <a:pt x="5243" y="10176"/>
                </a:lnTo>
                <a:lnTo>
                  <a:pt x="4672" y="9885"/>
                </a:lnTo>
                <a:lnTo>
                  <a:pt x="4093" y="9590"/>
                </a:lnTo>
                <a:lnTo>
                  <a:pt x="3505" y="9301"/>
                </a:lnTo>
                <a:lnTo>
                  <a:pt x="2916" y="9015"/>
                </a:lnTo>
                <a:lnTo>
                  <a:pt x="2628" y="8870"/>
                </a:lnTo>
                <a:lnTo>
                  <a:pt x="2347" y="8721"/>
                </a:lnTo>
                <a:lnTo>
                  <a:pt x="2074" y="8565"/>
                </a:lnTo>
                <a:lnTo>
                  <a:pt x="1814" y="8403"/>
                </a:lnTo>
                <a:lnTo>
                  <a:pt x="1690" y="8317"/>
                </a:lnTo>
                <a:lnTo>
                  <a:pt x="1568" y="8231"/>
                </a:lnTo>
                <a:lnTo>
                  <a:pt x="1451" y="8140"/>
                </a:lnTo>
                <a:lnTo>
                  <a:pt x="1340" y="8047"/>
                </a:lnTo>
                <a:lnTo>
                  <a:pt x="1233" y="7950"/>
                </a:lnTo>
                <a:lnTo>
                  <a:pt x="1130" y="7851"/>
                </a:lnTo>
                <a:lnTo>
                  <a:pt x="1033" y="7747"/>
                </a:lnTo>
                <a:lnTo>
                  <a:pt x="943" y="7639"/>
                </a:lnTo>
                <a:lnTo>
                  <a:pt x="857" y="7528"/>
                </a:lnTo>
                <a:lnTo>
                  <a:pt x="779" y="7412"/>
                </a:lnTo>
                <a:lnTo>
                  <a:pt x="707" y="7292"/>
                </a:lnTo>
                <a:lnTo>
                  <a:pt x="642" y="7166"/>
                </a:lnTo>
                <a:lnTo>
                  <a:pt x="583" y="7036"/>
                </a:lnTo>
                <a:lnTo>
                  <a:pt x="532" y="6902"/>
                </a:lnTo>
                <a:lnTo>
                  <a:pt x="486" y="6765"/>
                </a:lnTo>
                <a:lnTo>
                  <a:pt x="445" y="6623"/>
                </a:lnTo>
                <a:lnTo>
                  <a:pt x="373" y="6333"/>
                </a:lnTo>
                <a:lnTo>
                  <a:pt x="314" y="6034"/>
                </a:lnTo>
                <a:lnTo>
                  <a:pt x="202" y="5427"/>
                </a:lnTo>
                <a:lnTo>
                  <a:pt x="140" y="5127"/>
                </a:lnTo>
                <a:lnTo>
                  <a:pt x="105" y="4979"/>
                </a:lnTo>
                <a:lnTo>
                  <a:pt x="66" y="4833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7"/>
          <p:cNvSpPr/>
          <p:nvPr/>
        </p:nvSpPr>
        <p:spPr>
          <a:xfrm flipV="1">
            <a:off x="1774800" y="2625840"/>
            <a:ext cx="333360" cy="334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8"/>
          <p:cNvSpPr/>
          <p:nvPr/>
        </p:nvSpPr>
        <p:spPr>
          <a:xfrm flipV="1">
            <a:off x="1768320" y="2544480"/>
            <a:ext cx="527040" cy="525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9"/>
          <p:cNvSpPr/>
          <p:nvPr/>
        </p:nvSpPr>
        <p:spPr>
          <a:xfrm flipV="1">
            <a:off x="1789200" y="2508120"/>
            <a:ext cx="647640" cy="64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0"/>
          <p:cNvSpPr/>
          <p:nvPr/>
        </p:nvSpPr>
        <p:spPr>
          <a:xfrm flipV="1">
            <a:off x="1805040" y="2495160"/>
            <a:ext cx="749160" cy="749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1"/>
          <p:cNvSpPr/>
          <p:nvPr/>
        </p:nvSpPr>
        <p:spPr>
          <a:xfrm flipV="1">
            <a:off x="1827360" y="2495160"/>
            <a:ext cx="831600" cy="833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2"/>
          <p:cNvSpPr/>
          <p:nvPr/>
        </p:nvSpPr>
        <p:spPr>
          <a:xfrm flipV="1">
            <a:off x="1860480" y="2506320"/>
            <a:ext cx="893880" cy="89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3"/>
          <p:cNvSpPr/>
          <p:nvPr/>
        </p:nvSpPr>
        <p:spPr>
          <a:xfrm flipV="1">
            <a:off x="1908000" y="2523600"/>
            <a:ext cx="932040" cy="933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4"/>
          <p:cNvSpPr/>
          <p:nvPr/>
        </p:nvSpPr>
        <p:spPr>
          <a:xfrm flipV="1">
            <a:off x="1965240" y="2549160"/>
            <a:ext cx="955800" cy="95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5"/>
          <p:cNvSpPr/>
          <p:nvPr/>
        </p:nvSpPr>
        <p:spPr>
          <a:xfrm flipV="1">
            <a:off x="2028960" y="2580840"/>
            <a:ext cx="965160" cy="965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6"/>
          <p:cNvSpPr/>
          <p:nvPr/>
        </p:nvSpPr>
        <p:spPr>
          <a:xfrm flipV="1">
            <a:off x="2097000" y="2616120"/>
            <a:ext cx="966960" cy="966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7"/>
          <p:cNvSpPr/>
          <p:nvPr/>
        </p:nvSpPr>
        <p:spPr>
          <a:xfrm flipV="1">
            <a:off x="2168640" y="2657520"/>
            <a:ext cx="960480" cy="960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8"/>
          <p:cNvSpPr/>
          <p:nvPr/>
        </p:nvSpPr>
        <p:spPr>
          <a:xfrm flipV="1">
            <a:off x="2238480" y="2701800"/>
            <a:ext cx="950760" cy="95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9"/>
          <p:cNvSpPr/>
          <p:nvPr/>
        </p:nvSpPr>
        <p:spPr>
          <a:xfrm flipV="1">
            <a:off x="2308320" y="2749680"/>
            <a:ext cx="938160" cy="938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0"/>
          <p:cNvSpPr/>
          <p:nvPr/>
        </p:nvSpPr>
        <p:spPr>
          <a:xfrm flipV="1">
            <a:off x="2378160" y="2801880"/>
            <a:ext cx="920520" cy="922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1"/>
          <p:cNvSpPr/>
          <p:nvPr/>
        </p:nvSpPr>
        <p:spPr>
          <a:xfrm flipV="1">
            <a:off x="2448000" y="2857680"/>
            <a:ext cx="900000" cy="90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2"/>
          <p:cNvSpPr/>
          <p:nvPr/>
        </p:nvSpPr>
        <p:spPr>
          <a:xfrm flipV="1">
            <a:off x="2519280" y="2917800"/>
            <a:ext cx="874800" cy="874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3"/>
          <p:cNvSpPr/>
          <p:nvPr/>
        </p:nvSpPr>
        <p:spPr>
          <a:xfrm flipV="1">
            <a:off x="2593800" y="2982600"/>
            <a:ext cx="839880" cy="841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4"/>
          <p:cNvSpPr/>
          <p:nvPr/>
        </p:nvSpPr>
        <p:spPr>
          <a:xfrm flipV="1">
            <a:off x="2671920" y="3050640"/>
            <a:ext cx="798480" cy="800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5"/>
          <p:cNvSpPr/>
          <p:nvPr/>
        </p:nvSpPr>
        <p:spPr>
          <a:xfrm flipV="1">
            <a:off x="2755800" y="3127320"/>
            <a:ext cx="743040" cy="744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6"/>
          <p:cNvSpPr/>
          <p:nvPr/>
        </p:nvSpPr>
        <p:spPr>
          <a:xfrm flipV="1">
            <a:off x="2849400" y="3211200"/>
            <a:ext cx="671760" cy="671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7"/>
          <p:cNvSpPr/>
          <p:nvPr/>
        </p:nvSpPr>
        <p:spPr>
          <a:xfrm flipV="1">
            <a:off x="2960640" y="3309480"/>
            <a:ext cx="566640" cy="56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8"/>
          <p:cNvSpPr/>
          <p:nvPr/>
        </p:nvSpPr>
        <p:spPr>
          <a:xfrm flipV="1">
            <a:off x="3108240" y="3436920"/>
            <a:ext cx="397080" cy="39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49200" y="380052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0"/>
          <p:cNvSpPr/>
          <p:nvPr/>
        </p:nvSpPr>
        <p:spPr>
          <a:xfrm>
            <a:off x="496800" y="3943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1"/>
          <p:cNvSpPr/>
          <p:nvPr/>
        </p:nvSpPr>
        <p:spPr>
          <a:xfrm>
            <a:off x="2343960" y="2913120"/>
            <a:ext cx="59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2"/>
          <p:cNvSpPr/>
          <p:nvPr/>
        </p:nvSpPr>
        <p:spPr>
          <a:xfrm>
            <a:off x="5884920" y="4522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3"/>
          <p:cNvSpPr/>
          <p:nvPr/>
        </p:nvSpPr>
        <p:spPr>
          <a:xfrm>
            <a:off x="1830240" y="19242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ронтальные плоскости уро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8431-5414-4404-9D6F-08E80FC36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-5760" y="2143080"/>
            <a:ext cx="91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, параллельные П   и перпенд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ярные П   и П   , называются профи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ями уровня и обозначаются чере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225288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3264120" y="2881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6416640" y="243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ые плоскости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461D-A6E8-4014-85EE-8E4A47363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442800" y="301788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642960" y="31878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355680" y="1652760"/>
            <a:ext cx="45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3252960" y="1951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4547520" y="2343240"/>
            <a:ext cx="459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Фронта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плоскости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линия пара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ьная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4125960" y="1819440"/>
                <a:ext cx="2905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31" name="Text Box 10"/>
          <p:cNvSpPr/>
          <p:nvPr/>
        </p:nvSpPr>
        <p:spPr>
          <a:xfrm>
            <a:off x="4838760" y="192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7650000" y="4057560"/>
            <a:ext cx="4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2"/>
              <p:cNvSpPr txBox="1"/>
              <p:nvPr/>
            </p:nvSpPr>
            <p:spPr>
              <a:xfrm>
                <a:off x="2616120" y="1830240"/>
                <a:ext cx="27468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34" name="Text Box 13"/>
          <p:cNvSpPr/>
          <p:nvPr/>
        </p:nvSpPr>
        <p:spPr>
          <a:xfrm>
            <a:off x="3662280" y="459576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3809880" y="4738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1765440" y="1949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ые плоскости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690480" y="4964040"/>
            <a:ext cx="329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2"/>
          <p:cNvSpPr/>
          <p:nvPr/>
        </p:nvSpPr>
        <p:spPr>
          <a:xfrm>
            <a:off x="1427040" y="2847960"/>
            <a:ext cx="1800" cy="27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3"/>
          <p:cNvSpPr/>
          <p:nvPr/>
        </p:nvSpPr>
        <p:spPr>
          <a:xfrm>
            <a:off x="1000080" y="2992320"/>
            <a:ext cx="1800" cy="1665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4"/>
          <p:cNvSpPr/>
          <p:nvPr/>
        </p:nvSpPr>
        <p:spPr>
          <a:xfrm>
            <a:off x="1449360" y="25830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5"/>
          <p:cNvSpPr/>
          <p:nvPr/>
        </p:nvSpPr>
        <p:spPr>
          <a:xfrm>
            <a:off x="1596960" y="272556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6"/>
          <p:cNvSpPr/>
          <p:nvPr/>
        </p:nvSpPr>
        <p:spPr>
          <a:xfrm>
            <a:off x="1461960" y="528624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7"/>
          <p:cNvSpPr/>
          <p:nvPr/>
        </p:nvSpPr>
        <p:spPr>
          <a:xfrm>
            <a:off x="1609560" y="542916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8"/>
          <p:cNvSpPr/>
          <p:nvPr/>
        </p:nvSpPr>
        <p:spPr>
          <a:xfrm>
            <a:off x="507960" y="457056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9"/>
          <p:cNvSpPr/>
          <p:nvPr/>
        </p:nvSpPr>
        <p:spPr>
          <a:xfrm>
            <a:off x="655560" y="47131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99E5-06A1-486D-BB83-7577643CD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442800" y="301788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642960" y="31878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355680" y="1652760"/>
            <a:ext cx="45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  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343320" y="1938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4548600" y="2343240"/>
            <a:ext cx="469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Фронта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плоскости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линия пара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ьная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   отсек плоск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 проецируется в н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раль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4"/>
              <p:cNvSpPr txBox="1"/>
              <p:nvPr/>
            </p:nvSpPr>
            <p:spPr>
              <a:xfrm>
                <a:off x="4125960" y="1819440"/>
                <a:ext cx="2905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4" name="Text Box 15"/>
          <p:cNvSpPr/>
          <p:nvPr/>
        </p:nvSpPr>
        <p:spPr>
          <a:xfrm>
            <a:off x="4890960" y="1909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6"/>
          <p:cNvSpPr/>
          <p:nvPr/>
        </p:nvSpPr>
        <p:spPr>
          <a:xfrm>
            <a:off x="7650000" y="4057560"/>
            <a:ext cx="4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17"/>
              <p:cNvSpPr txBox="1"/>
              <p:nvPr/>
            </p:nvSpPr>
            <p:spPr>
              <a:xfrm>
                <a:off x="2616120" y="1830240"/>
                <a:ext cx="27468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Text Box 46"/>
          <p:cNvSpPr/>
          <p:nvPr/>
        </p:nvSpPr>
        <p:spPr>
          <a:xfrm>
            <a:off x="5884920" y="4522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1830240" y="19242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ые плоскости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4"/>
          <p:cNvSpPr/>
          <p:nvPr/>
        </p:nvSpPr>
        <p:spPr>
          <a:xfrm>
            <a:off x="690480" y="4964040"/>
            <a:ext cx="329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5"/>
          <p:cNvSpPr/>
          <p:nvPr/>
        </p:nvSpPr>
        <p:spPr>
          <a:xfrm flipH="1" flipV="1">
            <a:off x="1866600" y="3936960"/>
            <a:ext cx="106200" cy="511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6"/>
          <p:cNvSpPr/>
          <p:nvPr/>
        </p:nvSpPr>
        <p:spPr>
          <a:xfrm flipH="1" flipV="1">
            <a:off x="1904760" y="3714480"/>
            <a:ext cx="166680" cy="804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7"/>
          <p:cNvSpPr/>
          <p:nvPr/>
        </p:nvSpPr>
        <p:spPr>
          <a:xfrm flipH="1" flipV="1">
            <a:off x="1956960" y="3563640"/>
            <a:ext cx="204840" cy="988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8"/>
          <p:cNvSpPr/>
          <p:nvPr/>
        </p:nvSpPr>
        <p:spPr>
          <a:xfrm flipH="1" flipV="1">
            <a:off x="2016000" y="3446280"/>
            <a:ext cx="238320" cy="1145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9"/>
          <p:cNvSpPr/>
          <p:nvPr/>
        </p:nvSpPr>
        <p:spPr>
          <a:xfrm flipH="1" flipV="1">
            <a:off x="2079720" y="3349800"/>
            <a:ext cx="264960" cy="1272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0"/>
          <p:cNvSpPr/>
          <p:nvPr/>
        </p:nvSpPr>
        <p:spPr>
          <a:xfrm flipH="1" flipV="1">
            <a:off x="2147400" y="3268800"/>
            <a:ext cx="282600" cy="1366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1"/>
          <p:cNvSpPr/>
          <p:nvPr/>
        </p:nvSpPr>
        <p:spPr>
          <a:xfrm flipH="1" flipV="1">
            <a:off x="2215800" y="3200400"/>
            <a:ext cx="297000" cy="1425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62"/>
          <p:cNvSpPr/>
          <p:nvPr/>
        </p:nvSpPr>
        <p:spPr>
          <a:xfrm flipH="1" flipV="1">
            <a:off x="2287080" y="3141360"/>
            <a:ext cx="304920" cy="1460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63"/>
          <p:cNvSpPr/>
          <p:nvPr/>
        </p:nvSpPr>
        <p:spPr>
          <a:xfrm flipH="1" flipV="1">
            <a:off x="2361960" y="3090600"/>
            <a:ext cx="306360" cy="147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4"/>
          <p:cNvSpPr/>
          <p:nvPr/>
        </p:nvSpPr>
        <p:spPr>
          <a:xfrm flipH="1" flipV="1">
            <a:off x="2436480" y="3049560"/>
            <a:ext cx="306360" cy="1478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5"/>
          <p:cNvSpPr/>
          <p:nvPr/>
        </p:nvSpPr>
        <p:spPr>
          <a:xfrm flipH="1" flipV="1">
            <a:off x="2513160" y="3012840"/>
            <a:ext cx="304560" cy="1469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6"/>
          <p:cNvSpPr/>
          <p:nvPr/>
        </p:nvSpPr>
        <p:spPr>
          <a:xfrm flipH="1" flipV="1">
            <a:off x="2590920" y="2984400"/>
            <a:ext cx="301680" cy="145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7"/>
          <p:cNvSpPr/>
          <p:nvPr/>
        </p:nvSpPr>
        <p:spPr>
          <a:xfrm flipH="1" flipV="1">
            <a:off x="2669760" y="2960640"/>
            <a:ext cx="298440" cy="143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8"/>
          <p:cNvSpPr/>
          <p:nvPr/>
        </p:nvSpPr>
        <p:spPr>
          <a:xfrm flipH="1" flipV="1">
            <a:off x="2749320" y="2944440"/>
            <a:ext cx="293400" cy="140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9"/>
          <p:cNvSpPr/>
          <p:nvPr/>
        </p:nvSpPr>
        <p:spPr>
          <a:xfrm flipH="1" flipV="1">
            <a:off x="2832120" y="2931840"/>
            <a:ext cx="285840" cy="1376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70"/>
          <p:cNvSpPr/>
          <p:nvPr/>
        </p:nvSpPr>
        <p:spPr>
          <a:xfrm flipH="1" flipV="1">
            <a:off x="2914560" y="2927160"/>
            <a:ext cx="277920" cy="133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1"/>
          <p:cNvSpPr/>
          <p:nvPr/>
        </p:nvSpPr>
        <p:spPr>
          <a:xfrm flipH="1" flipV="1">
            <a:off x="2998440" y="2928600"/>
            <a:ext cx="266760" cy="128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72"/>
          <p:cNvSpPr/>
          <p:nvPr/>
        </p:nvSpPr>
        <p:spPr>
          <a:xfrm flipH="1" flipV="1">
            <a:off x="3084480" y="2936520"/>
            <a:ext cx="254160" cy="1222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73"/>
          <p:cNvSpPr/>
          <p:nvPr/>
        </p:nvSpPr>
        <p:spPr>
          <a:xfrm flipH="1" flipV="1">
            <a:off x="3171600" y="2955960"/>
            <a:ext cx="236520" cy="1138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74"/>
          <p:cNvSpPr/>
          <p:nvPr/>
        </p:nvSpPr>
        <p:spPr>
          <a:xfrm flipH="1" flipV="1">
            <a:off x="3261960" y="2987280"/>
            <a:ext cx="212760" cy="1027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75"/>
          <p:cNvSpPr/>
          <p:nvPr/>
        </p:nvSpPr>
        <p:spPr>
          <a:xfrm flipH="1" flipV="1">
            <a:off x="3355560" y="3039840"/>
            <a:ext cx="181080" cy="866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76"/>
          <p:cNvSpPr/>
          <p:nvPr/>
        </p:nvSpPr>
        <p:spPr>
          <a:xfrm flipH="1" flipV="1">
            <a:off x="3460320" y="3138480"/>
            <a:ext cx="125640" cy="604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77"/>
          <p:cNvSpPr/>
          <p:nvPr/>
        </p:nvSpPr>
        <p:spPr>
          <a:xfrm>
            <a:off x="1863720" y="2927520"/>
            <a:ext cx="1736640" cy="1707840"/>
          </a:xfrm>
          <a:custGeom>
            <a:avLst/>
            <a:gdLst/>
            <a:ahLst/>
            <a:rect l="l" t="t" r="r" b="b"/>
            <a:pathLst>
              <a:path w="14223" h="13992">
                <a:moveTo>
                  <a:pt x="1825" y="13090"/>
                </a:moveTo>
                <a:lnTo>
                  <a:pt x="1671" y="13035"/>
                </a:lnTo>
                <a:lnTo>
                  <a:pt x="1525" y="12969"/>
                </a:lnTo>
                <a:lnTo>
                  <a:pt x="1387" y="12891"/>
                </a:lnTo>
                <a:lnTo>
                  <a:pt x="1258" y="12803"/>
                </a:lnTo>
                <a:lnTo>
                  <a:pt x="1135" y="12705"/>
                </a:lnTo>
                <a:lnTo>
                  <a:pt x="1019" y="12598"/>
                </a:lnTo>
                <a:lnTo>
                  <a:pt x="912" y="12481"/>
                </a:lnTo>
                <a:lnTo>
                  <a:pt x="812" y="12356"/>
                </a:lnTo>
                <a:lnTo>
                  <a:pt x="717" y="12223"/>
                </a:lnTo>
                <a:lnTo>
                  <a:pt x="630" y="12082"/>
                </a:lnTo>
                <a:lnTo>
                  <a:pt x="550" y="11935"/>
                </a:lnTo>
                <a:lnTo>
                  <a:pt x="475" y="11782"/>
                </a:lnTo>
                <a:lnTo>
                  <a:pt x="407" y="11621"/>
                </a:lnTo>
                <a:lnTo>
                  <a:pt x="345" y="11456"/>
                </a:lnTo>
                <a:lnTo>
                  <a:pt x="289" y="11285"/>
                </a:lnTo>
                <a:lnTo>
                  <a:pt x="238" y="11109"/>
                </a:lnTo>
                <a:lnTo>
                  <a:pt x="192" y="10930"/>
                </a:lnTo>
                <a:lnTo>
                  <a:pt x="152" y="10745"/>
                </a:lnTo>
                <a:lnTo>
                  <a:pt x="117" y="10559"/>
                </a:lnTo>
                <a:lnTo>
                  <a:pt x="87" y="10370"/>
                </a:lnTo>
                <a:lnTo>
                  <a:pt x="61" y="10178"/>
                </a:lnTo>
                <a:lnTo>
                  <a:pt x="41" y="9986"/>
                </a:lnTo>
                <a:lnTo>
                  <a:pt x="25" y="9791"/>
                </a:lnTo>
                <a:lnTo>
                  <a:pt x="12" y="9596"/>
                </a:lnTo>
                <a:lnTo>
                  <a:pt x="0" y="9205"/>
                </a:lnTo>
                <a:lnTo>
                  <a:pt x="2" y="8817"/>
                </a:lnTo>
                <a:lnTo>
                  <a:pt x="17" y="8434"/>
                </a:lnTo>
                <a:lnTo>
                  <a:pt x="46" y="8056"/>
                </a:lnTo>
                <a:lnTo>
                  <a:pt x="89" y="7685"/>
                </a:lnTo>
                <a:lnTo>
                  <a:pt x="146" y="7318"/>
                </a:lnTo>
                <a:lnTo>
                  <a:pt x="214" y="6958"/>
                </a:lnTo>
                <a:lnTo>
                  <a:pt x="296" y="6604"/>
                </a:lnTo>
                <a:lnTo>
                  <a:pt x="390" y="6256"/>
                </a:lnTo>
                <a:lnTo>
                  <a:pt x="498" y="5915"/>
                </a:lnTo>
                <a:lnTo>
                  <a:pt x="617" y="5582"/>
                </a:lnTo>
                <a:lnTo>
                  <a:pt x="748" y="5255"/>
                </a:lnTo>
                <a:lnTo>
                  <a:pt x="891" y="4935"/>
                </a:lnTo>
                <a:lnTo>
                  <a:pt x="1045" y="4624"/>
                </a:lnTo>
                <a:lnTo>
                  <a:pt x="1211" y="4319"/>
                </a:lnTo>
                <a:lnTo>
                  <a:pt x="1389" y="4024"/>
                </a:lnTo>
                <a:lnTo>
                  <a:pt x="1577" y="3737"/>
                </a:lnTo>
                <a:lnTo>
                  <a:pt x="1776" y="3458"/>
                </a:lnTo>
                <a:lnTo>
                  <a:pt x="1986" y="3188"/>
                </a:lnTo>
                <a:lnTo>
                  <a:pt x="2207" y="2927"/>
                </a:lnTo>
                <a:lnTo>
                  <a:pt x="2437" y="2676"/>
                </a:lnTo>
                <a:lnTo>
                  <a:pt x="2679" y="2435"/>
                </a:lnTo>
                <a:lnTo>
                  <a:pt x="2930" y="2203"/>
                </a:lnTo>
                <a:lnTo>
                  <a:pt x="3190" y="1981"/>
                </a:lnTo>
                <a:lnTo>
                  <a:pt x="3460" y="1770"/>
                </a:lnTo>
                <a:lnTo>
                  <a:pt x="3740" y="1569"/>
                </a:lnTo>
                <a:lnTo>
                  <a:pt x="4029" y="1378"/>
                </a:lnTo>
                <a:lnTo>
                  <a:pt x="4327" y="1200"/>
                </a:lnTo>
                <a:lnTo>
                  <a:pt x="4633" y="1032"/>
                </a:lnTo>
                <a:lnTo>
                  <a:pt x="4948" y="875"/>
                </a:lnTo>
                <a:lnTo>
                  <a:pt x="5272" y="731"/>
                </a:lnTo>
                <a:lnTo>
                  <a:pt x="5603" y="598"/>
                </a:lnTo>
                <a:lnTo>
                  <a:pt x="5943" y="477"/>
                </a:lnTo>
                <a:lnTo>
                  <a:pt x="6289" y="370"/>
                </a:lnTo>
                <a:lnTo>
                  <a:pt x="6642" y="275"/>
                </a:lnTo>
                <a:lnTo>
                  <a:pt x="6999" y="194"/>
                </a:lnTo>
                <a:lnTo>
                  <a:pt x="7360" y="126"/>
                </a:lnTo>
                <a:lnTo>
                  <a:pt x="7722" y="73"/>
                </a:lnTo>
                <a:lnTo>
                  <a:pt x="8086" y="34"/>
                </a:lnTo>
                <a:lnTo>
                  <a:pt x="8450" y="9"/>
                </a:lnTo>
                <a:lnTo>
                  <a:pt x="8813" y="0"/>
                </a:lnTo>
                <a:lnTo>
                  <a:pt x="9172" y="8"/>
                </a:lnTo>
                <a:lnTo>
                  <a:pt x="9528" y="30"/>
                </a:lnTo>
                <a:lnTo>
                  <a:pt x="9705" y="48"/>
                </a:lnTo>
                <a:lnTo>
                  <a:pt x="9879" y="69"/>
                </a:lnTo>
                <a:lnTo>
                  <a:pt x="10052" y="96"/>
                </a:lnTo>
                <a:lnTo>
                  <a:pt x="10223" y="127"/>
                </a:lnTo>
                <a:lnTo>
                  <a:pt x="10393" y="161"/>
                </a:lnTo>
                <a:lnTo>
                  <a:pt x="10560" y="200"/>
                </a:lnTo>
                <a:lnTo>
                  <a:pt x="10725" y="244"/>
                </a:lnTo>
                <a:lnTo>
                  <a:pt x="10889" y="291"/>
                </a:lnTo>
                <a:lnTo>
                  <a:pt x="11049" y="343"/>
                </a:lnTo>
                <a:lnTo>
                  <a:pt x="11207" y="401"/>
                </a:lnTo>
                <a:lnTo>
                  <a:pt x="11362" y="462"/>
                </a:lnTo>
                <a:lnTo>
                  <a:pt x="11515" y="528"/>
                </a:lnTo>
                <a:lnTo>
                  <a:pt x="11664" y="600"/>
                </a:lnTo>
                <a:lnTo>
                  <a:pt x="11810" y="674"/>
                </a:lnTo>
                <a:lnTo>
                  <a:pt x="11952" y="756"/>
                </a:lnTo>
                <a:lnTo>
                  <a:pt x="12092" y="841"/>
                </a:lnTo>
                <a:lnTo>
                  <a:pt x="12227" y="931"/>
                </a:lnTo>
                <a:lnTo>
                  <a:pt x="12358" y="1026"/>
                </a:lnTo>
                <a:lnTo>
                  <a:pt x="12486" y="1127"/>
                </a:lnTo>
                <a:lnTo>
                  <a:pt x="12609" y="1232"/>
                </a:lnTo>
                <a:lnTo>
                  <a:pt x="12728" y="1342"/>
                </a:lnTo>
                <a:lnTo>
                  <a:pt x="12843" y="1457"/>
                </a:lnTo>
                <a:lnTo>
                  <a:pt x="12953" y="1578"/>
                </a:lnTo>
                <a:lnTo>
                  <a:pt x="13058" y="1704"/>
                </a:lnTo>
                <a:lnTo>
                  <a:pt x="13159" y="1835"/>
                </a:lnTo>
                <a:lnTo>
                  <a:pt x="13255" y="1970"/>
                </a:lnTo>
                <a:lnTo>
                  <a:pt x="13347" y="2109"/>
                </a:lnTo>
                <a:lnTo>
                  <a:pt x="13434" y="2253"/>
                </a:lnTo>
                <a:lnTo>
                  <a:pt x="13516" y="2401"/>
                </a:lnTo>
                <a:lnTo>
                  <a:pt x="13594" y="2553"/>
                </a:lnTo>
                <a:lnTo>
                  <a:pt x="13668" y="2708"/>
                </a:lnTo>
                <a:lnTo>
                  <a:pt x="13737" y="2866"/>
                </a:lnTo>
                <a:lnTo>
                  <a:pt x="13801" y="3027"/>
                </a:lnTo>
                <a:lnTo>
                  <a:pt x="13860" y="3190"/>
                </a:lnTo>
                <a:lnTo>
                  <a:pt x="13916" y="3357"/>
                </a:lnTo>
                <a:lnTo>
                  <a:pt x="13965" y="3526"/>
                </a:lnTo>
                <a:lnTo>
                  <a:pt x="14012" y="3697"/>
                </a:lnTo>
                <a:lnTo>
                  <a:pt x="14053" y="3870"/>
                </a:lnTo>
                <a:lnTo>
                  <a:pt x="14090" y="4046"/>
                </a:lnTo>
                <a:lnTo>
                  <a:pt x="14122" y="4222"/>
                </a:lnTo>
                <a:lnTo>
                  <a:pt x="14151" y="4400"/>
                </a:lnTo>
                <a:lnTo>
                  <a:pt x="14173" y="4578"/>
                </a:lnTo>
                <a:lnTo>
                  <a:pt x="14193" y="4757"/>
                </a:lnTo>
                <a:lnTo>
                  <a:pt x="14207" y="4938"/>
                </a:lnTo>
                <a:lnTo>
                  <a:pt x="14217" y="5117"/>
                </a:lnTo>
                <a:lnTo>
                  <a:pt x="14222" y="5298"/>
                </a:lnTo>
                <a:lnTo>
                  <a:pt x="14223" y="5479"/>
                </a:lnTo>
                <a:lnTo>
                  <a:pt x="14220" y="5659"/>
                </a:lnTo>
                <a:lnTo>
                  <a:pt x="14211" y="5838"/>
                </a:lnTo>
                <a:lnTo>
                  <a:pt x="14199" y="6018"/>
                </a:lnTo>
                <a:lnTo>
                  <a:pt x="14182" y="6196"/>
                </a:lnTo>
                <a:lnTo>
                  <a:pt x="14160" y="6373"/>
                </a:lnTo>
                <a:lnTo>
                  <a:pt x="14135" y="6548"/>
                </a:lnTo>
                <a:lnTo>
                  <a:pt x="14105" y="6722"/>
                </a:lnTo>
                <a:lnTo>
                  <a:pt x="14070" y="6894"/>
                </a:lnTo>
                <a:lnTo>
                  <a:pt x="14031" y="7064"/>
                </a:lnTo>
                <a:lnTo>
                  <a:pt x="13988" y="7232"/>
                </a:lnTo>
                <a:lnTo>
                  <a:pt x="13939" y="7396"/>
                </a:lnTo>
                <a:lnTo>
                  <a:pt x="13888" y="7558"/>
                </a:lnTo>
                <a:lnTo>
                  <a:pt x="13831" y="7718"/>
                </a:lnTo>
                <a:lnTo>
                  <a:pt x="13771" y="7873"/>
                </a:lnTo>
                <a:lnTo>
                  <a:pt x="13705" y="8026"/>
                </a:lnTo>
                <a:lnTo>
                  <a:pt x="13635" y="8176"/>
                </a:lnTo>
                <a:lnTo>
                  <a:pt x="13561" y="8322"/>
                </a:lnTo>
                <a:lnTo>
                  <a:pt x="13483" y="8463"/>
                </a:lnTo>
                <a:lnTo>
                  <a:pt x="13400" y="8602"/>
                </a:lnTo>
                <a:lnTo>
                  <a:pt x="13314" y="8736"/>
                </a:lnTo>
                <a:lnTo>
                  <a:pt x="13224" y="8868"/>
                </a:lnTo>
                <a:lnTo>
                  <a:pt x="13130" y="8997"/>
                </a:lnTo>
                <a:lnTo>
                  <a:pt x="13032" y="9123"/>
                </a:lnTo>
                <a:lnTo>
                  <a:pt x="12932" y="9246"/>
                </a:lnTo>
                <a:lnTo>
                  <a:pt x="12828" y="9366"/>
                </a:lnTo>
                <a:lnTo>
                  <a:pt x="12609" y="9599"/>
                </a:lnTo>
                <a:lnTo>
                  <a:pt x="12377" y="9821"/>
                </a:lnTo>
                <a:lnTo>
                  <a:pt x="12135" y="10035"/>
                </a:lnTo>
                <a:lnTo>
                  <a:pt x="11882" y="10242"/>
                </a:lnTo>
                <a:lnTo>
                  <a:pt x="11619" y="10441"/>
                </a:lnTo>
                <a:lnTo>
                  <a:pt x="11347" y="10634"/>
                </a:lnTo>
                <a:lnTo>
                  <a:pt x="11067" y="10822"/>
                </a:lnTo>
                <a:lnTo>
                  <a:pt x="10781" y="11005"/>
                </a:lnTo>
                <a:lnTo>
                  <a:pt x="10488" y="11186"/>
                </a:lnTo>
                <a:lnTo>
                  <a:pt x="10190" y="11364"/>
                </a:lnTo>
                <a:lnTo>
                  <a:pt x="9888" y="11540"/>
                </a:lnTo>
                <a:lnTo>
                  <a:pt x="9272" y="11892"/>
                </a:lnTo>
                <a:lnTo>
                  <a:pt x="8650" y="12249"/>
                </a:lnTo>
                <a:lnTo>
                  <a:pt x="8028" y="12617"/>
                </a:lnTo>
                <a:lnTo>
                  <a:pt x="7409" y="12989"/>
                </a:lnTo>
                <a:lnTo>
                  <a:pt x="7100" y="13167"/>
                </a:lnTo>
                <a:lnTo>
                  <a:pt x="6791" y="13337"/>
                </a:lnTo>
                <a:lnTo>
                  <a:pt x="6483" y="13494"/>
                </a:lnTo>
                <a:lnTo>
                  <a:pt x="6329" y="13567"/>
                </a:lnTo>
                <a:lnTo>
                  <a:pt x="6175" y="13636"/>
                </a:lnTo>
                <a:lnTo>
                  <a:pt x="6022" y="13700"/>
                </a:lnTo>
                <a:lnTo>
                  <a:pt x="5868" y="13758"/>
                </a:lnTo>
                <a:lnTo>
                  <a:pt x="5713" y="13811"/>
                </a:lnTo>
                <a:lnTo>
                  <a:pt x="5560" y="13858"/>
                </a:lnTo>
                <a:lnTo>
                  <a:pt x="5406" y="13899"/>
                </a:lnTo>
                <a:lnTo>
                  <a:pt x="5252" y="13933"/>
                </a:lnTo>
                <a:lnTo>
                  <a:pt x="5097" y="13960"/>
                </a:lnTo>
                <a:lnTo>
                  <a:pt x="4944" y="13979"/>
                </a:lnTo>
                <a:lnTo>
                  <a:pt x="4789" y="13990"/>
                </a:lnTo>
                <a:lnTo>
                  <a:pt x="4635" y="13992"/>
                </a:lnTo>
                <a:lnTo>
                  <a:pt x="4480" y="13987"/>
                </a:lnTo>
                <a:lnTo>
                  <a:pt x="4325" y="13970"/>
                </a:lnTo>
                <a:lnTo>
                  <a:pt x="4171" y="13946"/>
                </a:lnTo>
                <a:lnTo>
                  <a:pt x="4016" y="13912"/>
                </a:lnTo>
                <a:lnTo>
                  <a:pt x="3860" y="13872"/>
                </a:lnTo>
                <a:lnTo>
                  <a:pt x="3705" y="13824"/>
                </a:lnTo>
                <a:lnTo>
                  <a:pt x="3549" y="13771"/>
                </a:lnTo>
                <a:lnTo>
                  <a:pt x="3393" y="13714"/>
                </a:lnTo>
                <a:lnTo>
                  <a:pt x="3082" y="13588"/>
                </a:lnTo>
                <a:lnTo>
                  <a:pt x="2455" y="13323"/>
                </a:lnTo>
                <a:lnTo>
                  <a:pt x="2140" y="13200"/>
                </a:lnTo>
                <a:lnTo>
                  <a:pt x="1983" y="13142"/>
                </a:lnTo>
                <a:lnTo>
                  <a:pt x="1825" y="1309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78"/>
          <p:cNvSpPr/>
          <p:nvPr/>
        </p:nvSpPr>
        <p:spPr>
          <a:xfrm>
            <a:off x="1427040" y="2847960"/>
            <a:ext cx="1800" cy="27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9"/>
          <p:cNvSpPr/>
          <p:nvPr/>
        </p:nvSpPr>
        <p:spPr>
          <a:xfrm>
            <a:off x="1000080" y="2992320"/>
            <a:ext cx="1800" cy="166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4"/>
          <p:cNvSpPr/>
          <p:nvPr/>
        </p:nvSpPr>
        <p:spPr>
          <a:xfrm>
            <a:off x="507960" y="457056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5"/>
          <p:cNvSpPr/>
          <p:nvPr/>
        </p:nvSpPr>
        <p:spPr>
          <a:xfrm>
            <a:off x="655560" y="47131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6"/>
          <p:cNvSpPr/>
          <p:nvPr/>
        </p:nvSpPr>
        <p:spPr>
          <a:xfrm>
            <a:off x="2477160" y="3562200"/>
            <a:ext cx="59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7"/>
          <p:cNvSpPr/>
          <p:nvPr/>
        </p:nvSpPr>
        <p:spPr>
          <a:xfrm>
            <a:off x="3662280" y="459576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8"/>
          <p:cNvSpPr/>
          <p:nvPr/>
        </p:nvSpPr>
        <p:spPr>
          <a:xfrm>
            <a:off x="3809880" y="4738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9"/>
          <p:cNvSpPr/>
          <p:nvPr/>
        </p:nvSpPr>
        <p:spPr>
          <a:xfrm>
            <a:off x="1449360" y="25830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0"/>
          <p:cNvSpPr/>
          <p:nvPr/>
        </p:nvSpPr>
        <p:spPr>
          <a:xfrm>
            <a:off x="1596960" y="272556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1"/>
          <p:cNvSpPr/>
          <p:nvPr/>
        </p:nvSpPr>
        <p:spPr>
          <a:xfrm>
            <a:off x="1461960" y="528624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2"/>
          <p:cNvSpPr/>
          <p:nvPr/>
        </p:nvSpPr>
        <p:spPr>
          <a:xfrm>
            <a:off x="1609560" y="542916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C364-80A4-49EE-A98E-CB1E7E3C4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9520" y="1413000"/>
            <a:ext cx="893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и точка, ей не принадлежаща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2001960" y="4094280"/>
            <a:ext cx="584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1834560" y="365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982520" y="3800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>
            <a:off x="5916600" y="3736800"/>
            <a:ext cx="1440" cy="80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6"/>
          <p:cNvSpPr/>
          <p:nvPr/>
        </p:nvSpPr>
        <p:spPr>
          <a:xfrm>
            <a:off x="5853240" y="3689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7"/>
          <p:cNvSpPr/>
          <p:nvPr/>
        </p:nvSpPr>
        <p:spPr>
          <a:xfrm>
            <a:off x="5859360" y="44895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6099120" y="34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6321240" y="355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6137280" y="4286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6346800" y="442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3"/>
          <p:cNvSpPr/>
          <p:nvPr/>
        </p:nvSpPr>
        <p:spPr>
          <a:xfrm flipV="1">
            <a:off x="3365640" y="2185920"/>
            <a:ext cx="2928960" cy="160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3459240" y="4836960"/>
            <a:ext cx="3298680" cy="141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5"/>
          <p:cNvSpPr/>
          <p:nvPr/>
        </p:nvSpPr>
        <p:spPr>
          <a:xfrm rot="19886400">
            <a:off x="3307320" y="3242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6"/>
          <p:cNvSpPr/>
          <p:nvPr/>
        </p:nvSpPr>
        <p:spPr>
          <a:xfrm rot="19885200">
            <a:off x="3532680" y="335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7"/>
          <p:cNvSpPr/>
          <p:nvPr/>
        </p:nvSpPr>
        <p:spPr>
          <a:xfrm rot="1536600">
            <a:off x="3538080" y="4451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8"/>
          <p:cNvSpPr/>
          <p:nvPr/>
        </p:nvSpPr>
        <p:spPr>
          <a:xfrm rot="1519200">
            <a:off x="3665160" y="46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96FE-DEDB-4032-9F6E-70CA11DD2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7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параллельного проец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196200" y="1308240"/>
            <a:ext cx="8737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Плоскости, параллельные проецирую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ам, проецируются в прямую ли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Отсек плоскости, параллельной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й, проецируется в натуральную в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D880-CE7E-403C-BA8E-FD0B58156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10240" y="141300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ые прямые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║ 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001960" y="4094280"/>
            <a:ext cx="584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834560" y="365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982520" y="3800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4"/>
          <p:cNvSpPr/>
          <p:nvPr/>
        </p:nvSpPr>
        <p:spPr>
          <a:xfrm flipH="1">
            <a:off x="3622680" y="246384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5"/>
          <p:cNvSpPr/>
          <p:nvPr/>
        </p:nvSpPr>
        <p:spPr>
          <a:xfrm flipH="1">
            <a:off x="4040280" y="298620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 flipH="1" flipV="1">
            <a:off x="4145040" y="43848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7"/>
          <p:cNvSpPr/>
          <p:nvPr/>
        </p:nvSpPr>
        <p:spPr>
          <a:xfrm flipH="1" flipV="1">
            <a:off x="3857760" y="480204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 rot="19687200">
            <a:off x="5215320" y="2671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 rot="19713000">
            <a:off x="5477040" y="276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 rot="19687200">
            <a:off x="4846680" y="2106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1"/>
          <p:cNvSpPr/>
          <p:nvPr/>
        </p:nvSpPr>
        <p:spPr>
          <a:xfrm rot="19713000">
            <a:off x="5194440" y="220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 rot="2157600">
            <a:off x="5367600" y="5382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3"/>
          <p:cNvSpPr/>
          <p:nvPr/>
        </p:nvSpPr>
        <p:spPr>
          <a:xfrm rot="2166600">
            <a:off x="5532840" y="565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 rot="1992600">
            <a:off x="5666400" y="482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5"/>
          <p:cNvSpPr/>
          <p:nvPr/>
        </p:nvSpPr>
        <p:spPr>
          <a:xfrm rot="1988400">
            <a:off x="5757120" y="5065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BD75-87EB-4B3E-A4BC-AEEB1E519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409920" y="2573280"/>
            <a:ext cx="211608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3382560" y="2416320"/>
            <a:ext cx="2143080" cy="125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4532400" y="2990880"/>
            <a:ext cx="0" cy="18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565440" y="4376880"/>
            <a:ext cx="1868400" cy="10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4479840" y="2932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 rot="1344600">
            <a:off x="3439080" y="2263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 rot="1284000">
            <a:off x="3650760" y="249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 rot="19723800">
            <a:off x="3302640" y="31935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 rot="19725000">
            <a:off x="3520800" y="32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 rot="1071000">
            <a:off x="3632040" y="421812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 rot="1036800">
            <a:off x="3790440" y="44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 rot="19921200">
            <a:off x="3535200" y="4936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 rot="19874400">
            <a:off x="3800520" y="499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210960" y="1413000"/>
            <a:ext cx="67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екающиеся прямые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2001960" y="4094280"/>
            <a:ext cx="584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1834560" y="365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1982520" y="3800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3513240" y="4519440"/>
            <a:ext cx="2300040" cy="82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8"/>
          <p:cNvSpPr/>
          <p:nvPr/>
        </p:nvSpPr>
        <p:spPr>
          <a:xfrm>
            <a:off x="4464000" y="4822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4972-4E2F-41E0-8086-3B6D0ED48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3102120" y="3666960"/>
            <a:ext cx="0" cy="18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212400" y="1413000"/>
            <a:ext cx="48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ий отсек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L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2001960" y="4094280"/>
            <a:ext cx="584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1834560" y="365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1982520" y="3800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2522880" y="3019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736720" y="320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2507040" y="537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2720880" y="555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5618160" y="2870280"/>
            <a:ext cx="0" cy="18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5792760" y="23018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035400" y="2481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5776920" y="46576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6019560" y="484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>
            <a:off x="4397400" y="2300400"/>
            <a:ext cx="39600" cy="413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8"/>
          <p:cNvSpPr/>
          <p:nvPr/>
        </p:nvSpPr>
        <p:spPr>
          <a:xfrm>
            <a:off x="3733560" y="193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9"/>
          <p:cNvSpPr/>
          <p:nvPr/>
        </p:nvSpPr>
        <p:spPr>
          <a:xfrm>
            <a:off x="3948120" y="2119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0"/>
          <p:cNvSpPr/>
          <p:nvPr/>
        </p:nvSpPr>
        <p:spPr>
          <a:xfrm>
            <a:off x="3851280" y="6211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1"/>
          <p:cNvSpPr/>
          <p:nvPr/>
        </p:nvSpPr>
        <p:spPr>
          <a:xfrm>
            <a:off x="4065480" y="6394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 flipH="1">
            <a:off x="3098520" y="2286000"/>
            <a:ext cx="1307880" cy="13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4403880" y="2282760"/>
            <a:ext cx="1218960" cy="60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4"/>
          <p:cNvSpPr/>
          <p:nvPr/>
        </p:nvSpPr>
        <p:spPr>
          <a:xfrm flipH="1">
            <a:off x="3089160" y="2882880"/>
            <a:ext cx="2533680" cy="78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5"/>
          <p:cNvSpPr/>
          <p:nvPr/>
        </p:nvSpPr>
        <p:spPr>
          <a:xfrm>
            <a:off x="3049560" y="3608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6"/>
          <p:cNvSpPr/>
          <p:nvPr/>
        </p:nvSpPr>
        <p:spPr>
          <a:xfrm>
            <a:off x="5565600" y="281160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7"/>
          <p:cNvSpPr/>
          <p:nvPr/>
        </p:nvSpPr>
        <p:spPr>
          <a:xfrm>
            <a:off x="4344840" y="22273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8"/>
          <p:cNvSpPr/>
          <p:nvPr/>
        </p:nvSpPr>
        <p:spPr>
          <a:xfrm flipV="1">
            <a:off x="3092400" y="4758840"/>
            <a:ext cx="2524320" cy="78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9"/>
          <p:cNvSpPr/>
          <p:nvPr/>
        </p:nvSpPr>
        <p:spPr>
          <a:xfrm flipH="1">
            <a:off x="4425840" y="4759200"/>
            <a:ext cx="1190880" cy="165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0"/>
          <p:cNvSpPr/>
          <p:nvPr/>
        </p:nvSpPr>
        <p:spPr>
          <a:xfrm flipH="1" flipV="1">
            <a:off x="3089160" y="5552640"/>
            <a:ext cx="134640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1"/>
          <p:cNvSpPr/>
          <p:nvPr/>
        </p:nvSpPr>
        <p:spPr>
          <a:xfrm>
            <a:off x="3033720" y="5499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2"/>
          <p:cNvSpPr/>
          <p:nvPr/>
        </p:nvSpPr>
        <p:spPr>
          <a:xfrm>
            <a:off x="5549760" y="47023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3"/>
          <p:cNvSpPr/>
          <p:nvPr/>
        </p:nvSpPr>
        <p:spPr>
          <a:xfrm>
            <a:off x="4378320" y="6335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8EF7-D8C8-49CD-B8BA-A9F0C3389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12040" y="141300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ы плоскости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01960" y="4094280"/>
            <a:ext cx="584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834560" y="365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982520" y="3800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42E9-D040-4885-BD6D-9D9E0DEED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плос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0680" y="1758960"/>
            <a:ext cx="8930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ертательной геометрии различ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 общего положения (о.п.) и плоск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 частного положения (ч.п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 о.п. расположены в простра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арллельно и не перпендикулярно ни к о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й из плоскостей 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5DF-079F-41D3-93BB-D01FC71AE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оскости част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-348840" y="1824120"/>
            <a:ext cx="8500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 ч.п. делятся на дв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ующие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 уров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6:37:43Z</dcterms:created>
  <dc:creator>Папа</dc:creator>
  <dc:description/>
  <dc:language>en-US</dc:language>
  <cp:lastModifiedBy>Victoria Sukhomlinova</cp:lastModifiedBy>
  <dcterms:modified xsi:type="dcterms:W3CDTF">2021-04-07T16:05:16Z</dcterms:modified>
  <cp:revision>168</cp:revision>
  <dc:subject/>
  <dc:title>Слайд 1</dc:title>
</cp:coreProperties>
</file>