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0F6-A042-42C8-BDE8-5EAE01D0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060-7FB9-42F0-A686-05ED6964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B7A-8F9F-4410-BCA0-30CFF479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E32-727A-4657-B5BC-7D07A3C7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787-4373-4736-B401-CFFFBE6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218-4DCD-4FF2-B93C-26ACBC4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F03-013D-4A9C-8828-1E9B887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093-0747-4C1B-888B-7CB5AB0F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1FB-ED40-48EB-9387-2205ABCB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BB2-4895-46A8-8CBC-7CA0D08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6C6-D43F-458F-B9AD-051B047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9CF-77AA-4CE1-A481-3913A292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DEE4-D5EF-4D55-A838-4D0967299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D50-0D35-483D-AECF-602EB1542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2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преобразования черте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47680" y="1793880"/>
            <a:ext cx="870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еобразования чертежей зак-лючаются в приведении заданных объектов к виду удобному для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я преобразования, необходи-мо сохранять форму и взаимное положение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м требованиям соответствуют изо-метрические преобразования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B2C1-C52B-4AD1-AA75-21AC1D666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3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4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5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7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8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0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1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2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3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9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0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1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5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6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7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8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9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0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1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3962520" y="5451480"/>
            <a:ext cx="427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м проецирование точки А на новую плоскость проекции 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866-BA4D-48A3-B26F-B293E6BCA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5"/>
          <p:cNvSpPr/>
          <p:nvPr/>
        </p:nvSpPr>
        <p:spPr>
          <a:xfrm>
            <a:off x="2556000" y="3807000"/>
            <a:ext cx="4349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6"/>
          <p:cNvSpPr/>
          <p:nvPr/>
        </p:nvSpPr>
        <p:spPr>
          <a:xfrm>
            <a:off x="4373640" y="1890720"/>
            <a:ext cx="1440" cy="170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7"/>
          <p:cNvSpPr/>
          <p:nvPr/>
        </p:nvSpPr>
        <p:spPr>
          <a:xfrm>
            <a:off x="4373640" y="3597120"/>
            <a:ext cx="144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12"/>
          <p:cNvSpPr/>
          <p:nvPr/>
        </p:nvSpPr>
        <p:spPr>
          <a:xfrm flipV="1">
            <a:off x="3333600" y="2450880"/>
            <a:ext cx="1800" cy="341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Text Box 15"/>
          <p:cNvSpPr/>
          <p:nvPr/>
        </p:nvSpPr>
        <p:spPr>
          <a:xfrm>
            <a:off x="2620440" y="340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Text Box 16"/>
          <p:cNvSpPr/>
          <p:nvPr/>
        </p:nvSpPr>
        <p:spPr>
          <a:xfrm>
            <a:off x="2768400" y="3551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Oval 17"/>
          <p:cNvSpPr/>
          <p:nvPr/>
        </p:nvSpPr>
        <p:spPr>
          <a:xfrm>
            <a:off x="4313160" y="521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Text Box 18"/>
          <p:cNvSpPr/>
          <p:nvPr/>
        </p:nvSpPr>
        <p:spPr>
          <a:xfrm>
            <a:off x="3983400" y="4859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Text Box 19"/>
          <p:cNvSpPr/>
          <p:nvPr/>
        </p:nvSpPr>
        <p:spPr>
          <a:xfrm>
            <a:off x="41004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Oval 26"/>
          <p:cNvSpPr/>
          <p:nvPr/>
        </p:nvSpPr>
        <p:spPr>
          <a:xfrm>
            <a:off x="3284640" y="580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Text Box 28"/>
          <p:cNvSpPr/>
          <p:nvPr/>
        </p:nvSpPr>
        <p:spPr>
          <a:xfrm>
            <a:off x="3071520" y="56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Text Box 29"/>
          <p:cNvSpPr/>
          <p:nvPr/>
        </p:nvSpPr>
        <p:spPr>
          <a:xfrm>
            <a:off x="2859480" y="54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Oval 30"/>
          <p:cNvSpPr/>
          <p:nvPr/>
        </p:nvSpPr>
        <p:spPr>
          <a:xfrm>
            <a:off x="3298680" y="2400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Text Box 31"/>
          <p:cNvSpPr/>
          <p:nvPr/>
        </p:nvSpPr>
        <p:spPr>
          <a:xfrm>
            <a:off x="4407120" y="2806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Text Box 32"/>
          <p:cNvSpPr/>
          <p:nvPr/>
        </p:nvSpPr>
        <p:spPr>
          <a:xfrm>
            <a:off x="4524120" y="300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Text Box 33"/>
          <p:cNvSpPr/>
          <p:nvPr/>
        </p:nvSpPr>
        <p:spPr>
          <a:xfrm>
            <a:off x="2968920" y="194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Text Box 34"/>
          <p:cNvSpPr/>
          <p:nvPr/>
        </p:nvSpPr>
        <p:spPr>
          <a:xfrm>
            <a:off x="3181320" y="21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Rectangle 3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A0B-9D46-4D81-82E0-9FA97E06B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5"/>
          <p:cNvSpPr/>
          <p:nvPr/>
        </p:nvSpPr>
        <p:spPr>
          <a:xfrm>
            <a:off x="2556000" y="3807000"/>
            <a:ext cx="4349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6"/>
          <p:cNvSpPr/>
          <p:nvPr/>
        </p:nvSpPr>
        <p:spPr>
          <a:xfrm>
            <a:off x="4373640" y="1890720"/>
            <a:ext cx="1440" cy="170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7"/>
          <p:cNvSpPr/>
          <p:nvPr/>
        </p:nvSpPr>
        <p:spPr>
          <a:xfrm>
            <a:off x="4373640" y="3597120"/>
            <a:ext cx="144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8"/>
          <p:cNvSpPr/>
          <p:nvPr/>
        </p:nvSpPr>
        <p:spPr>
          <a:xfrm flipV="1">
            <a:off x="3333600" y="2450880"/>
            <a:ext cx="1800" cy="341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Text Box 9"/>
          <p:cNvSpPr/>
          <p:nvPr/>
        </p:nvSpPr>
        <p:spPr>
          <a:xfrm>
            <a:off x="2620440" y="340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Text Box 10"/>
          <p:cNvSpPr/>
          <p:nvPr/>
        </p:nvSpPr>
        <p:spPr>
          <a:xfrm>
            <a:off x="2768400" y="3551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Oval 11"/>
          <p:cNvSpPr/>
          <p:nvPr/>
        </p:nvSpPr>
        <p:spPr>
          <a:xfrm>
            <a:off x="4313160" y="521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12"/>
          <p:cNvSpPr/>
          <p:nvPr/>
        </p:nvSpPr>
        <p:spPr>
          <a:xfrm>
            <a:off x="3983400" y="4859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13"/>
          <p:cNvSpPr/>
          <p:nvPr/>
        </p:nvSpPr>
        <p:spPr>
          <a:xfrm>
            <a:off x="41004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15"/>
          <p:cNvSpPr/>
          <p:nvPr/>
        </p:nvSpPr>
        <p:spPr>
          <a:xfrm>
            <a:off x="3071520" y="56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16"/>
          <p:cNvSpPr/>
          <p:nvPr/>
        </p:nvSpPr>
        <p:spPr>
          <a:xfrm>
            <a:off x="2859480" y="54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Oval 17"/>
          <p:cNvSpPr/>
          <p:nvPr/>
        </p:nvSpPr>
        <p:spPr>
          <a:xfrm>
            <a:off x="3298680" y="2400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8"/>
          <p:cNvSpPr/>
          <p:nvPr/>
        </p:nvSpPr>
        <p:spPr>
          <a:xfrm>
            <a:off x="4407120" y="2806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Text Box 19"/>
          <p:cNvSpPr/>
          <p:nvPr/>
        </p:nvSpPr>
        <p:spPr>
          <a:xfrm>
            <a:off x="4524120" y="300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Text Box 20"/>
          <p:cNvSpPr/>
          <p:nvPr/>
        </p:nvSpPr>
        <p:spPr>
          <a:xfrm>
            <a:off x="2968920" y="194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Text Box 21"/>
          <p:cNvSpPr/>
          <p:nvPr/>
        </p:nvSpPr>
        <p:spPr>
          <a:xfrm>
            <a:off x="3181320" y="21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Freeform 23"/>
          <p:cNvSpPr/>
          <p:nvPr/>
        </p:nvSpPr>
        <p:spPr>
          <a:xfrm>
            <a:off x="3333600" y="5864400"/>
            <a:ext cx="1978200" cy="607680"/>
          </a:xfrm>
          <a:custGeom>
            <a:avLst/>
            <a:gdLst/>
            <a:ahLst/>
            <a:rect l="l" t="t" r="r" b="b"/>
            <a:pathLst>
              <a:path w="9972" h="3062">
                <a:moveTo>
                  <a:pt x="0" y="0"/>
                </a:moveTo>
                <a:lnTo>
                  <a:pt x="174" y="288"/>
                </a:lnTo>
                <a:lnTo>
                  <a:pt x="365" y="567"/>
                </a:lnTo>
                <a:lnTo>
                  <a:pt x="570" y="835"/>
                </a:lnTo>
                <a:lnTo>
                  <a:pt x="789" y="1091"/>
                </a:lnTo>
                <a:lnTo>
                  <a:pt x="1024" y="1334"/>
                </a:lnTo>
                <a:lnTo>
                  <a:pt x="1270" y="1564"/>
                </a:lnTo>
                <a:lnTo>
                  <a:pt x="1530" y="1779"/>
                </a:lnTo>
                <a:lnTo>
                  <a:pt x="1800" y="1979"/>
                </a:lnTo>
                <a:lnTo>
                  <a:pt x="2082" y="2164"/>
                </a:lnTo>
                <a:lnTo>
                  <a:pt x="2374" y="2334"/>
                </a:lnTo>
                <a:lnTo>
                  <a:pt x="2675" y="2486"/>
                </a:lnTo>
                <a:lnTo>
                  <a:pt x="2984" y="2621"/>
                </a:lnTo>
                <a:lnTo>
                  <a:pt x="3299" y="2739"/>
                </a:lnTo>
                <a:lnTo>
                  <a:pt x="3622" y="2839"/>
                </a:lnTo>
                <a:lnTo>
                  <a:pt x="3948" y="2921"/>
                </a:lnTo>
                <a:lnTo>
                  <a:pt x="4279" y="2985"/>
                </a:lnTo>
                <a:lnTo>
                  <a:pt x="4613" y="3029"/>
                </a:lnTo>
                <a:lnTo>
                  <a:pt x="4950" y="3055"/>
                </a:lnTo>
                <a:lnTo>
                  <a:pt x="5287" y="3062"/>
                </a:lnTo>
                <a:lnTo>
                  <a:pt x="5623" y="3050"/>
                </a:lnTo>
                <a:lnTo>
                  <a:pt x="5960" y="3019"/>
                </a:lnTo>
                <a:lnTo>
                  <a:pt x="6293" y="2970"/>
                </a:lnTo>
                <a:lnTo>
                  <a:pt x="6623" y="2902"/>
                </a:lnTo>
                <a:lnTo>
                  <a:pt x="6948" y="2815"/>
                </a:lnTo>
                <a:lnTo>
                  <a:pt x="7269" y="2712"/>
                </a:lnTo>
                <a:lnTo>
                  <a:pt x="7584" y="2589"/>
                </a:lnTo>
                <a:lnTo>
                  <a:pt x="7890" y="2449"/>
                </a:lnTo>
                <a:lnTo>
                  <a:pt x="8189" y="2292"/>
                </a:lnTo>
                <a:lnTo>
                  <a:pt x="8479" y="2120"/>
                </a:lnTo>
                <a:lnTo>
                  <a:pt x="8757" y="1930"/>
                </a:lnTo>
                <a:lnTo>
                  <a:pt x="9026" y="1726"/>
                </a:lnTo>
                <a:lnTo>
                  <a:pt x="9282" y="1507"/>
                </a:lnTo>
                <a:lnTo>
                  <a:pt x="9525" y="1274"/>
                </a:lnTo>
                <a:lnTo>
                  <a:pt x="9756" y="1027"/>
                </a:lnTo>
                <a:lnTo>
                  <a:pt x="9972" y="76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Oval 24"/>
          <p:cNvSpPr/>
          <p:nvPr/>
        </p:nvSpPr>
        <p:spPr>
          <a:xfrm>
            <a:off x="3284640" y="580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Rectangle 2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EFE-4539-4E40-8DA5-2E9107C8A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Line 5"/>
          <p:cNvSpPr/>
          <p:nvPr/>
        </p:nvSpPr>
        <p:spPr>
          <a:xfrm>
            <a:off x="2556000" y="3807000"/>
            <a:ext cx="4349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Line 6"/>
          <p:cNvSpPr/>
          <p:nvPr/>
        </p:nvSpPr>
        <p:spPr>
          <a:xfrm>
            <a:off x="4373640" y="1890720"/>
            <a:ext cx="1440" cy="170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Line 7"/>
          <p:cNvSpPr/>
          <p:nvPr/>
        </p:nvSpPr>
        <p:spPr>
          <a:xfrm>
            <a:off x="4373640" y="3597120"/>
            <a:ext cx="144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Line 8"/>
          <p:cNvSpPr/>
          <p:nvPr/>
        </p:nvSpPr>
        <p:spPr>
          <a:xfrm flipV="1">
            <a:off x="3333600" y="2450880"/>
            <a:ext cx="1800" cy="341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9"/>
          <p:cNvSpPr/>
          <p:nvPr/>
        </p:nvSpPr>
        <p:spPr>
          <a:xfrm>
            <a:off x="2620440" y="340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10"/>
          <p:cNvSpPr/>
          <p:nvPr/>
        </p:nvSpPr>
        <p:spPr>
          <a:xfrm>
            <a:off x="2768400" y="3551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12"/>
          <p:cNvSpPr/>
          <p:nvPr/>
        </p:nvSpPr>
        <p:spPr>
          <a:xfrm>
            <a:off x="3983400" y="4859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13"/>
          <p:cNvSpPr/>
          <p:nvPr/>
        </p:nvSpPr>
        <p:spPr>
          <a:xfrm>
            <a:off x="41004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14"/>
          <p:cNvSpPr/>
          <p:nvPr/>
        </p:nvSpPr>
        <p:spPr>
          <a:xfrm>
            <a:off x="3071520" y="56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15"/>
          <p:cNvSpPr/>
          <p:nvPr/>
        </p:nvSpPr>
        <p:spPr>
          <a:xfrm>
            <a:off x="2859480" y="54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Oval 16"/>
          <p:cNvSpPr/>
          <p:nvPr/>
        </p:nvSpPr>
        <p:spPr>
          <a:xfrm>
            <a:off x="3298680" y="2400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17"/>
          <p:cNvSpPr/>
          <p:nvPr/>
        </p:nvSpPr>
        <p:spPr>
          <a:xfrm>
            <a:off x="4407120" y="2806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18"/>
          <p:cNvSpPr/>
          <p:nvPr/>
        </p:nvSpPr>
        <p:spPr>
          <a:xfrm>
            <a:off x="4524120" y="300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19"/>
          <p:cNvSpPr/>
          <p:nvPr/>
        </p:nvSpPr>
        <p:spPr>
          <a:xfrm>
            <a:off x="2968920" y="194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Text Box 20"/>
          <p:cNvSpPr/>
          <p:nvPr/>
        </p:nvSpPr>
        <p:spPr>
          <a:xfrm>
            <a:off x="3181320" y="21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Freeform 21"/>
          <p:cNvSpPr/>
          <p:nvPr/>
        </p:nvSpPr>
        <p:spPr>
          <a:xfrm>
            <a:off x="3333600" y="5864400"/>
            <a:ext cx="1978200" cy="607680"/>
          </a:xfrm>
          <a:custGeom>
            <a:avLst/>
            <a:gdLst/>
            <a:ahLst/>
            <a:rect l="l" t="t" r="r" b="b"/>
            <a:pathLst>
              <a:path w="9972" h="3062">
                <a:moveTo>
                  <a:pt x="0" y="0"/>
                </a:moveTo>
                <a:lnTo>
                  <a:pt x="174" y="288"/>
                </a:lnTo>
                <a:lnTo>
                  <a:pt x="365" y="567"/>
                </a:lnTo>
                <a:lnTo>
                  <a:pt x="570" y="835"/>
                </a:lnTo>
                <a:lnTo>
                  <a:pt x="789" y="1091"/>
                </a:lnTo>
                <a:lnTo>
                  <a:pt x="1024" y="1334"/>
                </a:lnTo>
                <a:lnTo>
                  <a:pt x="1270" y="1564"/>
                </a:lnTo>
                <a:lnTo>
                  <a:pt x="1530" y="1779"/>
                </a:lnTo>
                <a:lnTo>
                  <a:pt x="1800" y="1979"/>
                </a:lnTo>
                <a:lnTo>
                  <a:pt x="2082" y="2164"/>
                </a:lnTo>
                <a:lnTo>
                  <a:pt x="2374" y="2334"/>
                </a:lnTo>
                <a:lnTo>
                  <a:pt x="2675" y="2486"/>
                </a:lnTo>
                <a:lnTo>
                  <a:pt x="2984" y="2621"/>
                </a:lnTo>
                <a:lnTo>
                  <a:pt x="3299" y="2739"/>
                </a:lnTo>
                <a:lnTo>
                  <a:pt x="3622" y="2839"/>
                </a:lnTo>
                <a:lnTo>
                  <a:pt x="3948" y="2921"/>
                </a:lnTo>
                <a:lnTo>
                  <a:pt x="4279" y="2985"/>
                </a:lnTo>
                <a:lnTo>
                  <a:pt x="4613" y="3029"/>
                </a:lnTo>
                <a:lnTo>
                  <a:pt x="4950" y="3055"/>
                </a:lnTo>
                <a:lnTo>
                  <a:pt x="5287" y="3062"/>
                </a:lnTo>
                <a:lnTo>
                  <a:pt x="5623" y="3050"/>
                </a:lnTo>
                <a:lnTo>
                  <a:pt x="5960" y="3019"/>
                </a:lnTo>
                <a:lnTo>
                  <a:pt x="6293" y="2970"/>
                </a:lnTo>
                <a:lnTo>
                  <a:pt x="6623" y="2902"/>
                </a:lnTo>
                <a:lnTo>
                  <a:pt x="6948" y="2815"/>
                </a:lnTo>
                <a:lnTo>
                  <a:pt x="7269" y="2712"/>
                </a:lnTo>
                <a:lnTo>
                  <a:pt x="7584" y="2589"/>
                </a:lnTo>
                <a:lnTo>
                  <a:pt x="7890" y="2449"/>
                </a:lnTo>
                <a:lnTo>
                  <a:pt x="8189" y="2292"/>
                </a:lnTo>
                <a:lnTo>
                  <a:pt x="8479" y="2120"/>
                </a:lnTo>
                <a:lnTo>
                  <a:pt x="8757" y="1930"/>
                </a:lnTo>
                <a:lnTo>
                  <a:pt x="9026" y="1726"/>
                </a:lnTo>
                <a:lnTo>
                  <a:pt x="9282" y="1507"/>
                </a:lnTo>
                <a:lnTo>
                  <a:pt x="9525" y="1274"/>
                </a:lnTo>
                <a:lnTo>
                  <a:pt x="9756" y="1027"/>
                </a:lnTo>
                <a:lnTo>
                  <a:pt x="9972" y="7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Line 23"/>
          <p:cNvSpPr/>
          <p:nvPr/>
        </p:nvSpPr>
        <p:spPr>
          <a:xfrm flipH="1">
            <a:off x="3333240" y="5275440"/>
            <a:ext cx="1040040" cy="588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Line 24"/>
          <p:cNvSpPr/>
          <p:nvPr/>
        </p:nvSpPr>
        <p:spPr>
          <a:xfrm>
            <a:off x="4373640" y="5275440"/>
            <a:ext cx="938160" cy="741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Freeform 25"/>
          <p:cNvSpPr/>
          <p:nvPr/>
        </p:nvSpPr>
        <p:spPr>
          <a:xfrm>
            <a:off x="3994200" y="5489640"/>
            <a:ext cx="722160" cy="222120"/>
          </a:xfrm>
          <a:custGeom>
            <a:avLst/>
            <a:gdLst/>
            <a:ahLst/>
            <a:rect l="l" t="t" r="r" b="b"/>
            <a:pathLst>
              <a:path w="3632" h="1115">
                <a:moveTo>
                  <a:pt x="0" y="0"/>
                </a:moveTo>
                <a:lnTo>
                  <a:pt x="109" y="173"/>
                </a:lnTo>
                <a:lnTo>
                  <a:pt x="233" y="335"/>
                </a:lnTo>
                <a:lnTo>
                  <a:pt x="372" y="486"/>
                </a:lnTo>
                <a:lnTo>
                  <a:pt x="525" y="622"/>
                </a:lnTo>
                <a:lnTo>
                  <a:pt x="690" y="743"/>
                </a:lnTo>
                <a:lnTo>
                  <a:pt x="865" y="849"/>
                </a:lnTo>
                <a:lnTo>
                  <a:pt x="1049" y="938"/>
                </a:lnTo>
                <a:lnTo>
                  <a:pt x="1240" y="1010"/>
                </a:lnTo>
                <a:lnTo>
                  <a:pt x="1438" y="1063"/>
                </a:lnTo>
                <a:lnTo>
                  <a:pt x="1639" y="1098"/>
                </a:lnTo>
                <a:lnTo>
                  <a:pt x="1843" y="1115"/>
                </a:lnTo>
                <a:lnTo>
                  <a:pt x="2048" y="1111"/>
                </a:lnTo>
                <a:lnTo>
                  <a:pt x="2251" y="1088"/>
                </a:lnTo>
                <a:lnTo>
                  <a:pt x="2452" y="1047"/>
                </a:lnTo>
                <a:lnTo>
                  <a:pt x="2648" y="987"/>
                </a:lnTo>
                <a:lnTo>
                  <a:pt x="2838" y="909"/>
                </a:lnTo>
                <a:lnTo>
                  <a:pt x="3018" y="815"/>
                </a:lnTo>
                <a:lnTo>
                  <a:pt x="3190" y="703"/>
                </a:lnTo>
                <a:lnTo>
                  <a:pt x="3350" y="576"/>
                </a:lnTo>
                <a:lnTo>
                  <a:pt x="3498" y="435"/>
                </a:lnTo>
                <a:lnTo>
                  <a:pt x="3632" y="2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Text Box 26"/>
          <p:cNvSpPr/>
          <p:nvPr/>
        </p:nvSpPr>
        <p:spPr>
          <a:xfrm>
            <a:off x="4169160" y="56786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Oval 27"/>
          <p:cNvSpPr/>
          <p:nvPr/>
        </p:nvSpPr>
        <p:spPr>
          <a:xfrm>
            <a:off x="4313160" y="521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Oval 28"/>
          <p:cNvSpPr/>
          <p:nvPr/>
        </p:nvSpPr>
        <p:spPr>
          <a:xfrm>
            <a:off x="3284640" y="580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Oval 29"/>
          <p:cNvSpPr/>
          <p:nvPr/>
        </p:nvSpPr>
        <p:spPr>
          <a:xfrm>
            <a:off x="5251320" y="594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30"/>
          <p:cNvSpPr/>
          <p:nvPr/>
        </p:nvSpPr>
        <p:spPr>
          <a:xfrm>
            <a:off x="5374440" y="5573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31"/>
          <p:cNvSpPr/>
          <p:nvPr/>
        </p:nvSpPr>
        <p:spPr>
          <a:xfrm>
            <a:off x="5586120" y="578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Rectangle 3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114-2645-4FB1-9CA3-44E766004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Line 5"/>
          <p:cNvSpPr/>
          <p:nvPr/>
        </p:nvSpPr>
        <p:spPr>
          <a:xfrm>
            <a:off x="2556000" y="3807000"/>
            <a:ext cx="4349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Line 6"/>
          <p:cNvSpPr/>
          <p:nvPr/>
        </p:nvSpPr>
        <p:spPr>
          <a:xfrm>
            <a:off x="4373640" y="1890720"/>
            <a:ext cx="1440" cy="170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Line 7"/>
          <p:cNvSpPr/>
          <p:nvPr/>
        </p:nvSpPr>
        <p:spPr>
          <a:xfrm>
            <a:off x="4373640" y="3597120"/>
            <a:ext cx="144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Line 8"/>
          <p:cNvSpPr/>
          <p:nvPr/>
        </p:nvSpPr>
        <p:spPr>
          <a:xfrm flipV="1">
            <a:off x="3333600" y="2450880"/>
            <a:ext cx="1800" cy="341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Text Box 9"/>
          <p:cNvSpPr/>
          <p:nvPr/>
        </p:nvSpPr>
        <p:spPr>
          <a:xfrm>
            <a:off x="2620440" y="340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Text Box 10"/>
          <p:cNvSpPr/>
          <p:nvPr/>
        </p:nvSpPr>
        <p:spPr>
          <a:xfrm>
            <a:off x="2768400" y="3551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Text Box 11"/>
          <p:cNvSpPr/>
          <p:nvPr/>
        </p:nvSpPr>
        <p:spPr>
          <a:xfrm>
            <a:off x="3983400" y="4859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Text Box 12"/>
          <p:cNvSpPr/>
          <p:nvPr/>
        </p:nvSpPr>
        <p:spPr>
          <a:xfrm>
            <a:off x="41004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Text Box 13"/>
          <p:cNvSpPr/>
          <p:nvPr/>
        </p:nvSpPr>
        <p:spPr>
          <a:xfrm>
            <a:off x="3071520" y="56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Text Box 14"/>
          <p:cNvSpPr/>
          <p:nvPr/>
        </p:nvSpPr>
        <p:spPr>
          <a:xfrm>
            <a:off x="2859480" y="54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Text Box 16"/>
          <p:cNvSpPr/>
          <p:nvPr/>
        </p:nvSpPr>
        <p:spPr>
          <a:xfrm>
            <a:off x="4407120" y="2806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Text Box 17"/>
          <p:cNvSpPr/>
          <p:nvPr/>
        </p:nvSpPr>
        <p:spPr>
          <a:xfrm>
            <a:off x="4524120" y="300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Text Box 18"/>
          <p:cNvSpPr/>
          <p:nvPr/>
        </p:nvSpPr>
        <p:spPr>
          <a:xfrm>
            <a:off x="2968920" y="194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Text Box 19"/>
          <p:cNvSpPr/>
          <p:nvPr/>
        </p:nvSpPr>
        <p:spPr>
          <a:xfrm>
            <a:off x="3155760" y="217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Freeform 20"/>
          <p:cNvSpPr/>
          <p:nvPr/>
        </p:nvSpPr>
        <p:spPr>
          <a:xfrm>
            <a:off x="3333600" y="5864400"/>
            <a:ext cx="1978200" cy="607680"/>
          </a:xfrm>
          <a:custGeom>
            <a:avLst/>
            <a:gdLst/>
            <a:ahLst/>
            <a:rect l="l" t="t" r="r" b="b"/>
            <a:pathLst>
              <a:path w="9972" h="3062">
                <a:moveTo>
                  <a:pt x="0" y="0"/>
                </a:moveTo>
                <a:lnTo>
                  <a:pt x="174" y="288"/>
                </a:lnTo>
                <a:lnTo>
                  <a:pt x="365" y="567"/>
                </a:lnTo>
                <a:lnTo>
                  <a:pt x="570" y="835"/>
                </a:lnTo>
                <a:lnTo>
                  <a:pt x="789" y="1091"/>
                </a:lnTo>
                <a:lnTo>
                  <a:pt x="1024" y="1334"/>
                </a:lnTo>
                <a:lnTo>
                  <a:pt x="1270" y="1564"/>
                </a:lnTo>
                <a:lnTo>
                  <a:pt x="1530" y="1779"/>
                </a:lnTo>
                <a:lnTo>
                  <a:pt x="1800" y="1979"/>
                </a:lnTo>
                <a:lnTo>
                  <a:pt x="2082" y="2164"/>
                </a:lnTo>
                <a:lnTo>
                  <a:pt x="2374" y="2334"/>
                </a:lnTo>
                <a:lnTo>
                  <a:pt x="2675" y="2486"/>
                </a:lnTo>
                <a:lnTo>
                  <a:pt x="2984" y="2621"/>
                </a:lnTo>
                <a:lnTo>
                  <a:pt x="3299" y="2739"/>
                </a:lnTo>
                <a:lnTo>
                  <a:pt x="3622" y="2839"/>
                </a:lnTo>
                <a:lnTo>
                  <a:pt x="3948" y="2921"/>
                </a:lnTo>
                <a:lnTo>
                  <a:pt x="4279" y="2985"/>
                </a:lnTo>
                <a:lnTo>
                  <a:pt x="4613" y="3029"/>
                </a:lnTo>
                <a:lnTo>
                  <a:pt x="4950" y="3055"/>
                </a:lnTo>
                <a:lnTo>
                  <a:pt x="5287" y="3062"/>
                </a:lnTo>
                <a:lnTo>
                  <a:pt x="5623" y="3050"/>
                </a:lnTo>
                <a:lnTo>
                  <a:pt x="5960" y="3019"/>
                </a:lnTo>
                <a:lnTo>
                  <a:pt x="6293" y="2970"/>
                </a:lnTo>
                <a:lnTo>
                  <a:pt x="6623" y="2902"/>
                </a:lnTo>
                <a:lnTo>
                  <a:pt x="6948" y="2815"/>
                </a:lnTo>
                <a:lnTo>
                  <a:pt x="7269" y="2712"/>
                </a:lnTo>
                <a:lnTo>
                  <a:pt x="7584" y="2589"/>
                </a:lnTo>
                <a:lnTo>
                  <a:pt x="7890" y="2449"/>
                </a:lnTo>
                <a:lnTo>
                  <a:pt x="8189" y="2292"/>
                </a:lnTo>
                <a:lnTo>
                  <a:pt x="8479" y="2120"/>
                </a:lnTo>
                <a:lnTo>
                  <a:pt x="8757" y="1930"/>
                </a:lnTo>
                <a:lnTo>
                  <a:pt x="9026" y="1726"/>
                </a:lnTo>
                <a:lnTo>
                  <a:pt x="9282" y="1507"/>
                </a:lnTo>
                <a:lnTo>
                  <a:pt x="9525" y="1274"/>
                </a:lnTo>
                <a:lnTo>
                  <a:pt x="9756" y="1027"/>
                </a:lnTo>
                <a:lnTo>
                  <a:pt x="9972" y="7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Line 21"/>
          <p:cNvSpPr/>
          <p:nvPr/>
        </p:nvSpPr>
        <p:spPr>
          <a:xfrm flipH="1">
            <a:off x="3333240" y="5275440"/>
            <a:ext cx="104004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Line 22"/>
          <p:cNvSpPr/>
          <p:nvPr/>
        </p:nvSpPr>
        <p:spPr>
          <a:xfrm>
            <a:off x="4373640" y="5275440"/>
            <a:ext cx="93816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Freeform 23"/>
          <p:cNvSpPr/>
          <p:nvPr/>
        </p:nvSpPr>
        <p:spPr>
          <a:xfrm>
            <a:off x="3994200" y="5489640"/>
            <a:ext cx="722160" cy="222120"/>
          </a:xfrm>
          <a:custGeom>
            <a:avLst/>
            <a:gdLst/>
            <a:ahLst/>
            <a:rect l="l" t="t" r="r" b="b"/>
            <a:pathLst>
              <a:path w="3632" h="1115">
                <a:moveTo>
                  <a:pt x="0" y="0"/>
                </a:moveTo>
                <a:lnTo>
                  <a:pt x="109" y="173"/>
                </a:lnTo>
                <a:lnTo>
                  <a:pt x="233" y="335"/>
                </a:lnTo>
                <a:lnTo>
                  <a:pt x="372" y="486"/>
                </a:lnTo>
                <a:lnTo>
                  <a:pt x="525" y="622"/>
                </a:lnTo>
                <a:lnTo>
                  <a:pt x="690" y="743"/>
                </a:lnTo>
                <a:lnTo>
                  <a:pt x="865" y="849"/>
                </a:lnTo>
                <a:lnTo>
                  <a:pt x="1049" y="938"/>
                </a:lnTo>
                <a:lnTo>
                  <a:pt x="1240" y="1010"/>
                </a:lnTo>
                <a:lnTo>
                  <a:pt x="1438" y="1063"/>
                </a:lnTo>
                <a:lnTo>
                  <a:pt x="1639" y="1098"/>
                </a:lnTo>
                <a:lnTo>
                  <a:pt x="1843" y="1115"/>
                </a:lnTo>
                <a:lnTo>
                  <a:pt x="2048" y="1111"/>
                </a:lnTo>
                <a:lnTo>
                  <a:pt x="2251" y="1088"/>
                </a:lnTo>
                <a:lnTo>
                  <a:pt x="2452" y="1047"/>
                </a:lnTo>
                <a:lnTo>
                  <a:pt x="2648" y="987"/>
                </a:lnTo>
                <a:lnTo>
                  <a:pt x="2838" y="909"/>
                </a:lnTo>
                <a:lnTo>
                  <a:pt x="3018" y="815"/>
                </a:lnTo>
                <a:lnTo>
                  <a:pt x="3190" y="703"/>
                </a:lnTo>
                <a:lnTo>
                  <a:pt x="3350" y="576"/>
                </a:lnTo>
                <a:lnTo>
                  <a:pt x="3498" y="435"/>
                </a:lnTo>
                <a:lnTo>
                  <a:pt x="3632" y="2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Text Box 24"/>
          <p:cNvSpPr/>
          <p:nvPr/>
        </p:nvSpPr>
        <p:spPr>
          <a:xfrm>
            <a:off x="4169160" y="56786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Oval 25"/>
          <p:cNvSpPr/>
          <p:nvPr/>
        </p:nvSpPr>
        <p:spPr>
          <a:xfrm>
            <a:off x="4313160" y="521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Oval 26"/>
          <p:cNvSpPr/>
          <p:nvPr/>
        </p:nvSpPr>
        <p:spPr>
          <a:xfrm>
            <a:off x="3284640" y="580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Oval 27"/>
          <p:cNvSpPr/>
          <p:nvPr/>
        </p:nvSpPr>
        <p:spPr>
          <a:xfrm>
            <a:off x="5251320" y="594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Text Box 28"/>
          <p:cNvSpPr/>
          <p:nvPr/>
        </p:nvSpPr>
        <p:spPr>
          <a:xfrm>
            <a:off x="5374440" y="5573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Text Box 29"/>
          <p:cNvSpPr/>
          <p:nvPr/>
        </p:nvSpPr>
        <p:spPr>
          <a:xfrm>
            <a:off x="5586120" y="578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Line 30"/>
          <p:cNvSpPr/>
          <p:nvPr/>
        </p:nvSpPr>
        <p:spPr>
          <a:xfrm>
            <a:off x="3333600" y="2451240"/>
            <a:ext cx="2676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Oval 31"/>
          <p:cNvSpPr/>
          <p:nvPr/>
        </p:nvSpPr>
        <p:spPr>
          <a:xfrm>
            <a:off x="3298680" y="2400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Text Box 34"/>
          <p:cNvSpPr/>
          <p:nvPr/>
        </p:nvSpPr>
        <p:spPr>
          <a:xfrm>
            <a:off x="5685840" y="200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Text Box 35"/>
          <p:cNvSpPr/>
          <p:nvPr/>
        </p:nvSpPr>
        <p:spPr>
          <a:xfrm>
            <a:off x="5898960" y="22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Rectangle 3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AB8-15AE-4D53-B59C-86042785B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Line 22"/>
          <p:cNvSpPr/>
          <p:nvPr/>
        </p:nvSpPr>
        <p:spPr>
          <a:xfrm>
            <a:off x="2556000" y="3807000"/>
            <a:ext cx="4349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Line 23"/>
          <p:cNvSpPr/>
          <p:nvPr/>
        </p:nvSpPr>
        <p:spPr>
          <a:xfrm>
            <a:off x="4373640" y="1890720"/>
            <a:ext cx="1440" cy="170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Line 24"/>
          <p:cNvSpPr/>
          <p:nvPr/>
        </p:nvSpPr>
        <p:spPr>
          <a:xfrm>
            <a:off x="4373640" y="3597120"/>
            <a:ext cx="144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Freeform 25"/>
          <p:cNvSpPr/>
          <p:nvPr/>
        </p:nvSpPr>
        <p:spPr>
          <a:xfrm>
            <a:off x="3333600" y="5864400"/>
            <a:ext cx="1978200" cy="607680"/>
          </a:xfrm>
          <a:custGeom>
            <a:avLst/>
            <a:gdLst/>
            <a:ahLst/>
            <a:rect l="l" t="t" r="r" b="b"/>
            <a:pathLst>
              <a:path w="9972" h="3062">
                <a:moveTo>
                  <a:pt x="0" y="0"/>
                </a:moveTo>
                <a:lnTo>
                  <a:pt x="174" y="288"/>
                </a:lnTo>
                <a:lnTo>
                  <a:pt x="365" y="567"/>
                </a:lnTo>
                <a:lnTo>
                  <a:pt x="570" y="835"/>
                </a:lnTo>
                <a:lnTo>
                  <a:pt x="789" y="1091"/>
                </a:lnTo>
                <a:lnTo>
                  <a:pt x="1024" y="1334"/>
                </a:lnTo>
                <a:lnTo>
                  <a:pt x="1270" y="1564"/>
                </a:lnTo>
                <a:lnTo>
                  <a:pt x="1530" y="1779"/>
                </a:lnTo>
                <a:lnTo>
                  <a:pt x="1800" y="1979"/>
                </a:lnTo>
                <a:lnTo>
                  <a:pt x="2082" y="2164"/>
                </a:lnTo>
                <a:lnTo>
                  <a:pt x="2374" y="2334"/>
                </a:lnTo>
                <a:lnTo>
                  <a:pt x="2675" y="2486"/>
                </a:lnTo>
                <a:lnTo>
                  <a:pt x="2984" y="2621"/>
                </a:lnTo>
                <a:lnTo>
                  <a:pt x="3299" y="2739"/>
                </a:lnTo>
                <a:lnTo>
                  <a:pt x="3622" y="2839"/>
                </a:lnTo>
                <a:lnTo>
                  <a:pt x="3948" y="2921"/>
                </a:lnTo>
                <a:lnTo>
                  <a:pt x="4279" y="2985"/>
                </a:lnTo>
                <a:lnTo>
                  <a:pt x="4613" y="3029"/>
                </a:lnTo>
                <a:lnTo>
                  <a:pt x="4950" y="3055"/>
                </a:lnTo>
                <a:lnTo>
                  <a:pt x="5287" y="3062"/>
                </a:lnTo>
                <a:lnTo>
                  <a:pt x="5623" y="3050"/>
                </a:lnTo>
                <a:lnTo>
                  <a:pt x="5960" y="3019"/>
                </a:lnTo>
                <a:lnTo>
                  <a:pt x="6293" y="2970"/>
                </a:lnTo>
                <a:lnTo>
                  <a:pt x="6623" y="2902"/>
                </a:lnTo>
                <a:lnTo>
                  <a:pt x="6948" y="2815"/>
                </a:lnTo>
                <a:lnTo>
                  <a:pt x="7269" y="2712"/>
                </a:lnTo>
                <a:lnTo>
                  <a:pt x="7584" y="2589"/>
                </a:lnTo>
                <a:lnTo>
                  <a:pt x="7890" y="2449"/>
                </a:lnTo>
                <a:lnTo>
                  <a:pt x="8189" y="2292"/>
                </a:lnTo>
                <a:lnTo>
                  <a:pt x="8479" y="2120"/>
                </a:lnTo>
                <a:lnTo>
                  <a:pt x="8757" y="1930"/>
                </a:lnTo>
                <a:lnTo>
                  <a:pt x="9026" y="1726"/>
                </a:lnTo>
                <a:lnTo>
                  <a:pt x="9282" y="1507"/>
                </a:lnTo>
                <a:lnTo>
                  <a:pt x="9525" y="1274"/>
                </a:lnTo>
                <a:lnTo>
                  <a:pt x="9756" y="1027"/>
                </a:lnTo>
                <a:lnTo>
                  <a:pt x="9972" y="7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Line 26"/>
          <p:cNvSpPr/>
          <p:nvPr/>
        </p:nvSpPr>
        <p:spPr>
          <a:xfrm flipH="1">
            <a:off x="3333240" y="5275440"/>
            <a:ext cx="104004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Line 27"/>
          <p:cNvSpPr/>
          <p:nvPr/>
        </p:nvSpPr>
        <p:spPr>
          <a:xfrm>
            <a:off x="4373640" y="5275440"/>
            <a:ext cx="93816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Freeform 28"/>
          <p:cNvSpPr/>
          <p:nvPr/>
        </p:nvSpPr>
        <p:spPr>
          <a:xfrm>
            <a:off x="3994200" y="5489640"/>
            <a:ext cx="722160" cy="222120"/>
          </a:xfrm>
          <a:custGeom>
            <a:avLst/>
            <a:gdLst/>
            <a:ahLst/>
            <a:rect l="l" t="t" r="r" b="b"/>
            <a:pathLst>
              <a:path w="3632" h="1115">
                <a:moveTo>
                  <a:pt x="0" y="0"/>
                </a:moveTo>
                <a:lnTo>
                  <a:pt x="109" y="173"/>
                </a:lnTo>
                <a:lnTo>
                  <a:pt x="233" y="335"/>
                </a:lnTo>
                <a:lnTo>
                  <a:pt x="372" y="486"/>
                </a:lnTo>
                <a:lnTo>
                  <a:pt x="525" y="622"/>
                </a:lnTo>
                <a:lnTo>
                  <a:pt x="690" y="743"/>
                </a:lnTo>
                <a:lnTo>
                  <a:pt x="865" y="849"/>
                </a:lnTo>
                <a:lnTo>
                  <a:pt x="1049" y="938"/>
                </a:lnTo>
                <a:lnTo>
                  <a:pt x="1240" y="1010"/>
                </a:lnTo>
                <a:lnTo>
                  <a:pt x="1438" y="1063"/>
                </a:lnTo>
                <a:lnTo>
                  <a:pt x="1639" y="1098"/>
                </a:lnTo>
                <a:lnTo>
                  <a:pt x="1843" y="1115"/>
                </a:lnTo>
                <a:lnTo>
                  <a:pt x="2048" y="1111"/>
                </a:lnTo>
                <a:lnTo>
                  <a:pt x="2251" y="1088"/>
                </a:lnTo>
                <a:lnTo>
                  <a:pt x="2452" y="1047"/>
                </a:lnTo>
                <a:lnTo>
                  <a:pt x="2648" y="987"/>
                </a:lnTo>
                <a:lnTo>
                  <a:pt x="2838" y="909"/>
                </a:lnTo>
                <a:lnTo>
                  <a:pt x="3018" y="815"/>
                </a:lnTo>
                <a:lnTo>
                  <a:pt x="3190" y="703"/>
                </a:lnTo>
                <a:lnTo>
                  <a:pt x="3350" y="576"/>
                </a:lnTo>
                <a:lnTo>
                  <a:pt x="3498" y="435"/>
                </a:lnTo>
                <a:lnTo>
                  <a:pt x="3632" y="2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Line 29"/>
          <p:cNvSpPr/>
          <p:nvPr/>
        </p:nvSpPr>
        <p:spPr>
          <a:xfrm flipV="1">
            <a:off x="3333600" y="2450880"/>
            <a:ext cx="1800" cy="341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Line 30"/>
          <p:cNvSpPr/>
          <p:nvPr/>
        </p:nvSpPr>
        <p:spPr>
          <a:xfrm>
            <a:off x="3333600" y="2451240"/>
            <a:ext cx="267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Line 31"/>
          <p:cNvSpPr/>
          <p:nvPr/>
        </p:nvSpPr>
        <p:spPr>
          <a:xfrm flipV="1">
            <a:off x="5311800" y="2451240"/>
            <a:ext cx="1440" cy="356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Text Box 32"/>
          <p:cNvSpPr/>
          <p:nvPr/>
        </p:nvSpPr>
        <p:spPr>
          <a:xfrm>
            <a:off x="2620440" y="340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Text Box 33"/>
          <p:cNvSpPr/>
          <p:nvPr/>
        </p:nvSpPr>
        <p:spPr>
          <a:xfrm>
            <a:off x="2768400" y="3551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Oval 34"/>
          <p:cNvSpPr/>
          <p:nvPr/>
        </p:nvSpPr>
        <p:spPr>
          <a:xfrm>
            <a:off x="4313160" y="521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Text Box 35"/>
          <p:cNvSpPr/>
          <p:nvPr/>
        </p:nvSpPr>
        <p:spPr>
          <a:xfrm>
            <a:off x="3983400" y="4859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Text Box 36"/>
          <p:cNvSpPr/>
          <p:nvPr/>
        </p:nvSpPr>
        <p:spPr>
          <a:xfrm>
            <a:off x="41004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Oval 37"/>
          <p:cNvSpPr/>
          <p:nvPr/>
        </p:nvSpPr>
        <p:spPr>
          <a:xfrm>
            <a:off x="5256360" y="2395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Text Box 38"/>
          <p:cNvSpPr/>
          <p:nvPr/>
        </p:nvSpPr>
        <p:spPr>
          <a:xfrm>
            <a:off x="4926600" y="1935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Text Box 39"/>
          <p:cNvSpPr/>
          <p:nvPr/>
        </p:nvSpPr>
        <p:spPr>
          <a:xfrm>
            <a:off x="5138640" y="21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Oval 40"/>
          <p:cNvSpPr/>
          <p:nvPr/>
        </p:nvSpPr>
        <p:spPr>
          <a:xfrm>
            <a:off x="5251320" y="594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Text Box 41"/>
          <p:cNvSpPr/>
          <p:nvPr/>
        </p:nvSpPr>
        <p:spPr>
          <a:xfrm>
            <a:off x="5374440" y="5573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Text Box 42"/>
          <p:cNvSpPr/>
          <p:nvPr/>
        </p:nvSpPr>
        <p:spPr>
          <a:xfrm>
            <a:off x="5586120" y="578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Oval 43"/>
          <p:cNvSpPr/>
          <p:nvPr/>
        </p:nvSpPr>
        <p:spPr>
          <a:xfrm>
            <a:off x="3284640" y="5805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Text Box 44"/>
          <p:cNvSpPr/>
          <p:nvPr/>
        </p:nvSpPr>
        <p:spPr>
          <a:xfrm>
            <a:off x="4169160" y="56786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Text Box 45"/>
          <p:cNvSpPr/>
          <p:nvPr/>
        </p:nvSpPr>
        <p:spPr>
          <a:xfrm>
            <a:off x="3071520" y="56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Text Box 46"/>
          <p:cNvSpPr/>
          <p:nvPr/>
        </p:nvSpPr>
        <p:spPr>
          <a:xfrm>
            <a:off x="2859480" y="54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Oval 47"/>
          <p:cNvSpPr/>
          <p:nvPr/>
        </p:nvSpPr>
        <p:spPr>
          <a:xfrm>
            <a:off x="3298680" y="2400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Text Box 48"/>
          <p:cNvSpPr/>
          <p:nvPr/>
        </p:nvSpPr>
        <p:spPr>
          <a:xfrm>
            <a:off x="4407120" y="2806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Text Box 49"/>
          <p:cNvSpPr/>
          <p:nvPr/>
        </p:nvSpPr>
        <p:spPr>
          <a:xfrm>
            <a:off x="4524120" y="300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Text Box 50"/>
          <p:cNvSpPr/>
          <p:nvPr/>
        </p:nvSpPr>
        <p:spPr>
          <a:xfrm>
            <a:off x="5685840" y="200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Text Box 51"/>
          <p:cNvSpPr/>
          <p:nvPr/>
        </p:nvSpPr>
        <p:spPr>
          <a:xfrm>
            <a:off x="5898960" y="22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Text Box 52"/>
          <p:cNvSpPr/>
          <p:nvPr/>
        </p:nvSpPr>
        <p:spPr>
          <a:xfrm>
            <a:off x="2968920" y="194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Text Box 53"/>
          <p:cNvSpPr/>
          <p:nvPr/>
        </p:nvSpPr>
        <p:spPr>
          <a:xfrm>
            <a:off x="3181320" y="21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Rectangle 5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615-4562-4304-ABF2-AC3C78114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Text Box 4"/>
          <p:cNvSpPr/>
          <p:nvPr/>
        </p:nvSpPr>
        <p:spPr>
          <a:xfrm>
            <a:off x="181080" y="2400480"/>
            <a:ext cx="88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нуть точку вокруг фронталь-но-проецирующей прямой на заданный угол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08B-4759-4071-9803-A00DFC076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9"/>
          <p:cNvSpPr/>
          <p:nvPr/>
        </p:nvSpPr>
        <p:spPr>
          <a:xfrm>
            <a:off x="3079800" y="4108320"/>
            <a:ext cx="29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10"/>
          <p:cNvSpPr/>
          <p:nvPr/>
        </p:nvSpPr>
        <p:spPr>
          <a:xfrm flipV="1">
            <a:off x="3619440" y="4660560"/>
            <a:ext cx="180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11"/>
          <p:cNvSpPr/>
          <p:nvPr/>
        </p:nvSpPr>
        <p:spPr>
          <a:xfrm flipV="1">
            <a:off x="3619440" y="3143160"/>
            <a:ext cx="180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15"/>
          <p:cNvSpPr/>
          <p:nvPr/>
        </p:nvSpPr>
        <p:spPr>
          <a:xfrm>
            <a:off x="4292640" y="1797120"/>
            <a:ext cx="1440" cy="403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Text Box 19"/>
          <p:cNvSpPr/>
          <p:nvPr/>
        </p:nvSpPr>
        <p:spPr>
          <a:xfrm>
            <a:off x="3036240" y="36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Text Box 20"/>
          <p:cNvSpPr/>
          <p:nvPr/>
        </p:nvSpPr>
        <p:spPr>
          <a:xfrm>
            <a:off x="3184200" y="3825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Oval 27"/>
          <p:cNvSpPr/>
          <p:nvPr/>
        </p:nvSpPr>
        <p:spPr>
          <a:xfrm>
            <a:off x="356076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Text Box 28"/>
          <p:cNvSpPr/>
          <p:nvPr/>
        </p:nvSpPr>
        <p:spPr>
          <a:xfrm>
            <a:off x="3300120" y="31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Oval 30"/>
          <p:cNvSpPr/>
          <p:nvPr/>
        </p:nvSpPr>
        <p:spPr>
          <a:xfrm>
            <a:off x="4237200" y="57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Text Box 33"/>
          <p:cNvSpPr/>
          <p:nvPr/>
        </p:nvSpPr>
        <p:spPr>
          <a:xfrm>
            <a:off x="3369960" y="63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Text Box 34"/>
          <p:cNvSpPr/>
          <p:nvPr/>
        </p:nvSpPr>
        <p:spPr>
          <a:xfrm>
            <a:off x="3198600" y="62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Text Box 35"/>
          <p:cNvSpPr/>
          <p:nvPr/>
        </p:nvSpPr>
        <p:spPr>
          <a:xfrm>
            <a:off x="4113000" y="599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Text Box 36"/>
          <p:cNvSpPr/>
          <p:nvPr/>
        </p:nvSpPr>
        <p:spPr>
          <a:xfrm>
            <a:off x="3900960" y="5843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Oval 37"/>
          <p:cNvSpPr/>
          <p:nvPr/>
        </p:nvSpPr>
        <p:spPr>
          <a:xfrm>
            <a:off x="4227480" y="174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Text Box 38"/>
          <p:cNvSpPr/>
          <p:nvPr/>
        </p:nvSpPr>
        <p:spPr>
          <a:xfrm>
            <a:off x="3966840" y="179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Text Box 39"/>
          <p:cNvSpPr/>
          <p:nvPr/>
        </p:nvSpPr>
        <p:spPr>
          <a:xfrm>
            <a:off x="375480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Text Box 40"/>
          <p:cNvSpPr/>
          <p:nvPr/>
        </p:nvSpPr>
        <p:spPr>
          <a:xfrm>
            <a:off x="308736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3FC-4A4F-4171-896D-DA444D0D5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5"/>
          <p:cNvSpPr/>
          <p:nvPr/>
        </p:nvSpPr>
        <p:spPr>
          <a:xfrm>
            <a:off x="3079800" y="4108320"/>
            <a:ext cx="29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Line 6"/>
          <p:cNvSpPr/>
          <p:nvPr/>
        </p:nvSpPr>
        <p:spPr>
          <a:xfrm flipV="1">
            <a:off x="3619440" y="4660560"/>
            <a:ext cx="180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Line 7"/>
          <p:cNvSpPr/>
          <p:nvPr/>
        </p:nvSpPr>
        <p:spPr>
          <a:xfrm flipV="1">
            <a:off x="3619440" y="3143160"/>
            <a:ext cx="180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Line 8"/>
          <p:cNvSpPr/>
          <p:nvPr/>
        </p:nvSpPr>
        <p:spPr>
          <a:xfrm>
            <a:off x="4292640" y="1797120"/>
            <a:ext cx="1440" cy="403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Text Box 9"/>
          <p:cNvSpPr/>
          <p:nvPr/>
        </p:nvSpPr>
        <p:spPr>
          <a:xfrm>
            <a:off x="3036240" y="36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Text Box 10"/>
          <p:cNvSpPr/>
          <p:nvPr/>
        </p:nvSpPr>
        <p:spPr>
          <a:xfrm>
            <a:off x="3184200" y="3825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Oval 11"/>
          <p:cNvSpPr/>
          <p:nvPr/>
        </p:nvSpPr>
        <p:spPr>
          <a:xfrm>
            <a:off x="356076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Text Box 12"/>
          <p:cNvSpPr/>
          <p:nvPr/>
        </p:nvSpPr>
        <p:spPr>
          <a:xfrm>
            <a:off x="3300120" y="31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Oval 13"/>
          <p:cNvSpPr/>
          <p:nvPr/>
        </p:nvSpPr>
        <p:spPr>
          <a:xfrm>
            <a:off x="4237200" y="57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Text Box 14"/>
          <p:cNvSpPr/>
          <p:nvPr/>
        </p:nvSpPr>
        <p:spPr>
          <a:xfrm>
            <a:off x="3369960" y="63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Text Box 15"/>
          <p:cNvSpPr/>
          <p:nvPr/>
        </p:nvSpPr>
        <p:spPr>
          <a:xfrm>
            <a:off x="3198600" y="62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Text Box 16"/>
          <p:cNvSpPr/>
          <p:nvPr/>
        </p:nvSpPr>
        <p:spPr>
          <a:xfrm>
            <a:off x="4113000" y="599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Text Box 17"/>
          <p:cNvSpPr/>
          <p:nvPr/>
        </p:nvSpPr>
        <p:spPr>
          <a:xfrm>
            <a:off x="3900960" y="5843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Text Box 19"/>
          <p:cNvSpPr/>
          <p:nvPr/>
        </p:nvSpPr>
        <p:spPr>
          <a:xfrm>
            <a:off x="3966840" y="179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Text Box 20"/>
          <p:cNvSpPr/>
          <p:nvPr/>
        </p:nvSpPr>
        <p:spPr>
          <a:xfrm>
            <a:off x="375480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Text Box 21"/>
          <p:cNvSpPr/>
          <p:nvPr/>
        </p:nvSpPr>
        <p:spPr>
          <a:xfrm>
            <a:off x="308736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Freeform 22"/>
          <p:cNvSpPr/>
          <p:nvPr/>
        </p:nvSpPr>
        <p:spPr>
          <a:xfrm>
            <a:off x="4292640" y="1797120"/>
            <a:ext cx="831960" cy="2001600"/>
          </a:xfrm>
          <a:custGeom>
            <a:avLst/>
            <a:gdLst/>
            <a:ahLst/>
            <a:rect l="l" t="t" r="r" b="b"/>
            <a:pathLst>
              <a:path w="3666" h="8826">
                <a:moveTo>
                  <a:pt x="3006" y="8826"/>
                </a:moveTo>
                <a:lnTo>
                  <a:pt x="3148" y="8512"/>
                </a:lnTo>
                <a:lnTo>
                  <a:pt x="3273" y="8191"/>
                </a:lnTo>
                <a:lnTo>
                  <a:pt x="3382" y="7863"/>
                </a:lnTo>
                <a:lnTo>
                  <a:pt x="3473" y="7532"/>
                </a:lnTo>
                <a:lnTo>
                  <a:pt x="3547" y="7195"/>
                </a:lnTo>
                <a:lnTo>
                  <a:pt x="3604" y="6856"/>
                </a:lnTo>
                <a:lnTo>
                  <a:pt x="3642" y="6513"/>
                </a:lnTo>
                <a:lnTo>
                  <a:pt x="3663" y="6169"/>
                </a:lnTo>
                <a:lnTo>
                  <a:pt x="3666" y="5824"/>
                </a:lnTo>
                <a:lnTo>
                  <a:pt x="3651" y="5481"/>
                </a:lnTo>
                <a:lnTo>
                  <a:pt x="3618" y="5137"/>
                </a:lnTo>
                <a:lnTo>
                  <a:pt x="3568" y="4796"/>
                </a:lnTo>
                <a:lnTo>
                  <a:pt x="3500" y="4459"/>
                </a:lnTo>
                <a:lnTo>
                  <a:pt x="3415" y="4125"/>
                </a:lnTo>
                <a:lnTo>
                  <a:pt x="3312" y="3796"/>
                </a:lnTo>
                <a:lnTo>
                  <a:pt x="3192" y="3472"/>
                </a:lnTo>
                <a:lnTo>
                  <a:pt x="3057" y="3156"/>
                </a:lnTo>
                <a:lnTo>
                  <a:pt x="2904" y="2848"/>
                </a:lnTo>
                <a:lnTo>
                  <a:pt x="2736" y="2547"/>
                </a:lnTo>
                <a:lnTo>
                  <a:pt x="2553" y="2255"/>
                </a:lnTo>
                <a:lnTo>
                  <a:pt x="2354" y="1973"/>
                </a:lnTo>
                <a:lnTo>
                  <a:pt x="2141" y="1702"/>
                </a:lnTo>
                <a:lnTo>
                  <a:pt x="1915" y="1443"/>
                </a:lnTo>
                <a:lnTo>
                  <a:pt x="1676" y="1195"/>
                </a:lnTo>
                <a:lnTo>
                  <a:pt x="1423" y="960"/>
                </a:lnTo>
                <a:lnTo>
                  <a:pt x="1160" y="740"/>
                </a:lnTo>
                <a:lnTo>
                  <a:pt x="885" y="533"/>
                </a:lnTo>
                <a:lnTo>
                  <a:pt x="599" y="340"/>
                </a:lnTo>
                <a:lnTo>
                  <a:pt x="304" y="16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Oval 23"/>
          <p:cNvSpPr/>
          <p:nvPr/>
        </p:nvSpPr>
        <p:spPr>
          <a:xfrm>
            <a:off x="4227480" y="174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1AA-2E1A-4EF5-810C-D93CE4DDD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Line 5"/>
          <p:cNvSpPr/>
          <p:nvPr/>
        </p:nvSpPr>
        <p:spPr>
          <a:xfrm>
            <a:off x="3079800" y="4108320"/>
            <a:ext cx="29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Line 6"/>
          <p:cNvSpPr/>
          <p:nvPr/>
        </p:nvSpPr>
        <p:spPr>
          <a:xfrm flipV="1">
            <a:off x="3619440" y="4660560"/>
            <a:ext cx="180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Line 7"/>
          <p:cNvSpPr/>
          <p:nvPr/>
        </p:nvSpPr>
        <p:spPr>
          <a:xfrm flipV="1">
            <a:off x="3619440" y="3143160"/>
            <a:ext cx="180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Line 8"/>
          <p:cNvSpPr/>
          <p:nvPr/>
        </p:nvSpPr>
        <p:spPr>
          <a:xfrm>
            <a:off x="4292640" y="1797120"/>
            <a:ext cx="1440" cy="403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Text Box 9"/>
          <p:cNvSpPr/>
          <p:nvPr/>
        </p:nvSpPr>
        <p:spPr>
          <a:xfrm>
            <a:off x="3036240" y="36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Text Box 10"/>
          <p:cNvSpPr/>
          <p:nvPr/>
        </p:nvSpPr>
        <p:spPr>
          <a:xfrm>
            <a:off x="3184200" y="3825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Text Box 12"/>
          <p:cNvSpPr/>
          <p:nvPr/>
        </p:nvSpPr>
        <p:spPr>
          <a:xfrm>
            <a:off x="3300120" y="31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Text Box 14"/>
          <p:cNvSpPr/>
          <p:nvPr/>
        </p:nvSpPr>
        <p:spPr>
          <a:xfrm>
            <a:off x="3369960" y="63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Text Box 15"/>
          <p:cNvSpPr/>
          <p:nvPr/>
        </p:nvSpPr>
        <p:spPr>
          <a:xfrm>
            <a:off x="3198600" y="62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Text Box 16"/>
          <p:cNvSpPr/>
          <p:nvPr/>
        </p:nvSpPr>
        <p:spPr>
          <a:xfrm>
            <a:off x="4113000" y="599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Text Box 17"/>
          <p:cNvSpPr/>
          <p:nvPr/>
        </p:nvSpPr>
        <p:spPr>
          <a:xfrm>
            <a:off x="3900960" y="5843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Text Box 18"/>
          <p:cNvSpPr/>
          <p:nvPr/>
        </p:nvSpPr>
        <p:spPr>
          <a:xfrm>
            <a:off x="3966840" y="179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Text Box 19"/>
          <p:cNvSpPr/>
          <p:nvPr/>
        </p:nvSpPr>
        <p:spPr>
          <a:xfrm>
            <a:off x="375480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Text Box 20"/>
          <p:cNvSpPr/>
          <p:nvPr/>
        </p:nvSpPr>
        <p:spPr>
          <a:xfrm>
            <a:off x="308736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Freeform 21"/>
          <p:cNvSpPr/>
          <p:nvPr/>
        </p:nvSpPr>
        <p:spPr>
          <a:xfrm>
            <a:off x="4292640" y="1797120"/>
            <a:ext cx="831960" cy="2001600"/>
          </a:xfrm>
          <a:custGeom>
            <a:avLst/>
            <a:gdLst/>
            <a:ahLst/>
            <a:rect l="l" t="t" r="r" b="b"/>
            <a:pathLst>
              <a:path w="3666" h="8826">
                <a:moveTo>
                  <a:pt x="3006" y="8826"/>
                </a:moveTo>
                <a:lnTo>
                  <a:pt x="3148" y="8512"/>
                </a:lnTo>
                <a:lnTo>
                  <a:pt x="3273" y="8191"/>
                </a:lnTo>
                <a:lnTo>
                  <a:pt x="3382" y="7863"/>
                </a:lnTo>
                <a:lnTo>
                  <a:pt x="3473" y="7532"/>
                </a:lnTo>
                <a:lnTo>
                  <a:pt x="3547" y="7195"/>
                </a:lnTo>
                <a:lnTo>
                  <a:pt x="3604" y="6856"/>
                </a:lnTo>
                <a:lnTo>
                  <a:pt x="3642" y="6513"/>
                </a:lnTo>
                <a:lnTo>
                  <a:pt x="3663" y="6169"/>
                </a:lnTo>
                <a:lnTo>
                  <a:pt x="3666" y="5824"/>
                </a:lnTo>
                <a:lnTo>
                  <a:pt x="3651" y="5481"/>
                </a:lnTo>
                <a:lnTo>
                  <a:pt x="3618" y="5137"/>
                </a:lnTo>
                <a:lnTo>
                  <a:pt x="3568" y="4796"/>
                </a:lnTo>
                <a:lnTo>
                  <a:pt x="3500" y="4459"/>
                </a:lnTo>
                <a:lnTo>
                  <a:pt x="3415" y="4125"/>
                </a:lnTo>
                <a:lnTo>
                  <a:pt x="3312" y="3796"/>
                </a:lnTo>
                <a:lnTo>
                  <a:pt x="3192" y="3472"/>
                </a:lnTo>
                <a:lnTo>
                  <a:pt x="3057" y="3156"/>
                </a:lnTo>
                <a:lnTo>
                  <a:pt x="2904" y="2848"/>
                </a:lnTo>
                <a:lnTo>
                  <a:pt x="2736" y="2547"/>
                </a:lnTo>
                <a:lnTo>
                  <a:pt x="2553" y="2255"/>
                </a:lnTo>
                <a:lnTo>
                  <a:pt x="2354" y="1973"/>
                </a:lnTo>
                <a:lnTo>
                  <a:pt x="2141" y="1702"/>
                </a:lnTo>
                <a:lnTo>
                  <a:pt x="1915" y="1443"/>
                </a:lnTo>
                <a:lnTo>
                  <a:pt x="1676" y="1195"/>
                </a:lnTo>
                <a:lnTo>
                  <a:pt x="1423" y="960"/>
                </a:lnTo>
                <a:lnTo>
                  <a:pt x="1160" y="740"/>
                </a:lnTo>
                <a:lnTo>
                  <a:pt x="885" y="533"/>
                </a:lnTo>
                <a:lnTo>
                  <a:pt x="599" y="340"/>
                </a:lnTo>
                <a:lnTo>
                  <a:pt x="304" y="16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Oval 26"/>
          <p:cNvSpPr/>
          <p:nvPr/>
        </p:nvSpPr>
        <p:spPr>
          <a:xfrm>
            <a:off x="4251240" y="57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Line 27"/>
          <p:cNvSpPr/>
          <p:nvPr/>
        </p:nvSpPr>
        <p:spPr>
          <a:xfrm>
            <a:off x="3619440" y="3143160"/>
            <a:ext cx="1355760" cy="655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Line 28"/>
          <p:cNvSpPr/>
          <p:nvPr/>
        </p:nvSpPr>
        <p:spPr>
          <a:xfrm flipV="1">
            <a:off x="3619440" y="1796760"/>
            <a:ext cx="673200" cy="1346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Freeform 29"/>
          <p:cNvSpPr/>
          <p:nvPr/>
        </p:nvSpPr>
        <p:spPr>
          <a:xfrm>
            <a:off x="3827520" y="2728800"/>
            <a:ext cx="255600" cy="615960"/>
          </a:xfrm>
          <a:custGeom>
            <a:avLst/>
            <a:gdLst/>
            <a:ahLst/>
            <a:rect l="l" t="t" r="r" b="b"/>
            <a:pathLst>
              <a:path w="1128" h="2716">
                <a:moveTo>
                  <a:pt x="924" y="2716"/>
                </a:moveTo>
                <a:lnTo>
                  <a:pt x="998" y="2543"/>
                </a:lnTo>
                <a:lnTo>
                  <a:pt x="1056" y="2366"/>
                </a:lnTo>
                <a:lnTo>
                  <a:pt x="1097" y="2183"/>
                </a:lnTo>
                <a:lnTo>
                  <a:pt x="1121" y="1998"/>
                </a:lnTo>
                <a:lnTo>
                  <a:pt x="1128" y="1811"/>
                </a:lnTo>
                <a:lnTo>
                  <a:pt x="1118" y="1624"/>
                </a:lnTo>
                <a:lnTo>
                  <a:pt x="1091" y="1439"/>
                </a:lnTo>
                <a:lnTo>
                  <a:pt x="1047" y="1257"/>
                </a:lnTo>
                <a:lnTo>
                  <a:pt x="987" y="1080"/>
                </a:lnTo>
                <a:lnTo>
                  <a:pt x="910" y="910"/>
                </a:lnTo>
                <a:lnTo>
                  <a:pt x="819" y="747"/>
                </a:lnTo>
                <a:lnTo>
                  <a:pt x="713" y="592"/>
                </a:lnTo>
                <a:lnTo>
                  <a:pt x="593" y="448"/>
                </a:lnTo>
                <a:lnTo>
                  <a:pt x="461" y="317"/>
                </a:lnTo>
                <a:lnTo>
                  <a:pt x="317" y="197"/>
                </a:lnTo>
                <a:lnTo>
                  <a:pt x="163" y="9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Oval 30"/>
          <p:cNvSpPr/>
          <p:nvPr/>
        </p:nvSpPr>
        <p:spPr>
          <a:xfrm>
            <a:off x="4906800" y="3730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Text Box 31"/>
          <p:cNvSpPr/>
          <p:nvPr/>
        </p:nvSpPr>
        <p:spPr>
          <a:xfrm>
            <a:off x="5211720" y="38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Text Box 32"/>
          <p:cNvSpPr/>
          <p:nvPr/>
        </p:nvSpPr>
        <p:spPr>
          <a:xfrm>
            <a:off x="4999680" y="3605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Text Box 33"/>
          <p:cNvSpPr/>
          <p:nvPr/>
        </p:nvSpPr>
        <p:spPr>
          <a:xfrm>
            <a:off x="3929760" y="255096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Oval 34"/>
          <p:cNvSpPr/>
          <p:nvPr/>
        </p:nvSpPr>
        <p:spPr>
          <a:xfrm>
            <a:off x="356076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Oval 35"/>
          <p:cNvSpPr/>
          <p:nvPr/>
        </p:nvSpPr>
        <p:spPr>
          <a:xfrm>
            <a:off x="4227480" y="174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977-4770-4647-9D61-978923E5D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Line 5"/>
          <p:cNvSpPr/>
          <p:nvPr/>
        </p:nvSpPr>
        <p:spPr>
          <a:xfrm>
            <a:off x="3079800" y="4108320"/>
            <a:ext cx="29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Line 6"/>
          <p:cNvSpPr/>
          <p:nvPr/>
        </p:nvSpPr>
        <p:spPr>
          <a:xfrm flipV="1">
            <a:off x="3619440" y="4660560"/>
            <a:ext cx="180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Line 7"/>
          <p:cNvSpPr/>
          <p:nvPr/>
        </p:nvSpPr>
        <p:spPr>
          <a:xfrm flipV="1">
            <a:off x="3619440" y="3143160"/>
            <a:ext cx="180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Line 8"/>
          <p:cNvSpPr/>
          <p:nvPr/>
        </p:nvSpPr>
        <p:spPr>
          <a:xfrm>
            <a:off x="4292640" y="1797120"/>
            <a:ext cx="1440" cy="403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9"/>
          <p:cNvSpPr/>
          <p:nvPr/>
        </p:nvSpPr>
        <p:spPr>
          <a:xfrm>
            <a:off x="3036240" y="36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Text Box 10"/>
          <p:cNvSpPr/>
          <p:nvPr/>
        </p:nvSpPr>
        <p:spPr>
          <a:xfrm>
            <a:off x="3184200" y="3825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Text Box 11"/>
          <p:cNvSpPr/>
          <p:nvPr/>
        </p:nvSpPr>
        <p:spPr>
          <a:xfrm>
            <a:off x="3300120" y="31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Text Box 12"/>
          <p:cNvSpPr/>
          <p:nvPr/>
        </p:nvSpPr>
        <p:spPr>
          <a:xfrm>
            <a:off x="3369960" y="63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Text Box 13"/>
          <p:cNvSpPr/>
          <p:nvPr/>
        </p:nvSpPr>
        <p:spPr>
          <a:xfrm>
            <a:off x="3198600" y="62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Text Box 14"/>
          <p:cNvSpPr/>
          <p:nvPr/>
        </p:nvSpPr>
        <p:spPr>
          <a:xfrm>
            <a:off x="4113000" y="599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Text Box 15"/>
          <p:cNvSpPr/>
          <p:nvPr/>
        </p:nvSpPr>
        <p:spPr>
          <a:xfrm>
            <a:off x="3900960" y="5843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Text Box 16"/>
          <p:cNvSpPr/>
          <p:nvPr/>
        </p:nvSpPr>
        <p:spPr>
          <a:xfrm>
            <a:off x="3966840" y="179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Text Box 17"/>
          <p:cNvSpPr/>
          <p:nvPr/>
        </p:nvSpPr>
        <p:spPr>
          <a:xfrm>
            <a:off x="375480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Text Box 18"/>
          <p:cNvSpPr/>
          <p:nvPr/>
        </p:nvSpPr>
        <p:spPr>
          <a:xfrm>
            <a:off x="308736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Freeform 19"/>
          <p:cNvSpPr/>
          <p:nvPr/>
        </p:nvSpPr>
        <p:spPr>
          <a:xfrm>
            <a:off x="4292640" y="1797120"/>
            <a:ext cx="831960" cy="2001600"/>
          </a:xfrm>
          <a:custGeom>
            <a:avLst/>
            <a:gdLst/>
            <a:ahLst/>
            <a:rect l="l" t="t" r="r" b="b"/>
            <a:pathLst>
              <a:path w="3666" h="8826">
                <a:moveTo>
                  <a:pt x="3006" y="8826"/>
                </a:moveTo>
                <a:lnTo>
                  <a:pt x="3148" y="8512"/>
                </a:lnTo>
                <a:lnTo>
                  <a:pt x="3273" y="8191"/>
                </a:lnTo>
                <a:lnTo>
                  <a:pt x="3382" y="7863"/>
                </a:lnTo>
                <a:lnTo>
                  <a:pt x="3473" y="7532"/>
                </a:lnTo>
                <a:lnTo>
                  <a:pt x="3547" y="7195"/>
                </a:lnTo>
                <a:lnTo>
                  <a:pt x="3604" y="6856"/>
                </a:lnTo>
                <a:lnTo>
                  <a:pt x="3642" y="6513"/>
                </a:lnTo>
                <a:lnTo>
                  <a:pt x="3663" y="6169"/>
                </a:lnTo>
                <a:lnTo>
                  <a:pt x="3666" y="5824"/>
                </a:lnTo>
                <a:lnTo>
                  <a:pt x="3651" y="5481"/>
                </a:lnTo>
                <a:lnTo>
                  <a:pt x="3618" y="5137"/>
                </a:lnTo>
                <a:lnTo>
                  <a:pt x="3568" y="4796"/>
                </a:lnTo>
                <a:lnTo>
                  <a:pt x="3500" y="4459"/>
                </a:lnTo>
                <a:lnTo>
                  <a:pt x="3415" y="4125"/>
                </a:lnTo>
                <a:lnTo>
                  <a:pt x="3312" y="3796"/>
                </a:lnTo>
                <a:lnTo>
                  <a:pt x="3192" y="3472"/>
                </a:lnTo>
                <a:lnTo>
                  <a:pt x="3057" y="3156"/>
                </a:lnTo>
                <a:lnTo>
                  <a:pt x="2904" y="2848"/>
                </a:lnTo>
                <a:lnTo>
                  <a:pt x="2736" y="2547"/>
                </a:lnTo>
                <a:lnTo>
                  <a:pt x="2553" y="2255"/>
                </a:lnTo>
                <a:lnTo>
                  <a:pt x="2354" y="1973"/>
                </a:lnTo>
                <a:lnTo>
                  <a:pt x="2141" y="1702"/>
                </a:lnTo>
                <a:lnTo>
                  <a:pt x="1915" y="1443"/>
                </a:lnTo>
                <a:lnTo>
                  <a:pt x="1676" y="1195"/>
                </a:lnTo>
                <a:lnTo>
                  <a:pt x="1423" y="960"/>
                </a:lnTo>
                <a:lnTo>
                  <a:pt x="1160" y="740"/>
                </a:lnTo>
                <a:lnTo>
                  <a:pt x="885" y="533"/>
                </a:lnTo>
                <a:lnTo>
                  <a:pt x="599" y="340"/>
                </a:lnTo>
                <a:lnTo>
                  <a:pt x="304" y="16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Line 21"/>
          <p:cNvSpPr/>
          <p:nvPr/>
        </p:nvSpPr>
        <p:spPr>
          <a:xfrm>
            <a:off x="3619440" y="3143160"/>
            <a:ext cx="135576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Line 22"/>
          <p:cNvSpPr/>
          <p:nvPr/>
        </p:nvSpPr>
        <p:spPr>
          <a:xfrm flipV="1">
            <a:off x="3619440" y="1796760"/>
            <a:ext cx="673200" cy="13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Freeform 23"/>
          <p:cNvSpPr/>
          <p:nvPr/>
        </p:nvSpPr>
        <p:spPr>
          <a:xfrm>
            <a:off x="3827520" y="2728800"/>
            <a:ext cx="255600" cy="615960"/>
          </a:xfrm>
          <a:custGeom>
            <a:avLst/>
            <a:gdLst/>
            <a:ahLst/>
            <a:rect l="l" t="t" r="r" b="b"/>
            <a:pathLst>
              <a:path w="1128" h="2716">
                <a:moveTo>
                  <a:pt x="924" y="2716"/>
                </a:moveTo>
                <a:lnTo>
                  <a:pt x="998" y="2543"/>
                </a:lnTo>
                <a:lnTo>
                  <a:pt x="1056" y="2366"/>
                </a:lnTo>
                <a:lnTo>
                  <a:pt x="1097" y="2183"/>
                </a:lnTo>
                <a:lnTo>
                  <a:pt x="1121" y="1998"/>
                </a:lnTo>
                <a:lnTo>
                  <a:pt x="1128" y="1811"/>
                </a:lnTo>
                <a:lnTo>
                  <a:pt x="1118" y="1624"/>
                </a:lnTo>
                <a:lnTo>
                  <a:pt x="1091" y="1439"/>
                </a:lnTo>
                <a:lnTo>
                  <a:pt x="1047" y="1257"/>
                </a:lnTo>
                <a:lnTo>
                  <a:pt x="987" y="1080"/>
                </a:lnTo>
                <a:lnTo>
                  <a:pt x="910" y="910"/>
                </a:lnTo>
                <a:lnTo>
                  <a:pt x="819" y="747"/>
                </a:lnTo>
                <a:lnTo>
                  <a:pt x="713" y="592"/>
                </a:lnTo>
                <a:lnTo>
                  <a:pt x="593" y="448"/>
                </a:lnTo>
                <a:lnTo>
                  <a:pt x="461" y="317"/>
                </a:lnTo>
                <a:lnTo>
                  <a:pt x="317" y="197"/>
                </a:lnTo>
                <a:lnTo>
                  <a:pt x="163" y="9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Oval 24"/>
          <p:cNvSpPr/>
          <p:nvPr/>
        </p:nvSpPr>
        <p:spPr>
          <a:xfrm>
            <a:off x="4906800" y="3730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Text Box 25"/>
          <p:cNvSpPr/>
          <p:nvPr/>
        </p:nvSpPr>
        <p:spPr>
          <a:xfrm>
            <a:off x="5211720" y="38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Text Box 26"/>
          <p:cNvSpPr/>
          <p:nvPr/>
        </p:nvSpPr>
        <p:spPr>
          <a:xfrm>
            <a:off x="4999680" y="3605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27"/>
          <p:cNvSpPr/>
          <p:nvPr/>
        </p:nvSpPr>
        <p:spPr>
          <a:xfrm>
            <a:off x="3929760" y="255096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Oval 28"/>
          <p:cNvSpPr/>
          <p:nvPr/>
        </p:nvSpPr>
        <p:spPr>
          <a:xfrm>
            <a:off x="356076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Oval 29"/>
          <p:cNvSpPr/>
          <p:nvPr/>
        </p:nvSpPr>
        <p:spPr>
          <a:xfrm>
            <a:off x="4227480" y="174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Line 30"/>
          <p:cNvSpPr/>
          <p:nvPr/>
        </p:nvSpPr>
        <p:spPr>
          <a:xfrm>
            <a:off x="3286080" y="5832360"/>
            <a:ext cx="22366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31"/>
          <p:cNvSpPr/>
          <p:nvPr/>
        </p:nvSpPr>
        <p:spPr>
          <a:xfrm>
            <a:off x="5348160" y="560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Text Box 32"/>
          <p:cNvSpPr/>
          <p:nvPr/>
        </p:nvSpPr>
        <p:spPr>
          <a:xfrm>
            <a:off x="5135400" y="5452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Oval 33"/>
          <p:cNvSpPr/>
          <p:nvPr/>
        </p:nvSpPr>
        <p:spPr>
          <a:xfrm>
            <a:off x="4251240" y="57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0F41-FD80-4134-B143-89D5EB8BF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0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2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2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3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5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7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0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1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2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8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9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0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3795840" y="5451480"/>
            <a:ext cx="460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новую плоскость П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пендикулярно П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сь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на произвольном рас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B64-DA64-473B-82C8-CF58D2A3C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Line 5"/>
          <p:cNvSpPr/>
          <p:nvPr/>
        </p:nvSpPr>
        <p:spPr>
          <a:xfrm>
            <a:off x="3079800" y="4108320"/>
            <a:ext cx="29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Line 6"/>
          <p:cNvSpPr/>
          <p:nvPr/>
        </p:nvSpPr>
        <p:spPr>
          <a:xfrm flipV="1">
            <a:off x="3619440" y="4660560"/>
            <a:ext cx="180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Line 7"/>
          <p:cNvSpPr/>
          <p:nvPr/>
        </p:nvSpPr>
        <p:spPr>
          <a:xfrm flipV="1">
            <a:off x="3619440" y="3143160"/>
            <a:ext cx="180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Freeform 8"/>
          <p:cNvSpPr/>
          <p:nvPr/>
        </p:nvSpPr>
        <p:spPr>
          <a:xfrm>
            <a:off x="4292640" y="1797120"/>
            <a:ext cx="831960" cy="2001600"/>
          </a:xfrm>
          <a:custGeom>
            <a:avLst/>
            <a:gdLst/>
            <a:ahLst/>
            <a:rect l="l" t="t" r="r" b="b"/>
            <a:pathLst>
              <a:path w="3666" h="8826">
                <a:moveTo>
                  <a:pt x="3006" y="8826"/>
                </a:moveTo>
                <a:lnTo>
                  <a:pt x="3148" y="8512"/>
                </a:lnTo>
                <a:lnTo>
                  <a:pt x="3273" y="8191"/>
                </a:lnTo>
                <a:lnTo>
                  <a:pt x="3382" y="7863"/>
                </a:lnTo>
                <a:lnTo>
                  <a:pt x="3473" y="7532"/>
                </a:lnTo>
                <a:lnTo>
                  <a:pt x="3547" y="7195"/>
                </a:lnTo>
                <a:lnTo>
                  <a:pt x="3604" y="6856"/>
                </a:lnTo>
                <a:lnTo>
                  <a:pt x="3642" y="6513"/>
                </a:lnTo>
                <a:lnTo>
                  <a:pt x="3663" y="6169"/>
                </a:lnTo>
                <a:lnTo>
                  <a:pt x="3666" y="5824"/>
                </a:lnTo>
                <a:lnTo>
                  <a:pt x="3651" y="5481"/>
                </a:lnTo>
                <a:lnTo>
                  <a:pt x="3618" y="5137"/>
                </a:lnTo>
                <a:lnTo>
                  <a:pt x="3568" y="4796"/>
                </a:lnTo>
                <a:lnTo>
                  <a:pt x="3500" y="4459"/>
                </a:lnTo>
                <a:lnTo>
                  <a:pt x="3415" y="4125"/>
                </a:lnTo>
                <a:lnTo>
                  <a:pt x="3312" y="3796"/>
                </a:lnTo>
                <a:lnTo>
                  <a:pt x="3192" y="3472"/>
                </a:lnTo>
                <a:lnTo>
                  <a:pt x="3057" y="3156"/>
                </a:lnTo>
                <a:lnTo>
                  <a:pt x="2904" y="2848"/>
                </a:lnTo>
                <a:lnTo>
                  <a:pt x="2736" y="2547"/>
                </a:lnTo>
                <a:lnTo>
                  <a:pt x="2553" y="2255"/>
                </a:lnTo>
                <a:lnTo>
                  <a:pt x="2354" y="1973"/>
                </a:lnTo>
                <a:lnTo>
                  <a:pt x="2141" y="1702"/>
                </a:lnTo>
                <a:lnTo>
                  <a:pt x="1915" y="1443"/>
                </a:lnTo>
                <a:lnTo>
                  <a:pt x="1676" y="1195"/>
                </a:lnTo>
                <a:lnTo>
                  <a:pt x="1423" y="960"/>
                </a:lnTo>
                <a:lnTo>
                  <a:pt x="1160" y="740"/>
                </a:lnTo>
                <a:lnTo>
                  <a:pt x="885" y="533"/>
                </a:lnTo>
                <a:lnTo>
                  <a:pt x="599" y="340"/>
                </a:lnTo>
                <a:lnTo>
                  <a:pt x="304" y="16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Line 9"/>
          <p:cNvSpPr/>
          <p:nvPr/>
        </p:nvSpPr>
        <p:spPr>
          <a:xfrm>
            <a:off x="3619440" y="3143160"/>
            <a:ext cx="135576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Line 10"/>
          <p:cNvSpPr/>
          <p:nvPr/>
        </p:nvSpPr>
        <p:spPr>
          <a:xfrm flipV="1">
            <a:off x="3619440" y="1796760"/>
            <a:ext cx="673200" cy="13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Line 11"/>
          <p:cNvSpPr/>
          <p:nvPr/>
        </p:nvSpPr>
        <p:spPr>
          <a:xfrm>
            <a:off x="4292640" y="1797120"/>
            <a:ext cx="1440" cy="403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Line 12"/>
          <p:cNvSpPr/>
          <p:nvPr/>
        </p:nvSpPr>
        <p:spPr>
          <a:xfrm>
            <a:off x="3286080" y="5832360"/>
            <a:ext cx="2236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Line 13"/>
          <p:cNvSpPr/>
          <p:nvPr/>
        </p:nvSpPr>
        <p:spPr>
          <a:xfrm>
            <a:off x="4975200" y="3798720"/>
            <a:ext cx="1440" cy="203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Freeform 14"/>
          <p:cNvSpPr/>
          <p:nvPr/>
        </p:nvSpPr>
        <p:spPr>
          <a:xfrm>
            <a:off x="3827520" y="2728800"/>
            <a:ext cx="255600" cy="615960"/>
          </a:xfrm>
          <a:custGeom>
            <a:avLst/>
            <a:gdLst/>
            <a:ahLst/>
            <a:rect l="l" t="t" r="r" b="b"/>
            <a:pathLst>
              <a:path w="1128" h="2716">
                <a:moveTo>
                  <a:pt x="924" y="2716"/>
                </a:moveTo>
                <a:lnTo>
                  <a:pt x="998" y="2543"/>
                </a:lnTo>
                <a:lnTo>
                  <a:pt x="1056" y="2366"/>
                </a:lnTo>
                <a:lnTo>
                  <a:pt x="1097" y="2183"/>
                </a:lnTo>
                <a:lnTo>
                  <a:pt x="1121" y="1998"/>
                </a:lnTo>
                <a:lnTo>
                  <a:pt x="1128" y="1811"/>
                </a:lnTo>
                <a:lnTo>
                  <a:pt x="1118" y="1624"/>
                </a:lnTo>
                <a:lnTo>
                  <a:pt x="1091" y="1439"/>
                </a:lnTo>
                <a:lnTo>
                  <a:pt x="1047" y="1257"/>
                </a:lnTo>
                <a:lnTo>
                  <a:pt x="987" y="1080"/>
                </a:lnTo>
                <a:lnTo>
                  <a:pt x="910" y="910"/>
                </a:lnTo>
                <a:lnTo>
                  <a:pt x="819" y="747"/>
                </a:lnTo>
                <a:lnTo>
                  <a:pt x="713" y="592"/>
                </a:lnTo>
                <a:lnTo>
                  <a:pt x="593" y="448"/>
                </a:lnTo>
                <a:lnTo>
                  <a:pt x="461" y="317"/>
                </a:lnTo>
                <a:lnTo>
                  <a:pt x="317" y="197"/>
                </a:lnTo>
                <a:lnTo>
                  <a:pt x="163" y="9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Text Box 15"/>
          <p:cNvSpPr/>
          <p:nvPr/>
        </p:nvSpPr>
        <p:spPr>
          <a:xfrm>
            <a:off x="3036240" y="36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Text Box 16"/>
          <p:cNvSpPr/>
          <p:nvPr/>
        </p:nvSpPr>
        <p:spPr>
          <a:xfrm>
            <a:off x="3184200" y="3825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Oval 17"/>
          <p:cNvSpPr/>
          <p:nvPr/>
        </p:nvSpPr>
        <p:spPr>
          <a:xfrm>
            <a:off x="4919760" y="5772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Text Box 18"/>
          <p:cNvSpPr/>
          <p:nvPr/>
        </p:nvSpPr>
        <p:spPr>
          <a:xfrm>
            <a:off x="4795560" y="599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Text Box 19"/>
          <p:cNvSpPr/>
          <p:nvPr/>
        </p:nvSpPr>
        <p:spPr>
          <a:xfrm>
            <a:off x="4583880" y="5850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Oval 20"/>
          <p:cNvSpPr/>
          <p:nvPr/>
        </p:nvSpPr>
        <p:spPr>
          <a:xfrm>
            <a:off x="4906800" y="3730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Text Box 21"/>
          <p:cNvSpPr/>
          <p:nvPr/>
        </p:nvSpPr>
        <p:spPr>
          <a:xfrm>
            <a:off x="5211720" y="38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Text Box 22"/>
          <p:cNvSpPr/>
          <p:nvPr/>
        </p:nvSpPr>
        <p:spPr>
          <a:xfrm>
            <a:off x="4999680" y="3605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Oval 23"/>
          <p:cNvSpPr/>
          <p:nvPr/>
        </p:nvSpPr>
        <p:spPr>
          <a:xfrm>
            <a:off x="356076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Text Box 24"/>
          <p:cNvSpPr/>
          <p:nvPr/>
        </p:nvSpPr>
        <p:spPr>
          <a:xfrm>
            <a:off x="3300120" y="31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Text Box 25"/>
          <p:cNvSpPr/>
          <p:nvPr/>
        </p:nvSpPr>
        <p:spPr>
          <a:xfrm>
            <a:off x="3929760" y="255096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Oval 26"/>
          <p:cNvSpPr/>
          <p:nvPr/>
        </p:nvSpPr>
        <p:spPr>
          <a:xfrm>
            <a:off x="4237200" y="57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Text Box 27"/>
          <p:cNvSpPr/>
          <p:nvPr/>
        </p:nvSpPr>
        <p:spPr>
          <a:xfrm>
            <a:off x="5348160" y="560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Text Box 28"/>
          <p:cNvSpPr/>
          <p:nvPr/>
        </p:nvSpPr>
        <p:spPr>
          <a:xfrm>
            <a:off x="5135400" y="5452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Text Box 29"/>
          <p:cNvSpPr/>
          <p:nvPr/>
        </p:nvSpPr>
        <p:spPr>
          <a:xfrm>
            <a:off x="3369960" y="63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Text Box 30"/>
          <p:cNvSpPr/>
          <p:nvPr/>
        </p:nvSpPr>
        <p:spPr>
          <a:xfrm>
            <a:off x="3198600" y="62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Text Box 31"/>
          <p:cNvSpPr/>
          <p:nvPr/>
        </p:nvSpPr>
        <p:spPr>
          <a:xfrm>
            <a:off x="4113000" y="599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Text Box 32"/>
          <p:cNvSpPr/>
          <p:nvPr/>
        </p:nvSpPr>
        <p:spPr>
          <a:xfrm>
            <a:off x="3900960" y="5843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Oval 33"/>
          <p:cNvSpPr/>
          <p:nvPr/>
        </p:nvSpPr>
        <p:spPr>
          <a:xfrm>
            <a:off x="4227480" y="174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Text Box 34"/>
          <p:cNvSpPr/>
          <p:nvPr/>
        </p:nvSpPr>
        <p:spPr>
          <a:xfrm>
            <a:off x="3966840" y="179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Text Box 35"/>
          <p:cNvSpPr/>
          <p:nvPr/>
        </p:nvSpPr>
        <p:spPr>
          <a:xfrm>
            <a:off x="3754800" y="158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Text Box 36"/>
          <p:cNvSpPr/>
          <p:nvPr/>
        </p:nvSpPr>
        <p:spPr>
          <a:xfrm>
            <a:off x="308736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A04-4EA0-461A-8A5D-EA9E332C3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Text Box 4"/>
          <p:cNvSpPr/>
          <p:nvPr/>
        </p:nvSpPr>
        <p:spPr>
          <a:xfrm>
            <a:off x="182520" y="2146320"/>
            <a:ext cx="877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м методом решаются две основ-ные задачи, рассмотренные в предыдущих мето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ы решения основных задач анало-гич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4F39-2851-4BCC-A5BC-BD9139197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Line 9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Line 10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Line 11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Line 12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Line 13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Text Box 24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Text Box 25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Oval 32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Text Box 34"/>
          <p:cNvSpPr/>
          <p:nvPr/>
        </p:nvSpPr>
        <p:spPr>
          <a:xfrm>
            <a:off x="2826000" y="449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Oval 40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Text Box 42"/>
          <p:cNvSpPr/>
          <p:nvPr/>
        </p:nvSpPr>
        <p:spPr>
          <a:xfrm>
            <a:off x="3449880" y="22003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Text Box 43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Text Box 44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Oval 45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Text Box 46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Text Box 47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Oval 60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Text Box 61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Text Box 62"/>
          <p:cNvSpPr/>
          <p:nvPr/>
        </p:nvSpPr>
        <p:spPr>
          <a:xfrm>
            <a:off x="4834440" y="401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D6E0-A4ED-4808-877E-605D0A520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Oval 12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Text Box 15"/>
          <p:cNvSpPr/>
          <p:nvPr/>
        </p:nvSpPr>
        <p:spPr>
          <a:xfrm>
            <a:off x="3449880" y="22003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Text Box 17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Oval 18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Text Box 19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Text Box 20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Oval 21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22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23"/>
          <p:cNvSpPr/>
          <p:nvPr/>
        </p:nvSpPr>
        <p:spPr>
          <a:xfrm>
            <a:off x="4834440" y="401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24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25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Text Box 26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Oval 27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Text Box 28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Text Box 29"/>
          <p:cNvSpPr/>
          <p:nvPr/>
        </p:nvSpPr>
        <p:spPr>
          <a:xfrm>
            <a:off x="2826000" y="44956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Text Box 31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EB9D-3FF3-4C27-9640-A2BB70CC0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Text Box 13"/>
          <p:cNvSpPr/>
          <p:nvPr/>
        </p:nvSpPr>
        <p:spPr>
          <a:xfrm>
            <a:off x="3449880" y="22003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Text Box 14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Oval 15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Text Box 16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Text Box 17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Oval 18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Text Box 19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Text Box 20"/>
          <p:cNvSpPr/>
          <p:nvPr/>
        </p:nvSpPr>
        <p:spPr>
          <a:xfrm>
            <a:off x="4834440" y="401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Text Box 21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Line 22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Text Box 23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Oval 24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5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6"/>
          <p:cNvSpPr/>
          <p:nvPr/>
        </p:nvSpPr>
        <p:spPr>
          <a:xfrm>
            <a:off x="2826000" y="44956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7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Line 28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Line 29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Oval 30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9DDB-CB00-4423-AB8B-3BB2142A8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Text Box 15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Text Box 16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Oval 17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Text Box 18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19"/>
          <p:cNvSpPr/>
          <p:nvPr/>
        </p:nvSpPr>
        <p:spPr>
          <a:xfrm>
            <a:off x="4834440" y="4010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 Box 20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Line 21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Text Box 22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Oval 23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Line 27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Line 28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Oval 29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Freeform 30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Line 31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Oval 32"/>
          <p:cNvSpPr/>
          <p:nvPr/>
        </p:nvSpPr>
        <p:spPr>
          <a:xfrm>
            <a:off x="5370480" y="4894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34"/>
          <p:cNvSpPr/>
          <p:nvPr/>
        </p:nvSpPr>
        <p:spPr>
          <a:xfrm>
            <a:off x="5460120" y="4886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35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Oval 36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37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38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Text Box 39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Text Box 40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Text Box 41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Text Box 42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Text Box 43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699-47D8-4008-B874-C261B7D83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14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Text Box 15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Text Box 17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Text Box 18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Text Box 19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Line 20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Text Box 21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Oval 22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26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Line 27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Oval 28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Freeform 29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Line 30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Oval 31"/>
          <p:cNvSpPr/>
          <p:nvPr/>
        </p:nvSpPr>
        <p:spPr>
          <a:xfrm>
            <a:off x="5370480" y="4894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Text Box 32"/>
          <p:cNvSpPr/>
          <p:nvPr/>
        </p:nvSpPr>
        <p:spPr>
          <a:xfrm>
            <a:off x="5460120" y="4886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Text Box 33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Oval 34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Line 35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Oval 36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Text Box 37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Text Box 38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Text Box 39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Text Box 40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Text Box 41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Text Box 42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Text Box 43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220-42BB-4012-8800-4D542DB9F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4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5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6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Text Box 17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8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9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Text Box 20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Oval 21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25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26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Oval 27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Freeform 28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29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31"/>
          <p:cNvSpPr/>
          <p:nvPr/>
        </p:nvSpPr>
        <p:spPr>
          <a:xfrm>
            <a:off x="5460120" y="4886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32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Oval 33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Line 34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Oval 35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36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Oval 37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Text Box 38"/>
          <p:cNvSpPr/>
          <p:nvPr/>
        </p:nvSpPr>
        <p:spPr>
          <a:xfrm>
            <a:off x="5488560" y="40244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Text Box 39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Oval 40"/>
          <p:cNvSpPr/>
          <p:nvPr/>
        </p:nvSpPr>
        <p:spPr>
          <a:xfrm>
            <a:off x="5370480" y="4894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Text Box 41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Text Box 42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Text Box 43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Text Box 44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Text Box 45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Text Box 46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Text Box 47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FAA-643C-474C-8621-5A8723F17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Text Box 12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Text Box 13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Text Box 14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Text Box 15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Text Box 16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17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Text Box 18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20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21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Oval 22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Freeform 23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Line 24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Text Box 25"/>
          <p:cNvSpPr/>
          <p:nvPr/>
        </p:nvSpPr>
        <p:spPr>
          <a:xfrm>
            <a:off x="5460120" y="4886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Text Box 26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Oval 27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Line 28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Oval 29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Line 30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Text Box 32"/>
          <p:cNvSpPr/>
          <p:nvPr/>
        </p:nvSpPr>
        <p:spPr>
          <a:xfrm>
            <a:off x="5488560" y="40244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Text Box 33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Oval 34"/>
          <p:cNvSpPr/>
          <p:nvPr/>
        </p:nvSpPr>
        <p:spPr>
          <a:xfrm>
            <a:off x="5370480" y="4894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Text Box 35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Text Box 36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Text Box 37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Text Box 38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Text Box 39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Text Box 40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Text Box 41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Line 42"/>
          <p:cNvSpPr/>
          <p:nvPr/>
        </p:nvSpPr>
        <p:spPr>
          <a:xfrm>
            <a:off x="3384720" y="2502000"/>
            <a:ext cx="2039760" cy="1560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Oval 43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Oval 44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E4B7-CFF2-4514-B9BD-31F391BC0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Text Box 12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Text Box 13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Text Box 14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15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Text Box 16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17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Text Box 18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9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20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Oval 21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Freeform 22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23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24"/>
          <p:cNvSpPr/>
          <p:nvPr/>
        </p:nvSpPr>
        <p:spPr>
          <a:xfrm>
            <a:off x="5460120" y="4886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25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Oval 26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27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Oval 28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Line 29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Text Box 30"/>
          <p:cNvSpPr/>
          <p:nvPr/>
        </p:nvSpPr>
        <p:spPr>
          <a:xfrm>
            <a:off x="5488560" y="40244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Text Box 31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Oval 32"/>
          <p:cNvSpPr/>
          <p:nvPr/>
        </p:nvSpPr>
        <p:spPr>
          <a:xfrm>
            <a:off x="5370480" y="4894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33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34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35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Text Box 36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37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38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39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Line 40"/>
          <p:cNvSpPr/>
          <p:nvPr/>
        </p:nvSpPr>
        <p:spPr>
          <a:xfrm>
            <a:off x="3384720" y="2502000"/>
            <a:ext cx="203976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Oval 41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Oval 42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Freeform 43"/>
          <p:cNvSpPr/>
          <p:nvPr/>
        </p:nvSpPr>
        <p:spPr>
          <a:xfrm>
            <a:off x="4351320" y="3489480"/>
            <a:ext cx="324000" cy="957240"/>
          </a:xfrm>
          <a:custGeom>
            <a:avLst/>
            <a:gdLst/>
            <a:ahLst/>
            <a:rect l="l" t="t" r="r" b="b"/>
            <a:pathLst>
              <a:path w="1428" h="4218">
                <a:moveTo>
                  <a:pt x="1428" y="0"/>
                </a:moveTo>
                <a:lnTo>
                  <a:pt x="1224" y="282"/>
                </a:lnTo>
                <a:lnTo>
                  <a:pt x="1033" y="574"/>
                </a:lnTo>
                <a:lnTo>
                  <a:pt x="858" y="875"/>
                </a:lnTo>
                <a:lnTo>
                  <a:pt x="697" y="1184"/>
                </a:lnTo>
                <a:lnTo>
                  <a:pt x="553" y="1502"/>
                </a:lnTo>
                <a:lnTo>
                  <a:pt x="425" y="1826"/>
                </a:lnTo>
                <a:lnTo>
                  <a:pt x="313" y="2157"/>
                </a:lnTo>
                <a:lnTo>
                  <a:pt x="218" y="2493"/>
                </a:lnTo>
                <a:lnTo>
                  <a:pt x="140" y="2832"/>
                </a:lnTo>
                <a:lnTo>
                  <a:pt x="79" y="3175"/>
                </a:lnTo>
                <a:lnTo>
                  <a:pt x="36" y="3521"/>
                </a:lnTo>
                <a:lnTo>
                  <a:pt x="9" y="3869"/>
                </a:lnTo>
                <a:lnTo>
                  <a:pt x="0" y="42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44"/>
          <p:cNvSpPr/>
          <p:nvPr/>
        </p:nvSpPr>
        <p:spPr>
          <a:xfrm rot="2300400">
            <a:off x="4158000" y="2971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45"/>
          <p:cNvSpPr/>
          <p:nvPr/>
        </p:nvSpPr>
        <p:spPr>
          <a:xfrm>
            <a:off x="4059000" y="3753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082-893C-4EE9-9ECC-F5E749382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0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5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2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4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5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6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7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8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9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0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1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2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3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6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7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8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9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0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1"/>
          <p:cNvSpPr/>
          <p:nvPr/>
        </p:nvSpPr>
        <p:spPr>
          <a:xfrm flipV="1">
            <a:off x="5460840" y="4078440"/>
            <a:ext cx="971640" cy="89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2"/>
          <p:cNvSpPr/>
          <p:nvPr/>
        </p:nvSpPr>
        <p:spPr>
          <a:xfrm flipV="1">
            <a:off x="6432480" y="3081240"/>
            <a:ext cx="1087560" cy="99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63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4"/>
          <p:cNvSpPr/>
          <p:nvPr/>
        </p:nvSpPr>
        <p:spPr>
          <a:xfrm flipV="1">
            <a:off x="6281640" y="4006800"/>
            <a:ext cx="8568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5"/>
          <p:cNvSpPr/>
          <p:nvPr/>
        </p:nvSpPr>
        <p:spPr>
          <a:xfrm>
            <a:off x="6281640" y="4084560"/>
            <a:ext cx="6516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6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7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"/>
          <p:cNvSpPr/>
          <p:nvPr/>
        </p:nvSpPr>
        <p:spPr>
          <a:xfrm>
            <a:off x="3587760" y="5581800"/>
            <a:ext cx="48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м проецирование точки А на новую плоскость проекции 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проведя перпендикуляр из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A02-1E37-41B6-92D6-5A8F6DB5E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2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3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4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5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6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Line 17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8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Line 19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Line 20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Oval 21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Freeform 22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Line 23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Oval 26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Line 27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Oval 28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29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33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34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35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36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37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38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Text Box 39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Line 40"/>
          <p:cNvSpPr/>
          <p:nvPr/>
        </p:nvSpPr>
        <p:spPr>
          <a:xfrm>
            <a:off x="3384720" y="2502000"/>
            <a:ext cx="203976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Oval 41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Oval 42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Freeform 43"/>
          <p:cNvSpPr/>
          <p:nvPr/>
        </p:nvSpPr>
        <p:spPr>
          <a:xfrm>
            <a:off x="4351320" y="3489480"/>
            <a:ext cx="324000" cy="957240"/>
          </a:xfrm>
          <a:custGeom>
            <a:avLst/>
            <a:gdLst/>
            <a:ahLst/>
            <a:rect l="l" t="t" r="r" b="b"/>
            <a:pathLst>
              <a:path w="1428" h="4218">
                <a:moveTo>
                  <a:pt x="1428" y="0"/>
                </a:moveTo>
                <a:lnTo>
                  <a:pt x="1224" y="282"/>
                </a:lnTo>
                <a:lnTo>
                  <a:pt x="1033" y="574"/>
                </a:lnTo>
                <a:lnTo>
                  <a:pt x="858" y="875"/>
                </a:lnTo>
                <a:lnTo>
                  <a:pt x="697" y="1184"/>
                </a:lnTo>
                <a:lnTo>
                  <a:pt x="553" y="1502"/>
                </a:lnTo>
                <a:lnTo>
                  <a:pt x="425" y="1826"/>
                </a:lnTo>
                <a:lnTo>
                  <a:pt x="313" y="2157"/>
                </a:lnTo>
                <a:lnTo>
                  <a:pt x="218" y="2493"/>
                </a:lnTo>
                <a:lnTo>
                  <a:pt x="140" y="2832"/>
                </a:lnTo>
                <a:lnTo>
                  <a:pt x="79" y="3175"/>
                </a:lnTo>
                <a:lnTo>
                  <a:pt x="36" y="3521"/>
                </a:lnTo>
                <a:lnTo>
                  <a:pt x="9" y="3869"/>
                </a:lnTo>
                <a:lnTo>
                  <a:pt x="0" y="42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Text Box 44"/>
          <p:cNvSpPr/>
          <p:nvPr/>
        </p:nvSpPr>
        <p:spPr>
          <a:xfrm rot="2300400">
            <a:off x="4158000" y="2971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Text Box 45"/>
          <p:cNvSpPr/>
          <p:nvPr/>
        </p:nvSpPr>
        <p:spPr>
          <a:xfrm>
            <a:off x="4059000" y="3753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Text Box 46"/>
          <p:cNvSpPr/>
          <p:nvPr/>
        </p:nvSpPr>
        <p:spPr>
          <a:xfrm>
            <a:off x="5638680" y="553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Text Box 47"/>
          <p:cNvSpPr/>
          <p:nvPr/>
        </p:nvSpPr>
        <p:spPr>
          <a:xfrm>
            <a:off x="5464080" y="531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Line 48"/>
          <p:cNvSpPr/>
          <p:nvPr/>
        </p:nvSpPr>
        <p:spPr>
          <a:xfrm>
            <a:off x="5424480" y="4710240"/>
            <a:ext cx="0" cy="88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Oval 49"/>
          <p:cNvSpPr/>
          <p:nvPr/>
        </p:nvSpPr>
        <p:spPr>
          <a:xfrm>
            <a:off x="5370480" y="4881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54"/>
          <p:cNvSpPr/>
          <p:nvPr/>
        </p:nvSpPr>
        <p:spPr>
          <a:xfrm>
            <a:off x="624816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Text Box 55"/>
          <p:cNvSpPr/>
          <p:nvPr/>
        </p:nvSpPr>
        <p:spPr>
          <a:xfrm>
            <a:off x="5488560" y="402444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Text Box 56"/>
          <p:cNvSpPr/>
          <p:nvPr/>
        </p:nvSpPr>
        <p:spPr>
          <a:xfrm>
            <a:off x="6767280" y="423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57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Text Box 58"/>
          <p:cNvSpPr/>
          <p:nvPr/>
        </p:nvSpPr>
        <p:spPr>
          <a:xfrm>
            <a:off x="6262560" y="507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Text Box 59"/>
          <p:cNvSpPr/>
          <p:nvPr/>
        </p:nvSpPr>
        <p:spPr>
          <a:xfrm>
            <a:off x="5460840" y="4886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Text Box 60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DD81-349E-46F5-951F-A20B95A63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5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6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Line 7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Line 8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Line 9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Text Box 10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Text Box 11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Text Box 12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Text Box 13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Text Box 14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Text Box 15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Text Box 16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Line 17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Text Box 18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Line 19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Line 20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Oval 21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Freeform 22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Line 23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Oval 26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Line 27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Oval 28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29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Text Box 30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Text Box 31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Text Box 32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Text Box 33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Text Box 34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Text Box 35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Text Box 36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Line 37"/>
          <p:cNvSpPr/>
          <p:nvPr/>
        </p:nvSpPr>
        <p:spPr>
          <a:xfrm>
            <a:off x="3384720" y="2502000"/>
            <a:ext cx="203976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Oval 39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Freeform 40"/>
          <p:cNvSpPr/>
          <p:nvPr/>
        </p:nvSpPr>
        <p:spPr>
          <a:xfrm>
            <a:off x="4351320" y="3489480"/>
            <a:ext cx="324000" cy="957240"/>
          </a:xfrm>
          <a:custGeom>
            <a:avLst/>
            <a:gdLst/>
            <a:ahLst/>
            <a:rect l="l" t="t" r="r" b="b"/>
            <a:pathLst>
              <a:path w="1428" h="4218">
                <a:moveTo>
                  <a:pt x="1428" y="0"/>
                </a:moveTo>
                <a:lnTo>
                  <a:pt x="1224" y="282"/>
                </a:lnTo>
                <a:lnTo>
                  <a:pt x="1033" y="574"/>
                </a:lnTo>
                <a:lnTo>
                  <a:pt x="858" y="875"/>
                </a:lnTo>
                <a:lnTo>
                  <a:pt x="697" y="1184"/>
                </a:lnTo>
                <a:lnTo>
                  <a:pt x="553" y="1502"/>
                </a:lnTo>
                <a:lnTo>
                  <a:pt x="425" y="1826"/>
                </a:lnTo>
                <a:lnTo>
                  <a:pt x="313" y="2157"/>
                </a:lnTo>
                <a:lnTo>
                  <a:pt x="218" y="2493"/>
                </a:lnTo>
                <a:lnTo>
                  <a:pt x="140" y="2832"/>
                </a:lnTo>
                <a:lnTo>
                  <a:pt x="79" y="3175"/>
                </a:lnTo>
                <a:lnTo>
                  <a:pt x="36" y="3521"/>
                </a:lnTo>
                <a:lnTo>
                  <a:pt x="9" y="3869"/>
                </a:lnTo>
                <a:lnTo>
                  <a:pt x="0" y="42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41"/>
          <p:cNvSpPr/>
          <p:nvPr/>
        </p:nvSpPr>
        <p:spPr>
          <a:xfrm rot="2300400">
            <a:off x="4158000" y="2971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42"/>
          <p:cNvSpPr/>
          <p:nvPr/>
        </p:nvSpPr>
        <p:spPr>
          <a:xfrm>
            <a:off x="4059000" y="3753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43"/>
          <p:cNvSpPr/>
          <p:nvPr/>
        </p:nvSpPr>
        <p:spPr>
          <a:xfrm>
            <a:off x="5638680" y="553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44"/>
          <p:cNvSpPr/>
          <p:nvPr/>
        </p:nvSpPr>
        <p:spPr>
          <a:xfrm>
            <a:off x="5464080" y="531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45"/>
          <p:cNvSpPr/>
          <p:nvPr/>
        </p:nvSpPr>
        <p:spPr>
          <a:xfrm>
            <a:off x="5424480" y="4710240"/>
            <a:ext cx="0" cy="88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Oval 46"/>
          <p:cNvSpPr/>
          <p:nvPr/>
        </p:nvSpPr>
        <p:spPr>
          <a:xfrm>
            <a:off x="5370480" y="4881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50"/>
          <p:cNvSpPr/>
          <p:nvPr/>
        </p:nvSpPr>
        <p:spPr>
          <a:xfrm flipV="1">
            <a:off x="5424480" y="1494000"/>
            <a:ext cx="1440" cy="25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51"/>
          <p:cNvSpPr/>
          <p:nvPr/>
        </p:nvSpPr>
        <p:spPr>
          <a:xfrm flipV="1">
            <a:off x="5424480" y="1265040"/>
            <a:ext cx="144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Oval 52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Text Box 58"/>
          <p:cNvSpPr/>
          <p:nvPr/>
        </p:nvSpPr>
        <p:spPr>
          <a:xfrm>
            <a:off x="624816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Text Box 59"/>
          <p:cNvSpPr/>
          <p:nvPr/>
        </p:nvSpPr>
        <p:spPr>
          <a:xfrm>
            <a:off x="5488560" y="402444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Text Box 60"/>
          <p:cNvSpPr/>
          <p:nvPr/>
        </p:nvSpPr>
        <p:spPr>
          <a:xfrm>
            <a:off x="6767280" y="423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Text Box 61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Text Box 62"/>
          <p:cNvSpPr/>
          <p:nvPr/>
        </p:nvSpPr>
        <p:spPr>
          <a:xfrm>
            <a:off x="6262560" y="507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Text Box 63"/>
          <p:cNvSpPr/>
          <p:nvPr/>
        </p:nvSpPr>
        <p:spPr>
          <a:xfrm>
            <a:off x="5460840" y="4886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Text Box 64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74C5-8A3D-40CB-850E-180ACD6B7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Line 6"/>
          <p:cNvSpPr/>
          <p:nvPr/>
        </p:nvSpPr>
        <p:spPr>
          <a:xfrm>
            <a:off x="2932200" y="4446720"/>
            <a:ext cx="330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7"/>
          <p:cNvSpPr/>
          <p:nvPr/>
        </p:nvSpPr>
        <p:spPr>
          <a:xfrm>
            <a:off x="3384720" y="2502000"/>
            <a:ext cx="149508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Line 8"/>
          <p:cNvSpPr/>
          <p:nvPr/>
        </p:nvSpPr>
        <p:spPr>
          <a:xfrm>
            <a:off x="3384720" y="2502000"/>
            <a:ext cx="1440" cy="243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9"/>
          <p:cNvSpPr/>
          <p:nvPr/>
        </p:nvSpPr>
        <p:spPr>
          <a:xfrm>
            <a:off x="4879800" y="4062240"/>
            <a:ext cx="1800" cy="226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Line 10"/>
          <p:cNvSpPr/>
          <p:nvPr/>
        </p:nvSpPr>
        <p:spPr>
          <a:xfrm>
            <a:off x="3424320" y="4933800"/>
            <a:ext cx="1495440" cy="13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Text Box 11"/>
          <p:cNvSpPr/>
          <p:nvPr/>
        </p:nvSpPr>
        <p:spPr>
          <a:xfrm>
            <a:off x="2907720" y="402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Text Box 12"/>
          <p:cNvSpPr/>
          <p:nvPr/>
        </p:nvSpPr>
        <p:spPr>
          <a:xfrm>
            <a:off x="3055680" y="4165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Text Box 13"/>
          <p:cNvSpPr/>
          <p:nvPr/>
        </p:nvSpPr>
        <p:spPr>
          <a:xfrm>
            <a:off x="5138640" y="645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4"/>
          <p:cNvSpPr/>
          <p:nvPr/>
        </p:nvSpPr>
        <p:spPr>
          <a:xfrm>
            <a:off x="4926240" y="623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Text Box 15"/>
          <p:cNvSpPr/>
          <p:nvPr/>
        </p:nvSpPr>
        <p:spPr>
          <a:xfrm>
            <a:off x="5046480" y="42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Text Box 16"/>
          <p:cNvSpPr/>
          <p:nvPr/>
        </p:nvSpPr>
        <p:spPr>
          <a:xfrm>
            <a:off x="4848480" y="39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17"/>
          <p:cNvSpPr/>
          <p:nvPr/>
        </p:nvSpPr>
        <p:spPr>
          <a:xfrm>
            <a:off x="3124080" y="172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Line 18"/>
          <p:cNvSpPr/>
          <p:nvPr/>
        </p:nvSpPr>
        <p:spPr>
          <a:xfrm flipV="1">
            <a:off x="3381480" y="1647360"/>
            <a:ext cx="0" cy="11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Text Box 19"/>
          <p:cNvSpPr/>
          <p:nvPr/>
        </p:nvSpPr>
        <p:spPr>
          <a:xfrm>
            <a:off x="3021480" y="15429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0"/>
          <p:cNvSpPr/>
          <p:nvPr/>
        </p:nvSpPr>
        <p:spPr>
          <a:xfrm>
            <a:off x="3384720" y="4933800"/>
            <a:ext cx="2039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1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Oval 22"/>
          <p:cNvSpPr/>
          <p:nvPr/>
        </p:nvSpPr>
        <p:spPr>
          <a:xfrm>
            <a:off x="3336840" y="4865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Freeform 23"/>
          <p:cNvSpPr/>
          <p:nvPr/>
        </p:nvSpPr>
        <p:spPr>
          <a:xfrm>
            <a:off x="4879800" y="4933800"/>
            <a:ext cx="544680" cy="1389240"/>
          </a:xfrm>
          <a:custGeom>
            <a:avLst/>
            <a:gdLst/>
            <a:ahLst/>
            <a:rect l="l" t="t" r="r" b="b"/>
            <a:pathLst>
              <a:path w="2403" h="6122">
                <a:moveTo>
                  <a:pt x="0" y="6122"/>
                </a:moveTo>
                <a:lnTo>
                  <a:pt x="249" y="5843"/>
                </a:lnTo>
                <a:lnTo>
                  <a:pt x="485" y="5553"/>
                </a:lnTo>
                <a:lnTo>
                  <a:pt x="711" y="5254"/>
                </a:lnTo>
                <a:lnTo>
                  <a:pt x="922" y="4946"/>
                </a:lnTo>
                <a:lnTo>
                  <a:pt x="1121" y="4629"/>
                </a:lnTo>
                <a:lnTo>
                  <a:pt x="1307" y="4305"/>
                </a:lnTo>
                <a:lnTo>
                  <a:pt x="1478" y="3972"/>
                </a:lnTo>
                <a:lnTo>
                  <a:pt x="1637" y="3634"/>
                </a:lnTo>
                <a:lnTo>
                  <a:pt x="1781" y="3289"/>
                </a:lnTo>
                <a:lnTo>
                  <a:pt x="1910" y="2938"/>
                </a:lnTo>
                <a:lnTo>
                  <a:pt x="2025" y="2581"/>
                </a:lnTo>
                <a:lnTo>
                  <a:pt x="2125" y="2221"/>
                </a:lnTo>
                <a:lnTo>
                  <a:pt x="2210" y="1856"/>
                </a:lnTo>
                <a:lnTo>
                  <a:pt x="2280" y="1489"/>
                </a:lnTo>
                <a:lnTo>
                  <a:pt x="2333" y="1119"/>
                </a:lnTo>
                <a:lnTo>
                  <a:pt x="2372" y="747"/>
                </a:lnTo>
                <a:lnTo>
                  <a:pt x="2396" y="373"/>
                </a:lnTo>
                <a:lnTo>
                  <a:pt x="2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4"/>
          <p:cNvSpPr/>
          <p:nvPr/>
        </p:nvSpPr>
        <p:spPr>
          <a:xfrm>
            <a:off x="5424480" y="4933800"/>
            <a:ext cx="441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Oval 27"/>
          <p:cNvSpPr/>
          <p:nvPr/>
        </p:nvSpPr>
        <p:spPr>
          <a:xfrm>
            <a:off x="4836960" y="62467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28"/>
          <p:cNvSpPr/>
          <p:nvPr/>
        </p:nvSpPr>
        <p:spPr>
          <a:xfrm>
            <a:off x="4879800" y="4062240"/>
            <a:ext cx="94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Oval 29"/>
          <p:cNvSpPr/>
          <p:nvPr/>
        </p:nvSpPr>
        <p:spPr>
          <a:xfrm>
            <a:off x="4822920" y="401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30"/>
          <p:cNvSpPr/>
          <p:nvPr/>
        </p:nvSpPr>
        <p:spPr>
          <a:xfrm flipV="1">
            <a:off x="5424480" y="4061880"/>
            <a:ext cx="144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Text Box 31"/>
          <p:cNvSpPr/>
          <p:nvPr/>
        </p:nvSpPr>
        <p:spPr>
          <a:xfrm>
            <a:off x="420048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Text Box 32"/>
          <p:cNvSpPr/>
          <p:nvPr/>
        </p:nvSpPr>
        <p:spPr>
          <a:xfrm>
            <a:off x="3454920" y="22003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33"/>
          <p:cNvSpPr/>
          <p:nvPr/>
        </p:nvSpPr>
        <p:spPr>
          <a:xfrm>
            <a:off x="3662280" y="24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Text Box 34"/>
          <p:cNvSpPr/>
          <p:nvPr/>
        </p:nvSpPr>
        <p:spPr>
          <a:xfrm>
            <a:off x="3443040" y="467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35"/>
          <p:cNvSpPr/>
          <p:nvPr/>
        </p:nvSpPr>
        <p:spPr>
          <a:xfrm>
            <a:off x="2826360" y="4495680"/>
            <a:ext cx="13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i  ≡ 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Text Box 36"/>
          <p:cNvSpPr/>
          <p:nvPr/>
        </p:nvSpPr>
        <p:spPr>
          <a:xfrm>
            <a:off x="3990960" y="46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37"/>
          <p:cNvSpPr/>
          <p:nvPr/>
        </p:nvSpPr>
        <p:spPr>
          <a:xfrm>
            <a:off x="3043080" y="466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Line 38"/>
          <p:cNvSpPr/>
          <p:nvPr/>
        </p:nvSpPr>
        <p:spPr>
          <a:xfrm>
            <a:off x="3384720" y="2502000"/>
            <a:ext cx="2039760" cy="15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Freeform 40"/>
          <p:cNvSpPr/>
          <p:nvPr/>
        </p:nvSpPr>
        <p:spPr>
          <a:xfrm>
            <a:off x="4351320" y="3489480"/>
            <a:ext cx="324000" cy="957240"/>
          </a:xfrm>
          <a:custGeom>
            <a:avLst/>
            <a:gdLst/>
            <a:ahLst/>
            <a:rect l="l" t="t" r="r" b="b"/>
            <a:pathLst>
              <a:path w="1428" h="4218">
                <a:moveTo>
                  <a:pt x="1428" y="0"/>
                </a:moveTo>
                <a:lnTo>
                  <a:pt x="1224" y="282"/>
                </a:lnTo>
                <a:lnTo>
                  <a:pt x="1033" y="574"/>
                </a:lnTo>
                <a:lnTo>
                  <a:pt x="858" y="875"/>
                </a:lnTo>
                <a:lnTo>
                  <a:pt x="697" y="1184"/>
                </a:lnTo>
                <a:lnTo>
                  <a:pt x="553" y="1502"/>
                </a:lnTo>
                <a:lnTo>
                  <a:pt x="425" y="1826"/>
                </a:lnTo>
                <a:lnTo>
                  <a:pt x="313" y="2157"/>
                </a:lnTo>
                <a:lnTo>
                  <a:pt x="218" y="2493"/>
                </a:lnTo>
                <a:lnTo>
                  <a:pt x="140" y="2832"/>
                </a:lnTo>
                <a:lnTo>
                  <a:pt x="79" y="3175"/>
                </a:lnTo>
                <a:lnTo>
                  <a:pt x="36" y="3521"/>
                </a:lnTo>
                <a:lnTo>
                  <a:pt x="9" y="3869"/>
                </a:lnTo>
                <a:lnTo>
                  <a:pt x="0" y="42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Text Box 41"/>
          <p:cNvSpPr/>
          <p:nvPr/>
        </p:nvSpPr>
        <p:spPr>
          <a:xfrm rot="2300400">
            <a:off x="4158000" y="2971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Text Box 42"/>
          <p:cNvSpPr/>
          <p:nvPr/>
        </p:nvSpPr>
        <p:spPr>
          <a:xfrm>
            <a:off x="4059000" y="3753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Text Box 43"/>
          <p:cNvSpPr/>
          <p:nvPr/>
        </p:nvSpPr>
        <p:spPr>
          <a:xfrm>
            <a:off x="5638680" y="553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Text Box 44"/>
          <p:cNvSpPr/>
          <p:nvPr/>
        </p:nvSpPr>
        <p:spPr>
          <a:xfrm>
            <a:off x="5464080" y="531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Line 45"/>
          <p:cNvSpPr/>
          <p:nvPr/>
        </p:nvSpPr>
        <p:spPr>
          <a:xfrm>
            <a:off x="5424480" y="4710240"/>
            <a:ext cx="0" cy="88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Oval 46"/>
          <p:cNvSpPr/>
          <p:nvPr/>
        </p:nvSpPr>
        <p:spPr>
          <a:xfrm>
            <a:off x="5370480" y="4881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50"/>
          <p:cNvSpPr/>
          <p:nvPr/>
        </p:nvSpPr>
        <p:spPr>
          <a:xfrm flipV="1">
            <a:off x="5424480" y="1494000"/>
            <a:ext cx="1440" cy="256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Line 51"/>
          <p:cNvSpPr/>
          <p:nvPr/>
        </p:nvSpPr>
        <p:spPr>
          <a:xfrm flipV="1">
            <a:off x="5424480" y="126504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Oval 52"/>
          <p:cNvSpPr/>
          <p:nvPr/>
        </p:nvSpPr>
        <p:spPr>
          <a:xfrm>
            <a:off x="5361120" y="400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Freeform 53"/>
          <p:cNvSpPr/>
          <p:nvPr/>
        </p:nvSpPr>
        <p:spPr>
          <a:xfrm>
            <a:off x="3384720" y="1494000"/>
            <a:ext cx="2039760" cy="1008000"/>
          </a:xfrm>
          <a:custGeom>
            <a:avLst/>
            <a:gdLst/>
            <a:ahLst/>
            <a:rect l="l" t="t" r="r" b="b"/>
            <a:pathLst>
              <a:path w="8991" h="4445">
                <a:moveTo>
                  <a:pt x="8991" y="0"/>
                </a:moveTo>
                <a:lnTo>
                  <a:pt x="8559" y="8"/>
                </a:lnTo>
                <a:lnTo>
                  <a:pt x="8127" y="32"/>
                </a:lnTo>
                <a:lnTo>
                  <a:pt x="7696" y="74"/>
                </a:lnTo>
                <a:lnTo>
                  <a:pt x="7266" y="131"/>
                </a:lnTo>
                <a:lnTo>
                  <a:pt x="6840" y="206"/>
                </a:lnTo>
                <a:lnTo>
                  <a:pt x="6417" y="296"/>
                </a:lnTo>
                <a:lnTo>
                  <a:pt x="5998" y="403"/>
                </a:lnTo>
                <a:lnTo>
                  <a:pt x="5582" y="526"/>
                </a:lnTo>
                <a:lnTo>
                  <a:pt x="5172" y="663"/>
                </a:lnTo>
                <a:lnTo>
                  <a:pt x="4767" y="817"/>
                </a:lnTo>
                <a:lnTo>
                  <a:pt x="4369" y="988"/>
                </a:lnTo>
                <a:lnTo>
                  <a:pt x="3977" y="1172"/>
                </a:lnTo>
                <a:lnTo>
                  <a:pt x="3593" y="1371"/>
                </a:lnTo>
                <a:lnTo>
                  <a:pt x="3216" y="1584"/>
                </a:lnTo>
                <a:lnTo>
                  <a:pt x="2849" y="1813"/>
                </a:lnTo>
                <a:lnTo>
                  <a:pt x="2489" y="2055"/>
                </a:lnTo>
                <a:lnTo>
                  <a:pt x="2140" y="2310"/>
                </a:lnTo>
                <a:lnTo>
                  <a:pt x="1800" y="2579"/>
                </a:lnTo>
                <a:lnTo>
                  <a:pt x="1471" y="2860"/>
                </a:lnTo>
                <a:lnTo>
                  <a:pt x="1154" y="3154"/>
                </a:lnTo>
                <a:lnTo>
                  <a:pt x="847" y="3460"/>
                </a:lnTo>
                <a:lnTo>
                  <a:pt x="552" y="3777"/>
                </a:lnTo>
                <a:lnTo>
                  <a:pt x="269" y="4105"/>
                </a:lnTo>
                <a:lnTo>
                  <a:pt x="0" y="444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Oval 55"/>
          <p:cNvSpPr/>
          <p:nvPr/>
        </p:nvSpPr>
        <p:spPr>
          <a:xfrm>
            <a:off x="5356080" y="1441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Text Box 56"/>
          <p:cNvSpPr/>
          <p:nvPr/>
        </p:nvSpPr>
        <p:spPr>
          <a:xfrm>
            <a:off x="5690880" y="1411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Text Box 57"/>
          <p:cNvSpPr/>
          <p:nvPr/>
        </p:nvSpPr>
        <p:spPr>
          <a:xfrm>
            <a:off x="5479560" y="1200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Oval 58"/>
          <p:cNvSpPr/>
          <p:nvPr/>
        </p:nvSpPr>
        <p:spPr>
          <a:xfrm>
            <a:off x="3327480" y="245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59"/>
          <p:cNvSpPr/>
          <p:nvPr/>
        </p:nvSpPr>
        <p:spPr>
          <a:xfrm>
            <a:off x="6262560" y="507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60"/>
          <p:cNvSpPr/>
          <p:nvPr/>
        </p:nvSpPr>
        <p:spPr>
          <a:xfrm>
            <a:off x="5461560" y="488628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≡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61"/>
          <p:cNvSpPr/>
          <p:nvPr/>
        </p:nvSpPr>
        <p:spPr>
          <a:xfrm>
            <a:off x="5672160" y="508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62"/>
          <p:cNvSpPr/>
          <p:nvPr/>
        </p:nvSpPr>
        <p:spPr>
          <a:xfrm>
            <a:off x="624816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63"/>
          <p:cNvSpPr/>
          <p:nvPr/>
        </p:nvSpPr>
        <p:spPr>
          <a:xfrm>
            <a:off x="5488560" y="402444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64"/>
          <p:cNvSpPr/>
          <p:nvPr/>
        </p:nvSpPr>
        <p:spPr>
          <a:xfrm>
            <a:off x="6767280" y="423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65"/>
          <p:cNvSpPr/>
          <p:nvPr/>
        </p:nvSpPr>
        <p:spPr>
          <a:xfrm>
            <a:off x="5700600" y="42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66"/>
          <p:cNvSpPr/>
          <p:nvPr/>
        </p:nvSpPr>
        <p:spPr>
          <a:xfrm>
            <a:off x="6835680" y="507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BF1-91B8-4E66-9316-EC1782994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Line 21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Line 48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Text Box 51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Text Box 52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Oval 5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Oval 67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Text Box 87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Text Box 88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Oval 89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Oval 90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Text Box 91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Text Box 92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Oval 99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00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01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24"/>
          <p:cNvSpPr/>
          <p:nvPr/>
        </p:nvSpPr>
        <p:spPr>
          <a:xfrm>
            <a:off x="4297320" y="215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26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27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28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Oval 129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130"/>
          <p:cNvSpPr/>
          <p:nvPr/>
        </p:nvSpPr>
        <p:spPr>
          <a:xfrm>
            <a:off x="4297320" y="337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31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138C-F6CD-4481-9FFB-F2AA0B040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Line 16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Text Box 17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Text Box 18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Oval 1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Oval 20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Text Box 21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Text Box 22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Oval 23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Oval 24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Text Box 25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Text Box 26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Oval 27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Text Box 28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Text Box 29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Line 30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Text Box 31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Text Box 32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Text Box 34"/>
          <p:cNvSpPr/>
          <p:nvPr/>
        </p:nvSpPr>
        <p:spPr>
          <a:xfrm>
            <a:off x="4297320" y="215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Oval 36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Text Box 37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Text Box 38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Text Box 39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Oval 40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41"/>
          <p:cNvSpPr/>
          <p:nvPr/>
        </p:nvSpPr>
        <p:spPr>
          <a:xfrm>
            <a:off x="4297320" y="337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Text Box 44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B23-0AAF-4FD4-AC49-324BBC2F3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Line 16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Text Box 17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Text Box 18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Oval 1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Text Box 21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Text Box 22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Oval 23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Oval 24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Text Box 25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Text Box 26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Oval 27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Text Box 28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Text Box 29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30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Text Box 31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Text Box 32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Text Box 33"/>
          <p:cNvSpPr/>
          <p:nvPr/>
        </p:nvSpPr>
        <p:spPr>
          <a:xfrm>
            <a:off x="4297320" y="215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Oval 34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Text Box 35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Text Box 3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Text Box 3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Oval 3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Text Box 39"/>
          <p:cNvSpPr/>
          <p:nvPr/>
        </p:nvSpPr>
        <p:spPr>
          <a:xfrm>
            <a:off x="4297320" y="337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Text Box 40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Line 41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Text Box 42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Text Box 43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Text Box 45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Text Box 46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Text Box 47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Text Box 48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Line 49"/>
          <p:cNvSpPr/>
          <p:nvPr/>
        </p:nvSpPr>
        <p:spPr>
          <a:xfrm>
            <a:off x="2763720" y="2303640"/>
            <a:ext cx="1800" cy="298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Oval 50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Oval 51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Oval 52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5EB1-A55C-42EC-879F-A7784A2E7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Text Box 17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Text Box 18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Oval 1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Text Box 20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Text Box 21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Oval 22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Oval 23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Text Box 24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Text Box 25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Oval 26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Text Box 27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Text Box 28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Line 29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Text Box 30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Text Box 31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Oval 33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Text Box 35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Text Box 36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Oval 37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Line 40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Text Box 41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Text Box 42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Text Box 43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Text Box 44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45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46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Line 47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Oval 48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Oval 49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Oval 50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Line 59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Line 60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Text Box 61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Text Box 62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Oval 63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64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65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66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67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68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Text Box 69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70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DDE-771C-48C0-83C3-E4E1C65C9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Oval 21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Oval 22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23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24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Oval 25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Text Box 26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Text Box 27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Line 28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Text Box 29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Text Box 30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Oval 31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Text Box 32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Text Box 33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Oval 34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Line 35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Text Box 36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Text Box 37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Text Box 38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Text Box 39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Text Box 40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Text Box 41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Line 42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Oval 43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Oval 45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46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Line 47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48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49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Oval 5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Text Box 51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Text Box 52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Text Box 53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Text Box 54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Text Box 55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Text Box 56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57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Line 58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Oval 59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F483-66C1-4924-84BC-9D94CBDEE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Oval 21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Oval 22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Text Box 23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Text Box 24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Oval 25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Text Box 26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Text Box 27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Line 28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Text Box 29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Text Box 30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Oval 31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Text Box 32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Text Box 33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Oval 34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Line 35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Text Box 36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Text Box 37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Text Box 38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Text Box 39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Text Box 40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Text Box 41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Line 42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Oval 44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Line 45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Line 46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Text Box 47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Text Box 48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Oval 4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Text Box 50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Text Box 51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Text Box 52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Text Box 53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Text Box 54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Text Box 55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Text Box 56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57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Oval 58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reeform 59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Oval 60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Text Box 6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Text Box 62"/>
          <p:cNvSpPr/>
          <p:nvPr/>
        </p:nvSpPr>
        <p:spPr>
          <a:xfrm>
            <a:off x="4519440" y="604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Oval 63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8F3-5B5F-492A-8AF1-D97DBC339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Oval 22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Text Box 23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Text Box 24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Oval 25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26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Text Box 27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Line 28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29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Text Box 30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Oval 31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Text Box 32"/>
          <p:cNvSpPr/>
          <p:nvPr/>
        </p:nvSpPr>
        <p:spPr>
          <a:xfrm rot="20487000">
            <a:off x="3191400" y="568800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=A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Text Box 33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Oval 34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Line 35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Text Box 36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Text Box 37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Text Box 38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39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40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41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Line 42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Oval 43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Line 44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Line 45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46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47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Oval 4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49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50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Text Box 51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52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53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54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55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Line 56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Oval 57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Freeform 58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60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61"/>
          <p:cNvSpPr/>
          <p:nvPr/>
        </p:nvSpPr>
        <p:spPr>
          <a:xfrm rot="20478000">
            <a:off x="3948480" y="57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Oval 6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Freeform 6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Freeform 6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Oval 6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Line 66"/>
          <p:cNvSpPr/>
          <p:nvPr/>
        </p:nvSpPr>
        <p:spPr>
          <a:xfrm flipH="1">
            <a:off x="3274560" y="5878440"/>
            <a:ext cx="971640" cy="368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Oval 67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Text Box 68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Text Box 69"/>
          <p:cNvSpPr/>
          <p:nvPr/>
        </p:nvSpPr>
        <p:spPr>
          <a:xfrm rot="20478000">
            <a:off x="3721320" y="578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Text Box 71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FD9-50A5-4018-A4F5-84716047A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9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0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1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2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7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8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9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0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1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2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3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4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6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7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9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50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1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2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3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4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5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6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7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9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0"/>
          <p:cNvSpPr/>
          <p:nvPr/>
        </p:nvSpPr>
        <p:spPr>
          <a:xfrm flipV="1">
            <a:off x="5460840" y="4078440"/>
            <a:ext cx="97164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61"/>
          <p:cNvSpPr/>
          <p:nvPr/>
        </p:nvSpPr>
        <p:spPr>
          <a:xfrm flipV="1">
            <a:off x="7203960" y="3081240"/>
            <a:ext cx="31608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62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63"/>
          <p:cNvSpPr/>
          <p:nvPr/>
        </p:nvSpPr>
        <p:spPr>
          <a:xfrm flipV="1">
            <a:off x="6281640" y="4006800"/>
            <a:ext cx="8568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64"/>
          <p:cNvSpPr/>
          <p:nvPr/>
        </p:nvSpPr>
        <p:spPr>
          <a:xfrm>
            <a:off x="6281640" y="4084560"/>
            <a:ext cx="6516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5"/>
          <p:cNvSpPr/>
          <p:nvPr/>
        </p:nvSpPr>
        <p:spPr>
          <a:xfrm flipV="1">
            <a:off x="5394240" y="2373120"/>
            <a:ext cx="122400" cy="8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6"/>
          <p:cNvSpPr/>
          <p:nvPr/>
        </p:nvSpPr>
        <p:spPr>
          <a:xfrm>
            <a:off x="6613560" y="3760920"/>
            <a:ext cx="239760" cy="33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7"/>
          <p:cNvSpPr/>
          <p:nvPr/>
        </p:nvSpPr>
        <p:spPr>
          <a:xfrm>
            <a:off x="7540560" y="326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9"/>
          <p:cNvSpPr/>
          <p:nvPr/>
        </p:nvSpPr>
        <p:spPr>
          <a:xfrm>
            <a:off x="7326720" y="3116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0"/>
          <p:cNvSpPr/>
          <p:nvPr/>
        </p:nvSpPr>
        <p:spPr>
          <a:xfrm flipV="1">
            <a:off x="6432480" y="3371400"/>
            <a:ext cx="768600" cy="70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71"/>
          <p:cNvSpPr/>
          <p:nvPr/>
        </p:nvSpPr>
        <p:spPr>
          <a:xfrm>
            <a:off x="7143840" y="3313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2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3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4"/>
          <p:cNvSpPr/>
          <p:nvPr/>
        </p:nvSpPr>
        <p:spPr>
          <a:xfrm flipV="1">
            <a:off x="835200" y="4195800"/>
            <a:ext cx="122040" cy="8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6"/>
          <p:cNvSpPr/>
          <p:nvPr/>
        </p:nvSpPr>
        <p:spPr>
          <a:xfrm flipV="1">
            <a:off x="2108160" y="3998880"/>
            <a:ext cx="122400" cy="8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7"/>
          <p:cNvSpPr/>
          <p:nvPr/>
        </p:nvSpPr>
        <p:spPr>
          <a:xfrm flipV="1">
            <a:off x="2568600" y="5056200"/>
            <a:ext cx="122040" cy="8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3465360" y="5451480"/>
            <a:ext cx="477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ожить расстояние от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е расстоянию от предыдущей плоскости до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ACB7-9FCA-4B78-A107-A2E48E0A3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Oval 21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22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23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Oval 24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Text Box 2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Text Box 2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Line 27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Text Box 28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Text Box 29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Oval 3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Text Box 32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Oval 33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Line 34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Text Box 35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Text Box 36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Text Box 37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Text Box 38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Text Box 39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Text Box 40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Line 41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Oval 42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Line 43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Line 44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Text Box 45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Text Box 46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Oval 47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Text Box 48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Text Box 49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Text Box 50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Text Box 51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Text Box 52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Text Box 53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Text Box 54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Line 55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Oval 56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Freeform 57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Text Box 58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Oval 60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Freeform 61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Freeform 62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Oval 63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Oval 65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Text Box 6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Text Box 68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Text Box 69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Text Box 70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Oval 71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5C9-1CCC-44A7-9C71-94A205850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Oval 21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Text Box 22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Text Box 23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Oval 24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Text Box 2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Text Box 2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Line 27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Text Box 28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Text Box 29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Oval 3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Text Box 31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Oval 32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Line 33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Text Box 34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Text Box 35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Text Box 36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Text Box 37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Text Box 38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Text Box 39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Line 40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9" name="Oval 41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0" name="Line 42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Line 43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Text Box 44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Text Box 45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Oval 46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Text Box 47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Text Box 48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Text Box 49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Text Box 50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Text Box 51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0" name="Text Box 52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Text Box 53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Line 54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Oval 55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Freeform 56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5" name="Text Box 57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Oval 58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Freeform 59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Freeform 60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9" name="Oval 61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0" name="Text Box 63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1" name="Text Box 64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2" name="Text Box 65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Text Box 66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Line 68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Line 69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Oval 70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Oval 71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E1C-6E13-4A50-A278-DCA432B00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2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3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Oval 21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Text Box 22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Text Box 23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Oval 24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Text Box 2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Text Box 2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Line 27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Text Box 28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Text Box 29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Oval 3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Text Box 31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Oval 32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Line 33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Text Box 34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Text Box 35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Text Box 36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Text Box 37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Text Box 38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Text Box 39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Line 40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Oval 41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Line 42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Line 43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Text Box 44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Text Box 45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Oval 46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Text Box 47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Text Box 48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Text Box 49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Text Box 50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Text Box 51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Text Box 52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Text Box 53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Line 54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Oval 55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Freeform 56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2" name="Text Box 57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Oval 58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4" name="Freeform 59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Freeform 60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Oval 61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7" name="Text Box 62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8" name="Text Box 63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Text Box 64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0" name="Text Box 65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1" name="Line 66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2" name="Line 67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3" name="Oval 68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Oval 69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Text Box 71"/>
          <p:cNvSpPr/>
          <p:nvPr/>
        </p:nvSpPr>
        <p:spPr>
          <a:xfrm>
            <a:off x="4926600" y="5456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 Box 73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Oval 74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92E-C8C0-4DBA-BE9D-115A5A341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0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6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9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4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Oval 21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 Box 22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Text Box 23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Oval 24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Text Box 2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Text Box 2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Line 27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Text Box 28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Text Box 29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Oval 3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Text Box 31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Oval 32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Line 33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Text Box 34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Text Box 35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Text Box 36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Text Box 37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Text Box 38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Text Box 39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Line 40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Oval 41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Line 42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Line 43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Text Box 44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Text Box 45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Oval 46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Text Box 47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Text Box 48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Text Box 49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Text Box 50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Text Box 51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Text Box 52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Text Box 53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Line 54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Freeform 56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Text Box 57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Oval 58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Freeform 59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4" name="Freeform 60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5" name="Oval 61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Text Box 62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7" name="Text Box 63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8" name="Text Box 64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9" name="Text Box 65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Line 66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Line 67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Text Box 70"/>
          <p:cNvSpPr/>
          <p:nvPr/>
        </p:nvSpPr>
        <p:spPr>
          <a:xfrm>
            <a:off x="4926600" y="5456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Text Box 71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Line 73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Line 74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Line 75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Oval 76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Oval 77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Oval 78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Oval 79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1B84-6508-4196-8331-8E5BDBF6C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4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5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6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8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9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3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4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5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6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7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8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9" name="Text Box 22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Text Box 23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1" name="Text Box 2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2" name="Text Box 2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Line 27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4" name="Text Box 28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5" name="Text Box 29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Oval 30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Text Box 31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Oval 32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Line 33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Text Box 34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Text Box 35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Text Box 36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Text Box 37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Text Box 38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Text Box 39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Line 40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Oval 41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Line 42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9" name="Line 43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0" name="Text Box 44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Text Box 45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Oval 46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3" name="Text Box 47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Text Box 48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Text Box 49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Text Box 50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Text Box 51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8" name="Text Box 52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9" name="Text Box 53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0" name="Line 54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1" name="Freeform 55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2" name="Text Box 56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3" name="Oval 57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Freeform 58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Freeform 59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6" name="Oval 60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7" name="Text Box 61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8" name="Text Box 62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9" name="Text Box 63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0" name="Text Box 64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1" name="Line 65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Line 66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Text Box 67"/>
          <p:cNvSpPr/>
          <p:nvPr/>
        </p:nvSpPr>
        <p:spPr>
          <a:xfrm>
            <a:off x="4926600" y="5456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Text Box 68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Line 69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Line 70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Line 71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Oval 7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Oval 73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Oval 74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Oval 75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Line 76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Line 77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Line 78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Oval 79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Oval 80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921-EE59-45D0-BB24-D7ADEC8FE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Oval 1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Text Box 21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Text Box 22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Text Box 23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Text Box 24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Line 25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Text Box 26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Text Box 27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Oval 28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Text Box 29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Oval 30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Line 31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Text Box 32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Text Box 33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Text Box 34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Text Box 35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Text Box 36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Text Box 37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Line 38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Oval 39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Line 40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Line 41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Text Box 42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Text Box 43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Oval 44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Text Box 45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Text Box 46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Text Box 47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Text Box 48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Text Box 49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Text Box 50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Text Box 51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6" name="Line 52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Freeform 53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Text Box 54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Oval 55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Freeform 56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Freeform 57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2" name="Oval 58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3" name="Text Box 59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Text Box 60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Text Box 61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Text Box 62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Line 63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Line 64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Text Box 65"/>
          <p:cNvSpPr/>
          <p:nvPr/>
        </p:nvSpPr>
        <p:spPr>
          <a:xfrm>
            <a:off x="4926600" y="5456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Text Box 66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Line 67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Line 68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Line 69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Oval 71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Oval 73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Line 74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Line 75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Line 76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Oval 77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Oval 78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Line 79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Line 80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Line 82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Line 83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Oval 84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Text Box 85"/>
          <p:cNvSpPr/>
          <p:nvPr/>
        </p:nvSpPr>
        <p:spPr>
          <a:xfrm>
            <a:off x="4840920" y="114624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Text Box 87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Text Box 88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Text Box 90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Oval 91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Oval 9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Oval 93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723-9A05-4E6B-A92E-12C9F1E18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0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1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2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3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4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5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6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7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8" name="Text Box 19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Text Box 20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0" name="Text Box 21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Text Box 22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Text Box 23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Text Box 24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Line 25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5" name="Text Box 26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6" name="Text Box 27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Text Box 29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8" name="Oval 30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9" name="Line 31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Text Box 32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Text Box 33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Text Box 34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Text Box 35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Text Box 36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Text Box 37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Line 38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Oval 39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8" name="Line 40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Line 41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0" name="Text Box 42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Text Box 43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Text Box 45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 Box 46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Text Box 47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Text Box 48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Text Box 49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Text Box 50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Text Box 51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Line 52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Freeform 53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Text Box 54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Oval 55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Freeform 56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Freeform 57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Oval 58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Text Box 59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7" name="Text Box 60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Text Box 61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Text Box 62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0" name="Line 63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1" name="Line 64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2" name="Text Box 65"/>
          <p:cNvSpPr/>
          <p:nvPr/>
        </p:nvSpPr>
        <p:spPr>
          <a:xfrm>
            <a:off x="4926600" y="5456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 Box 66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Line 67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Line 68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Line 69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Oval 70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Oval 71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Line 72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Line 73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Line 74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Oval 75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Oval 76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Line 77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Line 78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Line 79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Line 80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 Box 82"/>
          <p:cNvSpPr/>
          <p:nvPr/>
        </p:nvSpPr>
        <p:spPr>
          <a:xfrm>
            <a:off x="4840920" y="114624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 Box 83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 Box 84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Text Box 85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Oval 87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Oval 88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Line 89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5" name="Line 90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Oval 91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Oval 94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Oval 95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4E1-7985-489F-B18A-BF9A662C6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1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2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Line 64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Line 65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Line 66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Oval 67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Oval 68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Line 69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Line 70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Oval 72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Oval 73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Line 74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Line 75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Line 77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Text Box 79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Text Box 80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Oval 83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Line 84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Line 85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Oval 86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Oval 87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Line 95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Oval 96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Text Box 97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Text Box 98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Text Box 99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Text Box 100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Text Box 106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Text Box 107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Text Box 108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Text Box 109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Text Box 110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Line 111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Oval 11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7CA-9A90-4765-99E1-55C5A2C66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1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2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4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5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6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7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8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9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1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2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3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6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7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8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9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1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3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4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7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8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9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1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2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5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6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Oval 65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2" name="Line 66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3" name="Line 67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4" name="Oval 68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Oval 69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Line 70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Line 71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Line 72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Text Box 73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Text Box 74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Oval 75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Line 76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Line 77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Oval 78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Oval 7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Line 80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Oval 81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Text Box 82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Text Box 83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Text Box 84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Text Box 85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Text Box 86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Text Box 87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Text Box 88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Text Box 89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Text Box 90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Line 91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Oval 9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Line 93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Line 94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Line 95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28B-D5EC-4C28-88EF-5B5C16D26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4" name="Line 66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Line 67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Oval 68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Oval 69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8" name="Line 70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Line 71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Line 72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Text Box 73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Text Box 74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Oval 75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Line 76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Line 77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Line 80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Oval 81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Text Box 82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Text Box 83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Text Box 84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Text Box 85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Text Box 86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Text Box 87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Text Box 88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Text Box 89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Text Box 90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Line 91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8" name="Oval 9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9" name="Line 93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Line 94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Line 95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Freeform 96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Freeform 97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Line 99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Oval 100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Text Box 101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Text Box 102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Oval 103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Text Box 104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Text Box 105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Oval 106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Oval 107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Oval 108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6A65-F557-49E5-B71E-217123FE6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 flipH="1">
            <a:off x="6400440" y="3262320"/>
            <a:ext cx="2438280" cy="1658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 rot="19283400">
            <a:off x="8335800" y="30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 rot="19249800">
            <a:off x="8531280" y="3109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8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0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4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5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8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9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0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1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2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33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7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38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9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0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1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2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3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4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5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6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7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8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9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0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1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2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3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4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55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6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7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8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9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0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1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2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63"/>
          <p:cNvSpPr/>
          <p:nvPr/>
        </p:nvSpPr>
        <p:spPr>
          <a:xfrm flipV="1">
            <a:off x="5460840" y="4078440"/>
            <a:ext cx="97164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 flipV="1">
            <a:off x="7203960" y="3081240"/>
            <a:ext cx="31608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65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6"/>
          <p:cNvSpPr/>
          <p:nvPr/>
        </p:nvSpPr>
        <p:spPr>
          <a:xfrm flipV="1">
            <a:off x="6281640" y="4006800"/>
            <a:ext cx="8568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7"/>
          <p:cNvSpPr/>
          <p:nvPr/>
        </p:nvSpPr>
        <p:spPr>
          <a:xfrm>
            <a:off x="6281640" y="4084560"/>
            <a:ext cx="6516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68"/>
          <p:cNvSpPr/>
          <p:nvPr/>
        </p:nvSpPr>
        <p:spPr>
          <a:xfrm flipV="1">
            <a:off x="5394240" y="2373120"/>
            <a:ext cx="12240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9"/>
          <p:cNvSpPr/>
          <p:nvPr/>
        </p:nvSpPr>
        <p:spPr>
          <a:xfrm>
            <a:off x="6613560" y="3760920"/>
            <a:ext cx="23976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0"/>
          <p:cNvSpPr/>
          <p:nvPr/>
        </p:nvSpPr>
        <p:spPr>
          <a:xfrm>
            <a:off x="7540560" y="326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1"/>
          <p:cNvSpPr/>
          <p:nvPr/>
        </p:nvSpPr>
        <p:spPr>
          <a:xfrm>
            <a:off x="7326720" y="3116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72"/>
          <p:cNvSpPr/>
          <p:nvPr/>
        </p:nvSpPr>
        <p:spPr>
          <a:xfrm flipV="1">
            <a:off x="6432480" y="3371400"/>
            <a:ext cx="768600" cy="70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73"/>
          <p:cNvSpPr/>
          <p:nvPr/>
        </p:nvSpPr>
        <p:spPr>
          <a:xfrm>
            <a:off x="7143840" y="3313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74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75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"/>
          <p:cNvSpPr/>
          <p:nvPr/>
        </p:nvSpPr>
        <p:spPr>
          <a:xfrm>
            <a:off x="3465360" y="5451480"/>
            <a:ext cx="5373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обходимости введем следующую плоскость 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пендикулярную 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получим ось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разместим ее на произвольном расстоянии от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595-99A2-49C4-8720-4FF1BF9B6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8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6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Line 65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Line 66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Oval 67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Oval 68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Line 69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Line 70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Line 71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Text Box 72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Text Box 73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Oval 74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Line 75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Line 76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Line 77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Oval 78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Text Box 79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1" name="Text Box 80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2" name="Text Box 81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3" name="Text Box 82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4" name="Text Box 83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5" name="Text Box 84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6" name="Text Box 85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7" name="Text Box 86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8" name="Text Box 87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9" name="Line 88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0" name="Oval 89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1" name="Line 90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Line 91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3" name="Line 92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4" name="Freeform 93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5" name="Freeform 94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6" name="Line 95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7" name="Oval 96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8" name="Text Box 97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9" name="Text Box 98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0" name="Oval 99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1" name="Text Box 100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2" name="Text Box 101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3" name="Oval 102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4" name="Oval 103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5" name="Oval 104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C67-6FF6-46AF-93BB-A2A049D2D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8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9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0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1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2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3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4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5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6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7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8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9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0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1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2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3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4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5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6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7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8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9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0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1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2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3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4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5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6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7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8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9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0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1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2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3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4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5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6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7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8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1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2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3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4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5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6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7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8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0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1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2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3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4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5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Line 65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9" name="Line 66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0" name="Oval 67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1" name="Oval 68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2" name="Line 69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3" name="Line 70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4" name="Line 71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Text Box 72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Text Box 73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Line 75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Line 76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Line 77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Oval 78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Text Box 79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Text Box 80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Text Box 81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Text Box 82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Text Box 83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Text Box 84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Text Box 85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Text Box 86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Text Box 87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Line 88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Oval 89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Line 90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Line 91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Line 92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Freeform 93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Freeform 94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Line 95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Oval 96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Text Box 97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Text Box 98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Oval 99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Text Box 100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Text Box 101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Oval 103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Oval 104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Line 105"/>
          <p:cNvSpPr/>
          <p:nvPr/>
        </p:nvSpPr>
        <p:spPr>
          <a:xfrm>
            <a:off x="4246560" y="3716280"/>
            <a:ext cx="2432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Line 106"/>
          <p:cNvSpPr/>
          <p:nvPr/>
        </p:nvSpPr>
        <p:spPr>
          <a:xfrm>
            <a:off x="3333600" y="6383160"/>
            <a:ext cx="44690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Oval 107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Oval 108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B32E-B306-4A19-B8D3-9C736CF37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Line 65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Line 66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Oval 67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Oval 68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Line 69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Line 70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Line 71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Text Box 72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Text Box 73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Line 74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Line 75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Line 76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Oval 77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Text Box 78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Text Box 79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Text Box 80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Text Box 81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Text Box 82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Text Box 83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Text Box 84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Text Box 85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Text Box 86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Line 87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Oval 88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Line 89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Line 90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Line 91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Freeform 92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Freeform 93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Line 94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Text Box 96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Text Box 97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Text Box 99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Text Box 100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Oval 101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Oval 102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Line 103"/>
          <p:cNvSpPr/>
          <p:nvPr/>
        </p:nvSpPr>
        <p:spPr>
          <a:xfrm>
            <a:off x="4272120" y="3728880"/>
            <a:ext cx="243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Line 104"/>
          <p:cNvSpPr/>
          <p:nvPr/>
        </p:nvSpPr>
        <p:spPr>
          <a:xfrm>
            <a:off x="3333600" y="6383160"/>
            <a:ext cx="446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Oval 105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Oval 106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Line 107"/>
          <p:cNvSpPr/>
          <p:nvPr/>
        </p:nvSpPr>
        <p:spPr>
          <a:xfrm>
            <a:off x="6527880" y="1595520"/>
            <a:ext cx="1440" cy="2120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Line 108"/>
          <p:cNvSpPr/>
          <p:nvPr/>
        </p:nvSpPr>
        <p:spPr>
          <a:xfrm>
            <a:off x="7634160" y="1595520"/>
            <a:ext cx="1800" cy="478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4" name="Text Box 109"/>
          <p:cNvSpPr/>
          <p:nvPr/>
        </p:nvSpPr>
        <p:spPr>
          <a:xfrm>
            <a:off x="7117920" y="63421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Text Box 110"/>
          <p:cNvSpPr/>
          <p:nvPr/>
        </p:nvSpPr>
        <p:spPr>
          <a:xfrm>
            <a:off x="7305480" y="649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Oval 111"/>
          <p:cNvSpPr/>
          <p:nvPr/>
        </p:nvSpPr>
        <p:spPr>
          <a:xfrm>
            <a:off x="647388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Text Box 112"/>
          <p:cNvSpPr/>
          <p:nvPr/>
        </p:nvSpPr>
        <p:spPr>
          <a:xfrm>
            <a:off x="6707880" y="3422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Text Box 113"/>
          <p:cNvSpPr/>
          <p:nvPr/>
        </p:nvSpPr>
        <p:spPr>
          <a:xfrm>
            <a:off x="6895800" y="357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Oval 114"/>
          <p:cNvSpPr/>
          <p:nvPr/>
        </p:nvSpPr>
        <p:spPr>
          <a:xfrm>
            <a:off x="7574040" y="63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Oval 115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Oval 116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019-BBB4-40B6-BC6A-4C17FC511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Line 5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Line 6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Line 7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Line 8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Line 9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Line 10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0" name="Line 11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1" name="Line 12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2" name="Line 13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3" name="Line 14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4" name="Line 15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5" name="Text Box 16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Text Box 17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7" name="Text Box 18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Text Box 19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9" name="Text Box 20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0" name="Text Box 21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Text Box 22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2" name="Text Box 23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3" name="Line 24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4" name="Text Box 25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Text Box 26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6" name="Text Box 27"/>
          <p:cNvSpPr/>
          <p:nvPr/>
        </p:nvSpPr>
        <p:spPr>
          <a:xfrm>
            <a:off x="4454280" y="604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Oval 28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8" name="Line 29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Text Box 30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0" name="Text Box 31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Text Box 32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2" name="Text Box 33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Text Box 34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4" name="Text Box 35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Line 36"/>
          <p:cNvSpPr/>
          <p:nvPr/>
        </p:nvSpPr>
        <p:spPr>
          <a:xfrm flipH="1">
            <a:off x="2761920" y="2305080"/>
            <a:ext cx="3240" cy="29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6" name="Oval 37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Line 38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8" name="Line 39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9" name="Text Box 40"/>
          <p:cNvSpPr/>
          <p:nvPr/>
        </p:nvSpPr>
        <p:spPr>
          <a:xfrm>
            <a:off x="4306680" y="215424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0" name="Text Box 41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Text Box 42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2" name="Text Box 43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3" name="Text Box 44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4" name="Text Box 4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Text Box 4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6" name="Text Box 47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Text Box 48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8" name="Line 49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Freeform 50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Text Box 51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1" name="Oval 52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Freeform 5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3" name="Freeform 54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Oval 5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5" name="Text Box 5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6" name="Text Box 5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Text Box 5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8" name="Text Box 5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Line 60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Line 61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Line 62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Line 63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Oval 64"/>
          <p:cNvSpPr/>
          <p:nvPr/>
        </p:nvSpPr>
        <p:spPr>
          <a:xfrm>
            <a:off x="416412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Line 65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Line 66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Oval 67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Oval 68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Line 69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Line 70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Line 71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1" name="Text Box 72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Text Box 73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Line 74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Line 75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Line 76"/>
          <p:cNvSpPr/>
          <p:nvPr/>
        </p:nvSpPr>
        <p:spPr>
          <a:xfrm>
            <a:off x="5303880" y="1595520"/>
            <a:ext cx="255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6" name="Oval 77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7" name="Text Box 78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Text Box 79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9" name="Text Box 80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0" name="Text Box 81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1" name="Text Box 82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2" name="Text Box 83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3" name="Text Box 84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4" name="Text Box 85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5" name="Text Box 86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6" name="Line 87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Line 89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8" name="Line 90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9" name="Line 91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0" name="Freeform 92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1" name="Freeform 93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2" name="Line 94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3" name="Text Box 95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4" name="Text Box 96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5" name="Text Box 97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6" name="Text Box 98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7" name="Oval 9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8" name="Oval 100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9" name="Line 101"/>
          <p:cNvSpPr/>
          <p:nvPr/>
        </p:nvSpPr>
        <p:spPr>
          <a:xfrm>
            <a:off x="4272120" y="3728880"/>
            <a:ext cx="243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0" name="Line 102"/>
          <p:cNvSpPr/>
          <p:nvPr/>
        </p:nvSpPr>
        <p:spPr>
          <a:xfrm>
            <a:off x="3333600" y="6383160"/>
            <a:ext cx="446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1" name="Oval 103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2" name="Oval 104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3" name="Line 105"/>
          <p:cNvSpPr/>
          <p:nvPr/>
        </p:nvSpPr>
        <p:spPr>
          <a:xfrm>
            <a:off x="6527880" y="1595520"/>
            <a:ext cx="1440" cy="21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4" name="Line 106"/>
          <p:cNvSpPr/>
          <p:nvPr/>
        </p:nvSpPr>
        <p:spPr>
          <a:xfrm>
            <a:off x="7634160" y="1595520"/>
            <a:ext cx="1800" cy="47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5" name="Text Box 107"/>
          <p:cNvSpPr/>
          <p:nvPr/>
        </p:nvSpPr>
        <p:spPr>
          <a:xfrm>
            <a:off x="7117920" y="63421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6" name="Text Box 108"/>
          <p:cNvSpPr/>
          <p:nvPr/>
        </p:nvSpPr>
        <p:spPr>
          <a:xfrm>
            <a:off x="7305480" y="649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7" name="Text Box 110"/>
          <p:cNvSpPr/>
          <p:nvPr/>
        </p:nvSpPr>
        <p:spPr>
          <a:xfrm>
            <a:off x="6707880" y="3422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8" name="Text Box 111"/>
          <p:cNvSpPr/>
          <p:nvPr/>
        </p:nvSpPr>
        <p:spPr>
          <a:xfrm>
            <a:off x="6895800" y="357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9" name="Oval 113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0" name="Oval 114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1" name="Line 115"/>
          <p:cNvSpPr/>
          <p:nvPr/>
        </p:nvSpPr>
        <p:spPr>
          <a:xfrm>
            <a:off x="5278320" y="5310360"/>
            <a:ext cx="235584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2" name="Line 116"/>
          <p:cNvSpPr/>
          <p:nvPr/>
        </p:nvSpPr>
        <p:spPr>
          <a:xfrm flipH="1" flipV="1">
            <a:off x="6527520" y="3716280"/>
            <a:ext cx="110628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3" name="Line 117"/>
          <p:cNvSpPr/>
          <p:nvPr/>
        </p:nvSpPr>
        <p:spPr>
          <a:xfrm flipH="1">
            <a:off x="5277960" y="3716280"/>
            <a:ext cx="12495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4" name="Oval 118"/>
          <p:cNvSpPr/>
          <p:nvPr/>
        </p:nvSpPr>
        <p:spPr>
          <a:xfrm>
            <a:off x="647388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5" name="Oval 119"/>
          <p:cNvSpPr/>
          <p:nvPr/>
        </p:nvSpPr>
        <p:spPr>
          <a:xfrm>
            <a:off x="7574040" y="63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6" name="Oval 120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EA4F-75E2-4D08-ADA8-A7BD4E304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9" name="Line 8"/>
          <p:cNvSpPr/>
          <p:nvPr/>
        </p:nvSpPr>
        <p:spPr>
          <a:xfrm>
            <a:off x="1390680" y="3448080"/>
            <a:ext cx="6586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0" name="Line 9"/>
          <p:cNvSpPr/>
          <p:nvPr/>
        </p:nvSpPr>
        <p:spPr>
          <a:xfrm flipH="1">
            <a:off x="1752480" y="3716280"/>
            <a:ext cx="2494080" cy="13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1" name="Line 10"/>
          <p:cNvSpPr/>
          <p:nvPr/>
        </p:nvSpPr>
        <p:spPr>
          <a:xfrm>
            <a:off x="1752480" y="5029200"/>
            <a:ext cx="101124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2" name="Line 11"/>
          <p:cNvSpPr/>
          <p:nvPr/>
        </p:nvSpPr>
        <p:spPr>
          <a:xfrm flipV="1">
            <a:off x="3903840" y="3716280"/>
            <a:ext cx="34272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3" name="Line 12"/>
          <p:cNvSpPr/>
          <p:nvPr/>
        </p:nvSpPr>
        <p:spPr>
          <a:xfrm flipV="1">
            <a:off x="1752480" y="2928960"/>
            <a:ext cx="1800" cy="210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4" name="Line 13"/>
          <p:cNvSpPr/>
          <p:nvPr/>
        </p:nvSpPr>
        <p:spPr>
          <a:xfrm flipV="1">
            <a:off x="4246560" y="2650680"/>
            <a:ext cx="144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5" name="Line 14"/>
          <p:cNvSpPr/>
          <p:nvPr/>
        </p:nvSpPr>
        <p:spPr>
          <a:xfrm flipV="1">
            <a:off x="3903840" y="1595160"/>
            <a:ext cx="1440" cy="39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6" name="Line 15"/>
          <p:cNvSpPr/>
          <p:nvPr/>
        </p:nvSpPr>
        <p:spPr>
          <a:xfrm flipH="1">
            <a:off x="1752480" y="1595520"/>
            <a:ext cx="215136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7" name="Line 16"/>
          <p:cNvSpPr/>
          <p:nvPr/>
        </p:nvSpPr>
        <p:spPr>
          <a:xfrm flipV="1">
            <a:off x="1752480" y="2303280"/>
            <a:ext cx="249408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8" name="Line 17"/>
          <p:cNvSpPr/>
          <p:nvPr/>
        </p:nvSpPr>
        <p:spPr>
          <a:xfrm flipH="1" flipV="1">
            <a:off x="3903840" y="1595160"/>
            <a:ext cx="34272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9" name="Line 18"/>
          <p:cNvSpPr/>
          <p:nvPr/>
        </p:nvSpPr>
        <p:spPr>
          <a:xfrm flipH="1">
            <a:off x="2096640" y="2303640"/>
            <a:ext cx="21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0" name="Line 19"/>
          <p:cNvSpPr/>
          <p:nvPr/>
        </p:nvSpPr>
        <p:spPr>
          <a:xfrm>
            <a:off x="2763720" y="2303640"/>
            <a:ext cx="1800" cy="29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1" name="Line 20"/>
          <p:cNvSpPr/>
          <p:nvPr/>
        </p:nvSpPr>
        <p:spPr>
          <a:xfrm flipH="1">
            <a:off x="2366640" y="3716280"/>
            <a:ext cx="187956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2" name="Line 21"/>
          <p:cNvSpPr/>
          <p:nvPr/>
        </p:nvSpPr>
        <p:spPr>
          <a:xfrm>
            <a:off x="4246560" y="3716280"/>
            <a:ext cx="1440" cy="27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3" name="Freeform 22"/>
          <p:cNvSpPr/>
          <p:nvPr/>
        </p:nvSpPr>
        <p:spPr>
          <a:xfrm>
            <a:off x="2763720" y="5289480"/>
            <a:ext cx="1482840" cy="588960"/>
          </a:xfrm>
          <a:custGeom>
            <a:avLst/>
            <a:gdLst/>
            <a:ahLst/>
            <a:rect l="l" t="t" r="r" b="b"/>
            <a:pathLst>
              <a:path w="6541" h="2600">
                <a:moveTo>
                  <a:pt x="0" y="0"/>
                </a:moveTo>
                <a:lnTo>
                  <a:pt x="297" y="269"/>
                </a:lnTo>
                <a:lnTo>
                  <a:pt x="604" y="525"/>
                </a:lnTo>
                <a:lnTo>
                  <a:pt x="923" y="768"/>
                </a:lnTo>
                <a:lnTo>
                  <a:pt x="1252" y="997"/>
                </a:lnTo>
                <a:lnTo>
                  <a:pt x="1589" y="1212"/>
                </a:lnTo>
                <a:lnTo>
                  <a:pt x="1936" y="1414"/>
                </a:lnTo>
                <a:lnTo>
                  <a:pt x="2291" y="1600"/>
                </a:lnTo>
                <a:lnTo>
                  <a:pt x="2653" y="1770"/>
                </a:lnTo>
                <a:lnTo>
                  <a:pt x="3022" y="1926"/>
                </a:lnTo>
                <a:lnTo>
                  <a:pt x="3397" y="2067"/>
                </a:lnTo>
                <a:lnTo>
                  <a:pt x="3778" y="2191"/>
                </a:lnTo>
                <a:lnTo>
                  <a:pt x="4163" y="2299"/>
                </a:lnTo>
                <a:lnTo>
                  <a:pt x="4553" y="2391"/>
                </a:lnTo>
                <a:lnTo>
                  <a:pt x="4946" y="2467"/>
                </a:lnTo>
                <a:lnTo>
                  <a:pt x="5343" y="2525"/>
                </a:lnTo>
                <a:lnTo>
                  <a:pt x="5741" y="2567"/>
                </a:lnTo>
                <a:lnTo>
                  <a:pt x="6140" y="2592"/>
                </a:lnTo>
                <a:lnTo>
                  <a:pt x="6541" y="26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4" name="Freeform 23"/>
          <p:cNvSpPr/>
          <p:nvPr/>
        </p:nvSpPr>
        <p:spPr>
          <a:xfrm>
            <a:off x="1752480" y="5029200"/>
            <a:ext cx="2200320" cy="1490760"/>
          </a:xfrm>
          <a:custGeom>
            <a:avLst/>
            <a:gdLst/>
            <a:ahLst/>
            <a:rect l="l" t="t" r="r" b="b"/>
            <a:pathLst>
              <a:path w="9698" h="6578">
                <a:moveTo>
                  <a:pt x="0" y="0"/>
                </a:moveTo>
                <a:lnTo>
                  <a:pt x="226" y="411"/>
                </a:lnTo>
                <a:lnTo>
                  <a:pt x="468" y="815"/>
                </a:lnTo>
                <a:lnTo>
                  <a:pt x="724" y="1208"/>
                </a:lnTo>
                <a:lnTo>
                  <a:pt x="996" y="1590"/>
                </a:lnTo>
                <a:lnTo>
                  <a:pt x="1281" y="1963"/>
                </a:lnTo>
                <a:lnTo>
                  <a:pt x="1581" y="2324"/>
                </a:lnTo>
                <a:lnTo>
                  <a:pt x="1894" y="2675"/>
                </a:lnTo>
                <a:lnTo>
                  <a:pt x="2219" y="3013"/>
                </a:lnTo>
                <a:lnTo>
                  <a:pt x="2558" y="3338"/>
                </a:lnTo>
                <a:lnTo>
                  <a:pt x="2908" y="3650"/>
                </a:lnTo>
                <a:lnTo>
                  <a:pt x="3270" y="3950"/>
                </a:lnTo>
                <a:lnTo>
                  <a:pt x="3643" y="4234"/>
                </a:lnTo>
                <a:lnTo>
                  <a:pt x="4026" y="4504"/>
                </a:lnTo>
                <a:lnTo>
                  <a:pt x="4419" y="4761"/>
                </a:lnTo>
                <a:lnTo>
                  <a:pt x="4821" y="5001"/>
                </a:lnTo>
                <a:lnTo>
                  <a:pt x="5233" y="5227"/>
                </a:lnTo>
                <a:lnTo>
                  <a:pt x="5652" y="5437"/>
                </a:lnTo>
                <a:lnTo>
                  <a:pt x="6080" y="5631"/>
                </a:lnTo>
                <a:lnTo>
                  <a:pt x="6514" y="5809"/>
                </a:lnTo>
                <a:lnTo>
                  <a:pt x="6954" y="5969"/>
                </a:lnTo>
                <a:lnTo>
                  <a:pt x="7401" y="6114"/>
                </a:lnTo>
                <a:lnTo>
                  <a:pt x="7853" y="6241"/>
                </a:lnTo>
                <a:lnTo>
                  <a:pt x="8309" y="6351"/>
                </a:lnTo>
                <a:lnTo>
                  <a:pt x="8769" y="6444"/>
                </a:lnTo>
                <a:lnTo>
                  <a:pt x="9232" y="6520"/>
                </a:lnTo>
                <a:lnTo>
                  <a:pt x="9698" y="65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5" name="Line 24"/>
          <p:cNvSpPr/>
          <p:nvPr/>
        </p:nvSpPr>
        <p:spPr>
          <a:xfrm>
            <a:off x="2763720" y="5289480"/>
            <a:ext cx="114012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6" name="Freeform 26"/>
          <p:cNvSpPr/>
          <p:nvPr/>
        </p:nvSpPr>
        <p:spPr>
          <a:xfrm>
            <a:off x="3203640" y="5818320"/>
            <a:ext cx="609480" cy="1009440"/>
          </a:xfrm>
          <a:custGeom>
            <a:avLst/>
            <a:gdLst/>
            <a:ahLst/>
            <a:rect l="l" t="t" r="r" b="b"/>
            <a:pathLst>
              <a:path w="2685" h="4454">
                <a:moveTo>
                  <a:pt x="8" y="0"/>
                </a:moveTo>
                <a:lnTo>
                  <a:pt x="0" y="276"/>
                </a:lnTo>
                <a:lnTo>
                  <a:pt x="8" y="552"/>
                </a:lnTo>
                <a:lnTo>
                  <a:pt x="34" y="826"/>
                </a:lnTo>
                <a:lnTo>
                  <a:pt x="75" y="1099"/>
                </a:lnTo>
                <a:lnTo>
                  <a:pt x="134" y="1370"/>
                </a:lnTo>
                <a:lnTo>
                  <a:pt x="207" y="1636"/>
                </a:lnTo>
                <a:lnTo>
                  <a:pt x="298" y="1897"/>
                </a:lnTo>
                <a:lnTo>
                  <a:pt x="402" y="2152"/>
                </a:lnTo>
                <a:lnTo>
                  <a:pt x="523" y="2401"/>
                </a:lnTo>
                <a:lnTo>
                  <a:pt x="657" y="2641"/>
                </a:lnTo>
                <a:lnTo>
                  <a:pt x="807" y="2874"/>
                </a:lnTo>
                <a:lnTo>
                  <a:pt x="970" y="3097"/>
                </a:lnTo>
                <a:lnTo>
                  <a:pt x="1146" y="3310"/>
                </a:lnTo>
                <a:lnTo>
                  <a:pt x="1335" y="3511"/>
                </a:lnTo>
                <a:lnTo>
                  <a:pt x="1535" y="3701"/>
                </a:lnTo>
                <a:lnTo>
                  <a:pt x="1746" y="3879"/>
                </a:lnTo>
                <a:lnTo>
                  <a:pt x="1967" y="4044"/>
                </a:lnTo>
                <a:lnTo>
                  <a:pt x="2198" y="4194"/>
                </a:lnTo>
                <a:lnTo>
                  <a:pt x="2437" y="4331"/>
                </a:lnTo>
                <a:lnTo>
                  <a:pt x="2685" y="4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7" name="Line 27"/>
          <p:cNvSpPr/>
          <p:nvPr/>
        </p:nvSpPr>
        <p:spPr>
          <a:xfrm flipV="1">
            <a:off x="3333600" y="5310360"/>
            <a:ext cx="194472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8" name="Line 28"/>
          <p:cNvSpPr/>
          <p:nvPr/>
        </p:nvSpPr>
        <p:spPr>
          <a:xfrm flipV="1">
            <a:off x="5278320" y="5136840"/>
            <a:ext cx="31284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9" name="Line 29"/>
          <p:cNvSpPr/>
          <p:nvPr/>
        </p:nvSpPr>
        <p:spPr>
          <a:xfrm>
            <a:off x="4246560" y="3716280"/>
            <a:ext cx="10317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0" name="Line 30"/>
          <p:cNvSpPr/>
          <p:nvPr/>
        </p:nvSpPr>
        <p:spPr>
          <a:xfrm flipH="1">
            <a:off x="3333600" y="3716280"/>
            <a:ext cx="91296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1" name="Line 31"/>
          <p:cNvSpPr/>
          <p:nvPr/>
        </p:nvSpPr>
        <p:spPr>
          <a:xfrm>
            <a:off x="1752480" y="2928960"/>
            <a:ext cx="197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2" name="Line 32"/>
          <p:cNvSpPr/>
          <p:nvPr/>
        </p:nvSpPr>
        <p:spPr>
          <a:xfrm>
            <a:off x="3903840" y="1595520"/>
            <a:ext cx="137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3" name="Line 33"/>
          <p:cNvSpPr/>
          <p:nvPr/>
        </p:nvSpPr>
        <p:spPr>
          <a:xfrm flipV="1">
            <a:off x="3333600" y="2928600"/>
            <a:ext cx="180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4" name="Line 34"/>
          <p:cNvSpPr/>
          <p:nvPr/>
        </p:nvSpPr>
        <p:spPr>
          <a:xfrm flipV="1">
            <a:off x="5278320" y="4843080"/>
            <a:ext cx="180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5" name="Line 35"/>
          <p:cNvSpPr/>
          <p:nvPr/>
        </p:nvSpPr>
        <p:spPr>
          <a:xfrm flipH="1">
            <a:off x="4246560" y="1595520"/>
            <a:ext cx="103176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Line 36"/>
          <p:cNvSpPr/>
          <p:nvPr/>
        </p:nvSpPr>
        <p:spPr>
          <a:xfrm flipH="1">
            <a:off x="3333600" y="2303640"/>
            <a:ext cx="912960" cy="62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7" name="Line 37"/>
          <p:cNvSpPr/>
          <p:nvPr/>
        </p:nvSpPr>
        <p:spPr>
          <a:xfrm>
            <a:off x="5278320" y="1595520"/>
            <a:ext cx="255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8" name="Line 38"/>
          <p:cNvSpPr/>
          <p:nvPr/>
        </p:nvSpPr>
        <p:spPr>
          <a:xfrm>
            <a:off x="5533920" y="1595520"/>
            <a:ext cx="99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9" name="Freeform 39"/>
          <p:cNvSpPr/>
          <p:nvPr/>
        </p:nvSpPr>
        <p:spPr>
          <a:xfrm>
            <a:off x="4246560" y="1595520"/>
            <a:ext cx="2281320" cy="1251000"/>
          </a:xfrm>
          <a:custGeom>
            <a:avLst/>
            <a:gdLst/>
            <a:ahLst/>
            <a:rect l="l" t="t" r="r" b="b"/>
            <a:pathLst>
              <a:path w="10058" h="5515">
                <a:moveTo>
                  <a:pt x="0" y="3116"/>
                </a:moveTo>
                <a:lnTo>
                  <a:pt x="183" y="3368"/>
                </a:lnTo>
                <a:lnTo>
                  <a:pt x="380" y="3609"/>
                </a:lnTo>
                <a:lnTo>
                  <a:pt x="590" y="3839"/>
                </a:lnTo>
                <a:lnTo>
                  <a:pt x="812" y="4056"/>
                </a:lnTo>
                <a:lnTo>
                  <a:pt x="1048" y="4260"/>
                </a:lnTo>
                <a:lnTo>
                  <a:pt x="1294" y="4452"/>
                </a:lnTo>
                <a:lnTo>
                  <a:pt x="1550" y="4628"/>
                </a:lnTo>
                <a:lnTo>
                  <a:pt x="1815" y="4791"/>
                </a:lnTo>
                <a:lnTo>
                  <a:pt x="2090" y="4936"/>
                </a:lnTo>
                <a:lnTo>
                  <a:pt x="2372" y="5068"/>
                </a:lnTo>
                <a:lnTo>
                  <a:pt x="2662" y="5183"/>
                </a:lnTo>
                <a:lnTo>
                  <a:pt x="2957" y="5281"/>
                </a:lnTo>
                <a:lnTo>
                  <a:pt x="3257" y="5362"/>
                </a:lnTo>
                <a:lnTo>
                  <a:pt x="3562" y="5427"/>
                </a:lnTo>
                <a:lnTo>
                  <a:pt x="3869" y="5473"/>
                </a:lnTo>
                <a:lnTo>
                  <a:pt x="4179" y="5504"/>
                </a:lnTo>
                <a:lnTo>
                  <a:pt x="4489" y="5515"/>
                </a:lnTo>
                <a:lnTo>
                  <a:pt x="4801" y="5509"/>
                </a:lnTo>
                <a:lnTo>
                  <a:pt x="5111" y="5487"/>
                </a:lnTo>
                <a:lnTo>
                  <a:pt x="5420" y="5446"/>
                </a:lnTo>
                <a:lnTo>
                  <a:pt x="5726" y="5388"/>
                </a:lnTo>
                <a:lnTo>
                  <a:pt x="6028" y="5313"/>
                </a:lnTo>
                <a:lnTo>
                  <a:pt x="6325" y="5221"/>
                </a:lnTo>
                <a:lnTo>
                  <a:pt x="6617" y="5111"/>
                </a:lnTo>
                <a:lnTo>
                  <a:pt x="6901" y="4987"/>
                </a:lnTo>
                <a:lnTo>
                  <a:pt x="7178" y="4846"/>
                </a:lnTo>
                <a:lnTo>
                  <a:pt x="7448" y="4689"/>
                </a:lnTo>
                <a:lnTo>
                  <a:pt x="7707" y="4518"/>
                </a:lnTo>
                <a:lnTo>
                  <a:pt x="7958" y="4333"/>
                </a:lnTo>
                <a:lnTo>
                  <a:pt x="8196" y="4133"/>
                </a:lnTo>
                <a:lnTo>
                  <a:pt x="8424" y="3920"/>
                </a:lnTo>
                <a:lnTo>
                  <a:pt x="8639" y="3694"/>
                </a:lnTo>
                <a:lnTo>
                  <a:pt x="8840" y="3458"/>
                </a:lnTo>
                <a:lnTo>
                  <a:pt x="9029" y="3210"/>
                </a:lnTo>
                <a:lnTo>
                  <a:pt x="9202" y="2951"/>
                </a:lnTo>
                <a:lnTo>
                  <a:pt x="9362" y="2684"/>
                </a:lnTo>
                <a:lnTo>
                  <a:pt x="9505" y="2408"/>
                </a:lnTo>
                <a:lnTo>
                  <a:pt x="9633" y="2124"/>
                </a:lnTo>
                <a:lnTo>
                  <a:pt x="9745" y="1833"/>
                </a:lnTo>
                <a:lnTo>
                  <a:pt x="9839" y="1536"/>
                </a:lnTo>
                <a:lnTo>
                  <a:pt x="9919" y="1236"/>
                </a:lnTo>
                <a:lnTo>
                  <a:pt x="9980" y="929"/>
                </a:lnTo>
                <a:lnTo>
                  <a:pt x="10023" y="622"/>
                </a:lnTo>
                <a:lnTo>
                  <a:pt x="10049" y="311"/>
                </a:lnTo>
                <a:lnTo>
                  <a:pt x="100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Freeform 40"/>
          <p:cNvSpPr/>
          <p:nvPr/>
        </p:nvSpPr>
        <p:spPr>
          <a:xfrm>
            <a:off x="3333600" y="1595520"/>
            <a:ext cx="4300560" cy="2359080"/>
          </a:xfrm>
          <a:custGeom>
            <a:avLst/>
            <a:gdLst/>
            <a:ahLst/>
            <a:rect l="l" t="t" r="r" b="b"/>
            <a:pathLst>
              <a:path w="18967" h="10401">
                <a:moveTo>
                  <a:pt x="0" y="5876"/>
                </a:moveTo>
                <a:lnTo>
                  <a:pt x="244" y="6218"/>
                </a:lnTo>
                <a:lnTo>
                  <a:pt x="501" y="6548"/>
                </a:lnTo>
                <a:lnTo>
                  <a:pt x="770" y="6869"/>
                </a:lnTo>
                <a:lnTo>
                  <a:pt x="1055" y="7178"/>
                </a:lnTo>
                <a:lnTo>
                  <a:pt x="1350" y="7476"/>
                </a:lnTo>
                <a:lnTo>
                  <a:pt x="1656" y="7762"/>
                </a:lnTo>
                <a:lnTo>
                  <a:pt x="1975" y="8035"/>
                </a:lnTo>
                <a:lnTo>
                  <a:pt x="2304" y="8294"/>
                </a:lnTo>
                <a:lnTo>
                  <a:pt x="2643" y="8540"/>
                </a:lnTo>
                <a:lnTo>
                  <a:pt x="2993" y="8773"/>
                </a:lnTo>
                <a:lnTo>
                  <a:pt x="3350" y="8990"/>
                </a:lnTo>
                <a:lnTo>
                  <a:pt x="3717" y="9194"/>
                </a:lnTo>
                <a:lnTo>
                  <a:pt x="4091" y="9383"/>
                </a:lnTo>
                <a:lnTo>
                  <a:pt x="4473" y="9556"/>
                </a:lnTo>
                <a:lnTo>
                  <a:pt x="4862" y="9715"/>
                </a:lnTo>
                <a:lnTo>
                  <a:pt x="5256" y="9856"/>
                </a:lnTo>
                <a:lnTo>
                  <a:pt x="5656" y="9982"/>
                </a:lnTo>
                <a:lnTo>
                  <a:pt x="6060" y="10091"/>
                </a:lnTo>
                <a:lnTo>
                  <a:pt x="6469" y="10185"/>
                </a:lnTo>
                <a:lnTo>
                  <a:pt x="6881" y="10261"/>
                </a:lnTo>
                <a:lnTo>
                  <a:pt x="7296" y="10322"/>
                </a:lnTo>
                <a:lnTo>
                  <a:pt x="7712" y="10365"/>
                </a:lnTo>
                <a:lnTo>
                  <a:pt x="8131" y="10391"/>
                </a:lnTo>
                <a:lnTo>
                  <a:pt x="8550" y="10401"/>
                </a:lnTo>
                <a:lnTo>
                  <a:pt x="8969" y="10393"/>
                </a:lnTo>
                <a:lnTo>
                  <a:pt x="9388" y="10368"/>
                </a:lnTo>
                <a:lnTo>
                  <a:pt x="9805" y="10327"/>
                </a:lnTo>
                <a:lnTo>
                  <a:pt x="10220" y="10269"/>
                </a:lnTo>
                <a:lnTo>
                  <a:pt x="10633" y="10195"/>
                </a:lnTo>
                <a:lnTo>
                  <a:pt x="11042" y="10103"/>
                </a:lnTo>
                <a:lnTo>
                  <a:pt x="11447" y="9995"/>
                </a:lnTo>
                <a:lnTo>
                  <a:pt x="11847" y="9872"/>
                </a:lnTo>
                <a:lnTo>
                  <a:pt x="12242" y="9731"/>
                </a:lnTo>
                <a:lnTo>
                  <a:pt x="12631" y="9575"/>
                </a:lnTo>
                <a:lnTo>
                  <a:pt x="13013" y="9404"/>
                </a:lnTo>
                <a:lnTo>
                  <a:pt x="13389" y="9217"/>
                </a:lnTo>
                <a:lnTo>
                  <a:pt x="13756" y="9015"/>
                </a:lnTo>
                <a:lnTo>
                  <a:pt x="14116" y="8799"/>
                </a:lnTo>
                <a:lnTo>
                  <a:pt x="14466" y="8568"/>
                </a:lnTo>
                <a:lnTo>
                  <a:pt x="14805" y="8323"/>
                </a:lnTo>
                <a:lnTo>
                  <a:pt x="15136" y="8065"/>
                </a:lnTo>
                <a:lnTo>
                  <a:pt x="15456" y="7793"/>
                </a:lnTo>
                <a:lnTo>
                  <a:pt x="15765" y="7509"/>
                </a:lnTo>
                <a:lnTo>
                  <a:pt x="16061" y="7212"/>
                </a:lnTo>
                <a:lnTo>
                  <a:pt x="16346" y="6905"/>
                </a:lnTo>
                <a:lnTo>
                  <a:pt x="16618" y="6585"/>
                </a:lnTo>
                <a:lnTo>
                  <a:pt x="16876" y="6255"/>
                </a:lnTo>
                <a:lnTo>
                  <a:pt x="17121" y="5916"/>
                </a:lnTo>
                <a:lnTo>
                  <a:pt x="17353" y="5566"/>
                </a:lnTo>
                <a:lnTo>
                  <a:pt x="17570" y="5207"/>
                </a:lnTo>
                <a:lnTo>
                  <a:pt x="17773" y="4840"/>
                </a:lnTo>
                <a:lnTo>
                  <a:pt x="17960" y="4464"/>
                </a:lnTo>
                <a:lnTo>
                  <a:pt x="18133" y="4082"/>
                </a:lnTo>
                <a:lnTo>
                  <a:pt x="18290" y="3693"/>
                </a:lnTo>
                <a:lnTo>
                  <a:pt x="18430" y="3298"/>
                </a:lnTo>
                <a:lnTo>
                  <a:pt x="18555" y="2898"/>
                </a:lnTo>
                <a:lnTo>
                  <a:pt x="18664" y="2492"/>
                </a:lnTo>
                <a:lnTo>
                  <a:pt x="18755" y="2083"/>
                </a:lnTo>
                <a:lnTo>
                  <a:pt x="18831" y="1670"/>
                </a:lnTo>
                <a:lnTo>
                  <a:pt x="18890" y="1256"/>
                </a:lnTo>
                <a:lnTo>
                  <a:pt x="18932" y="838"/>
                </a:lnTo>
                <a:lnTo>
                  <a:pt x="18958" y="419"/>
                </a:lnTo>
                <a:lnTo>
                  <a:pt x="1896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Line 41"/>
          <p:cNvSpPr/>
          <p:nvPr/>
        </p:nvSpPr>
        <p:spPr>
          <a:xfrm>
            <a:off x="6527880" y="1595520"/>
            <a:ext cx="1106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Line 42"/>
          <p:cNvSpPr/>
          <p:nvPr/>
        </p:nvSpPr>
        <p:spPr>
          <a:xfrm>
            <a:off x="7634160" y="1595520"/>
            <a:ext cx="235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Line 43"/>
          <p:cNvSpPr/>
          <p:nvPr/>
        </p:nvSpPr>
        <p:spPr>
          <a:xfrm>
            <a:off x="4246560" y="3716280"/>
            <a:ext cx="2432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Line 44"/>
          <p:cNvSpPr/>
          <p:nvPr/>
        </p:nvSpPr>
        <p:spPr>
          <a:xfrm>
            <a:off x="3333600" y="6383160"/>
            <a:ext cx="446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Line 45"/>
          <p:cNvSpPr/>
          <p:nvPr/>
        </p:nvSpPr>
        <p:spPr>
          <a:xfrm>
            <a:off x="6527880" y="1595520"/>
            <a:ext cx="1440" cy="21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Line 46"/>
          <p:cNvSpPr/>
          <p:nvPr/>
        </p:nvSpPr>
        <p:spPr>
          <a:xfrm>
            <a:off x="7634160" y="1595520"/>
            <a:ext cx="1800" cy="47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Line 47"/>
          <p:cNvSpPr/>
          <p:nvPr/>
        </p:nvSpPr>
        <p:spPr>
          <a:xfrm>
            <a:off x="5278320" y="5310360"/>
            <a:ext cx="2355840" cy="10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Line 48"/>
          <p:cNvSpPr/>
          <p:nvPr/>
        </p:nvSpPr>
        <p:spPr>
          <a:xfrm flipH="1" flipV="1">
            <a:off x="6527520" y="3716280"/>
            <a:ext cx="110628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Line 49"/>
          <p:cNvSpPr/>
          <p:nvPr/>
        </p:nvSpPr>
        <p:spPr>
          <a:xfrm flipH="1">
            <a:off x="5277960" y="3716280"/>
            <a:ext cx="1249560" cy="159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Line 50"/>
          <p:cNvSpPr/>
          <p:nvPr/>
        </p:nvSpPr>
        <p:spPr>
          <a:xfrm flipV="1">
            <a:off x="4246560" y="1871640"/>
            <a:ext cx="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Line 51"/>
          <p:cNvSpPr/>
          <p:nvPr/>
        </p:nvSpPr>
        <p:spPr>
          <a:xfrm flipV="1">
            <a:off x="4246560" y="2303280"/>
            <a:ext cx="14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2" name="Line 52"/>
          <p:cNvSpPr/>
          <p:nvPr/>
        </p:nvSpPr>
        <p:spPr>
          <a:xfrm>
            <a:off x="5278320" y="5310360"/>
            <a:ext cx="180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3" name="Line 53"/>
          <p:cNvSpPr/>
          <p:nvPr/>
        </p:nvSpPr>
        <p:spPr>
          <a:xfrm flipV="1">
            <a:off x="5278320" y="1595520"/>
            <a:ext cx="1800" cy="32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4" name="Text Box 54"/>
          <p:cNvSpPr/>
          <p:nvPr/>
        </p:nvSpPr>
        <p:spPr>
          <a:xfrm>
            <a:off x="1323360" y="308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5" name="Text Box 55"/>
          <p:cNvSpPr/>
          <p:nvPr/>
        </p:nvSpPr>
        <p:spPr>
          <a:xfrm>
            <a:off x="1471320" y="322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6" name="Text Box 57"/>
          <p:cNvSpPr/>
          <p:nvPr/>
        </p:nvSpPr>
        <p:spPr>
          <a:xfrm rot="18926400">
            <a:off x="2159280" y="527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7" name="Text Box 58"/>
          <p:cNvSpPr/>
          <p:nvPr/>
        </p:nvSpPr>
        <p:spPr>
          <a:xfrm rot="18964800">
            <a:off x="2362680" y="534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8" name="Oval 59"/>
          <p:cNvSpPr/>
          <p:nvPr/>
        </p:nvSpPr>
        <p:spPr>
          <a:xfrm>
            <a:off x="4197240" y="581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9" name="Text Box 66"/>
          <p:cNvSpPr/>
          <p:nvPr/>
        </p:nvSpPr>
        <p:spPr>
          <a:xfrm>
            <a:off x="4296960" y="21510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0" name="Text Box 67"/>
          <p:cNvSpPr/>
          <p:nvPr/>
        </p:nvSpPr>
        <p:spPr>
          <a:xfrm>
            <a:off x="5062320" y="233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1" name="Oval 68"/>
          <p:cNvSpPr/>
          <p:nvPr/>
        </p:nvSpPr>
        <p:spPr>
          <a:xfrm>
            <a:off x="522144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2" name="Oval 69"/>
          <p:cNvSpPr/>
          <p:nvPr/>
        </p:nvSpPr>
        <p:spPr>
          <a:xfrm>
            <a:off x="4187880" y="224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3" name="Text Box 70"/>
          <p:cNvSpPr/>
          <p:nvPr/>
        </p:nvSpPr>
        <p:spPr>
          <a:xfrm>
            <a:off x="4841280" y="11462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 ≡ g  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4" name="Text Box 71"/>
          <p:cNvSpPr/>
          <p:nvPr/>
        </p:nvSpPr>
        <p:spPr>
          <a:xfrm>
            <a:off x="5543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5" name="Text Box 72"/>
          <p:cNvSpPr/>
          <p:nvPr/>
        </p:nvSpPr>
        <p:spPr>
          <a:xfrm>
            <a:off x="4927680" y="54561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6" name="Text Box 73"/>
          <p:cNvSpPr/>
          <p:nvPr/>
        </p:nvSpPr>
        <p:spPr>
          <a:xfrm>
            <a:off x="564804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7" name="Oval 74"/>
          <p:cNvSpPr/>
          <p:nvPr/>
        </p:nvSpPr>
        <p:spPr>
          <a:xfrm>
            <a:off x="7574040" y="63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8" name="Text Box 75"/>
          <p:cNvSpPr/>
          <p:nvPr/>
        </p:nvSpPr>
        <p:spPr>
          <a:xfrm>
            <a:off x="4296960" y="33703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i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9" name="Text Box 76"/>
          <p:cNvSpPr/>
          <p:nvPr/>
        </p:nvSpPr>
        <p:spPr>
          <a:xfrm>
            <a:off x="4924440" y="351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0" name="Oval 77"/>
          <p:cNvSpPr/>
          <p:nvPr/>
        </p:nvSpPr>
        <p:spPr>
          <a:xfrm>
            <a:off x="418320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1" name="Text Box 78"/>
          <p:cNvSpPr/>
          <p:nvPr/>
        </p:nvSpPr>
        <p:spPr>
          <a:xfrm>
            <a:off x="2869200" y="5899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2" name="Text Box 79"/>
          <p:cNvSpPr/>
          <p:nvPr/>
        </p:nvSpPr>
        <p:spPr>
          <a:xfrm>
            <a:off x="3062160" y="607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3" name="Oval 80"/>
          <p:cNvSpPr/>
          <p:nvPr/>
        </p:nvSpPr>
        <p:spPr>
          <a:xfrm>
            <a:off x="3278160" y="6296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4" name="Text Box 81"/>
          <p:cNvSpPr/>
          <p:nvPr/>
        </p:nvSpPr>
        <p:spPr>
          <a:xfrm>
            <a:off x="5216400" y="457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5" name="Text Box 82"/>
          <p:cNvSpPr/>
          <p:nvPr/>
        </p:nvSpPr>
        <p:spPr>
          <a:xfrm>
            <a:off x="5367240" y="478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6" name="Oval 83"/>
          <p:cNvSpPr/>
          <p:nvPr/>
        </p:nvSpPr>
        <p:spPr>
          <a:xfrm>
            <a:off x="3278160" y="2867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7" name="Text Box 84"/>
          <p:cNvSpPr/>
          <p:nvPr/>
        </p:nvSpPr>
        <p:spPr>
          <a:xfrm>
            <a:off x="2912040" y="2913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8" name="Text Box 85"/>
          <p:cNvSpPr/>
          <p:nvPr/>
        </p:nvSpPr>
        <p:spPr>
          <a:xfrm>
            <a:off x="3119400" y="309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9" name="Text Box 86"/>
          <p:cNvSpPr/>
          <p:nvPr/>
        </p:nvSpPr>
        <p:spPr>
          <a:xfrm>
            <a:off x="2035080" y="190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0" name="Text Box 87"/>
          <p:cNvSpPr/>
          <p:nvPr/>
        </p:nvSpPr>
        <p:spPr>
          <a:xfrm>
            <a:off x="2209680" y="208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1" name="Oval 88"/>
          <p:cNvSpPr/>
          <p:nvPr/>
        </p:nvSpPr>
        <p:spPr>
          <a:xfrm>
            <a:off x="2716200" y="2238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2" name="Text Box 89"/>
          <p:cNvSpPr/>
          <p:nvPr/>
        </p:nvSpPr>
        <p:spPr>
          <a:xfrm>
            <a:off x="4231080" y="16700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3" name="Text Box 90"/>
          <p:cNvSpPr/>
          <p:nvPr/>
        </p:nvSpPr>
        <p:spPr>
          <a:xfrm>
            <a:off x="4352760" y="184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4" name="Oval 96"/>
          <p:cNvSpPr/>
          <p:nvPr/>
        </p:nvSpPr>
        <p:spPr>
          <a:xfrm>
            <a:off x="2711520" y="5219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5" name="Text Box 97"/>
          <p:cNvSpPr/>
          <p:nvPr/>
        </p:nvSpPr>
        <p:spPr>
          <a:xfrm>
            <a:off x="2392200" y="482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6" name="Text Box 98"/>
          <p:cNvSpPr/>
          <p:nvPr/>
        </p:nvSpPr>
        <p:spPr>
          <a:xfrm>
            <a:off x="2552400" y="50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7" name="Text Box 99"/>
          <p:cNvSpPr/>
          <p:nvPr/>
        </p:nvSpPr>
        <p:spPr>
          <a:xfrm>
            <a:off x="543852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8" name="Text Box 100"/>
          <p:cNvSpPr/>
          <p:nvPr/>
        </p:nvSpPr>
        <p:spPr>
          <a:xfrm>
            <a:off x="4505040" y="35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9" name="Text Box 101"/>
          <p:cNvSpPr/>
          <p:nvPr/>
        </p:nvSpPr>
        <p:spPr>
          <a:xfrm>
            <a:off x="4505040" y="232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0" name="Text Box 102"/>
          <p:cNvSpPr/>
          <p:nvPr/>
        </p:nvSpPr>
        <p:spPr>
          <a:xfrm>
            <a:off x="4311720" y="5864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Text Box 103"/>
          <p:cNvSpPr/>
          <p:nvPr/>
        </p:nvSpPr>
        <p:spPr>
          <a:xfrm>
            <a:off x="4519440" y="604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2" name="Oval 104"/>
          <p:cNvSpPr/>
          <p:nvPr/>
        </p:nvSpPr>
        <p:spPr>
          <a:xfrm>
            <a:off x="3840120" y="551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3" name="Oval 105"/>
          <p:cNvSpPr/>
          <p:nvPr/>
        </p:nvSpPr>
        <p:spPr>
          <a:xfrm>
            <a:off x="1697040" y="2862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4" name="Text Box 106"/>
          <p:cNvSpPr/>
          <p:nvPr/>
        </p:nvSpPr>
        <p:spPr>
          <a:xfrm>
            <a:off x="1316520" y="247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5" name="Text Box 107"/>
          <p:cNvSpPr/>
          <p:nvPr/>
        </p:nvSpPr>
        <p:spPr>
          <a:xfrm>
            <a:off x="1523880" y="265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6" name="Oval 108"/>
          <p:cNvSpPr/>
          <p:nvPr/>
        </p:nvSpPr>
        <p:spPr>
          <a:xfrm>
            <a:off x="75643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7" name="Text Box 109"/>
          <p:cNvSpPr/>
          <p:nvPr/>
        </p:nvSpPr>
        <p:spPr>
          <a:xfrm>
            <a:off x="7594200" y="1555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8" name="Text Box 110"/>
          <p:cNvSpPr/>
          <p:nvPr/>
        </p:nvSpPr>
        <p:spPr>
          <a:xfrm>
            <a:off x="7800840" y="172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9" name="Text Box 111"/>
          <p:cNvSpPr/>
          <p:nvPr/>
        </p:nvSpPr>
        <p:spPr>
          <a:xfrm>
            <a:off x="605304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0" name="Text Box 112"/>
          <p:cNvSpPr/>
          <p:nvPr/>
        </p:nvSpPr>
        <p:spPr>
          <a:xfrm>
            <a:off x="504828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1" name="Text Box 113"/>
          <p:cNvSpPr/>
          <p:nvPr/>
        </p:nvSpPr>
        <p:spPr>
          <a:xfrm>
            <a:off x="5091120" y="56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2" name="Oval 114"/>
          <p:cNvSpPr/>
          <p:nvPr/>
        </p:nvSpPr>
        <p:spPr>
          <a:xfrm>
            <a:off x="3840120" y="1542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3" name="Text Box 115"/>
          <p:cNvSpPr/>
          <p:nvPr/>
        </p:nvSpPr>
        <p:spPr>
          <a:xfrm>
            <a:off x="3459600" y="114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4" name="Text Box 116"/>
          <p:cNvSpPr/>
          <p:nvPr/>
        </p:nvSpPr>
        <p:spPr>
          <a:xfrm>
            <a:off x="3666960" y="131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5" name="Oval 117"/>
          <p:cNvSpPr/>
          <p:nvPr/>
        </p:nvSpPr>
        <p:spPr>
          <a:xfrm>
            <a:off x="6473880" y="153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6" name="Text Box 118"/>
          <p:cNvSpPr/>
          <p:nvPr/>
        </p:nvSpPr>
        <p:spPr>
          <a:xfrm>
            <a:off x="6503040" y="1546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7" name="Text Box 119"/>
          <p:cNvSpPr/>
          <p:nvPr/>
        </p:nvSpPr>
        <p:spPr>
          <a:xfrm>
            <a:off x="6710040" y="17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8" name="Text Box 120"/>
          <p:cNvSpPr/>
          <p:nvPr/>
        </p:nvSpPr>
        <p:spPr>
          <a:xfrm>
            <a:off x="7117920" y="63421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9" name="Text Box 121"/>
          <p:cNvSpPr/>
          <p:nvPr/>
        </p:nvSpPr>
        <p:spPr>
          <a:xfrm>
            <a:off x="7305480" y="649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0" name="Oval 122"/>
          <p:cNvSpPr/>
          <p:nvPr/>
        </p:nvSpPr>
        <p:spPr>
          <a:xfrm>
            <a:off x="5221440" y="523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1" name="Oval 123"/>
          <p:cNvSpPr/>
          <p:nvPr/>
        </p:nvSpPr>
        <p:spPr>
          <a:xfrm>
            <a:off x="6473880" y="3666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2" name="Text Box 124"/>
          <p:cNvSpPr/>
          <p:nvPr/>
        </p:nvSpPr>
        <p:spPr>
          <a:xfrm>
            <a:off x="6707880" y="3422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3" name="Text Box 125"/>
          <p:cNvSpPr/>
          <p:nvPr/>
        </p:nvSpPr>
        <p:spPr>
          <a:xfrm>
            <a:off x="6895800" y="357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4" name="Freeform 126"/>
          <p:cNvSpPr/>
          <p:nvPr/>
        </p:nvSpPr>
        <p:spPr>
          <a:xfrm>
            <a:off x="5400720" y="3930480"/>
            <a:ext cx="1217520" cy="1222560"/>
          </a:xfrm>
          <a:custGeom>
            <a:avLst/>
            <a:gdLst/>
            <a:ahLst/>
            <a:rect l="l" t="t" r="r" b="b"/>
            <a:pathLst>
              <a:path w="1790" h="1790">
                <a:moveTo>
                  <a:pt x="0" y="1790"/>
                </a:moveTo>
                <a:lnTo>
                  <a:pt x="1177" y="612"/>
                </a:lnTo>
                <a:lnTo>
                  <a:pt x="179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5" name="Freeform 127"/>
          <p:cNvSpPr/>
          <p:nvPr/>
        </p:nvSpPr>
        <p:spPr>
          <a:xfrm>
            <a:off x="5492880" y="4181400"/>
            <a:ext cx="1230120" cy="1230480"/>
          </a:xfrm>
          <a:custGeom>
            <a:avLst/>
            <a:gdLst/>
            <a:ahLst/>
            <a:rect l="l" t="t" r="r" b="b"/>
            <a:pathLst>
              <a:path w="3717" h="3718">
                <a:moveTo>
                  <a:pt x="0" y="3718"/>
                </a:moveTo>
                <a:lnTo>
                  <a:pt x="2445" y="1273"/>
                </a:lnTo>
                <a:lnTo>
                  <a:pt x="371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6" name="Freeform 128"/>
          <p:cNvSpPr/>
          <p:nvPr/>
        </p:nvSpPr>
        <p:spPr>
          <a:xfrm>
            <a:off x="5737320" y="4427640"/>
            <a:ext cx="1095120" cy="1095120"/>
          </a:xfrm>
          <a:custGeom>
            <a:avLst/>
            <a:gdLst/>
            <a:ahLst/>
            <a:rect l="l" t="t" r="r" b="b"/>
            <a:pathLst>
              <a:path w="5022" h="5023">
                <a:moveTo>
                  <a:pt x="0" y="5023"/>
                </a:moveTo>
                <a:lnTo>
                  <a:pt x="3090" y="1933"/>
                </a:lnTo>
                <a:lnTo>
                  <a:pt x="502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7" name="Freeform 129"/>
          <p:cNvSpPr/>
          <p:nvPr/>
        </p:nvSpPr>
        <p:spPr>
          <a:xfrm>
            <a:off x="5994360" y="4678200"/>
            <a:ext cx="942840" cy="944640"/>
          </a:xfrm>
          <a:custGeom>
            <a:avLst/>
            <a:gdLst/>
            <a:ahLst/>
            <a:rect l="l" t="t" r="r" b="b"/>
            <a:pathLst>
              <a:path w="4230" h="4233">
                <a:moveTo>
                  <a:pt x="0" y="4233"/>
                </a:moveTo>
                <a:lnTo>
                  <a:pt x="1638" y="2594"/>
                </a:lnTo>
                <a:lnTo>
                  <a:pt x="423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8" name="Freeform 130"/>
          <p:cNvSpPr/>
          <p:nvPr/>
        </p:nvSpPr>
        <p:spPr>
          <a:xfrm>
            <a:off x="6237360" y="4935600"/>
            <a:ext cx="801720" cy="807840"/>
          </a:xfrm>
          <a:custGeom>
            <a:avLst/>
            <a:gdLst/>
            <a:ahLst/>
            <a:rect l="l" t="t" r="r" b="b"/>
            <a:pathLst>
              <a:path w="3439" h="3441">
                <a:moveTo>
                  <a:pt x="0" y="3441"/>
                </a:moveTo>
                <a:lnTo>
                  <a:pt x="188" y="3254"/>
                </a:lnTo>
                <a:lnTo>
                  <a:pt x="343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9" name="Line 131"/>
          <p:cNvSpPr/>
          <p:nvPr/>
        </p:nvSpPr>
        <p:spPr>
          <a:xfrm flipV="1">
            <a:off x="6480000" y="5178240"/>
            <a:ext cx="663840" cy="67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0" name="Line 132"/>
          <p:cNvSpPr/>
          <p:nvPr/>
        </p:nvSpPr>
        <p:spPr>
          <a:xfrm flipV="1">
            <a:off x="6726240" y="5438880"/>
            <a:ext cx="514440" cy="520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1" name="Line 133"/>
          <p:cNvSpPr/>
          <p:nvPr/>
        </p:nvSpPr>
        <p:spPr>
          <a:xfrm flipV="1">
            <a:off x="6942240" y="5667480"/>
            <a:ext cx="393480" cy="40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2" name="Line 134"/>
          <p:cNvSpPr/>
          <p:nvPr/>
        </p:nvSpPr>
        <p:spPr>
          <a:xfrm flipV="1">
            <a:off x="7183440" y="5914800"/>
            <a:ext cx="250920" cy="25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3" name="Line 135"/>
          <p:cNvSpPr/>
          <p:nvPr/>
        </p:nvSpPr>
        <p:spPr>
          <a:xfrm flipV="1">
            <a:off x="7408800" y="6156360"/>
            <a:ext cx="130320" cy="1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4" name="Text Box 136"/>
          <p:cNvSpPr/>
          <p:nvPr/>
        </p:nvSpPr>
        <p:spPr>
          <a:xfrm>
            <a:off x="7122240" y="43718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5" name="Line 138"/>
          <p:cNvSpPr/>
          <p:nvPr/>
        </p:nvSpPr>
        <p:spPr>
          <a:xfrm>
            <a:off x="6400800" y="4324320"/>
            <a:ext cx="84924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6" name="Line 140"/>
          <p:cNvSpPr/>
          <p:nvPr/>
        </p:nvSpPr>
        <p:spPr>
          <a:xfrm>
            <a:off x="7250040" y="4741920"/>
            <a:ext cx="12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7" name="Text Box 141"/>
          <p:cNvSpPr/>
          <p:nvPr/>
        </p:nvSpPr>
        <p:spPr>
          <a:xfrm>
            <a:off x="2585880" y="182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8" name="Text Box 142"/>
          <p:cNvSpPr/>
          <p:nvPr/>
        </p:nvSpPr>
        <p:spPr>
          <a:xfrm>
            <a:off x="2760480" y="199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9" name="Text Box 143"/>
          <p:cNvSpPr/>
          <p:nvPr/>
        </p:nvSpPr>
        <p:spPr>
          <a:xfrm>
            <a:off x="1302120" y="4575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0" name="Text Box 144"/>
          <p:cNvSpPr/>
          <p:nvPr/>
        </p:nvSpPr>
        <p:spPr>
          <a:xfrm>
            <a:off x="1509480" y="475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1" name="Oval 145"/>
          <p:cNvSpPr/>
          <p:nvPr/>
        </p:nvSpPr>
        <p:spPr>
          <a:xfrm>
            <a:off x="1682640" y="4962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2" name="Text Box 146"/>
          <p:cNvSpPr/>
          <p:nvPr/>
        </p:nvSpPr>
        <p:spPr>
          <a:xfrm>
            <a:off x="3957840" y="520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3" name="Text Box 147"/>
          <p:cNvSpPr/>
          <p:nvPr/>
        </p:nvSpPr>
        <p:spPr>
          <a:xfrm>
            <a:off x="4165560" y="538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97B-1ADE-4DEA-8628-42436B803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6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7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8" name="Text Box 9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9" name="Text Box 10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0" name="Text Box 13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1" name="Text Box 14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2" name="Line 17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3" name="Line 18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4" name="Line 20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5" name="Line 22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6" name="Text Box 37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7" name="Text Box 38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8" name="Oval 39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9" name="Text Box 40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0" name="Text Box 41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1" name="Oval 42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27E2-34E7-4BE5-9EB4-BC57FED0F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4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5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6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7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8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9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0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1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2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3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4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5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6" name="Oval 17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7" name="Text Box 18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8" name="Text Box 19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9" name="Text Box 21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0" name="Text Box 22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1" name="Line 23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2" name="Line 24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3" name="Line 25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4" name="Oval 26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B3BD-C3F5-42DB-B697-B73E0B017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7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8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0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1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2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3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4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5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6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7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Oval 17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Text Box 18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Text Box 19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Text Box 20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Text Box 21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Line 22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Line 23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Line 24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Oval 25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Oval 26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Text Box 27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Text Box 28"/>
          <p:cNvSpPr/>
          <p:nvPr/>
        </p:nvSpPr>
        <p:spPr>
          <a:xfrm>
            <a:off x="2154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874-17EB-4BB9-BE5B-3F2084DF9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3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4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5" name="Oval 17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6" name="Text Box 18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7" name="Text Box 19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8" name="Text Box 20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9" name="Text Box 21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0" name="Line 22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1" name="Line 23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Line 24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3" name="Oval 25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4" name="Text Box 27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5" name="Text Box 28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6" name="Text Box 29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7" name="Text Box 30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8" name="Line 31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9" name="Oval 32"/>
          <p:cNvSpPr/>
          <p:nvPr/>
        </p:nvSpPr>
        <p:spPr>
          <a:xfrm>
            <a:off x="2390760" y="3038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0" name="Oval 33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D51-D9E9-47D3-AE81-F423B500A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3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4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5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6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7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8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0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1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2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3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4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5" name="Text Box 18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6" name="Text Box 19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7" name="Text Box 20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8" name="Text Box 21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9" name="Line 22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0" name="Line 23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1" name="Line 24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2" name="Oval 25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3" name="Text Box 26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4" name="Text Box 27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Text Box 28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Text Box 29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Line 30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Oval 32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Line 35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Oval 36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Oval 37"/>
          <p:cNvSpPr/>
          <p:nvPr/>
        </p:nvSpPr>
        <p:spPr>
          <a:xfrm>
            <a:off x="2401920" y="3063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Text Box 38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8B4-0CD5-402C-A270-DFB48D233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4"/>
          <p:cNvSpPr/>
          <p:nvPr/>
        </p:nvSpPr>
        <p:spPr>
          <a:xfrm flipH="1">
            <a:off x="6400440" y="3262320"/>
            <a:ext cx="2438280" cy="16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 rot="19283400">
            <a:off x="8335800" y="30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 rot="19249800">
            <a:off x="8531280" y="3109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9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6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0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4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5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6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7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8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0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1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4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5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6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7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8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9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0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2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3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4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5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6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7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8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9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2"/>
          <p:cNvSpPr/>
          <p:nvPr/>
        </p:nvSpPr>
        <p:spPr>
          <a:xfrm flipH="1" flipV="1">
            <a:off x="218556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3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54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5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7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8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9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0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1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2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3"/>
          <p:cNvSpPr/>
          <p:nvPr/>
        </p:nvSpPr>
        <p:spPr>
          <a:xfrm flipV="1">
            <a:off x="5460840" y="4078440"/>
            <a:ext cx="97164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64"/>
          <p:cNvSpPr/>
          <p:nvPr/>
        </p:nvSpPr>
        <p:spPr>
          <a:xfrm flipV="1">
            <a:off x="7203960" y="3081240"/>
            <a:ext cx="31608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65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6"/>
          <p:cNvSpPr/>
          <p:nvPr/>
        </p:nvSpPr>
        <p:spPr>
          <a:xfrm flipV="1">
            <a:off x="6281640" y="4006800"/>
            <a:ext cx="8568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7"/>
          <p:cNvSpPr/>
          <p:nvPr/>
        </p:nvSpPr>
        <p:spPr>
          <a:xfrm>
            <a:off x="6281640" y="4084560"/>
            <a:ext cx="6516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8"/>
          <p:cNvSpPr/>
          <p:nvPr/>
        </p:nvSpPr>
        <p:spPr>
          <a:xfrm flipV="1">
            <a:off x="5394240" y="2373120"/>
            <a:ext cx="12240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9"/>
          <p:cNvSpPr/>
          <p:nvPr/>
        </p:nvSpPr>
        <p:spPr>
          <a:xfrm>
            <a:off x="6613560" y="3760920"/>
            <a:ext cx="23976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0"/>
          <p:cNvSpPr/>
          <p:nvPr/>
        </p:nvSpPr>
        <p:spPr>
          <a:xfrm>
            <a:off x="7540560" y="326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1"/>
          <p:cNvSpPr/>
          <p:nvPr/>
        </p:nvSpPr>
        <p:spPr>
          <a:xfrm>
            <a:off x="7326720" y="3116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2"/>
          <p:cNvSpPr/>
          <p:nvPr/>
        </p:nvSpPr>
        <p:spPr>
          <a:xfrm flipV="1">
            <a:off x="6432480" y="3371400"/>
            <a:ext cx="768600" cy="70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4"/>
          <p:cNvSpPr/>
          <p:nvPr/>
        </p:nvSpPr>
        <p:spPr>
          <a:xfrm>
            <a:off x="7201080" y="3371760"/>
            <a:ext cx="1481040" cy="217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5"/>
          <p:cNvSpPr/>
          <p:nvPr/>
        </p:nvSpPr>
        <p:spPr>
          <a:xfrm flipV="1">
            <a:off x="7527960" y="3993840"/>
            <a:ext cx="9504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6"/>
          <p:cNvSpPr/>
          <p:nvPr/>
        </p:nvSpPr>
        <p:spPr>
          <a:xfrm>
            <a:off x="7527960" y="4059360"/>
            <a:ext cx="44280" cy="6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77"/>
          <p:cNvSpPr/>
          <p:nvPr/>
        </p:nvSpPr>
        <p:spPr>
          <a:xfrm>
            <a:off x="7143840" y="3313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8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79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3570120" y="5599080"/>
            <a:ext cx="532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новую проекцию точки А. Проведем перпендикуляр из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609E-7BEC-4BEF-8A07-06D6F3ABA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Text Box 17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Text Box 18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Text Box 19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Text Box 20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Line 21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2" name="Line 22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Line 23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Oval 24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Text Box 25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Text Box 26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Text Box 27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Text Box 28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Line 29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Oval 30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Line 31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Oval 32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Oval 33"/>
          <p:cNvSpPr/>
          <p:nvPr/>
        </p:nvSpPr>
        <p:spPr>
          <a:xfrm>
            <a:off x="2401920" y="3063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Text Box 34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Line 35"/>
          <p:cNvSpPr/>
          <p:nvPr/>
        </p:nvSpPr>
        <p:spPr>
          <a:xfrm>
            <a:off x="5086440" y="4359240"/>
            <a:ext cx="3039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Line 36"/>
          <p:cNvSpPr/>
          <p:nvPr/>
        </p:nvSpPr>
        <p:spPr>
          <a:xfrm flipV="1">
            <a:off x="4938840" y="1344240"/>
            <a:ext cx="3235320" cy="24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Line 37"/>
          <p:cNvSpPr/>
          <p:nvPr/>
        </p:nvSpPr>
        <p:spPr>
          <a:xfrm>
            <a:off x="5673600" y="1576440"/>
            <a:ext cx="180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Text Box 38"/>
          <p:cNvSpPr/>
          <p:nvPr/>
        </p:nvSpPr>
        <p:spPr>
          <a:xfrm rot="19453200">
            <a:off x="7647120" y="1242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Text Box 39"/>
          <p:cNvSpPr/>
          <p:nvPr/>
        </p:nvSpPr>
        <p:spPr>
          <a:xfrm rot="19467600">
            <a:off x="7790040" y="129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Text Box 40"/>
          <p:cNvSpPr/>
          <p:nvPr/>
        </p:nvSpPr>
        <p:spPr>
          <a:xfrm>
            <a:off x="7762680" y="3979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Text Box 41"/>
          <p:cNvSpPr/>
          <p:nvPr/>
        </p:nvSpPr>
        <p:spPr>
          <a:xfrm>
            <a:off x="7920000" y="415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Oval 42"/>
          <p:cNvSpPr/>
          <p:nvPr/>
        </p:nvSpPr>
        <p:spPr>
          <a:xfrm>
            <a:off x="5607000" y="5691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Text Box 43"/>
          <p:cNvSpPr/>
          <p:nvPr/>
        </p:nvSpPr>
        <p:spPr>
          <a:xfrm>
            <a:off x="5185080" y="555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Text Box 44"/>
          <p:cNvSpPr/>
          <p:nvPr/>
        </p:nvSpPr>
        <p:spPr>
          <a:xfrm>
            <a:off x="5392440" y="572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Text Box 45"/>
          <p:cNvSpPr/>
          <p:nvPr/>
        </p:nvSpPr>
        <p:spPr>
          <a:xfrm>
            <a:off x="5197680" y="139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Text Box 46"/>
          <p:cNvSpPr/>
          <p:nvPr/>
        </p:nvSpPr>
        <p:spPr>
          <a:xfrm>
            <a:off x="5405400" y="15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Oval 52"/>
          <p:cNvSpPr/>
          <p:nvPr/>
        </p:nvSpPr>
        <p:spPr>
          <a:xfrm>
            <a:off x="5619600" y="15350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342B-6DA7-4C23-B7C4-335DCDE96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Text Box 17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Text Box 18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Text Box 19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Text Box 20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Line 21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Line 22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Line 23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Oval 24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Text Box 25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Text Box 26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Text Box 27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3" name="Text Box 28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4" name="Line 29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5" name="Oval 30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6" name="Line 31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7" name="Oval 32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8" name="Oval 33"/>
          <p:cNvSpPr/>
          <p:nvPr/>
        </p:nvSpPr>
        <p:spPr>
          <a:xfrm>
            <a:off x="2401920" y="3063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9" name="Text Box 34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0" name="Line 37"/>
          <p:cNvSpPr/>
          <p:nvPr/>
        </p:nvSpPr>
        <p:spPr>
          <a:xfrm>
            <a:off x="5086440" y="4359240"/>
            <a:ext cx="3039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1" name="Line 38"/>
          <p:cNvSpPr/>
          <p:nvPr/>
        </p:nvSpPr>
        <p:spPr>
          <a:xfrm flipV="1">
            <a:off x="4938840" y="1344240"/>
            <a:ext cx="3235320" cy="24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2" name="Line 39"/>
          <p:cNvSpPr/>
          <p:nvPr/>
        </p:nvSpPr>
        <p:spPr>
          <a:xfrm>
            <a:off x="5673600" y="1576440"/>
            <a:ext cx="180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3" name="Text Box 46"/>
          <p:cNvSpPr/>
          <p:nvPr/>
        </p:nvSpPr>
        <p:spPr>
          <a:xfrm rot="19453200">
            <a:off x="7647120" y="1242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4" name="Text Box 47"/>
          <p:cNvSpPr/>
          <p:nvPr/>
        </p:nvSpPr>
        <p:spPr>
          <a:xfrm rot="19467600">
            <a:off x="7790040" y="129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5" name="Text Box 52"/>
          <p:cNvSpPr/>
          <p:nvPr/>
        </p:nvSpPr>
        <p:spPr>
          <a:xfrm>
            <a:off x="7762680" y="3979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6" name="Text Box 53"/>
          <p:cNvSpPr/>
          <p:nvPr/>
        </p:nvSpPr>
        <p:spPr>
          <a:xfrm>
            <a:off x="7920000" y="415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7" name="Oval 54"/>
          <p:cNvSpPr/>
          <p:nvPr/>
        </p:nvSpPr>
        <p:spPr>
          <a:xfrm>
            <a:off x="5607000" y="5691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8" name="Text Box 55"/>
          <p:cNvSpPr/>
          <p:nvPr/>
        </p:nvSpPr>
        <p:spPr>
          <a:xfrm>
            <a:off x="5185080" y="555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9" name="Text Box 56"/>
          <p:cNvSpPr/>
          <p:nvPr/>
        </p:nvSpPr>
        <p:spPr>
          <a:xfrm>
            <a:off x="5392440" y="572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0" name="Text Box 57"/>
          <p:cNvSpPr/>
          <p:nvPr/>
        </p:nvSpPr>
        <p:spPr>
          <a:xfrm>
            <a:off x="5197680" y="139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1" name="Text Box 58"/>
          <p:cNvSpPr/>
          <p:nvPr/>
        </p:nvSpPr>
        <p:spPr>
          <a:xfrm>
            <a:off x="5405400" y="15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2" name="Text Box 61"/>
          <p:cNvSpPr/>
          <p:nvPr/>
        </p:nvSpPr>
        <p:spPr>
          <a:xfrm rot="3144000">
            <a:off x="7108200" y="3097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3" name="Text Box 62"/>
          <p:cNvSpPr/>
          <p:nvPr/>
        </p:nvSpPr>
        <p:spPr>
          <a:xfrm rot="3116400">
            <a:off x="7147080" y="331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4" name="Line 63"/>
          <p:cNvSpPr/>
          <p:nvPr/>
        </p:nvSpPr>
        <p:spPr>
          <a:xfrm>
            <a:off x="5673600" y="1576440"/>
            <a:ext cx="1565280" cy="2100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5" name="Line 64"/>
          <p:cNvSpPr/>
          <p:nvPr/>
        </p:nvSpPr>
        <p:spPr>
          <a:xfrm flipH="1">
            <a:off x="6360840" y="2398680"/>
            <a:ext cx="135000" cy="100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6" name="Line 65"/>
          <p:cNvSpPr/>
          <p:nvPr/>
        </p:nvSpPr>
        <p:spPr>
          <a:xfrm>
            <a:off x="6496200" y="2398680"/>
            <a:ext cx="95040" cy="12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7" name="Oval 66"/>
          <p:cNvSpPr/>
          <p:nvPr/>
        </p:nvSpPr>
        <p:spPr>
          <a:xfrm>
            <a:off x="5619600" y="15350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5D4A-F7BA-4A62-88BE-DD7A15E20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0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1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2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3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4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5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6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7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8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9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0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1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2" name="Text Box 17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3" name="Text Box 18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4" name="Text Box 19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5" name="Text Box 20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6" name="Line 21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7" name="Line 22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8" name="Line 23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9" name="Oval 24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0" name="Text Box 25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1" name="Text Box 26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2" name="Text Box 27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3" name="Text Box 28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4" name="Line 29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5" name="Oval 30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6" name="Line 31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7" name="Oval 32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Oval 33"/>
          <p:cNvSpPr/>
          <p:nvPr/>
        </p:nvSpPr>
        <p:spPr>
          <a:xfrm>
            <a:off x="2401920" y="3063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9" name="Text Box 34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0" name="Line 35"/>
          <p:cNvSpPr/>
          <p:nvPr/>
        </p:nvSpPr>
        <p:spPr>
          <a:xfrm>
            <a:off x="5086440" y="4359240"/>
            <a:ext cx="3039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1" name="Line 36"/>
          <p:cNvSpPr/>
          <p:nvPr/>
        </p:nvSpPr>
        <p:spPr>
          <a:xfrm flipV="1">
            <a:off x="4938840" y="1344240"/>
            <a:ext cx="3235320" cy="24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2" name="Line 37"/>
          <p:cNvSpPr/>
          <p:nvPr/>
        </p:nvSpPr>
        <p:spPr>
          <a:xfrm>
            <a:off x="5673600" y="1576440"/>
            <a:ext cx="180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3" name="Text Box 38"/>
          <p:cNvSpPr/>
          <p:nvPr/>
        </p:nvSpPr>
        <p:spPr>
          <a:xfrm rot="19453200">
            <a:off x="7647120" y="1242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Text Box 39"/>
          <p:cNvSpPr/>
          <p:nvPr/>
        </p:nvSpPr>
        <p:spPr>
          <a:xfrm rot="19467600">
            <a:off x="7790040" y="129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Text Box 40"/>
          <p:cNvSpPr/>
          <p:nvPr/>
        </p:nvSpPr>
        <p:spPr>
          <a:xfrm>
            <a:off x="7762680" y="3979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Text Box 41"/>
          <p:cNvSpPr/>
          <p:nvPr/>
        </p:nvSpPr>
        <p:spPr>
          <a:xfrm>
            <a:off x="7920000" y="415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Oval 42"/>
          <p:cNvSpPr/>
          <p:nvPr/>
        </p:nvSpPr>
        <p:spPr>
          <a:xfrm>
            <a:off x="5607000" y="5691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Text Box 43"/>
          <p:cNvSpPr/>
          <p:nvPr/>
        </p:nvSpPr>
        <p:spPr>
          <a:xfrm>
            <a:off x="5185080" y="555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Text Box 44"/>
          <p:cNvSpPr/>
          <p:nvPr/>
        </p:nvSpPr>
        <p:spPr>
          <a:xfrm>
            <a:off x="5392440" y="572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Text Box 45"/>
          <p:cNvSpPr/>
          <p:nvPr/>
        </p:nvSpPr>
        <p:spPr>
          <a:xfrm>
            <a:off x="5197680" y="139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Text Box 46"/>
          <p:cNvSpPr/>
          <p:nvPr/>
        </p:nvSpPr>
        <p:spPr>
          <a:xfrm>
            <a:off x="5405400" y="15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Text Box 47"/>
          <p:cNvSpPr/>
          <p:nvPr/>
        </p:nvSpPr>
        <p:spPr>
          <a:xfrm rot="3144000">
            <a:off x="7108200" y="3097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Text Box 48"/>
          <p:cNvSpPr/>
          <p:nvPr/>
        </p:nvSpPr>
        <p:spPr>
          <a:xfrm rot="3116400">
            <a:off x="7147080" y="331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Line 49"/>
          <p:cNvSpPr/>
          <p:nvPr/>
        </p:nvSpPr>
        <p:spPr>
          <a:xfrm>
            <a:off x="5673600" y="1576440"/>
            <a:ext cx="1565280" cy="21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Line 50"/>
          <p:cNvSpPr/>
          <p:nvPr/>
        </p:nvSpPr>
        <p:spPr>
          <a:xfrm flipH="1">
            <a:off x="6360840" y="2398680"/>
            <a:ext cx="135000" cy="10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6" name="Line 51"/>
          <p:cNvSpPr/>
          <p:nvPr/>
        </p:nvSpPr>
        <p:spPr>
          <a:xfrm>
            <a:off x="6496200" y="2398680"/>
            <a:ext cx="9504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7" name="Oval 52"/>
          <p:cNvSpPr/>
          <p:nvPr/>
        </p:nvSpPr>
        <p:spPr>
          <a:xfrm>
            <a:off x="5619600" y="15350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8" name="Oval 53"/>
          <p:cNvSpPr/>
          <p:nvPr/>
        </p:nvSpPr>
        <p:spPr>
          <a:xfrm>
            <a:off x="6397560" y="2563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9" name="Text Box 54"/>
          <p:cNvSpPr/>
          <p:nvPr/>
        </p:nvSpPr>
        <p:spPr>
          <a:xfrm>
            <a:off x="5829120" y="2319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0" name="Text Box 55"/>
          <p:cNvSpPr/>
          <p:nvPr/>
        </p:nvSpPr>
        <p:spPr>
          <a:xfrm>
            <a:off x="6037200" y="249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7BF-0DAB-49F1-AEA0-9BA5D2B1B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3" name="Text Box 5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Text Box 6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5" name="Text Box 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6" name="Text Box 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7" name="Text Box 9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Text Box 10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9" name="Line 11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0" name="Line 12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Line 1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Line 14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Text Box 15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Text Box 16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Text Box 17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6" name="Text Box 18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Text Box 19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Text Box 20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9" name="Line 21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0" name="Line 22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1" name="Line 23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2" name="Oval 24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3" name="Text Box 25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4" name="Text Box 26"/>
          <p:cNvSpPr/>
          <p:nvPr/>
        </p:nvSpPr>
        <p:spPr>
          <a:xfrm>
            <a:off x="2181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5" name="Text Box 27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6" name="Text Box 28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7" name="Line 29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8" name="Oval 30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9" name="Line 31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0" name="Oval 32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1" name="Oval 33"/>
          <p:cNvSpPr/>
          <p:nvPr/>
        </p:nvSpPr>
        <p:spPr>
          <a:xfrm>
            <a:off x="2401920" y="3063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2" name="Text Box 34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3" name="Line 35"/>
          <p:cNvSpPr/>
          <p:nvPr/>
        </p:nvSpPr>
        <p:spPr>
          <a:xfrm>
            <a:off x="5086440" y="4359240"/>
            <a:ext cx="3039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4" name="Line 36"/>
          <p:cNvSpPr/>
          <p:nvPr/>
        </p:nvSpPr>
        <p:spPr>
          <a:xfrm flipV="1">
            <a:off x="4938840" y="1344240"/>
            <a:ext cx="3235320" cy="24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5" name="Line 37"/>
          <p:cNvSpPr/>
          <p:nvPr/>
        </p:nvSpPr>
        <p:spPr>
          <a:xfrm>
            <a:off x="5673600" y="1576440"/>
            <a:ext cx="180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6" name="Text Box 38"/>
          <p:cNvSpPr/>
          <p:nvPr/>
        </p:nvSpPr>
        <p:spPr>
          <a:xfrm rot="19453200">
            <a:off x="7647120" y="1242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7" name="Text Box 39"/>
          <p:cNvSpPr/>
          <p:nvPr/>
        </p:nvSpPr>
        <p:spPr>
          <a:xfrm rot="19467600">
            <a:off x="7790040" y="129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Text Box 40"/>
          <p:cNvSpPr/>
          <p:nvPr/>
        </p:nvSpPr>
        <p:spPr>
          <a:xfrm>
            <a:off x="7762680" y="3979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9" name="Text Box 41"/>
          <p:cNvSpPr/>
          <p:nvPr/>
        </p:nvSpPr>
        <p:spPr>
          <a:xfrm>
            <a:off x="7920000" y="415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0" name="Oval 42"/>
          <p:cNvSpPr/>
          <p:nvPr/>
        </p:nvSpPr>
        <p:spPr>
          <a:xfrm>
            <a:off x="5607000" y="5691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1" name="Text Box 43"/>
          <p:cNvSpPr/>
          <p:nvPr/>
        </p:nvSpPr>
        <p:spPr>
          <a:xfrm>
            <a:off x="5185080" y="555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2" name="Text Box 44"/>
          <p:cNvSpPr/>
          <p:nvPr/>
        </p:nvSpPr>
        <p:spPr>
          <a:xfrm>
            <a:off x="5392440" y="572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3" name="Text Box 45"/>
          <p:cNvSpPr/>
          <p:nvPr/>
        </p:nvSpPr>
        <p:spPr>
          <a:xfrm>
            <a:off x="5197680" y="139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4" name="Text Box 46"/>
          <p:cNvSpPr/>
          <p:nvPr/>
        </p:nvSpPr>
        <p:spPr>
          <a:xfrm>
            <a:off x="5405400" y="15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5" name="Text Box 47"/>
          <p:cNvSpPr/>
          <p:nvPr/>
        </p:nvSpPr>
        <p:spPr>
          <a:xfrm rot="3144000">
            <a:off x="7108200" y="3097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6" name="Text Box 48"/>
          <p:cNvSpPr/>
          <p:nvPr/>
        </p:nvSpPr>
        <p:spPr>
          <a:xfrm rot="3116400">
            <a:off x="7147080" y="331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7" name="Line 49"/>
          <p:cNvSpPr/>
          <p:nvPr/>
        </p:nvSpPr>
        <p:spPr>
          <a:xfrm>
            <a:off x="5673600" y="1576440"/>
            <a:ext cx="1565280" cy="21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8" name="Line 50"/>
          <p:cNvSpPr/>
          <p:nvPr/>
        </p:nvSpPr>
        <p:spPr>
          <a:xfrm flipH="1">
            <a:off x="6360840" y="2398680"/>
            <a:ext cx="135000" cy="10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9" name="Line 51"/>
          <p:cNvSpPr/>
          <p:nvPr/>
        </p:nvSpPr>
        <p:spPr>
          <a:xfrm>
            <a:off x="6496200" y="2398680"/>
            <a:ext cx="9504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0" name="Oval 52"/>
          <p:cNvSpPr/>
          <p:nvPr/>
        </p:nvSpPr>
        <p:spPr>
          <a:xfrm>
            <a:off x="5619600" y="15350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1" name="Text Box 54"/>
          <p:cNvSpPr/>
          <p:nvPr/>
        </p:nvSpPr>
        <p:spPr>
          <a:xfrm>
            <a:off x="5829120" y="2319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2" name="Text Box 55"/>
          <p:cNvSpPr/>
          <p:nvPr/>
        </p:nvSpPr>
        <p:spPr>
          <a:xfrm>
            <a:off x="6037200" y="249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3" name="Line 56"/>
          <p:cNvSpPr/>
          <p:nvPr/>
        </p:nvSpPr>
        <p:spPr>
          <a:xfrm>
            <a:off x="6456240" y="2627280"/>
            <a:ext cx="1800" cy="1731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4" name="Text Box 57"/>
          <p:cNvSpPr/>
          <p:nvPr/>
        </p:nvSpPr>
        <p:spPr>
          <a:xfrm>
            <a:off x="6445080" y="4354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5" name="Text Box 58"/>
          <p:cNvSpPr/>
          <p:nvPr/>
        </p:nvSpPr>
        <p:spPr>
          <a:xfrm>
            <a:off x="6653160" y="45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6" name="Oval 59"/>
          <p:cNvSpPr/>
          <p:nvPr/>
        </p:nvSpPr>
        <p:spPr>
          <a:xfrm>
            <a:off x="6394320" y="4303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7" name="Oval 60"/>
          <p:cNvSpPr/>
          <p:nvPr/>
        </p:nvSpPr>
        <p:spPr>
          <a:xfrm>
            <a:off x="6397560" y="2563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2FA-19BD-4D9D-9842-22B8CD7BE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0" name="Text Box 21"/>
          <p:cNvSpPr/>
          <p:nvPr/>
        </p:nvSpPr>
        <p:spPr>
          <a:xfrm>
            <a:off x="815400" y="35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1" name="Text Box 22"/>
          <p:cNvSpPr/>
          <p:nvPr/>
        </p:nvSpPr>
        <p:spPr>
          <a:xfrm>
            <a:off x="963360" y="36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2" name="Text Box 24"/>
          <p:cNvSpPr/>
          <p:nvPr/>
        </p:nvSpPr>
        <p:spPr>
          <a:xfrm rot="3760200">
            <a:off x="2879640" y="5964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3" name="Text Box 25"/>
          <p:cNvSpPr/>
          <p:nvPr/>
        </p:nvSpPr>
        <p:spPr>
          <a:xfrm rot="3762000">
            <a:off x="2931120" y="617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4" name="Text Box 27"/>
          <p:cNvSpPr/>
          <p:nvPr/>
        </p:nvSpPr>
        <p:spPr>
          <a:xfrm>
            <a:off x="3954240" y="26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5" name="Text Box 28"/>
          <p:cNvSpPr/>
          <p:nvPr/>
        </p:nvSpPr>
        <p:spPr>
          <a:xfrm>
            <a:off x="4162320" y="286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6" name="Text Box 29"/>
          <p:cNvSpPr/>
          <p:nvPr/>
        </p:nvSpPr>
        <p:spPr>
          <a:xfrm rot="3144000">
            <a:off x="7108200" y="3097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7" name="Text Box 30"/>
          <p:cNvSpPr/>
          <p:nvPr/>
        </p:nvSpPr>
        <p:spPr>
          <a:xfrm rot="3116400">
            <a:off x="7147080" y="331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8" name="Text Box 31"/>
          <p:cNvSpPr/>
          <p:nvPr/>
        </p:nvSpPr>
        <p:spPr>
          <a:xfrm rot="20070000">
            <a:off x="393408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9" name="Text Box 32"/>
          <p:cNvSpPr/>
          <p:nvPr/>
        </p:nvSpPr>
        <p:spPr>
          <a:xfrm rot="20045400">
            <a:off x="4145040" y="43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0" name="Text Box 34"/>
          <p:cNvSpPr/>
          <p:nvPr/>
        </p:nvSpPr>
        <p:spPr>
          <a:xfrm>
            <a:off x="2393280" y="264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1" name="Text Box 35"/>
          <p:cNvSpPr/>
          <p:nvPr/>
        </p:nvSpPr>
        <p:spPr>
          <a:xfrm>
            <a:off x="260172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2" name="Line 40"/>
          <p:cNvSpPr/>
          <p:nvPr/>
        </p:nvSpPr>
        <p:spPr>
          <a:xfrm>
            <a:off x="771480" y="3917880"/>
            <a:ext cx="783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3" name="Line 41"/>
          <p:cNvSpPr/>
          <p:nvPr/>
        </p:nvSpPr>
        <p:spPr>
          <a:xfrm>
            <a:off x="1274760" y="3110040"/>
            <a:ext cx="323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4" name="Line 42"/>
          <p:cNvSpPr/>
          <p:nvPr/>
        </p:nvSpPr>
        <p:spPr>
          <a:xfrm>
            <a:off x="5086440" y="4359240"/>
            <a:ext cx="3039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5" name="Line 43"/>
          <p:cNvSpPr/>
          <p:nvPr/>
        </p:nvSpPr>
        <p:spPr>
          <a:xfrm flipH="1">
            <a:off x="1262160" y="4432320"/>
            <a:ext cx="327168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6" name="Line 44"/>
          <p:cNvSpPr/>
          <p:nvPr/>
        </p:nvSpPr>
        <p:spPr>
          <a:xfrm flipV="1">
            <a:off x="4938840" y="1344240"/>
            <a:ext cx="3235320" cy="24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7" name="Line 45"/>
          <p:cNvSpPr/>
          <p:nvPr/>
        </p:nvSpPr>
        <p:spPr>
          <a:xfrm>
            <a:off x="2022480" y="1895400"/>
            <a:ext cx="1440" cy="267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8" name="Line 46"/>
          <p:cNvSpPr/>
          <p:nvPr/>
        </p:nvSpPr>
        <p:spPr>
          <a:xfrm>
            <a:off x="5673600" y="1576440"/>
            <a:ext cx="180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9" name="Line 47"/>
          <p:cNvSpPr/>
          <p:nvPr/>
        </p:nvSpPr>
        <p:spPr>
          <a:xfrm>
            <a:off x="5673600" y="1576440"/>
            <a:ext cx="1565280" cy="21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Line 48"/>
          <p:cNvSpPr/>
          <p:nvPr/>
        </p:nvSpPr>
        <p:spPr>
          <a:xfrm>
            <a:off x="2022480" y="4567320"/>
            <a:ext cx="905040" cy="18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1" name="Line 49"/>
          <p:cNvSpPr/>
          <p:nvPr/>
        </p:nvSpPr>
        <p:spPr>
          <a:xfrm flipH="1">
            <a:off x="2392200" y="5254560"/>
            <a:ext cx="1317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Line 50"/>
          <p:cNvSpPr/>
          <p:nvPr/>
        </p:nvSpPr>
        <p:spPr>
          <a:xfrm>
            <a:off x="2523960" y="5254560"/>
            <a:ext cx="684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Line 51"/>
          <p:cNvSpPr/>
          <p:nvPr/>
        </p:nvSpPr>
        <p:spPr>
          <a:xfrm flipH="1">
            <a:off x="6360840" y="2398680"/>
            <a:ext cx="135000" cy="10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4" name="Line 52"/>
          <p:cNvSpPr/>
          <p:nvPr/>
        </p:nvSpPr>
        <p:spPr>
          <a:xfrm>
            <a:off x="6496200" y="2398680"/>
            <a:ext cx="9504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Line 53"/>
          <p:cNvSpPr/>
          <p:nvPr/>
        </p:nvSpPr>
        <p:spPr>
          <a:xfrm flipV="1">
            <a:off x="2460600" y="3110040"/>
            <a:ext cx="144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6" name="Line 54"/>
          <p:cNvSpPr/>
          <p:nvPr/>
        </p:nvSpPr>
        <p:spPr>
          <a:xfrm>
            <a:off x="2022480" y="1895400"/>
            <a:ext cx="438120" cy="12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7" name="Line 55"/>
          <p:cNvSpPr/>
          <p:nvPr/>
        </p:nvSpPr>
        <p:spPr>
          <a:xfrm>
            <a:off x="6456240" y="2627280"/>
            <a:ext cx="180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8" name="Line 56"/>
          <p:cNvSpPr/>
          <p:nvPr/>
        </p:nvSpPr>
        <p:spPr>
          <a:xfrm flipH="1">
            <a:off x="5673600" y="4359240"/>
            <a:ext cx="782640" cy="1409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9" name="Oval 57"/>
          <p:cNvSpPr/>
          <p:nvPr/>
        </p:nvSpPr>
        <p:spPr>
          <a:xfrm>
            <a:off x="6397560" y="2563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0" name="Oval 58"/>
          <p:cNvSpPr/>
          <p:nvPr/>
        </p:nvSpPr>
        <p:spPr>
          <a:xfrm>
            <a:off x="2390760" y="3038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1" name="Oval 59"/>
          <p:cNvSpPr/>
          <p:nvPr/>
        </p:nvSpPr>
        <p:spPr>
          <a:xfrm>
            <a:off x="2390760" y="53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2" name="Text Box 61"/>
          <p:cNvSpPr/>
          <p:nvPr/>
        </p:nvSpPr>
        <p:spPr>
          <a:xfrm>
            <a:off x="1603800" y="146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3" name="Text Box 62"/>
          <p:cNvSpPr/>
          <p:nvPr/>
        </p:nvSpPr>
        <p:spPr>
          <a:xfrm>
            <a:off x="1811160" y="16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4" name="Oval 63"/>
          <p:cNvSpPr/>
          <p:nvPr/>
        </p:nvSpPr>
        <p:spPr>
          <a:xfrm>
            <a:off x="1962000" y="184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5" name="Text Box 64"/>
          <p:cNvSpPr/>
          <p:nvPr/>
        </p:nvSpPr>
        <p:spPr>
          <a:xfrm>
            <a:off x="1603800" y="41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6" name="Text Box 65"/>
          <p:cNvSpPr/>
          <p:nvPr/>
        </p:nvSpPr>
        <p:spPr>
          <a:xfrm>
            <a:off x="1811160" y="433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7" name="Oval 66"/>
          <p:cNvSpPr/>
          <p:nvPr/>
        </p:nvSpPr>
        <p:spPr>
          <a:xfrm>
            <a:off x="1965240" y="4519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8" name="Text Box 67"/>
          <p:cNvSpPr/>
          <p:nvPr/>
        </p:nvSpPr>
        <p:spPr>
          <a:xfrm rot="19453200">
            <a:off x="7647120" y="1242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9" name="Text Box 68"/>
          <p:cNvSpPr/>
          <p:nvPr/>
        </p:nvSpPr>
        <p:spPr>
          <a:xfrm rot="19467600">
            <a:off x="7790040" y="129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0" name="Oval 69"/>
          <p:cNvSpPr/>
          <p:nvPr/>
        </p:nvSpPr>
        <p:spPr>
          <a:xfrm>
            <a:off x="5619600" y="15350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1" name="Text Box 70"/>
          <p:cNvSpPr/>
          <p:nvPr/>
        </p:nvSpPr>
        <p:spPr>
          <a:xfrm>
            <a:off x="6445080" y="4354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2" name="Text Box 71"/>
          <p:cNvSpPr/>
          <p:nvPr/>
        </p:nvSpPr>
        <p:spPr>
          <a:xfrm>
            <a:off x="6653160" y="45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3" name="Oval 72"/>
          <p:cNvSpPr/>
          <p:nvPr/>
        </p:nvSpPr>
        <p:spPr>
          <a:xfrm>
            <a:off x="6384960" y="4303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4" name="Text Box 73"/>
          <p:cNvSpPr/>
          <p:nvPr/>
        </p:nvSpPr>
        <p:spPr>
          <a:xfrm>
            <a:off x="7762680" y="3979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5" name="Text Box 74"/>
          <p:cNvSpPr/>
          <p:nvPr/>
        </p:nvSpPr>
        <p:spPr>
          <a:xfrm>
            <a:off x="7920000" y="415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6" name="Oval 75"/>
          <p:cNvSpPr/>
          <p:nvPr/>
        </p:nvSpPr>
        <p:spPr>
          <a:xfrm>
            <a:off x="5607000" y="5691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7" name="Text Box 76"/>
          <p:cNvSpPr/>
          <p:nvPr/>
        </p:nvSpPr>
        <p:spPr>
          <a:xfrm>
            <a:off x="5185080" y="555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8" name="Text Box 77"/>
          <p:cNvSpPr/>
          <p:nvPr/>
        </p:nvSpPr>
        <p:spPr>
          <a:xfrm>
            <a:off x="5392440" y="572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9" name="Text Box 78"/>
          <p:cNvSpPr/>
          <p:nvPr/>
        </p:nvSpPr>
        <p:spPr>
          <a:xfrm>
            <a:off x="5197680" y="139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0" name="Text Box 79"/>
          <p:cNvSpPr/>
          <p:nvPr/>
        </p:nvSpPr>
        <p:spPr>
          <a:xfrm>
            <a:off x="5405400" y="15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1" name="Text Box 80"/>
          <p:cNvSpPr/>
          <p:nvPr/>
        </p:nvSpPr>
        <p:spPr>
          <a:xfrm>
            <a:off x="6519960" y="54626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’=B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2" name="Text Box 81"/>
          <p:cNvSpPr/>
          <p:nvPr/>
        </p:nvSpPr>
        <p:spPr>
          <a:xfrm>
            <a:off x="3123720" y="53974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3" name="Text Box 82"/>
          <p:cNvSpPr/>
          <p:nvPr/>
        </p:nvSpPr>
        <p:spPr>
          <a:xfrm>
            <a:off x="5829120" y="2319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4" name="Text Box 83"/>
          <p:cNvSpPr/>
          <p:nvPr/>
        </p:nvSpPr>
        <p:spPr>
          <a:xfrm>
            <a:off x="6037200" y="249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5" name="Text Box 84"/>
          <p:cNvSpPr/>
          <p:nvPr/>
        </p:nvSpPr>
        <p:spPr>
          <a:xfrm>
            <a:off x="1945800" y="50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6" name="Text Box 85"/>
          <p:cNvSpPr/>
          <p:nvPr/>
        </p:nvSpPr>
        <p:spPr>
          <a:xfrm>
            <a:off x="215424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5E0-BA12-4B6B-B886-3BD89B427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 Box 5"/>
          <p:cNvSpPr/>
          <p:nvPr/>
        </p:nvSpPr>
        <p:spPr>
          <a:xfrm>
            <a:off x="182520" y="1727280"/>
            <a:ext cx="896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ращении точек вокруг прямых уровня, их траектории лежат в проецирующих плоскостях, перпендикулярных оси, следова-тельно на одну из плоскостей проекций они проецируются в линию, перпендикулярную проекции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4A8F-6A8F-4C08-AC5F-1DA727B84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2" name="Text Box 5"/>
          <p:cNvSpPr/>
          <p:nvPr/>
        </p:nvSpPr>
        <p:spPr>
          <a:xfrm>
            <a:off x="182520" y="2028960"/>
            <a:ext cx="89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м методом решается только вто-рая основная задача за одно преобразова-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33A-106F-4F0E-BE85-0D2C6D410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5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6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7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8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9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0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1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2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3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4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5" name="Line 23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6" name="Text Box 3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7" name="Text Box 3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8" name="Text Box 47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9" name="Text Box 48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0" name="Oval 49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1" name="Text Box 50"/>
          <p:cNvSpPr/>
          <p:nvPr/>
        </p:nvSpPr>
        <p:spPr>
          <a:xfrm>
            <a:off x="6045120" y="401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2" name="Oval 52"/>
          <p:cNvSpPr/>
          <p:nvPr/>
        </p:nvSpPr>
        <p:spPr>
          <a:xfrm>
            <a:off x="601812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3" name="Text Box 56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4" name="Text Box 57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5" name="Oval 58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6" name="Text Box 67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7" name="Oval 71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8" name="Text Box 72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9" name="Text Box 73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Oval 84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1" name="Text Box 8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2" name="Text Box 8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3" name="Oval 87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4" name="Text Box 88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5" name="Text Box 89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CE23-10AE-4682-8917-26933E8F1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7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8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9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0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1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2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3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4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5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6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7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8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9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0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1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2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3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4" name="Text Box 21"/>
          <p:cNvSpPr/>
          <p:nvPr/>
        </p:nvSpPr>
        <p:spPr>
          <a:xfrm>
            <a:off x="6045120" y="401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5" name="Oval 22"/>
          <p:cNvSpPr/>
          <p:nvPr/>
        </p:nvSpPr>
        <p:spPr>
          <a:xfrm>
            <a:off x="601812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6" name="Text Box 23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7" name="Text Box 24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8" name="Text Box 26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9" name="Oval 27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0" name="Text Box 28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1" name="Text Box 29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2" name="Oval 30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3" name="Text Box 31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4" name="Text Box 32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5" name="Oval 33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6" name="Text Box 34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7" name="Text Box 35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8" name="Line 36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9" name="Text Box 37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0" name="Text Box 38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1" name="Oval 39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E29-79B9-4848-A180-ABDF476E2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3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4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5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6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7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8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9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0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1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2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3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4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5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7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8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9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0" name="Text Box 21"/>
          <p:cNvSpPr/>
          <p:nvPr/>
        </p:nvSpPr>
        <p:spPr>
          <a:xfrm>
            <a:off x="6045120" y="401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1" name="Text Box 23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2" name="Text Box 24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3" name="Text Box 25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4" name="Oval 26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5" name="Text Box 27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6" name="Text Box 28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7" name="Oval 29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8" name="Text Box 30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9" name="Text Box 31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0" name="Oval 3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1" name="Text Box 33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2" name="Text Box 34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Line 35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4" name="Text Box 36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5" name="Text Box 37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6" name="Oval 38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7" name="Line 39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8" name="Oval 40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9" name="Text Box 41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0" name="Text Box 42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1" name="Line 43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2" name="Text Box 44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3" name="Text Box 45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4" name="Text Box 46"/>
          <p:cNvSpPr/>
          <p:nvPr/>
        </p:nvSpPr>
        <p:spPr>
          <a:xfrm>
            <a:off x="3465360" y="5513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5" name="Text Box 48"/>
          <p:cNvSpPr/>
          <p:nvPr/>
        </p:nvSpPr>
        <p:spPr>
          <a:xfrm>
            <a:off x="3632040" y="569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6" name="Oval 49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7" name="Oval 50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8C7A-3F9A-4788-B4F1-0AB7A8E59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3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4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5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6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7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8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9"/>
          <p:cNvSpPr/>
          <p:nvPr/>
        </p:nvSpPr>
        <p:spPr>
          <a:xfrm flipH="1" flipV="1">
            <a:off x="2171520" y="4791240"/>
            <a:ext cx="45396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0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1"/>
          <p:cNvSpPr/>
          <p:nvPr/>
        </p:nvSpPr>
        <p:spPr>
          <a:xfrm flipV="1">
            <a:off x="2171880" y="339372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2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3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4"/>
          <p:cNvSpPr/>
          <p:nvPr/>
        </p:nvSpPr>
        <p:spPr>
          <a:xfrm flipH="1" flipV="1">
            <a:off x="2171520" y="3393720"/>
            <a:ext cx="45396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8"/>
          <p:cNvSpPr/>
          <p:nvPr/>
        </p:nvSpPr>
        <p:spPr>
          <a:xfrm>
            <a:off x="5794200" y="3384720"/>
            <a:ext cx="1797120" cy="19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9"/>
          <p:cNvSpPr/>
          <p:nvPr/>
        </p:nvSpPr>
        <p:spPr>
          <a:xfrm flipV="1">
            <a:off x="5460840" y="4078440"/>
            <a:ext cx="971640" cy="89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0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1"/>
          <p:cNvSpPr/>
          <p:nvPr/>
        </p:nvSpPr>
        <p:spPr>
          <a:xfrm flipH="1">
            <a:off x="6400440" y="3262320"/>
            <a:ext cx="2438280" cy="16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2"/>
          <p:cNvSpPr/>
          <p:nvPr/>
        </p:nvSpPr>
        <p:spPr>
          <a:xfrm>
            <a:off x="7201080" y="3371760"/>
            <a:ext cx="471240" cy="68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3"/>
          <p:cNvSpPr/>
          <p:nvPr/>
        </p:nvSpPr>
        <p:spPr>
          <a:xfrm flipV="1">
            <a:off x="6432480" y="3371400"/>
            <a:ext cx="768600" cy="70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4"/>
          <p:cNvSpPr/>
          <p:nvPr/>
        </p:nvSpPr>
        <p:spPr>
          <a:xfrm flipV="1">
            <a:off x="6281640" y="4006800"/>
            <a:ext cx="8568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5"/>
          <p:cNvSpPr/>
          <p:nvPr/>
        </p:nvSpPr>
        <p:spPr>
          <a:xfrm>
            <a:off x="6281640" y="4084560"/>
            <a:ext cx="6516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6"/>
          <p:cNvSpPr/>
          <p:nvPr/>
        </p:nvSpPr>
        <p:spPr>
          <a:xfrm flipV="1">
            <a:off x="7527960" y="3993840"/>
            <a:ext cx="950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7"/>
          <p:cNvSpPr/>
          <p:nvPr/>
        </p:nvSpPr>
        <p:spPr>
          <a:xfrm>
            <a:off x="7527960" y="4059360"/>
            <a:ext cx="44280" cy="6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8"/>
          <p:cNvSpPr/>
          <p:nvPr/>
        </p:nvSpPr>
        <p:spPr>
          <a:xfrm flipV="1">
            <a:off x="5394240" y="2373120"/>
            <a:ext cx="12240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9"/>
          <p:cNvSpPr/>
          <p:nvPr/>
        </p:nvSpPr>
        <p:spPr>
          <a:xfrm>
            <a:off x="6613560" y="3760920"/>
            <a:ext cx="23976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0"/>
          <p:cNvSpPr/>
          <p:nvPr/>
        </p:nvSpPr>
        <p:spPr>
          <a:xfrm>
            <a:off x="5991120" y="4370400"/>
            <a:ext cx="239760" cy="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1"/>
          <p:cNvSpPr/>
          <p:nvPr/>
        </p:nvSpPr>
        <p:spPr>
          <a:xfrm>
            <a:off x="6048360" y="4305240"/>
            <a:ext cx="239760" cy="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2"/>
          <p:cNvSpPr/>
          <p:nvPr/>
        </p:nvSpPr>
        <p:spPr>
          <a:xfrm flipH="1">
            <a:off x="7916400" y="4383000"/>
            <a:ext cx="96840" cy="169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3"/>
          <p:cNvSpPr/>
          <p:nvPr/>
        </p:nvSpPr>
        <p:spPr>
          <a:xfrm flipH="1">
            <a:off x="7948080" y="4475160"/>
            <a:ext cx="96840" cy="168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4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5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6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7"/>
          <p:cNvSpPr/>
          <p:nvPr/>
        </p:nvSpPr>
        <p:spPr>
          <a:xfrm>
            <a:off x="8691480" y="497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8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9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50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1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2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3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4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5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57"/>
          <p:cNvSpPr/>
          <p:nvPr/>
        </p:nvSpPr>
        <p:spPr>
          <a:xfrm>
            <a:off x="2122560" y="3338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58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9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0"/>
          <p:cNvSpPr/>
          <p:nvPr/>
        </p:nvSpPr>
        <p:spPr>
          <a:xfrm>
            <a:off x="8477640" y="48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2381040" y="314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2167200" y="2998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5"/>
          <p:cNvSpPr/>
          <p:nvPr/>
        </p:nvSpPr>
        <p:spPr>
          <a:xfrm rot="19283400">
            <a:off x="8335800" y="30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6"/>
          <p:cNvSpPr/>
          <p:nvPr/>
        </p:nvSpPr>
        <p:spPr>
          <a:xfrm rot="19249800">
            <a:off x="8531280" y="3109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7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8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9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0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71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2"/>
          <p:cNvSpPr/>
          <p:nvPr/>
        </p:nvSpPr>
        <p:spPr>
          <a:xfrm>
            <a:off x="507384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3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74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75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6"/>
          <p:cNvSpPr/>
          <p:nvPr/>
        </p:nvSpPr>
        <p:spPr>
          <a:xfrm>
            <a:off x="7602480" y="326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7388640" y="3116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9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0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1"/>
          <p:cNvSpPr/>
          <p:nvPr/>
        </p:nvSpPr>
        <p:spPr>
          <a:xfrm rot="2835600">
            <a:off x="5908680" y="31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82"/>
          <p:cNvSpPr/>
          <p:nvPr/>
        </p:nvSpPr>
        <p:spPr>
          <a:xfrm rot="2827200">
            <a:off x="5961240" y="34081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3"/>
          <p:cNvSpPr/>
          <p:nvPr/>
        </p:nvSpPr>
        <p:spPr>
          <a:xfrm flipV="1">
            <a:off x="7203960" y="3081240"/>
            <a:ext cx="31608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84"/>
          <p:cNvSpPr/>
          <p:nvPr/>
        </p:nvSpPr>
        <p:spPr>
          <a:xfrm>
            <a:off x="7143840" y="3325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5"/>
          <p:cNvSpPr/>
          <p:nvPr/>
        </p:nvSpPr>
        <p:spPr>
          <a:xfrm>
            <a:off x="8396280" y="5129280"/>
            <a:ext cx="228600" cy="3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>
            <a:off x="7672320" y="4059360"/>
            <a:ext cx="723960" cy="1069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9"/>
          <p:cNvSpPr/>
          <p:nvPr/>
        </p:nvSpPr>
        <p:spPr>
          <a:xfrm>
            <a:off x="8346960" y="509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90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91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"/>
          <p:cNvSpPr/>
          <p:nvPr/>
        </p:nvSpPr>
        <p:spPr>
          <a:xfrm>
            <a:off x="3570120" y="5581800"/>
            <a:ext cx="505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ожим расстояние от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е расстоянию от предыдущей плоскости до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A5A-9491-45DE-A492-6AC095618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0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1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2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3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4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5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6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7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8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9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0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1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2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3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4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5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6" name="Text Box 22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7" name="Text Box 23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8" name="Oval 25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9" name="Text Box 26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0" name="Text Box 27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1" name="Text Box 29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2" name="Text Box 30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Text Box 32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4" name="Text Box 33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5" name="Line 34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6" name="Text Box 35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7" name="Text Box 36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8" name="Oval 37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Line 38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0" name="Oval 39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1" name="Text Box 40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2" name="Text Box 41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3" name="Line 42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4" name="Text Box 43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5" name="Text Box 44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6" name="Oval 47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7" name="Oval 48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Text Box 49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Text Box 50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0" name="Text Box 51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1" name="Text Box 52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Text Box 53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3" name="Text Box 54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Line 55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5" name="Line 56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6" name="Line 57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7" name="Oval 58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Oval 59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Line 60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Line 61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Line 62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Line 63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9F5-7E85-486A-B0D4-A8BAC2E2E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9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0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1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2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3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4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5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7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9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0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1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Oval 23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Text Box 24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5" name="Text Box 25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6" name="Text Box 26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7" name="Text Box 27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8" name="Text Box 28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9" name="Text Box 29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0" name="Line 30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1" name="Text Box 31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2" name="Text Box 32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3" name="Oval 33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4" name="Line 34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5" name="Oval 35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6" name="Text Box 36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7" name="Text Box 37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8" name="Line 38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9" name="Text Box 39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0" name="Text Box 40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1" name="Oval 41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2" name="Oval 42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3" name="Text Box 43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4" name="Text Box 44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5" name="Text Box 45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6" name="Text Box 46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 Box 47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Text Box 48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9" name="Line 49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Line 50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Line 51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2" name="Oval 52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3" name="Oval 53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4" name="Line 54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5" name="Line 55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6" name="Line 56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7" name="Line 57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8" name="Text Box 58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9" name="Oval 59"/>
          <p:cNvSpPr/>
          <p:nvPr/>
        </p:nvSpPr>
        <p:spPr>
          <a:xfrm>
            <a:off x="3979800" y="51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0" name="Text Box 60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79C-D22A-49B7-AA71-744E38301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5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6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7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8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9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0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1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2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3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4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5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6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7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8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9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0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1" name="Oval 23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2" name="Text Box 24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3" name="Text Box 25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4" name="Text Box 26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5" name="Text Box 27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6" name="Text Box 28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7" name="Text Box 29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8" name="Line 30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9" name="Text Box 31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0" name="Text Box 32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1" name="Oval 33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2" name="Line 34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3" name="Oval 35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4" name="Text Box 36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5" name="Text Box 37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6" name="Line 38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7" name="Text Box 39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8" name="Text Box 40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9" name="Oval 41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0" name="Oval 42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1" name="Text Box 43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2" name="Text Box 44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3" name="Text Box 45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4" name="Text Box 46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5" name="Text Box 47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6" name="Text Box 48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Line 49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Line 50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9" name="Line 51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0" name="Oval 52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1" name="Oval 53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Line 54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3" name="Line 55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4" name="Line 56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5" name="Line 57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6" name="Text Box 58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7" name="Text Box 60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8" name="Line 67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9" name="Oval 68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0" name="Text Box 69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1" name="Text Box 70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2" name="Oval 71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0D1-E632-452B-BA0D-C6A0AC0EE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5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6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7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8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9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0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1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2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3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4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5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6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7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8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9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0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1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2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3" name="Text Box 24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4" name="Text Box 25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5" name="Text Box 26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6" name="Text Box 27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7" name="Text Box 28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8" name="Text Box 29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9" name="Line 30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0" name="Text Box 31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1" name="Text Box 32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2" name="Oval 33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3" name="Line 34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4" name="Oval 35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5" name="Text Box 36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6" name="Text Box 37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7" name="Line 38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8" name="Text Box 39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9" name="Text Box 40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0" name="Oval 41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1" name="Oval 42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2" name="Text Box 43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3" name="Text Box 44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4" name="Text Box 45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5" name="Text Box 46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6" name="Text Box 47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7" name="Text Box 48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8" name="Line 49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9" name="Line 50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0" name="Line 51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1" name="Oval 52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2" name="Oval 53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3" name="Line 54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4" name="Line 55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5" name="Line 56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6" name="Line 57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7" name="Text Box 58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8" name="Text Box 59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9" name="Line 60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0" name="Text Box 62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1" name="Text Box 63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2" name="Oval 64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3" name="Line 65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4" name="Oval 66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5" name="Oval 67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D968-3014-4E77-AE21-549766AC8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7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8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9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0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1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2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3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4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5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6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7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8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9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0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1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2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3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4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5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6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7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8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9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0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1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2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3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4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5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6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7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8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9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0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1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2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3" name="Oval 4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4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5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6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7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8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9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0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1" name="Line 48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2" name="Line 49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3" name="Line 5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4" name="Oval 51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5" name="Oval 5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6" name="Line 53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7" name="Line 54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8" name="Line 55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9" name="Line 56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0" name="Text Box 57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1" name="Text Box 58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2" name="Line 59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3" name="Text Box 60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4" name="Text Box 61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5" name="Oval 62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6" name="Line 63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7" name="Oval 64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8" name="Line 66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9" name="Line 67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0" name="Line 68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1" name="Line 69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2" name="Oval 70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95EE-FD77-4D4C-978A-C1956B500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5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6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7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8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9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1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2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3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4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5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6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7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8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9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0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1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2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3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4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5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6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8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9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2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3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4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5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6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8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9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0" name="Oval 4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1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2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3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4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5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6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7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8" name="Line 48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9" name="Line 49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0" name="Line 5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1" name="Oval 51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2" name="Oval 5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3" name="Line 53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4" name="Line 54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5" name="Line 55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6" name="Line 56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7" name="Text Box 57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8" name="Text Box 58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9" name="Line 59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0" name="Text Box 60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1" name="Text Box 61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2" name="Line 63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3" name="Oval 64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4" name="Line 65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5" name="Line 66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6" name="Line 67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7" name="Line 68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8" name="Oval 69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9" name="Line 70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0" name="Text Box 71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1" name="Line 72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2" name="Line 73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3" name="Oval 74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743-1967-4B99-88A4-EA7C225DD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6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8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9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0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1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2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3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4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5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6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7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8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9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0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1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2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3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4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5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7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8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9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0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1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3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4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5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6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7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8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9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0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1" name="Oval 4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2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3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4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5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6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7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8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9" name="Line 48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0" name="Line 49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Line 5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2" name="Oval 51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3" name="Oval 5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4" name="Line 53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5" name="Line 54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6" name="Line 55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7" name="Line 56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8" name="Text Box 57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9" name="Text Box 58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0" name="Line 59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1" name="Text Box 60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61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62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Oval 63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5" name="Line 64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Line 65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Line 66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Line 67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Oval 68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0" name="Line 69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1" name="Text Box 70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2" name="Line 71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Line 72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4" name="Oval 73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5" name="Text Box 74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6" name="Oval 75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7" name="Text Box 76"/>
          <p:cNvSpPr/>
          <p:nvPr/>
        </p:nvSpPr>
        <p:spPr>
          <a:xfrm rot="577200">
            <a:off x="3810240" y="12189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8" name="Text Box 77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EBFC-4885-4286-848C-B39C75871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0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1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2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3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4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5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7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8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9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0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6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7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8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9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0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1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2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3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4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5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6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7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8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9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0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1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2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3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4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6" name="Oval 4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7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8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9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0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1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2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4" name="Line 48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5" name="Line 49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6" name="Line 5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7" name="Oval 51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8" name="Oval 5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9" name="Line 53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0" name="Line 54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1" name="Line 55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2" name="Line 56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3" name="Text Box 57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4" name="Text Box 58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Line 59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60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7" name="Text Box 61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8" name="Line 62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9" name="Line 64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0" name="Line 65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1" name="Line 66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2" name="Line 67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3" name="Oval 68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4" name="Line 69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5" name="Text Box 70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6" name="Line 71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7" name="Line 72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8" name="Oval 73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9" name="Text Box 74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0" name="Text Box 76"/>
          <p:cNvSpPr/>
          <p:nvPr/>
        </p:nvSpPr>
        <p:spPr>
          <a:xfrm rot="577200">
            <a:off x="3856320" y="12250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1" name="Text Box 77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2" name="Line 78"/>
          <p:cNvSpPr/>
          <p:nvPr/>
        </p:nvSpPr>
        <p:spPr>
          <a:xfrm>
            <a:off x="3833640" y="1544760"/>
            <a:ext cx="193680" cy="14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3" name="Line 79"/>
          <p:cNvSpPr/>
          <p:nvPr/>
        </p:nvSpPr>
        <p:spPr>
          <a:xfrm>
            <a:off x="2711520" y="20638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4" name="Line 80"/>
          <p:cNvSpPr/>
          <p:nvPr/>
        </p:nvSpPr>
        <p:spPr>
          <a:xfrm>
            <a:off x="3759120" y="2060640"/>
            <a:ext cx="17136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5" name="Text Box 81"/>
          <p:cNvSpPr/>
          <p:nvPr/>
        </p:nvSpPr>
        <p:spPr>
          <a:xfrm>
            <a:off x="2656080" y="16779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6" name="Oval 82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7" name="Oval 83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B0F-5C1E-4859-A513-37A8164AA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0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1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2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3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8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9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0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1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2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3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4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5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6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1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2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3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4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5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6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7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8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9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0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1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2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3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4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5" name="Oval 4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6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7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8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9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0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1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2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3" name="Line 49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Line 5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5" name="Oval 51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6" name="Oval 52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7" name="Line 53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8" name="Line 54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Line 55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Line 56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1" name="Text Box 57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2" name="Text Box 58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Line 59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4" name="Text Box 60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5" name="Text Box 61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6" name="Line 62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7" name="Line 63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8" name="Line 64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9" name="Line 65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0" name="Line 66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1" name="Oval 67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2" name="Line 68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3" name="Text Box 69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4" name="Line 70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5" name="Line 71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6" name="Oval 72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7" name="Text Box 73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8" name="Text Box 74"/>
          <p:cNvSpPr/>
          <p:nvPr/>
        </p:nvSpPr>
        <p:spPr>
          <a:xfrm rot="577200">
            <a:off x="3856320" y="12250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9" name="Text Box 75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0" name="Line 76"/>
          <p:cNvSpPr/>
          <p:nvPr/>
        </p:nvSpPr>
        <p:spPr>
          <a:xfrm>
            <a:off x="3833640" y="1544760"/>
            <a:ext cx="193680" cy="14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1" name="Line 77"/>
          <p:cNvSpPr/>
          <p:nvPr/>
        </p:nvSpPr>
        <p:spPr>
          <a:xfrm>
            <a:off x="2711520" y="20638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2" name="Line 78"/>
          <p:cNvSpPr/>
          <p:nvPr/>
        </p:nvSpPr>
        <p:spPr>
          <a:xfrm>
            <a:off x="3759120" y="2060640"/>
            <a:ext cx="17136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3" name="Text Box 79"/>
          <p:cNvSpPr/>
          <p:nvPr/>
        </p:nvSpPr>
        <p:spPr>
          <a:xfrm>
            <a:off x="2656080" y="16779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4" name="Oval 80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5" name="Oval 81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6" name="Line 82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7" name="Oval 83"/>
          <p:cNvSpPr/>
          <p:nvPr/>
        </p:nvSpPr>
        <p:spPr>
          <a:xfrm>
            <a:off x="4646520" y="634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8" name="Text Box 84"/>
          <p:cNvSpPr/>
          <p:nvPr/>
        </p:nvSpPr>
        <p:spPr>
          <a:xfrm>
            <a:off x="4802760" y="61707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9" name="Text Box 85"/>
          <p:cNvSpPr/>
          <p:nvPr/>
        </p:nvSpPr>
        <p:spPr>
          <a:xfrm>
            <a:off x="5010120" y="634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DFE0-B70B-496A-AACC-799A22499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1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2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3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4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5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6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7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8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9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0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1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2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3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4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5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6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7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8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9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0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1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2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3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4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5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6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7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8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9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0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1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2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4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5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6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7" name="Oval 41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8" name="Text Box 42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9" name="Text Box 43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0" name="Text Box 44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1" name="Text Box 45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2" name="Text Box 46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3" name="Text Box 47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4" name="Line 48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5" name="Line 49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6" name="Oval 50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7" name="Oval 51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8" name="Line 52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9" name="Line 53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0" name="Line 54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1" name="Line 55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2" name="Text Box 56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3" name="Text Box 57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4" name="Line 58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5" name="Text Box 59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6" name="Text Box 60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7" name="Line 61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8" name="Line 62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9" name="Line 63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0" name="Line 64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1" name="Line 65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2" name="Oval 66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3" name="Line 67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4" name="Text Box 68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5" name="Line 69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6" name="Line 70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7" name="Oval 71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8" name="Text Box 72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9" name="Text Box 73"/>
          <p:cNvSpPr/>
          <p:nvPr/>
        </p:nvSpPr>
        <p:spPr>
          <a:xfrm rot="577200">
            <a:off x="3856320" y="12250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Text Box 74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1" name="Line 75"/>
          <p:cNvSpPr/>
          <p:nvPr/>
        </p:nvSpPr>
        <p:spPr>
          <a:xfrm>
            <a:off x="3833640" y="1544760"/>
            <a:ext cx="193680" cy="14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2" name="Line 76"/>
          <p:cNvSpPr/>
          <p:nvPr/>
        </p:nvSpPr>
        <p:spPr>
          <a:xfrm>
            <a:off x="2711520" y="20638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3" name="Line 77"/>
          <p:cNvSpPr/>
          <p:nvPr/>
        </p:nvSpPr>
        <p:spPr>
          <a:xfrm>
            <a:off x="3759120" y="2060640"/>
            <a:ext cx="17136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4" name="Text Box 78"/>
          <p:cNvSpPr/>
          <p:nvPr/>
        </p:nvSpPr>
        <p:spPr>
          <a:xfrm>
            <a:off x="2656080" y="16779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5" name="Oval 79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6" name="Oval 80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7" name="Line 81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8" name="Text Box 83"/>
          <p:cNvSpPr/>
          <p:nvPr/>
        </p:nvSpPr>
        <p:spPr>
          <a:xfrm>
            <a:off x="4802760" y="61707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9" name="Text Box 84"/>
          <p:cNvSpPr/>
          <p:nvPr/>
        </p:nvSpPr>
        <p:spPr>
          <a:xfrm>
            <a:off x="5010120" y="634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0" name="Line 85"/>
          <p:cNvSpPr/>
          <p:nvPr/>
        </p:nvSpPr>
        <p:spPr>
          <a:xfrm flipH="1" flipV="1">
            <a:off x="3119040" y="4817880"/>
            <a:ext cx="1593720" cy="160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1" name="Line 86"/>
          <p:cNvSpPr/>
          <p:nvPr/>
        </p:nvSpPr>
        <p:spPr>
          <a:xfrm flipH="1" flipV="1">
            <a:off x="2816280" y="4512960"/>
            <a:ext cx="30312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2" name="Oval 87"/>
          <p:cNvSpPr/>
          <p:nvPr/>
        </p:nvSpPr>
        <p:spPr>
          <a:xfrm>
            <a:off x="4646520" y="638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3" name="Oval 88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F3E-81BA-4A04-9525-24A94014D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08080" y="1542960"/>
            <a:ext cx="872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ения проекции точки на вновь выбранную плоскость проекций, необ-ходимо построить линию связи перпендику-лярную новой оси проекций и отложить на ней, от новой оси, проекцию точки на том расстоянии, на котором находится проекция на заменяемую плос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CE5-D76F-49C2-A9FC-D72AEF11F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6" name="Line 5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7" name="Line 6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8" name="Line 7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9" name="Line 8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0" name="Line 9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1" name="Line 10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2" name="Line 11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3" name="Line 12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4" name="Line 13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5" name="Line 14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6" name="Line 15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7" name="Text Box 16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8" name="Text Box 17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9" name="Text Box 18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0" name="Text Box 19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1" name="Oval 20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2" name="Text Box 21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3" name="Text Box 22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4" name="Text Box 23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5" name="Text Box 24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6" name="Text Box 25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7" name="Text Box 26"/>
          <p:cNvSpPr/>
          <p:nvPr/>
        </p:nvSpPr>
        <p:spPr>
          <a:xfrm>
            <a:off x="45720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8" name="Text Box 27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9" name="Text Box 28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0" name="Line 29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1" name="Text Box 30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2" name="Text Box 31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3" name="Oval 32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4" name="Line 33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5" name="Oval 34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6" name="Text Box 35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7" name="Text Box 36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8" name="Line 37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9" name="Text Box 38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0" name="Text Box 39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1" name="Oval 40"/>
          <p:cNvSpPr/>
          <p:nvPr/>
        </p:nvSpPr>
        <p:spPr>
          <a:xfrm>
            <a:off x="602784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2" name="Text Box 41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3" name="Text Box 42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4" name="Text Box 43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5" name="Text Box 44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6" name="Text Box 45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7" name="Text Box 46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8" name="Line 47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9" name="Line 48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0" name="Oval 49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1" name="Oval 50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2" name="Line 51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3" name="Line 52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4" name="Line 53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5" name="Line 54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6" name="Text Box 55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7" name="Text Box 56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8" name="Line 57"/>
          <p:cNvSpPr/>
          <p:nvPr/>
        </p:nvSpPr>
        <p:spPr>
          <a:xfrm flipV="1">
            <a:off x="4051440" y="2944440"/>
            <a:ext cx="144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9" name="Text Box 58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0" name="Text Box 59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1" name="Line 60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2" name="Line 61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3" name="Line 62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4" name="Line 63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5" name="Line 64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6" name="Oval 65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7" name="Line 66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8" name="Text Box 67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9" name="Line 68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0" name="Line 69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1" name="Oval 70"/>
          <p:cNvSpPr/>
          <p:nvPr/>
        </p:nvSpPr>
        <p:spPr>
          <a:xfrm>
            <a:off x="4006800" y="5124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2" name="Text Box 71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3" name="Text Box 72"/>
          <p:cNvSpPr/>
          <p:nvPr/>
        </p:nvSpPr>
        <p:spPr>
          <a:xfrm rot="577200">
            <a:off x="3856320" y="12250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4" name="Text Box 73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Line 74"/>
          <p:cNvSpPr/>
          <p:nvPr/>
        </p:nvSpPr>
        <p:spPr>
          <a:xfrm>
            <a:off x="3833640" y="1544760"/>
            <a:ext cx="193680" cy="14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6" name="Line 75"/>
          <p:cNvSpPr/>
          <p:nvPr/>
        </p:nvSpPr>
        <p:spPr>
          <a:xfrm>
            <a:off x="2711520" y="20638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7" name="Line 76"/>
          <p:cNvSpPr/>
          <p:nvPr/>
        </p:nvSpPr>
        <p:spPr>
          <a:xfrm>
            <a:off x="3759120" y="2060640"/>
            <a:ext cx="17136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8" name="Text Box 77"/>
          <p:cNvSpPr/>
          <p:nvPr/>
        </p:nvSpPr>
        <p:spPr>
          <a:xfrm>
            <a:off x="2656080" y="16779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9" name="Oval 78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0" name="Oval 79"/>
          <p:cNvSpPr/>
          <p:nvPr/>
        </p:nvSpPr>
        <p:spPr>
          <a:xfrm>
            <a:off x="3995640" y="2889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1" name="Line 80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2" name="Text Box 81"/>
          <p:cNvSpPr/>
          <p:nvPr/>
        </p:nvSpPr>
        <p:spPr>
          <a:xfrm>
            <a:off x="4802760" y="61707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3" name="Text Box 82"/>
          <p:cNvSpPr/>
          <p:nvPr/>
        </p:nvSpPr>
        <p:spPr>
          <a:xfrm>
            <a:off x="5010120" y="634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4" name="Line 83"/>
          <p:cNvSpPr/>
          <p:nvPr/>
        </p:nvSpPr>
        <p:spPr>
          <a:xfrm flipH="1" flipV="1">
            <a:off x="3119040" y="4817880"/>
            <a:ext cx="1593720" cy="160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5" name="Oval 85"/>
          <p:cNvSpPr/>
          <p:nvPr/>
        </p:nvSpPr>
        <p:spPr>
          <a:xfrm>
            <a:off x="4646520" y="638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6" name="Oval 86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7" name="Line 87"/>
          <p:cNvSpPr/>
          <p:nvPr/>
        </p:nvSpPr>
        <p:spPr>
          <a:xfrm flipH="1" flipV="1">
            <a:off x="2816280" y="4512960"/>
            <a:ext cx="3031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8" name="Oval 88"/>
          <p:cNvSpPr/>
          <p:nvPr/>
        </p:nvSpPr>
        <p:spPr>
          <a:xfrm>
            <a:off x="305280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9" name="Text Box 89"/>
          <p:cNvSpPr/>
          <p:nvPr/>
        </p:nvSpPr>
        <p:spPr>
          <a:xfrm>
            <a:off x="2566080" y="4525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0" name="Text Box 90"/>
          <p:cNvSpPr/>
          <p:nvPr/>
        </p:nvSpPr>
        <p:spPr>
          <a:xfrm>
            <a:off x="2773080" y="470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7C02-A00F-4C50-BB3C-A2725AD57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2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ям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3" name="Line 8"/>
          <p:cNvSpPr/>
          <p:nvPr/>
        </p:nvSpPr>
        <p:spPr>
          <a:xfrm>
            <a:off x="2565360" y="3836880"/>
            <a:ext cx="4013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4" name="Line 9"/>
          <p:cNvSpPr/>
          <p:nvPr/>
        </p:nvSpPr>
        <p:spPr>
          <a:xfrm flipV="1">
            <a:off x="3352680" y="2944440"/>
            <a:ext cx="273204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5" name="Line 10"/>
          <p:cNvSpPr/>
          <p:nvPr/>
        </p:nvSpPr>
        <p:spPr>
          <a:xfrm flipH="1" flipV="1">
            <a:off x="4281120" y="1630080"/>
            <a:ext cx="1803240" cy="13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6" name="Line 11"/>
          <p:cNvSpPr/>
          <p:nvPr/>
        </p:nvSpPr>
        <p:spPr>
          <a:xfrm flipH="1">
            <a:off x="3352680" y="1630440"/>
            <a:ext cx="92880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7" name="Line 12"/>
          <p:cNvSpPr/>
          <p:nvPr/>
        </p:nvSpPr>
        <p:spPr>
          <a:xfrm>
            <a:off x="3352680" y="365436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8" name="Line 13"/>
          <p:cNvSpPr/>
          <p:nvPr/>
        </p:nvSpPr>
        <p:spPr>
          <a:xfrm>
            <a:off x="6084720" y="2944800"/>
            <a:ext cx="180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9" name="Line 14"/>
          <p:cNvSpPr/>
          <p:nvPr/>
        </p:nvSpPr>
        <p:spPr>
          <a:xfrm>
            <a:off x="4281480" y="1630440"/>
            <a:ext cx="1440" cy="355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0" name="Line 15"/>
          <p:cNvSpPr/>
          <p:nvPr/>
        </p:nvSpPr>
        <p:spPr>
          <a:xfrm flipV="1">
            <a:off x="3352680" y="4039920"/>
            <a:ext cx="273204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1" name="Line 16"/>
          <p:cNvSpPr/>
          <p:nvPr/>
        </p:nvSpPr>
        <p:spPr>
          <a:xfrm flipH="1">
            <a:off x="4281120" y="4040280"/>
            <a:ext cx="1803240" cy="160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2" name="Line 17"/>
          <p:cNvSpPr/>
          <p:nvPr/>
        </p:nvSpPr>
        <p:spPr>
          <a:xfrm flipH="1" flipV="1">
            <a:off x="3352680" y="5238720"/>
            <a:ext cx="928800" cy="4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3" name="Line 18"/>
          <p:cNvSpPr/>
          <p:nvPr/>
        </p:nvSpPr>
        <p:spPr>
          <a:xfrm flipH="1">
            <a:off x="3109680" y="2944800"/>
            <a:ext cx="297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4" name="Line 19"/>
          <p:cNvSpPr/>
          <p:nvPr/>
        </p:nvSpPr>
        <p:spPr>
          <a:xfrm>
            <a:off x="3678120" y="2944800"/>
            <a:ext cx="1800" cy="24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5" name="Line 20"/>
          <p:cNvSpPr/>
          <p:nvPr/>
        </p:nvSpPr>
        <p:spPr>
          <a:xfrm flipH="1">
            <a:off x="3212640" y="4040280"/>
            <a:ext cx="2871720" cy="15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6" name="Line 21"/>
          <p:cNvSpPr/>
          <p:nvPr/>
        </p:nvSpPr>
        <p:spPr>
          <a:xfrm flipH="1" flipV="1">
            <a:off x="4713120" y="6420960"/>
            <a:ext cx="92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7" name="Line 22"/>
          <p:cNvSpPr/>
          <p:nvPr/>
        </p:nvSpPr>
        <p:spPr>
          <a:xfrm flipV="1">
            <a:off x="4027320" y="2944440"/>
            <a:ext cx="1800" cy="22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8" name="Line 23"/>
          <p:cNvSpPr/>
          <p:nvPr/>
        </p:nvSpPr>
        <p:spPr>
          <a:xfrm flipV="1">
            <a:off x="4027320" y="1630080"/>
            <a:ext cx="25416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9" name="Line 24"/>
          <p:cNvSpPr/>
          <p:nvPr/>
        </p:nvSpPr>
        <p:spPr>
          <a:xfrm>
            <a:off x="3741840" y="1527120"/>
            <a:ext cx="9180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0" name="Line 25"/>
          <p:cNvSpPr/>
          <p:nvPr/>
        </p:nvSpPr>
        <p:spPr>
          <a:xfrm>
            <a:off x="4027320" y="5186520"/>
            <a:ext cx="331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1" name="Line 26"/>
          <p:cNvSpPr/>
          <p:nvPr/>
        </p:nvSpPr>
        <p:spPr>
          <a:xfrm>
            <a:off x="4281480" y="5186520"/>
            <a:ext cx="1440" cy="45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2" name="Line 27"/>
          <p:cNvSpPr/>
          <p:nvPr/>
        </p:nvSpPr>
        <p:spPr>
          <a:xfrm>
            <a:off x="2881440" y="4389480"/>
            <a:ext cx="608040" cy="10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3" name="Line 28"/>
          <p:cNvSpPr/>
          <p:nvPr/>
        </p:nvSpPr>
        <p:spPr>
          <a:xfrm>
            <a:off x="3833640" y="1544760"/>
            <a:ext cx="4478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4" name="Line 29"/>
          <p:cNvSpPr/>
          <p:nvPr/>
        </p:nvSpPr>
        <p:spPr>
          <a:xfrm>
            <a:off x="3833640" y="1544760"/>
            <a:ext cx="193680" cy="14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Line 30"/>
          <p:cNvSpPr/>
          <p:nvPr/>
        </p:nvSpPr>
        <p:spPr>
          <a:xfrm flipH="1" flipV="1">
            <a:off x="4026960" y="5186520"/>
            <a:ext cx="685800" cy="12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6" name="Line 31"/>
          <p:cNvSpPr/>
          <p:nvPr/>
        </p:nvSpPr>
        <p:spPr>
          <a:xfrm flipH="1" flipV="1">
            <a:off x="3119040" y="4817880"/>
            <a:ext cx="1593720" cy="160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7" name="Line 32"/>
          <p:cNvSpPr/>
          <p:nvPr/>
        </p:nvSpPr>
        <p:spPr>
          <a:xfrm flipV="1">
            <a:off x="3119400" y="4039920"/>
            <a:ext cx="2965320" cy="7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8" name="Line 33"/>
          <p:cNvSpPr/>
          <p:nvPr/>
        </p:nvSpPr>
        <p:spPr>
          <a:xfrm flipH="1">
            <a:off x="4713120" y="4040280"/>
            <a:ext cx="1371600" cy="2381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9" name="Line 34"/>
          <p:cNvSpPr/>
          <p:nvPr/>
        </p:nvSpPr>
        <p:spPr>
          <a:xfrm flipV="1">
            <a:off x="3995640" y="5244840"/>
            <a:ext cx="6372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0" name="Line 35"/>
          <p:cNvSpPr/>
          <p:nvPr/>
        </p:nvSpPr>
        <p:spPr>
          <a:xfrm flipH="1" flipV="1">
            <a:off x="3962520" y="5221080"/>
            <a:ext cx="331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1" name="Line 36"/>
          <p:cNvSpPr/>
          <p:nvPr/>
        </p:nvSpPr>
        <p:spPr>
          <a:xfrm flipV="1">
            <a:off x="3397320" y="5427720"/>
            <a:ext cx="6012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2" name="Line 37"/>
          <p:cNvSpPr/>
          <p:nvPr/>
        </p:nvSpPr>
        <p:spPr>
          <a:xfrm>
            <a:off x="3397320" y="5460840"/>
            <a:ext cx="3168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3" name="Line 38"/>
          <p:cNvSpPr/>
          <p:nvPr/>
        </p:nvSpPr>
        <p:spPr>
          <a:xfrm flipH="1" flipV="1">
            <a:off x="2816280" y="4512960"/>
            <a:ext cx="3031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4" name="Text Box 39"/>
          <p:cNvSpPr/>
          <p:nvPr/>
        </p:nvSpPr>
        <p:spPr>
          <a:xfrm>
            <a:off x="2619000" y="34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5" name="Text Box 40"/>
          <p:cNvSpPr/>
          <p:nvPr/>
        </p:nvSpPr>
        <p:spPr>
          <a:xfrm>
            <a:off x="2766960" y="3591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6" name="Text Box 41"/>
          <p:cNvSpPr/>
          <p:nvPr/>
        </p:nvSpPr>
        <p:spPr>
          <a:xfrm rot="577200">
            <a:off x="3835800" y="12157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7" name="Text Box 42"/>
          <p:cNvSpPr/>
          <p:nvPr/>
        </p:nvSpPr>
        <p:spPr>
          <a:xfrm>
            <a:off x="382428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8" name="Oval 43"/>
          <p:cNvSpPr/>
          <p:nvPr/>
        </p:nvSpPr>
        <p:spPr>
          <a:xfrm>
            <a:off x="4646520" y="634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9" name="Text Box 44"/>
          <p:cNvSpPr/>
          <p:nvPr/>
        </p:nvSpPr>
        <p:spPr>
          <a:xfrm>
            <a:off x="2946240" y="253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0" name="Text Box 45"/>
          <p:cNvSpPr/>
          <p:nvPr/>
        </p:nvSpPr>
        <p:spPr>
          <a:xfrm>
            <a:off x="3125520" y="27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1" name="Oval 46"/>
          <p:cNvSpPr/>
          <p:nvPr/>
        </p:nvSpPr>
        <p:spPr>
          <a:xfrm>
            <a:off x="3957480" y="2884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Text Box 47"/>
          <p:cNvSpPr/>
          <p:nvPr/>
        </p:nvSpPr>
        <p:spPr>
          <a:xfrm>
            <a:off x="5804640" y="491796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3" name="Text Box 48"/>
          <p:cNvSpPr/>
          <p:nvPr/>
        </p:nvSpPr>
        <p:spPr>
          <a:xfrm>
            <a:off x="3544920" y="148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4" name="Oval 49"/>
          <p:cNvSpPr/>
          <p:nvPr/>
        </p:nvSpPr>
        <p:spPr>
          <a:xfrm>
            <a:off x="3776760" y="147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Text Box 50"/>
          <p:cNvSpPr/>
          <p:nvPr/>
        </p:nvSpPr>
        <p:spPr>
          <a:xfrm>
            <a:off x="2968920" y="317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6" name="Text Box 51"/>
          <p:cNvSpPr/>
          <p:nvPr/>
        </p:nvSpPr>
        <p:spPr>
          <a:xfrm>
            <a:off x="317628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7" name="Oval 52"/>
          <p:cNvSpPr/>
          <p:nvPr/>
        </p:nvSpPr>
        <p:spPr>
          <a:xfrm>
            <a:off x="3303720" y="357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Text Box 53"/>
          <p:cNvSpPr/>
          <p:nvPr/>
        </p:nvSpPr>
        <p:spPr>
          <a:xfrm>
            <a:off x="6044760" y="40114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 ≡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9" name="Text Box 54"/>
          <p:cNvSpPr/>
          <p:nvPr/>
        </p:nvSpPr>
        <p:spPr>
          <a:xfrm>
            <a:off x="6792840" y="417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0" name="Oval 55"/>
          <p:cNvSpPr/>
          <p:nvPr/>
        </p:nvSpPr>
        <p:spPr>
          <a:xfrm>
            <a:off x="6018120" y="39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Text Box 56"/>
          <p:cNvSpPr/>
          <p:nvPr/>
        </p:nvSpPr>
        <p:spPr>
          <a:xfrm>
            <a:off x="4802760" y="61707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2" name="Text Box 57"/>
          <p:cNvSpPr/>
          <p:nvPr/>
        </p:nvSpPr>
        <p:spPr>
          <a:xfrm>
            <a:off x="5010120" y="634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3" name="Oval 58"/>
          <p:cNvSpPr/>
          <p:nvPr/>
        </p:nvSpPr>
        <p:spPr>
          <a:xfrm>
            <a:off x="305280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Text Box 59"/>
          <p:cNvSpPr/>
          <p:nvPr/>
        </p:nvSpPr>
        <p:spPr>
          <a:xfrm>
            <a:off x="6165720" y="269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5" name="Text Box 60"/>
          <p:cNvSpPr/>
          <p:nvPr/>
        </p:nvSpPr>
        <p:spPr>
          <a:xfrm>
            <a:off x="6373800" y="287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6" name="Oval 61"/>
          <p:cNvSpPr/>
          <p:nvPr/>
        </p:nvSpPr>
        <p:spPr>
          <a:xfrm>
            <a:off x="6008760" y="287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Text Box 62"/>
          <p:cNvSpPr/>
          <p:nvPr/>
        </p:nvSpPr>
        <p:spPr>
          <a:xfrm>
            <a:off x="3980880" y="2570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8" name="Text Box 63"/>
          <p:cNvSpPr/>
          <p:nvPr/>
        </p:nvSpPr>
        <p:spPr>
          <a:xfrm>
            <a:off x="4233600" y="27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9" name="Text Box 64"/>
          <p:cNvSpPr/>
          <p:nvPr/>
        </p:nvSpPr>
        <p:spPr>
          <a:xfrm rot="19766400">
            <a:off x="3009960" y="528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Text Box 65"/>
          <p:cNvSpPr/>
          <p:nvPr/>
        </p:nvSpPr>
        <p:spPr>
          <a:xfrm rot="19760400">
            <a:off x="3182760" y="537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1" name="Oval 66"/>
          <p:cNvSpPr/>
          <p:nvPr/>
        </p:nvSpPr>
        <p:spPr>
          <a:xfrm>
            <a:off x="3979800" y="51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2" name="Text Box 67"/>
          <p:cNvSpPr/>
          <p:nvPr/>
        </p:nvSpPr>
        <p:spPr>
          <a:xfrm>
            <a:off x="3165120" y="55609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≡ 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Text Box 68"/>
          <p:cNvSpPr/>
          <p:nvPr/>
        </p:nvSpPr>
        <p:spPr>
          <a:xfrm>
            <a:off x="3805200" y="575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4" name="Text Box 69"/>
          <p:cNvSpPr/>
          <p:nvPr/>
        </p:nvSpPr>
        <p:spPr>
          <a:xfrm>
            <a:off x="3332160" y="573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5" name="Text Box 70"/>
          <p:cNvSpPr/>
          <p:nvPr/>
        </p:nvSpPr>
        <p:spPr>
          <a:xfrm>
            <a:off x="6252840" y="418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Text Box 71"/>
          <p:cNvSpPr/>
          <p:nvPr/>
        </p:nvSpPr>
        <p:spPr>
          <a:xfrm>
            <a:off x="4393440" y="48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7" name="Line 72"/>
          <p:cNvSpPr/>
          <p:nvPr/>
        </p:nvSpPr>
        <p:spPr>
          <a:xfrm flipV="1">
            <a:off x="4282920" y="5146200"/>
            <a:ext cx="203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8" name="Line 73"/>
          <p:cNvSpPr/>
          <p:nvPr/>
        </p:nvSpPr>
        <p:spPr>
          <a:xfrm>
            <a:off x="4483080" y="514368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Oval 74"/>
          <p:cNvSpPr/>
          <p:nvPr/>
        </p:nvSpPr>
        <p:spPr>
          <a:xfrm>
            <a:off x="4221000" y="1573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0" name="Text Box 75"/>
          <p:cNvSpPr/>
          <p:nvPr/>
        </p:nvSpPr>
        <p:spPr>
          <a:xfrm>
            <a:off x="4378680" y="139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1" name="Text Box 76"/>
          <p:cNvSpPr/>
          <p:nvPr/>
        </p:nvSpPr>
        <p:spPr>
          <a:xfrm>
            <a:off x="458604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Oval 77"/>
          <p:cNvSpPr/>
          <p:nvPr/>
        </p:nvSpPr>
        <p:spPr>
          <a:xfrm>
            <a:off x="3618000" y="2878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3" name="Text Box 78"/>
          <p:cNvSpPr/>
          <p:nvPr/>
        </p:nvSpPr>
        <p:spPr>
          <a:xfrm>
            <a:off x="3362040" y="239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4" name="Text Box 79"/>
          <p:cNvSpPr/>
          <p:nvPr/>
        </p:nvSpPr>
        <p:spPr>
          <a:xfrm>
            <a:off x="3541680" y="257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5" name="Oval 80"/>
          <p:cNvSpPr/>
          <p:nvPr/>
        </p:nvSpPr>
        <p:spPr>
          <a:xfrm>
            <a:off x="3618000" y="5316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6" name="Text Box 84"/>
          <p:cNvSpPr/>
          <p:nvPr/>
        </p:nvSpPr>
        <p:spPr>
          <a:xfrm>
            <a:off x="3609360" y="458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7" name="Text Box 85"/>
          <p:cNvSpPr/>
          <p:nvPr/>
        </p:nvSpPr>
        <p:spPr>
          <a:xfrm>
            <a:off x="2566080" y="4525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8" name="Text Box 86"/>
          <p:cNvSpPr/>
          <p:nvPr/>
        </p:nvSpPr>
        <p:spPr>
          <a:xfrm>
            <a:off x="2773080" y="470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9" name="Text Box 87"/>
          <p:cNvSpPr/>
          <p:nvPr/>
        </p:nvSpPr>
        <p:spPr>
          <a:xfrm>
            <a:off x="3337200" y="130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0" name="Line 88"/>
          <p:cNvSpPr/>
          <p:nvPr/>
        </p:nvSpPr>
        <p:spPr>
          <a:xfrm>
            <a:off x="2711520" y="2063880"/>
            <a:ext cx="10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1" name="Line 89"/>
          <p:cNvSpPr/>
          <p:nvPr/>
        </p:nvSpPr>
        <p:spPr>
          <a:xfrm>
            <a:off x="3759120" y="2060640"/>
            <a:ext cx="17136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2" name="Oval 90"/>
          <p:cNvSpPr/>
          <p:nvPr/>
        </p:nvSpPr>
        <p:spPr>
          <a:xfrm>
            <a:off x="4211640" y="5560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3" name="Text Box 91"/>
          <p:cNvSpPr/>
          <p:nvPr/>
        </p:nvSpPr>
        <p:spPr>
          <a:xfrm>
            <a:off x="4364280" y="5468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Text Box 92"/>
          <p:cNvSpPr/>
          <p:nvPr/>
        </p:nvSpPr>
        <p:spPr>
          <a:xfrm>
            <a:off x="4597200" y="564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5" name="Oval 93"/>
          <p:cNvSpPr/>
          <p:nvPr/>
        </p:nvSpPr>
        <p:spPr>
          <a:xfrm>
            <a:off x="3294000" y="5173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6" name="Text Box 94"/>
          <p:cNvSpPr/>
          <p:nvPr/>
        </p:nvSpPr>
        <p:spPr>
          <a:xfrm>
            <a:off x="2841840" y="49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7" name="Text Box 95"/>
          <p:cNvSpPr/>
          <p:nvPr/>
        </p:nvSpPr>
        <p:spPr>
          <a:xfrm>
            <a:off x="30495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8" name="Text Box 96"/>
          <p:cNvSpPr/>
          <p:nvPr/>
        </p:nvSpPr>
        <p:spPr>
          <a:xfrm>
            <a:off x="2656080" y="16779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O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9" name="Line 97"/>
          <p:cNvSpPr/>
          <p:nvPr/>
        </p:nvSpPr>
        <p:spPr>
          <a:xfrm flipH="1">
            <a:off x="5851080" y="527688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0" name="Line 98"/>
          <p:cNvSpPr/>
          <p:nvPr/>
        </p:nvSpPr>
        <p:spPr>
          <a:xfrm flipH="1" flipV="1">
            <a:off x="5410080" y="4857840"/>
            <a:ext cx="44136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1" name="Line 99"/>
          <p:cNvSpPr/>
          <p:nvPr/>
        </p:nvSpPr>
        <p:spPr>
          <a:xfrm>
            <a:off x="4110120" y="1760400"/>
            <a:ext cx="1429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2" name="Line 100"/>
          <p:cNvSpPr/>
          <p:nvPr/>
        </p:nvSpPr>
        <p:spPr>
          <a:xfrm flipV="1">
            <a:off x="4113360" y="1598400"/>
            <a:ext cx="3168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3" name="Line 101"/>
          <p:cNvSpPr/>
          <p:nvPr/>
        </p:nvSpPr>
        <p:spPr>
          <a:xfrm>
            <a:off x="4483080" y="5149800"/>
            <a:ext cx="29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4" name="Text Box 103"/>
          <p:cNvSpPr/>
          <p:nvPr/>
        </p:nvSpPr>
        <p:spPr>
          <a:xfrm>
            <a:off x="3337200" y="130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F75-C13F-4C41-AA24-39157B808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169920" y="1441440"/>
            <a:ext cx="877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ом замены плоскостей проекций решаются следующие две основ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ая основная 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ение пря-мой о.п. к виду проецирующе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ая основная 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ение плоскости о.п. к виду плоскости уро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7BD6-2DA6-4BAE-ACE3-399681B90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157320" y="2587680"/>
            <a:ext cx="2587320" cy="11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3314880" y="2624040"/>
            <a:ext cx="2587320" cy="11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6399360" y="2611440"/>
            <a:ext cx="2587320" cy="11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8"/>
          <p:cNvSpPr/>
          <p:nvPr/>
        </p:nvSpPr>
        <p:spPr>
          <a:xfrm>
            <a:off x="2743200" y="31878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>
            <a:off x="5902200" y="318780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157320" y="289728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о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3263760" y="2673360"/>
            <a:ext cx="26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6357960" y="2631960"/>
            <a:ext cx="26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-щая 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889000" y="2724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4"/>
          <p:cNvSpPr/>
          <p:nvPr/>
        </p:nvSpPr>
        <p:spPr>
          <a:xfrm>
            <a:off x="5957640" y="2813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6CEA-23D9-49C3-8AE8-731CF3E30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46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метрическое преобразование простра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47680" y="2131920"/>
            <a:ext cx="866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зование пространства называ-ется изометрическим, если оно оставляет неизменным расстояние между двумя точ-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C195-A387-4B3E-952A-2B4A506DC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3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4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5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8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7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8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9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60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1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2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73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78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3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4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291-5CB9-4787-AC39-7B8F9237B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9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0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1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3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4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5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6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7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8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9"/>
          <p:cNvSpPr/>
          <p:nvPr/>
        </p:nvSpPr>
        <p:spPr>
          <a:xfrm>
            <a:off x="6099840" y="154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8061480" y="183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2"/>
          <p:cNvSpPr/>
          <p:nvPr/>
        </p:nvSpPr>
        <p:spPr>
          <a:xfrm>
            <a:off x="640224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4"/>
          <p:cNvSpPr/>
          <p:nvPr/>
        </p:nvSpPr>
        <p:spPr>
          <a:xfrm>
            <a:off x="7540560" y="182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853F-3C9A-467D-918B-1E4D49014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1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2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6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7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8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9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30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31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2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3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4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5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6"/>
          <p:cNvSpPr/>
          <p:nvPr/>
        </p:nvSpPr>
        <p:spPr>
          <a:xfrm>
            <a:off x="6099840" y="154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7"/>
          <p:cNvSpPr/>
          <p:nvPr/>
        </p:nvSpPr>
        <p:spPr>
          <a:xfrm>
            <a:off x="8061480" y="183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8"/>
          <p:cNvSpPr/>
          <p:nvPr/>
        </p:nvSpPr>
        <p:spPr>
          <a:xfrm>
            <a:off x="640224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9"/>
          <p:cNvSpPr/>
          <p:nvPr/>
        </p:nvSpPr>
        <p:spPr>
          <a:xfrm>
            <a:off x="7540560" y="182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40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41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4CA8-41AD-4818-B9A3-08A8D64AF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9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0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2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4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5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6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27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8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9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30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31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32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33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4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5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36"/>
          <p:cNvSpPr/>
          <p:nvPr/>
        </p:nvSpPr>
        <p:spPr>
          <a:xfrm flipH="1">
            <a:off x="1959120" y="2711520"/>
            <a:ext cx="218880" cy="10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37"/>
          <p:cNvSpPr/>
          <p:nvPr/>
        </p:nvSpPr>
        <p:spPr>
          <a:xfrm flipH="1">
            <a:off x="4529160" y="2244600"/>
            <a:ext cx="218880" cy="109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38"/>
          <p:cNvSpPr/>
          <p:nvPr/>
        </p:nvSpPr>
        <p:spPr>
          <a:xfrm flipH="1">
            <a:off x="4530240" y="2357280"/>
            <a:ext cx="219240" cy="109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2"/>
          <p:cNvSpPr/>
          <p:nvPr/>
        </p:nvSpPr>
        <p:spPr>
          <a:xfrm flipV="1">
            <a:off x="5468760" y="4293720"/>
            <a:ext cx="71640" cy="235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43"/>
          <p:cNvSpPr/>
          <p:nvPr/>
        </p:nvSpPr>
        <p:spPr>
          <a:xfrm flipV="1">
            <a:off x="5551560" y="4370040"/>
            <a:ext cx="71280" cy="235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44"/>
          <p:cNvSpPr/>
          <p:nvPr/>
        </p:nvSpPr>
        <p:spPr>
          <a:xfrm flipV="1">
            <a:off x="2660760" y="6256440"/>
            <a:ext cx="71280" cy="23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5"/>
          <p:cNvSpPr/>
          <p:nvPr/>
        </p:nvSpPr>
        <p:spPr>
          <a:xfrm>
            <a:off x="2925720" y="623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2711880" y="608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47"/>
          <p:cNvSpPr/>
          <p:nvPr/>
        </p:nvSpPr>
        <p:spPr>
          <a:xfrm>
            <a:off x="6008760" y="496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8"/>
          <p:cNvSpPr/>
          <p:nvPr/>
        </p:nvSpPr>
        <p:spPr>
          <a:xfrm>
            <a:off x="6094440" y="530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5880600" y="51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50"/>
          <p:cNvSpPr/>
          <p:nvPr/>
        </p:nvSpPr>
        <p:spPr>
          <a:xfrm>
            <a:off x="2816280" y="6572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1"/>
          <p:cNvSpPr/>
          <p:nvPr/>
        </p:nvSpPr>
        <p:spPr>
          <a:xfrm>
            <a:off x="6099840" y="154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2"/>
          <p:cNvSpPr/>
          <p:nvPr/>
        </p:nvSpPr>
        <p:spPr>
          <a:xfrm>
            <a:off x="8061480" y="183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3"/>
          <p:cNvSpPr/>
          <p:nvPr/>
        </p:nvSpPr>
        <p:spPr>
          <a:xfrm>
            <a:off x="640224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4"/>
          <p:cNvSpPr/>
          <p:nvPr/>
        </p:nvSpPr>
        <p:spPr>
          <a:xfrm>
            <a:off x="7540560" y="182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08F1-38EC-40E1-9880-EC2EC2B1B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9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0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1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2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3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4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5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6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7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8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9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0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1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2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3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4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35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6"/>
          <p:cNvSpPr/>
          <p:nvPr/>
        </p:nvSpPr>
        <p:spPr>
          <a:xfrm flipH="1">
            <a:off x="1959120" y="2711520"/>
            <a:ext cx="218880" cy="10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H="1">
            <a:off x="4529160" y="2244600"/>
            <a:ext cx="21888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H="1">
            <a:off x="4530240" y="2357280"/>
            <a:ext cx="21924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9"/>
          <p:cNvSpPr/>
          <p:nvPr/>
        </p:nvSpPr>
        <p:spPr>
          <a:xfrm flipV="1">
            <a:off x="5468760" y="4293720"/>
            <a:ext cx="7164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0"/>
          <p:cNvSpPr/>
          <p:nvPr/>
        </p:nvSpPr>
        <p:spPr>
          <a:xfrm flipV="1">
            <a:off x="5551560" y="4370040"/>
            <a:ext cx="7128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41"/>
          <p:cNvSpPr/>
          <p:nvPr/>
        </p:nvSpPr>
        <p:spPr>
          <a:xfrm flipV="1">
            <a:off x="2660760" y="6256440"/>
            <a:ext cx="71280" cy="23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2"/>
          <p:cNvSpPr/>
          <p:nvPr/>
        </p:nvSpPr>
        <p:spPr>
          <a:xfrm>
            <a:off x="2925720" y="623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43"/>
          <p:cNvSpPr/>
          <p:nvPr/>
        </p:nvSpPr>
        <p:spPr>
          <a:xfrm>
            <a:off x="2711880" y="608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6094440" y="530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6"/>
          <p:cNvSpPr/>
          <p:nvPr/>
        </p:nvSpPr>
        <p:spPr>
          <a:xfrm>
            <a:off x="5880600" y="51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8"/>
          <p:cNvSpPr/>
          <p:nvPr/>
        </p:nvSpPr>
        <p:spPr>
          <a:xfrm flipH="1">
            <a:off x="2883960" y="5032440"/>
            <a:ext cx="3187800" cy="157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49"/>
          <p:cNvSpPr/>
          <p:nvPr/>
        </p:nvSpPr>
        <p:spPr>
          <a:xfrm>
            <a:off x="6008760" y="496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50"/>
          <p:cNvSpPr/>
          <p:nvPr/>
        </p:nvSpPr>
        <p:spPr>
          <a:xfrm>
            <a:off x="2816280" y="6572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6099840" y="154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2"/>
          <p:cNvSpPr/>
          <p:nvPr/>
        </p:nvSpPr>
        <p:spPr>
          <a:xfrm>
            <a:off x="8061480" y="183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53"/>
          <p:cNvSpPr/>
          <p:nvPr/>
        </p:nvSpPr>
        <p:spPr>
          <a:xfrm>
            <a:off x="640224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4"/>
          <p:cNvSpPr/>
          <p:nvPr/>
        </p:nvSpPr>
        <p:spPr>
          <a:xfrm>
            <a:off x="7540560" y="182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22A-42B4-4953-AA7F-00620595F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9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0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1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3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4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5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6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7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8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9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30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1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32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33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34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35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6"/>
          <p:cNvSpPr/>
          <p:nvPr/>
        </p:nvSpPr>
        <p:spPr>
          <a:xfrm flipH="1">
            <a:off x="1959120" y="2711520"/>
            <a:ext cx="218880" cy="10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7"/>
          <p:cNvSpPr/>
          <p:nvPr/>
        </p:nvSpPr>
        <p:spPr>
          <a:xfrm flipH="1">
            <a:off x="4529160" y="2244600"/>
            <a:ext cx="21888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38"/>
          <p:cNvSpPr/>
          <p:nvPr/>
        </p:nvSpPr>
        <p:spPr>
          <a:xfrm flipH="1">
            <a:off x="4530240" y="2357280"/>
            <a:ext cx="21924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9"/>
          <p:cNvSpPr/>
          <p:nvPr/>
        </p:nvSpPr>
        <p:spPr>
          <a:xfrm flipV="1">
            <a:off x="5468760" y="4293720"/>
            <a:ext cx="7164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0"/>
          <p:cNvSpPr/>
          <p:nvPr/>
        </p:nvSpPr>
        <p:spPr>
          <a:xfrm flipV="1">
            <a:off x="5551560" y="4370040"/>
            <a:ext cx="7128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1"/>
          <p:cNvSpPr/>
          <p:nvPr/>
        </p:nvSpPr>
        <p:spPr>
          <a:xfrm flipV="1">
            <a:off x="2660760" y="6256440"/>
            <a:ext cx="71280" cy="23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2"/>
          <p:cNvSpPr/>
          <p:nvPr/>
        </p:nvSpPr>
        <p:spPr>
          <a:xfrm>
            <a:off x="2925720" y="623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3"/>
          <p:cNvSpPr/>
          <p:nvPr/>
        </p:nvSpPr>
        <p:spPr>
          <a:xfrm>
            <a:off x="2711880" y="608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4"/>
          <p:cNvSpPr/>
          <p:nvPr/>
        </p:nvSpPr>
        <p:spPr>
          <a:xfrm>
            <a:off x="6094440" y="530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5"/>
          <p:cNvSpPr/>
          <p:nvPr/>
        </p:nvSpPr>
        <p:spPr>
          <a:xfrm>
            <a:off x="5880600" y="51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6"/>
          <p:cNvSpPr/>
          <p:nvPr/>
        </p:nvSpPr>
        <p:spPr>
          <a:xfrm flipH="1">
            <a:off x="2883960" y="5032440"/>
            <a:ext cx="3187800" cy="157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47"/>
          <p:cNvSpPr/>
          <p:nvPr/>
        </p:nvSpPr>
        <p:spPr>
          <a:xfrm>
            <a:off x="6008760" y="496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48"/>
          <p:cNvSpPr/>
          <p:nvPr/>
        </p:nvSpPr>
        <p:spPr>
          <a:xfrm>
            <a:off x="2816280" y="6572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49"/>
          <p:cNvSpPr/>
          <p:nvPr/>
        </p:nvSpPr>
        <p:spPr>
          <a:xfrm>
            <a:off x="3122640" y="5629320"/>
            <a:ext cx="458640" cy="622080"/>
          </a:xfrm>
          <a:custGeom>
            <a:avLst/>
            <a:gdLst/>
            <a:ahLst/>
            <a:rect l="l" t="t" r="r" b="b"/>
            <a:pathLst>
              <a:path w="2024" h="2740">
                <a:moveTo>
                  <a:pt x="2024" y="2740"/>
                </a:moveTo>
                <a:lnTo>
                  <a:pt x="1564" y="2022"/>
                </a:lnTo>
                <a:lnTo>
                  <a:pt x="1073" y="1325"/>
                </a:lnTo>
                <a:lnTo>
                  <a:pt x="552" y="6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0"/>
          <p:cNvSpPr/>
          <p:nvPr/>
        </p:nvSpPr>
        <p:spPr>
          <a:xfrm rot="20094600">
            <a:off x="4344840" y="5186520"/>
            <a:ext cx="10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1"/>
          <p:cNvSpPr/>
          <p:nvPr/>
        </p:nvSpPr>
        <p:spPr>
          <a:xfrm>
            <a:off x="3363840" y="56167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2"/>
          <p:cNvSpPr/>
          <p:nvPr/>
        </p:nvSpPr>
        <p:spPr>
          <a:xfrm>
            <a:off x="6099840" y="154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3"/>
          <p:cNvSpPr/>
          <p:nvPr/>
        </p:nvSpPr>
        <p:spPr>
          <a:xfrm>
            <a:off x="8061480" y="183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4"/>
          <p:cNvSpPr/>
          <p:nvPr/>
        </p:nvSpPr>
        <p:spPr>
          <a:xfrm>
            <a:off x="640224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5"/>
          <p:cNvSpPr/>
          <p:nvPr/>
        </p:nvSpPr>
        <p:spPr>
          <a:xfrm>
            <a:off x="7540560" y="182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9EA2-F9D2-44C1-BCBC-FAB219808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0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1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2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4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5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6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9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1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4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6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27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8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9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30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31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2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33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34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35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6"/>
          <p:cNvSpPr/>
          <p:nvPr/>
        </p:nvSpPr>
        <p:spPr>
          <a:xfrm flipH="1">
            <a:off x="1959120" y="2711520"/>
            <a:ext cx="218880" cy="10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7"/>
          <p:cNvSpPr/>
          <p:nvPr/>
        </p:nvSpPr>
        <p:spPr>
          <a:xfrm flipH="1">
            <a:off x="4529160" y="2244600"/>
            <a:ext cx="21888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8"/>
          <p:cNvSpPr/>
          <p:nvPr/>
        </p:nvSpPr>
        <p:spPr>
          <a:xfrm flipH="1">
            <a:off x="4530240" y="2357280"/>
            <a:ext cx="21924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9"/>
          <p:cNvSpPr/>
          <p:nvPr/>
        </p:nvSpPr>
        <p:spPr>
          <a:xfrm flipV="1">
            <a:off x="5468760" y="4293720"/>
            <a:ext cx="7164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40"/>
          <p:cNvSpPr/>
          <p:nvPr/>
        </p:nvSpPr>
        <p:spPr>
          <a:xfrm flipV="1">
            <a:off x="5551560" y="4370040"/>
            <a:ext cx="7128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41"/>
          <p:cNvSpPr/>
          <p:nvPr/>
        </p:nvSpPr>
        <p:spPr>
          <a:xfrm flipV="1">
            <a:off x="2660760" y="6256440"/>
            <a:ext cx="71280" cy="23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2"/>
          <p:cNvSpPr/>
          <p:nvPr/>
        </p:nvSpPr>
        <p:spPr>
          <a:xfrm>
            <a:off x="2925720" y="623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43"/>
          <p:cNvSpPr/>
          <p:nvPr/>
        </p:nvSpPr>
        <p:spPr>
          <a:xfrm>
            <a:off x="2711880" y="608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44"/>
          <p:cNvSpPr/>
          <p:nvPr/>
        </p:nvSpPr>
        <p:spPr>
          <a:xfrm>
            <a:off x="6094440" y="530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5"/>
          <p:cNvSpPr/>
          <p:nvPr/>
        </p:nvSpPr>
        <p:spPr>
          <a:xfrm>
            <a:off x="5880600" y="51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6"/>
          <p:cNvSpPr/>
          <p:nvPr/>
        </p:nvSpPr>
        <p:spPr>
          <a:xfrm flipH="1">
            <a:off x="2883960" y="5032440"/>
            <a:ext cx="3187800" cy="157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48"/>
          <p:cNvSpPr/>
          <p:nvPr/>
        </p:nvSpPr>
        <p:spPr>
          <a:xfrm>
            <a:off x="2816280" y="6572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49"/>
          <p:cNvSpPr/>
          <p:nvPr/>
        </p:nvSpPr>
        <p:spPr>
          <a:xfrm>
            <a:off x="3122640" y="5629320"/>
            <a:ext cx="458640" cy="622080"/>
          </a:xfrm>
          <a:custGeom>
            <a:avLst/>
            <a:gdLst/>
            <a:ahLst/>
            <a:rect l="l" t="t" r="r" b="b"/>
            <a:pathLst>
              <a:path w="2024" h="2740">
                <a:moveTo>
                  <a:pt x="2024" y="2740"/>
                </a:moveTo>
                <a:lnTo>
                  <a:pt x="1564" y="2022"/>
                </a:lnTo>
                <a:lnTo>
                  <a:pt x="1073" y="1325"/>
                </a:lnTo>
                <a:lnTo>
                  <a:pt x="552" y="6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0"/>
          <p:cNvSpPr/>
          <p:nvPr/>
        </p:nvSpPr>
        <p:spPr>
          <a:xfrm rot="20094600">
            <a:off x="4344840" y="5186520"/>
            <a:ext cx="10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1"/>
          <p:cNvSpPr/>
          <p:nvPr/>
        </p:nvSpPr>
        <p:spPr>
          <a:xfrm>
            <a:off x="3363840" y="56167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6"/>
          <p:cNvSpPr/>
          <p:nvPr/>
        </p:nvSpPr>
        <p:spPr>
          <a:xfrm flipH="1" flipV="1">
            <a:off x="6028920" y="3451320"/>
            <a:ext cx="1327320" cy="26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7"/>
          <p:cNvSpPr/>
          <p:nvPr/>
        </p:nvSpPr>
        <p:spPr>
          <a:xfrm flipV="1">
            <a:off x="6072120" y="4444920"/>
            <a:ext cx="118764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8"/>
          <p:cNvSpPr/>
          <p:nvPr/>
        </p:nvSpPr>
        <p:spPr>
          <a:xfrm flipH="1" flipV="1">
            <a:off x="6545160" y="4799160"/>
            <a:ext cx="61920" cy="12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9"/>
          <p:cNvSpPr/>
          <p:nvPr/>
        </p:nvSpPr>
        <p:spPr>
          <a:xfrm flipV="1">
            <a:off x="6607080" y="4865400"/>
            <a:ext cx="122400" cy="60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0"/>
          <p:cNvSpPr/>
          <p:nvPr/>
        </p:nvSpPr>
        <p:spPr>
          <a:xfrm rot="3670200">
            <a:off x="6119280" y="330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1"/>
          <p:cNvSpPr/>
          <p:nvPr/>
        </p:nvSpPr>
        <p:spPr>
          <a:xfrm rot="3665400">
            <a:off x="6118560" y="3576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62"/>
          <p:cNvSpPr/>
          <p:nvPr/>
        </p:nvSpPr>
        <p:spPr>
          <a:xfrm>
            <a:off x="6008760" y="496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3"/>
          <p:cNvSpPr/>
          <p:nvPr/>
        </p:nvSpPr>
        <p:spPr>
          <a:xfrm>
            <a:off x="6100200" y="154620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 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64"/>
          <p:cNvSpPr/>
          <p:nvPr/>
        </p:nvSpPr>
        <p:spPr>
          <a:xfrm>
            <a:off x="6365880" y="23162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65"/>
          <p:cNvSpPr/>
          <p:nvPr/>
        </p:nvSpPr>
        <p:spPr>
          <a:xfrm>
            <a:off x="8061480" y="18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66"/>
          <p:cNvSpPr/>
          <p:nvPr/>
        </p:nvSpPr>
        <p:spPr>
          <a:xfrm>
            <a:off x="633708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7"/>
          <p:cNvSpPr/>
          <p:nvPr/>
        </p:nvSpPr>
        <p:spPr>
          <a:xfrm>
            <a:off x="8088480" y="235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8"/>
          <p:cNvSpPr/>
          <p:nvPr/>
        </p:nvSpPr>
        <p:spPr>
          <a:xfrm>
            <a:off x="7513560" y="179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9"/>
          <p:cNvSpPr/>
          <p:nvPr/>
        </p:nvSpPr>
        <p:spPr>
          <a:xfrm>
            <a:off x="7566120" y="235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70"/>
              <p:cNvSpPr txBox="1"/>
              <p:nvPr/>
            </p:nvSpPr>
            <p:spPr>
              <a:xfrm>
                <a:off x="6800760" y="217476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F13-D038-49E0-BB9A-996A21ECE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6100200" y="154620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  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6365880" y="23162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"/>
          <p:cNvSpPr/>
          <p:nvPr/>
        </p:nvSpPr>
        <p:spPr>
          <a:xfrm>
            <a:off x="8061480" y="18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6337080" y="180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9"/>
          <p:cNvSpPr/>
          <p:nvPr/>
        </p:nvSpPr>
        <p:spPr>
          <a:xfrm>
            <a:off x="8088480" y="235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"/>
          <p:cNvSpPr/>
          <p:nvPr/>
        </p:nvSpPr>
        <p:spPr>
          <a:xfrm>
            <a:off x="7513560" y="179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1"/>
          <p:cNvSpPr/>
          <p:nvPr/>
        </p:nvSpPr>
        <p:spPr>
          <a:xfrm>
            <a:off x="7566120" y="235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932360" y="132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3"/>
          <p:cNvSpPr/>
          <p:nvPr/>
        </p:nvSpPr>
        <p:spPr>
          <a:xfrm>
            <a:off x="532800" y="262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4"/>
          <p:cNvSpPr/>
          <p:nvPr/>
        </p:nvSpPr>
        <p:spPr>
          <a:xfrm>
            <a:off x="680760" y="277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5"/>
          <p:cNvSpPr/>
          <p:nvPr/>
        </p:nvSpPr>
        <p:spPr>
          <a:xfrm>
            <a:off x="4718520" y="117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6"/>
          <p:cNvSpPr/>
          <p:nvPr/>
        </p:nvSpPr>
        <p:spPr>
          <a:xfrm>
            <a:off x="409680" y="3062160"/>
            <a:ext cx="5341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7"/>
          <p:cNvSpPr/>
          <p:nvPr/>
        </p:nvSpPr>
        <p:spPr>
          <a:xfrm flipH="1">
            <a:off x="2064960" y="3408480"/>
            <a:ext cx="2570040" cy="22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8"/>
          <p:cNvSpPr/>
          <p:nvPr/>
        </p:nvSpPr>
        <p:spPr>
          <a:xfrm flipV="1">
            <a:off x="2065320" y="3061800"/>
            <a:ext cx="1440" cy="26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9"/>
          <p:cNvSpPr/>
          <p:nvPr/>
        </p:nvSpPr>
        <p:spPr>
          <a:xfrm flipV="1">
            <a:off x="4635360" y="3062160"/>
            <a:ext cx="180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0"/>
          <p:cNvSpPr/>
          <p:nvPr/>
        </p:nvSpPr>
        <p:spPr>
          <a:xfrm flipH="1">
            <a:off x="2064960" y="1554120"/>
            <a:ext cx="257004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1"/>
          <p:cNvSpPr/>
          <p:nvPr/>
        </p:nvSpPr>
        <p:spPr>
          <a:xfrm flipH="1">
            <a:off x="2028960" y="3463920"/>
            <a:ext cx="354168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2"/>
          <p:cNvSpPr/>
          <p:nvPr/>
        </p:nvSpPr>
        <p:spPr>
          <a:xfrm flipV="1">
            <a:off x="2065320" y="2486160"/>
            <a:ext cx="144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3"/>
          <p:cNvSpPr/>
          <p:nvPr/>
        </p:nvSpPr>
        <p:spPr>
          <a:xfrm flipV="1">
            <a:off x="4635360" y="1553760"/>
            <a:ext cx="1800" cy="150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24"/>
          <p:cNvSpPr/>
          <p:nvPr/>
        </p:nvSpPr>
        <p:spPr>
          <a:xfrm>
            <a:off x="4635360" y="3408480"/>
            <a:ext cx="43812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25"/>
          <p:cNvSpPr/>
          <p:nvPr/>
        </p:nvSpPr>
        <p:spPr>
          <a:xfrm>
            <a:off x="2065320" y="5684760"/>
            <a:ext cx="8190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26"/>
          <p:cNvSpPr/>
          <p:nvPr/>
        </p:nvSpPr>
        <p:spPr>
          <a:xfrm flipH="1">
            <a:off x="2883960" y="5032440"/>
            <a:ext cx="3187800" cy="157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27"/>
          <p:cNvSpPr/>
          <p:nvPr/>
        </p:nvSpPr>
        <p:spPr>
          <a:xfrm flipH="1" flipV="1">
            <a:off x="6028920" y="3451320"/>
            <a:ext cx="1327320" cy="26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28"/>
          <p:cNvSpPr/>
          <p:nvPr/>
        </p:nvSpPr>
        <p:spPr>
          <a:xfrm flipV="1">
            <a:off x="6072120" y="4444920"/>
            <a:ext cx="118764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9"/>
          <p:cNvSpPr/>
          <p:nvPr/>
        </p:nvSpPr>
        <p:spPr>
          <a:xfrm>
            <a:off x="5073480" y="3903840"/>
            <a:ext cx="99864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0"/>
          <p:cNvSpPr/>
          <p:nvPr/>
        </p:nvSpPr>
        <p:spPr>
          <a:xfrm flipV="1">
            <a:off x="2349360" y="6103800"/>
            <a:ext cx="860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1"/>
          <p:cNvSpPr/>
          <p:nvPr/>
        </p:nvSpPr>
        <p:spPr>
          <a:xfrm>
            <a:off x="2349360" y="6180120"/>
            <a:ext cx="684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2"/>
          <p:cNvSpPr/>
          <p:nvPr/>
        </p:nvSpPr>
        <p:spPr>
          <a:xfrm flipV="1">
            <a:off x="4903920" y="3819600"/>
            <a:ext cx="9504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3"/>
          <p:cNvSpPr/>
          <p:nvPr/>
        </p:nvSpPr>
        <p:spPr>
          <a:xfrm>
            <a:off x="4903920" y="3903840"/>
            <a:ext cx="7452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34"/>
          <p:cNvSpPr/>
          <p:nvPr/>
        </p:nvSpPr>
        <p:spPr>
          <a:xfrm flipH="1" flipV="1">
            <a:off x="6545160" y="4799160"/>
            <a:ext cx="61920" cy="12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35"/>
          <p:cNvSpPr/>
          <p:nvPr/>
        </p:nvSpPr>
        <p:spPr>
          <a:xfrm flipV="1">
            <a:off x="6607080" y="4865400"/>
            <a:ext cx="1224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36"/>
          <p:cNvSpPr/>
          <p:nvPr/>
        </p:nvSpPr>
        <p:spPr>
          <a:xfrm flipH="1">
            <a:off x="1959120" y="2711520"/>
            <a:ext cx="218880" cy="10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7"/>
          <p:cNvSpPr/>
          <p:nvPr/>
        </p:nvSpPr>
        <p:spPr>
          <a:xfrm flipH="1">
            <a:off x="4529160" y="2244600"/>
            <a:ext cx="21888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38"/>
          <p:cNvSpPr/>
          <p:nvPr/>
        </p:nvSpPr>
        <p:spPr>
          <a:xfrm flipH="1">
            <a:off x="4530240" y="2357280"/>
            <a:ext cx="219240" cy="10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39"/>
          <p:cNvSpPr/>
          <p:nvPr/>
        </p:nvSpPr>
        <p:spPr>
          <a:xfrm flipH="1">
            <a:off x="2146320" y="5715000"/>
            <a:ext cx="60480" cy="2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0"/>
          <p:cNvSpPr/>
          <p:nvPr/>
        </p:nvSpPr>
        <p:spPr>
          <a:xfrm flipH="1">
            <a:off x="2211120" y="5800680"/>
            <a:ext cx="60120" cy="2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1"/>
          <p:cNvSpPr/>
          <p:nvPr/>
        </p:nvSpPr>
        <p:spPr>
          <a:xfrm flipH="1">
            <a:off x="2279520" y="5873760"/>
            <a:ext cx="61920" cy="2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2"/>
          <p:cNvSpPr/>
          <p:nvPr/>
        </p:nvSpPr>
        <p:spPr>
          <a:xfrm flipH="1">
            <a:off x="4859280" y="3581280"/>
            <a:ext cx="60480" cy="2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3"/>
          <p:cNvSpPr/>
          <p:nvPr/>
        </p:nvSpPr>
        <p:spPr>
          <a:xfrm flipH="1">
            <a:off x="4789440" y="3508200"/>
            <a:ext cx="61920" cy="2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44"/>
          <p:cNvSpPr/>
          <p:nvPr/>
        </p:nvSpPr>
        <p:spPr>
          <a:xfrm flipH="1">
            <a:off x="4724280" y="3424320"/>
            <a:ext cx="61920" cy="218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45"/>
          <p:cNvSpPr/>
          <p:nvPr/>
        </p:nvSpPr>
        <p:spPr>
          <a:xfrm>
            <a:off x="6778800" y="4605480"/>
            <a:ext cx="212400" cy="81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46"/>
          <p:cNvSpPr/>
          <p:nvPr/>
        </p:nvSpPr>
        <p:spPr>
          <a:xfrm>
            <a:off x="6869160" y="4548240"/>
            <a:ext cx="212760" cy="81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7"/>
          <p:cNvSpPr/>
          <p:nvPr/>
        </p:nvSpPr>
        <p:spPr>
          <a:xfrm>
            <a:off x="6948360" y="4486320"/>
            <a:ext cx="212760" cy="81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48"/>
          <p:cNvSpPr/>
          <p:nvPr/>
        </p:nvSpPr>
        <p:spPr>
          <a:xfrm flipV="1">
            <a:off x="5468760" y="4293720"/>
            <a:ext cx="7164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49"/>
          <p:cNvSpPr/>
          <p:nvPr/>
        </p:nvSpPr>
        <p:spPr>
          <a:xfrm flipV="1">
            <a:off x="5551560" y="4370040"/>
            <a:ext cx="7128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0"/>
          <p:cNvSpPr/>
          <p:nvPr/>
        </p:nvSpPr>
        <p:spPr>
          <a:xfrm flipV="1">
            <a:off x="2660760" y="6256440"/>
            <a:ext cx="71280" cy="23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51"/>
          <p:cNvSpPr/>
          <p:nvPr/>
        </p:nvSpPr>
        <p:spPr>
          <a:xfrm>
            <a:off x="4565520" y="1500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52"/>
          <p:cNvSpPr/>
          <p:nvPr/>
        </p:nvSpPr>
        <p:spPr>
          <a:xfrm>
            <a:off x="4894200" y="31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53"/>
          <p:cNvSpPr/>
          <p:nvPr/>
        </p:nvSpPr>
        <p:spPr>
          <a:xfrm>
            <a:off x="4680360" y="303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54"/>
          <p:cNvSpPr/>
          <p:nvPr/>
        </p:nvSpPr>
        <p:spPr>
          <a:xfrm>
            <a:off x="4575240" y="332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55"/>
          <p:cNvSpPr/>
          <p:nvPr/>
        </p:nvSpPr>
        <p:spPr>
          <a:xfrm>
            <a:off x="2925720" y="623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6"/>
          <p:cNvSpPr/>
          <p:nvPr/>
        </p:nvSpPr>
        <p:spPr>
          <a:xfrm>
            <a:off x="2711880" y="608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57"/>
          <p:cNvSpPr/>
          <p:nvPr/>
        </p:nvSpPr>
        <p:spPr>
          <a:xfrm>
            <a:off x="6008760" y="4964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8"/>
          <p:cNvSpPr/>
          <p:nvPr/>
        </p:nvSpPr>
        <p:spPr>
          <a:xfrm>
            <a:off x="6094440" y="530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9"/>
          <p:cNvSpPr/>
          <p:nvPr/>
        </p:nvSpPr>
        <p:spPr>
          <a:xfrm>
            <a:off x="5880600" y="515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60"/>
          <p:cNvSpPr/>
          <p:nvPr/>
        </p:nvSpPr>
        <p:spPr>
          <a:xfrm>
            <a:off x="7226280" y="4375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61"/>
          <p:cNvSpPr/>
          <p:nvPr/>
        </p:nvSpPr>
        <p:spPr>
          <a:xfrm>
            <a:off x="3122640" y="5629320"/>
            <a:ext cx="458640" cy="622080"/>
          </a:xfrm>
          <a:custGeom>
            <a:avLst/>
            <a:gdLst/>
            <a:ahLst/>
            <a:rect l="l" t="t" r="r" b="b"/>
            <a:pathLst>
              <a:path w="2024" h="2740">
                <a:moveTo>
                  <a:pt x="2024" y="2740"/>
                </a:moveTo>
                <a:lnTo>
                  <a:pt x="1564" y="2022"/>
                </a:lnTo>
                <a:lnTo>
                  <a:pt x="1073" y="1325"/>
                </a:lnTo>
                <a:lnTo>
                  <a:pt x="552" y="6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62"/>
          <p:cNvSpPr/>
          <p:nvPr/>
        </p:nvSpPr>
        <p:spPr>
          <a:xfrm>
            <a:off x="17794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3"/>
          <p:cNvSpPr/>
          <p:nvPr/>
        </p:nvSpPr>
        <p:spPr>
          <a:xfrm>
            <a:off x="1565640" y="203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64"/>
          <p:cNvSpPr/>
          <p:nvPr/>
        </p:nvSpPr>
        <p:spPr>
          <a:xfrm>
            <a:off x="2006640" y="2427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65"/>
          <p:cNvSpPr/>
          <p:nvPr/>
        </p:nvSpPr>
        <p:spPr>
          <a:xfrm rot="20094600">
            <a:off x="4344840" y="5186520"/>
            <a:ext cx="10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66"/>
          <p:cNvSpPr/>
          <p:nvPr/>
        </p:nvSpPr>
        <p:spPr>
          <a:xfrm>
            <a:off x="3363840" y="56167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67"/>
          <p:cNvSpPr/>
          <p:nvPr/>
        </p:nvSpPr>
        <p:spPr>
          <a:xfrm>
            <a:off x="7039080" y="387972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68"/>
          <p:cNvSpPr/>
          <p:nvPr/>
        </p:nvSpPr>
        <p:spPr>
          <a:xfrm>
            <a:off x="2006640" y="5614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69"/>
          <p:cNvSpPr/>
          <p:nvPr/>
        </p:nvSpPr>
        <p:spPr>
          <a:xfrm rot="18861000">
            <a:off x="1773360" y="62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70"/>
          <p:cNvSpPr/>
          <p:nvPr/>
        </p:nvSpPr>
        <p:spPr>
          <a:xfrm rot="18837000">
            <a:off x="1935360" y="6259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71"/>
          <p:cNvSpPr/>
          <p:nvPr/>
        </p:nvSpPr>
        <p:spPr>
          <a:xfrm rot="3670200">
            <a:off x="6119280" y="330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72"/>
          <p:cNvSpPr/>
          <p:nvPr/>
        </p:nvSpPr>
        <p:spPr>
          <a:xfrm rot="3665400">
            <a:off x="6118560" y="3576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73"/>
          <p:cNvSpPr/>
          <p:nvPr/>
        </p:nvSpPr>
        <p:spPr>
          <a:xfrm>
            <a:off x="177948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74"/>
          <p:cNvSpPr/>
          <p:nvPr/>
        </p:nvSpPr>
        <p:spPr>
          <a:xfrm>
            <a:off x="1565640" y="5226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75"/>
          <p:cNvSpPr/>
          <p:nvPr/>
        </p:nvSpPr>
        <p:spPr>
          <a:xfrm>
            <a:off x="7253280" y="402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76"/>
          <p:cNvSpPr/>
          <p:nvPr/>
        </p:nvSpPr>
        <p:spPr>
          <a:xfrm>
            <a:off x="7786440" y="40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77"/>
          <p:cNvSpPr/>
          <p:nvPr/>
        </p:nvSpPr>
        <p:spPr>
          <a:xfrm>
            <a:off x="2816280" y="6572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79"/>
              <p:cNvSpPr txBox="1"/>
              <p:nvPr/>
            </p:nvSpPr>
            <p:spPr>
              <a:xfrm>
                <a:off x="6800760" y="217476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34F6-4A76-4C5F-B994-46E2482AB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157320" y="2587680"/>
            <a:ext cx="2587320" cy="11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"/>
          <p:cNvSpPr/>
          <p:nvPr/>
        </p:nvSpPr>
        <p:spPr>
          <a:xfrm>
            <a:off x="3314880" y="2624040"/>
            <a:ext cx="2587320" cy="11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6399360" y="2611440"/>
            <a:ext cx="2587320" cy="11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8"/>
          <p:cNvSpPr/>
          <p:nvPr/>
        </p:nvSpPr>
        <p:spPr>
          <a:xfrm>
            <a:off x="2743200" y="31878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9"/>
          <p:cNvSpPr/>
          <p:nvPr/>
        </p:nvSpPr>
        <p:spPr>
          <a:xfrm>
            <a:off x="5902200" y="318780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157320" y="263520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 о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3263760" y="2673360"/>
            <a:ext cx="26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.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2"/>
          <p:cNvSpPr/>
          <p:nvPr/>
        </p:nvSpPr>
        <p:spPr>
          <a:xfrm>
            <a:off x="6357960" y="2631960"/>
            <a:ext cx="26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3"/>
          <p:cNvSpPr/>
          <p:nvPr/>
        </p:nvSpPr>
        <p:spPr>
          <a:xfrm>
            <a:off x="2889000" y="2724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4"/>
          <p:cNvSpPr/>
          <p:nvPr/>
        </p:nvSpPr>
        <p:spPr>
          <a:xfrm>
            <a:off x="5957640" y="2813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BFD-E5DE-4052-BF58-E8B2EBB20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9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0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1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2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3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4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5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6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7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8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6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7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86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87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88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89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90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91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95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96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97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98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99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00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105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6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07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15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16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17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34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35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5C7-0C70-4EAD-AA91-DDA4DAAD1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6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варианты изометрических преобраз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8120" y="1898640"/>
            <a:ext cx="879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ариантами преобразования называ-ются величины, остающиеся неизменными при данном преобра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B45-1EAA-4774-B06C-934FD191B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5"/>
          <p:cNvSpPr/>
          <p:nvPr/>
        </p:nvSpPr>
        <p:spPr>
          <a:xfrm>
            <a:off x="155520" y="1544760"/>
            <a:ext cx="881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го, чтобы плоскость стала прое-цирующей, необходимо сделать преобразо-вание, приводящее любую прямую плоскос-ти к виду проецирующе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CCC-A9A6-4A57-88E6-FAC5C53F5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5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6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7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8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9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0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1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2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3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4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5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6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7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8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9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0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21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22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23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24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25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6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7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28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29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1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32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33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34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35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36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37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8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9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40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41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150-7074-46ED-8EC4-1BD39DC83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5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6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0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1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2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3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4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15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6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7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18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19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20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1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22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23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24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25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6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7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9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30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31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32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3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4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5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6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37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8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9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40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42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3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44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45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46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47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48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49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50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51"/>
          <p:cNvSpPr/>
          <p:nvPr/>
        </p:nvSpPr>
        <p:spPr>
          <a:xfrm>
            <a:off x="5250600" y="17146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59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2" name="Oval 60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CE09-0B50-4F51-A68F-4ADCA26E9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9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0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1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2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3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5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6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7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8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9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20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1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22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3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24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25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6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27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28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9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30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31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32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3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34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35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36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37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8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39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40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41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42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43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44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45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46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47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48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49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52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53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54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5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56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57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58"/>
          <p:cNvSpPr/>
          <p:nvPr/>
        </p:nvSpPr>
        <p:spPr>
          <a:xfrm>
            <a:off x="5250600" y="1714680"/>
            <a:ext cx="22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59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60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19" name="Text Box 61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0" name="Object 66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E1C-A01F-4817-802B-76D991B14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5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6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7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8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9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10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11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2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13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4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5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6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7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18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9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20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21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2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23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24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26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27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28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29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30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2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33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34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35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36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37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38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39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40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41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42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4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5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46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7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48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49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50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51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52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3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54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55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56"/>
          <p:cNvSpPr/>
          <p:nvPr/>
        </p:nvSpPr>
        <p:spPr>
          <a:xfrm>
            <a:off x="5250600" y="1714680"/>
            <a:ext cx="22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57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4" name="Object 58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5" name="Text Box 59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Object 60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7" name="Line 61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62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63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64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65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66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67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68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69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70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71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829-59CF-46B1-B356-3B02384AC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5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6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8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9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0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13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14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5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6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17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18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19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0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21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2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23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24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25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26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27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28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29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30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1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32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33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4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35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36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37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38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9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0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1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42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43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44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45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46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47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48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49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50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51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52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53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54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55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56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57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58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59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60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61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62"/>
          <p:cNvSpPr/>
          <p:nvPr/>
        </p:nvSpPr>
        <p:spPr>
          <a:xfrm>
            <a:off x="5250600" y="1714680"/>
            <a:ext cx="22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63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Object 64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7" name="Text Box 65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Object 66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9" name="Line 67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68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69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70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71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72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73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74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75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76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77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78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79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80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81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510-63BC-4F96-AA2A-D6EF39577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59"/>
          <p:cNvSpPr/>
          <p:nvPr/>
        </p:nvSpPr>
        <p:spPr>
          <a:xfrm>
            <a:off x="5250600" y="1714680"/>
            <a:ext cx="22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60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2" name="Object 61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3" name="Text Box 62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Object 63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5" name="Line 64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5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6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7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8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69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0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1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2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73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val 74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8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79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80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81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82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389-D326-42AE-8D51-9B7D35D0C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59"/>
          <p:cNvSpPr/>
          <p:nvPr/>
        </p:nvSpPr>
        <p:spPr>
          <a:xfrm>
            <a:off x="5250600" y="1714680"/>
            <a:ext cx="22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60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9" name="Object 61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0" name="Text Box 62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63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Line 64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65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66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67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8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69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70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71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72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73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74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75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76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val 77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val 78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79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80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81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830-1212-489A-B39B-338878DDB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64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65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66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67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68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69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70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71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72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val 73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74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75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76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77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78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79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80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81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82"/>
          <p:cNvSpPr/>
          <p:nvPr/>
        </p:nvSpPr>
        <p:spPr>
          <a:xfrm>
            <a:off x="5249880" y="1714680"/>
            <a:ext cx="32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║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B  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83"/>
          <p:cNvSpPr/>
          <p:nvPr/>
        </p:nvSpPr>
        <p:spPr>
          <a:xfrm flipH="1">
            <a:off x="3779640" y="3816360"/>
            <a:ext cx="91800" cy="2741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84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Object 85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8" name="Text Box 86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87"/>
          <p:cNvSpPr/>
          <p:nvPr/>
        </p:nvSpPr>
        <p:spPr>
          <a:xfrm>
            <a:off x="75312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88"/>
          <p:cNvSpPr/>
          <p:nvPr/>
        </p:nvSpPr>
        <p:spPr>
          <a:xfrm>
            <a:off x="80154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89"/>
          <p:cNvSpPr/>
          <p:nvPr/>
        </p:nvSpPr>
        <p:spPr>
          <a:xfrm>
            <a:off x="704844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90"/>
          <p:cNvSpPr/>
          <p:nvPr/>
        </p:nvSpPr>
        <p:spPr>
          <a:xfrm>
            <a:off x="5487840" y="3035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3" name="Object 91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4" name="Text Box 92"/>
          <p:cNvSpPr/>
          <p:nvPr/>
        </p:nvSpPr>
        <p:spPr>
          <a:xfrm rot="16200000">
            <a:off x="3505680" y="38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93"/>
          <p:cNvSpPr/>
          <p:nvPr/>
        </p:nvSpPr>
        <p:spPr>
          <a:xfrm rot="16393800">
            <a:off x="3613680" y="374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493-BC7C-4EAC-8D2B-0D6E238AB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59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60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61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62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63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64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65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66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67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val 68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69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70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74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75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76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77"/>
          <p:cNvSpPr/>
          <p:nvPr/>
        </p:nvSpPr>
        <p:spPr>
          <a:xfrm>
            <a:off x="5249880" y="1714680"/>
            <a:ext cx="32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║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B  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78"/>
          <p:cNvSpPr/>
          <p:nvPr/>
        </p:nvSpPr>
        <p:spPr>
          <a:xfrm flipH="1">
            <a:off x="3779640" y="3816360"/>
            <a:ext cx="91800" cy="274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79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Object 80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1" name="Text Box 81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82"/>
          <p:cNvSpPr/>
          <p:nvPr/>
        </p:nvSpPr>
        <p:spPr>
          <a:xfrm>
            <a:off x="75312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83"/>
          <p:cNvSpPr/>
          <p:nvPr/>
        </p:nvSpPr>
        <p:spPr>
          <a:xfrm>
            <a:off x="80154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84"/>
          <p:cNvSpPr/>
          <p:nvPr/>
        </p:nvSpPr>
        <p:spPr>
          <a:xfrm>
            <a:off x="704844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85"/>
          <p:cNvSpPr/>
          <p:nvPr/>
        </p:nvSpPr>
        <p:spPr>
          <a:xfrm>
            <a:off x="5487840" y="3035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6" name="Object 86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Text Box 87"/>
          <p:cNvSpPr/>
          <p:nvPr/>
        </p:nvSpPr>
        <p:spPr>
          <a:xfrm rot="16200000">
            <a:off x="3505680" y="38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88"/>
          <p:cNvSpPr/>
          <p:nvPr/>
        </p:nvSpPr>
        <p:spPr>
          <a:xfrm rot="16393800">
            <a:off x="3613680" y="374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98"/>
          <p:cNvSpPr/>
          <p:nvPr/>
        </p:nvSpPr>
        <p:spPr>
          <a:xfrm>
            <a:off x="3281400" y="6262560"/>
            <a:ext cx="1455840" cy="4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99"/>
          <p:cNvSpPr/>
          <p:nvPr/>
        </p:nvSpPr>
        <p:spPr>
          <a:xfrm>
            <a:off x="3311640" y="5403960"/>
            <a:ext cx="2746440" cy="9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100"/>
          <p:cNvSpPr/>
          <p:nvPr/>
        </p:nvSpPr>
        <p:spPr>
          <a:xfrm>
            <a:off x="3343320" y="4406760"/>
            <a:ext cx="866880" cy="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101"/>
          <p:cNvSpPr/>
          <p:nvPr/>
        </p:nvSpPr>
        <p:spPr>
          <a:xfrm flipH="1">
            <a:off x="3736800" y="4295880"/>
            <a:ext cx="5040" cy="123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102"/>
          <p:cNvSpPr/>
          <p:nvPr/>
        </p:nvSpPr>
        <p:spPr>
          <a:xfrm>
            <a:off x="3741840" y="4295880"/>
            <a:ext cx="11268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103"/>
          <p:cNvSpPr/>
          <p:nvPr/>
        </p:nvSpPr>
        <p:spPr>
          <a:xfrm>
            <a:off x="3708360" y="5292720"/>
            <a:ext cx="11448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104"/>
          <p:cNvSpPr/>
          <p:nvPr/>
        </p:nvSpPr>
        <p:spPr>
          <a:xfrm flipH="1">
            <a:off x="3703320" y="5292720"/>
            <a:ext cx="4680" cy="123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105"/>
          <p:cNvSpPr/>
          <p:nvPr/>
        </p:nvSpPr>
        <p:spPr>
          <a:xfrm>
            <a:off x="3679920" y="6151680"/>
            <a:ext cx="11268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6"/>
          <p:cNvSpPr/>
          <p:nvPr/>
        </p:nvSpPr>
        <p:spPr>
          <a:xfrm flipH="1">
            <a:off x="3674880" y="6151680"/>
            <a:ext cx="4680" cy="123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107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108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109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D247-6A47-49A3-9C24-0274E7E44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46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варианты изометрических преобраз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2520" y="1792440"/>
            <a:ext cx="6885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между двумя точка-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 между двумя ли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отсека поверх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 области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 rot="17698200">
            <a:off x="7595640" y="17312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 rot="1948800">
            <a:off x="7166160" y="258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7732440" y="1660680"/>
            <a:ext cx="29988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7980480" y="1611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7680240" y="2263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8145720" y="136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148240" y="214164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8091720" y="307188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7054920" y="2811600"/>
            <a:ext cx="1450800" cy="9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H="1">
            <a:off x="7111800" y="2854440"/>
            <a:ext cx="1323720" cy="86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3"/>
          <p:cNvSpPr/>
          <p:nvPr/>
        </p:nvSpPr>
        <p:spPr>
          <a:xfrm>
            <a:off x="8042400" y="3110040"/>
            <a:ext cx="48960" cy="330120"/>
          </a:xfrm>
          <a:custGeom>
            <a:avLst/>
            <a:gdLst/>
            <a:ahLst/>
            <a:rect l="l" t="t" r="r" b="b"/>
            <a:pathLst>
              <a:path w="1115" h="7471">
                <a:moveTo>
                  <a:pt x="40" y="7471"/>
                </a:moveTo>
                <a:lnTo>
                  <a:pt x="209" y="7189"/>
                </a:lnTo>
                <a:lnTo>
                  <a:pt x="365" y="6899"/>
                </a:lnTo>
                <a:lnTo>
                  <a:pt x="507" y="6603"/>
                </a:lnTo>
                <a:lnTo>
                  <a:pt x="635" y="6299"/>
                </a:lnTo>
                <a:lnTo>
                  <a:pt x="748" y="5991"/>
                </a:lnTo>
                <a:lnTo>
                  <a:pt x="846" y="5677"/>
                </a:lnTo>
                <a:lnTo>
                  <a:pt x="929" y="5359"/>
                </a:lnTo>
                <a:lnTo>
                  <a:pt x="998" y="5037"/>
                </a:lnTo>
                <a:lnTo>
                  <a:pt x="1050" y="4713"/>
                </a:lnTo>
                <a:lnTo>
                  <a:pt x="1088" y="4386"/>
                </a:lnTo>
                <a:lnTo>
                  <a:pt x="1109" y="4058"/>
                </a:lnTo>
                <a:lnTo>
                  <a:pt x="1115" y="3729"/>
                </a:lnTo>
                <a:lnTo>
                  <a:pt x="1105" y="3401"/>
                </a:lnTo>
                <a:lnTo>
                  <a:pt x="1080" y="3072"/>
                </a:lnTo>
                <a:lnTo>
                  <a:pt x="1039" y="2747"/>
                </a:lnTo>
                <a:lnTo>
                  <a:pt x="983" y="2422"/>
                </a:lnTo>
                <a:lnTo>
                  <a:pt x="912" y="2102"/>
                </a:lnTo>
                <a:lnTo>
                  <a:pt x="825" y="1784"/>
                </a:lnTo>
                <a:lnTo>
                  <a:pt x="724" y="1471"/>
                </a:lnTo>
                <a:lnTo>
                  <a:pt x="606" y="1164"/>
                </a:lnTo>
                <a:lnTo>
                  <a:pt x="476" y="863"/>
                </a:lnTo>
                <a:lnTo>
                  <a:pt x="330" y="568"/>
                </a:lnTo>
                <a:lnTo>
                  <a:pt x="172" y="279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 rot="19628400">
            <a:off x="6982200" y="3290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7174080" y="215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7049880" y="618804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=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3"/>
          <p:cNvSpPr/>
          <p:nvPr/>
        </p:nvSpPr>
        <p:spPr>
          <a:xfrm>
            <a:off x="7189920" y="4205160"/>
            <a:ext cx="861840" cy="623880"/>
          </a:xfrm>
          <a:custGeom>
            <a:avLst/>
            <a:gdLst/>
            <a:ahLst/>
            <a:rect l="l" t="t" r="r" b="b"/>
            <a:pathLst>
              <a:path w="28830" h="20806">
                <a:moveTo>
                  <a:pt x="6174" y="3768"/>
                </a:moveTo>
                <a:lnTo>
                  <a:pt x="6248" y="3894"/>
                </a:lnTo>
                <a:lnTo>
                  <a:pt x="6327" y="4015"/>
                </a:lnTo>
                <a:lnTo>
                  <a:pt x="6413" y="4132"/>
                </a:lnTo>
                <a:lnTo>
                  <a:pt x="6505" y="4243"/>
                </a:lnTo>
                <a:lnTo>
                  <a:pt x="6602" y="4351"/>
                </a:lnTo>
                <a:lnTo>
                  <a:pt x="6706" y="4454"/>
                </a:lnTo>
                <a:lnTo>
                  <a:pt x="6813" y="4553"/>
                </a:lnTo>
                <a:lnTo>
                  <a:pt x="6927" y="4646"/>
                </a:lnTo>
                <a:lnTo>
                  <a:pt x="7044" y="4736"/>
                </a:lnTo>
                <a:lnTo>
                  <a:pt x="7167" y="4821"/>
                </a:lnTo>
                <a:lnTo>
                  <a:pt x="7293" y="4901"/>
                </a:lnTo>
                <a:lnTo>
                  <a:pt x="7424" y="4977"/>
                </a:lnTo>
                <a:lnTo>
                  <a:pt x="7559" y="5049"/>
                </a:lnTo>
                <a:lnTo>
                  <a:pt x="7696" y="5115"/>
                </a:lnTo>
                <a:lnTo>
                  <a:pt x="7837" y="5179"/>
                </a:lnTo>
                <a:lnTo>
                  <a:pt x="7982" y="5237"/>
                </a:lnTo>
                <a:lnTo>
                  <a:pt x="8128" y="5290"/>
                </a:lnTo>
                <a:lnTo>
                  <a:pt x="8278" y="5340"/>
                </a:lnTo>
                <a:lnTo>
                  <a:pt x="8430" y="5386"/>
                </a:lnTo>
                <a:lnTo>
                  <a:pt x="8583" y="5426"/>
                </a:lnTo>
                <a:lnTo>
                  <a:pt x="8739" y="5463"/>
                </a:lnTo>
                <a:lnTo>
                  <a:pt x="8896" y="5495"/>
                </a:lnTo>
                <a:lnTo>
                  <a:pt x="9214" y="5546"/>
                </a:lnTo>
                <a:lnTo>
                  <a:pt x="9536" y="5581"/>
                </a:lnTo>
                <a:lnTo>
                  <a:pt x="9858" y="5598"/>
                </a:lnTo>
                <a:lnTo>
                  <a:pt x="10181" y="5599"/>
                </a:lnTo>
                <a:lnTo>
                  <a:pt x="10501" y="5583"/>
                </a:lnTo>
                <a:lnTo>
                  <a:pt x="10817" y="5549"/>
                </a:lnTo>
                <a:lnTo>
                  <a:pt x="11126" y="5500"/>
                </a:lnTo>
                <a:lnTo>
                  <a:pt x="11428" y="5434"/>
                </a:lnTo>
                <a:lnTo>
                  <a:pt x="11722" y="5352"/>
                </a:lnTo>
                <a:lnTo>
                  <a:pt x="12009" y="5257"/>
                </a:lnTo>
                <a:lnTo>
                  <a:pt x="12290" y="5149"/>
                </a:lnTo>
                <a:lnTo>
                  <a:pt x="12564" y="5027"/>
                </a:lnTo>
                <a:lnTo>
                  <a:pt x="12833" y="4894"/>
                </a:lnTo>
                <a:lnTo>
                  <a:pt x="13096" y="4750"/>
                </a:lnTo>
                <a:lnTo>
                  <a:pt x="13355" y="4596"/>
                </a:lnTo>
                <a:lnTo>
                  <a:pt x="13608" y="4434"/>
                </a:lnTo>
                <a:lnTo>
                  <a:pt x="13857" y="4263"/>
                </a:lnTo>
                <a:lnTo>
                  <a:pt x="14102" y="4086"/>
                </a:lnTo>
                <a:lnTo>
                  <a:pt x="14344" y="3903"/>
                </a:lnTo>
                <a:lnTo>
                  <a:pt x="14582" y="3714"/>
                </a:lnTo>
                <a:lnTo>
                  <a:pt x="14818" y="3521"/>
                </a:lnTo>
                <a:lnTo>
                  <a:pt x="15283" y="3125"/>
                </a:lnTo>
                <a:lnTo>
                  <a:pt x="15742" y="2724"/>
                </a:lnTo>
                <a:lnTo>
                  <a:pt x="16196" y="2324"/>
                </a:lnTo>
                <a:lnTo>
                  <a:pt x="16651" y="1934"/>
                </a:lnTo>
                <a:lnTo>
                  <a:pt x="16879" y="1744"/>
                </a:lnTo>
                <a:lnTo>
                  <a:pt x="17108" y="1559"/>
                </a:lnTo>
                <a:lnTo>
                  <a:pt x="17339" y="1380"/>
                </a:lnTo>
                <a:lnTo>
                  <a:pt x="17571" y="1208"/>
                </a:lnTo>
                <a:lnTo>
                  <a:pt x="17806" y="1043"/>
                </a:lnTo>
                <a:lnTo>
                  <a:pt x="18043" y="888"/>
                </a:lnTo>
                <a:lnTo>
                  <a:pt x="18283" y="742"/>
                </a:lnTo>
                <a:lnTo>
                  <a:pt x="18528" y="606"/>
                </a:lnTo>
                <a:lnTo>
                  <a:pt x="18775" y="482"/>
                </a:lnTo>
                <a:lnTo>
                  <a:pt x="19026" y="370"/>
                </a:lnTo>
                <a:lnTo>
                  <a:pt x="19282" y="272"/>
                </a:lnTo>
                <a:lnTo>
                  <a:pt x="19543" y="187"/>
                </a:lnTo>
                <a:lnTo>
                  <a:pt x="19810" y="118"/>
                </a:lnTo>
                <a:lnTo>
                  <a:pt x="20082" y="65"/>
                </a:lnTo>
                <a:lnTo>
                  <a:pt x="20359" y="28"/>
                </a:lnTo>
                <a:lnTo>
                  <a:pt x="20640" y="6"/>
                </a:lnTo>
                <a:lnTo>
                  <a:pt x="20927" y="0"/>
                </a:lnTo>
                <a:lnTo>
                  <a:pt x="21216" y="8"/>
                </a:lnTo>
                <a:lnTo>
                  <a:pt x="21507" y="30"/>
                </a:lnTo>
                <a:lnTo>
                  <a:pt x="21802" y="67"/>
                </a:lnTo>
                <a:lnTo>
                  <a:pt x="22097" y="116"/>
                </a:lnTo>
                <a:lnTo>
                  <a:pt x="22394" y="179"/>
                </a:lnTo>
                <a:lnTo>
                  <a:pt x="22691" y="256"/>
                </a:lnTo>
                <a:lnTo>
                  <a:pt x="22987" y="344"/>
                </a:lnTo>
                <a:lnTo>
                  <a:pt x="23283" y="446"/>
                </a:lnTo>
                <a:lnTo>
                  <a:pt x="23577" y="557"/>
                </a:lnTo>
                <a:lnTo>
                  <a:pt x="23868" y="681"/>
                </a:lnTo>
                <a:lnTo>
                  <a:pt x="24158" y="815"/>
                </a:lnTo>
                <a:lnTo>
                  <a:pt x="24443" y="960"/>
                </a:lnTo>
                <a:lnTo>
                  <a:pt x="24724" y="1116"/>
                </a:lnTo>
                <a:lnTo>
                  <a:pt x="25002" y="1281"/>
                </a:lnTo>
                <a:lnTo>
                  <a:pt x="25273" y="1454"/>
                </a:lnTo>
                <a:lnTo>
                  <a:pt x="25539" y="1637"/>
                </a:lnTo>
                <a:lnTo>
                  <a:pt x="25798" y="1829"/>
                </a:lnTo>
                <a:lnTo>
                  <a:pt x="26051" y="2029"/>
                </a:lnTo>
                <a:lnTo>
                  <a:pt x="26295" y="2237"/>
                </a:lnTo>
                <a:lnTo>
                  <a:pt x="26530" y="2451"/>
                </a:lnTo>
                <a:lnTo>
                  <a:pt x="26757" y="2673"/>
                </a:lnTo>
                <a:lnTo>
                  <a:pt x="26974" y="2902"/>
                </a:lnTo>
                <a:lnTo>
                  <a:pt x="27181" y="3137"/>
                </a:lnTo>
                <a:lnTo>
                  <a:pt x="27377" y="3377"/>
                </a:lnTo>
                <a:lnTo>
                  <a:pt x="27562" y="3623"/>
                </a:lnTo>
                <a:lnTo>
                  <a:pt x="27734" y="3875"/>
                </a:lnTo>
                <a:lnTo>
                  <a:pt x="27894" y="4131"/>
                </a:lnTo>
                <a:lnTo>
                  <a:pt x="28040" y="4391"/>
                </a:lnTo>
                <a:lnTo>
                  <a:pt x="28173" y="4655"/>
                </a:lnTo>
                <a:lnTo>
                  <a:pt x="28294" y="4922"/>
                </a:lnTo>
                <a:lnTo>
                  <a:pt x="28402" y="5195"/>
                </a:lnTo>
                <a:lnTo>
                  <a:pt x="28497" y="5470"/>
                </a:lnTo>
                <a:lnTo>
                  <a:pt x="28580" y="5748"/>
                </a:lnTo>
                <a:lnTo>
                  <a:pt x="28651" y="6030"/>
                </a:lnTo>
                <a:lnTo>
                  <a:pt x="28709" y="6314"/>
                </a:lnTo>
                <a:lnTo>
                  <a:pt x="28756" y="6600"/>
                </a:lnTo>
                <a:lnTo>
                  <a:pt x="28791" y="6890"/>
                </a:lnTo>
                <a:lnTo>
                  <a:pt x="28815" y="7181"/>
                </a:lnTo>
                <a:lnTo>
                  <a:pt x="28827" y="7474"/>
                </a:lnTo>
                <a:lnTo>
                  <a:pt x="28830" y="7770"/>
                </a:lnTo>
                <a:lnTo>
                  <a:pt x="28820" y="8066"/>
                </a:lnTo>
                <a:lnTo>
                  <a:pt x="28800" y="8363"/>
                </a:lnTo>
                <a:lnTo>
                  <a:pt x="28770" y="8662"/>
                </a:lnTo>
                <a:lnTo>
                  <a:pt x="28730" y="8962"/>
                </a:lnTo>
                <a:lnTo>
                  <a:pt x="28680" y="9263"/>
                </a:lnTo>
                <a:lnTo>
                  <a:pt x="28619" y="9563"/>
                </a:lnTo>
                <a:lnTo>
                  <a:pt x="28549" y="9863"/>
                </a:lnTo>
                <a:lnTo>
                  <a:pt x="28469" y="10165"/>
                </a:lnTo>
                <a:lnTo>
                  <a:pt x="28380" y="10465"/>
                </a:lnTo>
                <a:lnTo>
                  <a:pt x="28282" y="10766"/>
                </a:lnTo>
                <a:lnTo>
                  <a:pt x="28175" y="11065"/>
                </a:lnTo>
                <a:lnTo>
                  <a:pt x="28060" y="11364"/>
                </a:lnTo>
                <a:lnTo>
                  <a:pt x="27935" y="11662"/>
                </a:lnTo>
                <a:lnTo>
                  <a:pt x="27803" y="11958"/>
                </a:lnTo>
                <a:lnTo>
                  <a:pt x="27662" y="12254"/>
                </a:lnTo>
                <a:lnTo>
                  <a:pt x="27513" y="12547"/>
                </a:lnTo>
                <a:lnTo>
                  <a:pt x="27358" y="12838"/>
                </a:lnTo>
                <a:lnTo>
                  <a:pt x="27193" y="13127"/>
                </a:lnTo>
                <a:lnTo>
                  <a:pt x="27022" y="13414"/>
                </a:lnTo>
                <a:lnTo>
                  <a:pt x="26843" y="13698"/>
                </a:lnTo>
                <a:lnTo>
                  <a:pt x="26658" y="13980"/>
                </a:lnTo>
                <a:lnTo>
                  <a:pt x="26466" y="14258"/>
                </a:lnTo>
                <a:lnTo>
                  <a:pt x="26267" y="14533"/>
                </a:lnTo>
                <a:lnTo>
                  <a:pt x="26062" y="14804"/>
                </a:lnTo>
                <a:lnTo>
                  <a:pt x="25850" y="15073"/>
                </a:lnTo>
                <a:lnTo>
                  <a:pt x="25632" y="15337"/>
                </a:lnTo>
                <a:lnTo>
                  <a:pt x="25409" y="15597"/>
                </a:lnTo>
                <a:lnTo>
                  <a:pt x="25179" y="15852"/>
                </a:lnTo>
                <a:lnTo>
                  <a:pt x="24944" y="16104"/>
                </a:lnTo>
                <a:lnTo>
                  <a:pt x="24704" y="16351"/>
                </a:lnTo>
                <a:lnTo>
                  <a:pt x="24459" y="16592"/>
                </a:lnTo>
                <a:lnTo>
                  <a:pt x="24209" y="16828"/>
                </a:lnTo>
                <a:lnTo>
                  <a:pt x="23955" y="17059"/>
                </a:lnTo>
                <a:lnTo>
                  <a:pt x="23696" y="17285"/>
                </a:lnTo>
                <a:lnTo>
                  <a:pt x="23431" y="17504"/>
                </a:lnTo>
                <a:lnTo>
                  <a:pt x="23164" y="17718"/>
                </a:lnTo>
                <a:lnTo>
                  <a:pt x="22893" y="17926"/>
                </a:lnTo>
                <a:lnTo>
                  <a:pt x="22618" y="18127"/>
                </a:lnTo>
                <a:lnTo>
                  <a:pt x="22338" y="18321"/>
                </a:lnTo>
                <a:lnTo>
                  <a:pt x="22056" y="18509"/>
                </a:lnTo>
                <a:lnTo>
                  <a:pt x="21771" y="18689"/>
                </a:lnTo>
                <a:lnTo>
                  <a:pt x="21482" y="18861"/>
                </a:lnTo>
                <a:lnTo>
                  <a:pt x="21191" y="19027"/>
                </a:lnTo>
                <a:lnTo>
                  <a:pt x="20897" y="19185"/>
                </a:lnTo>
                <a:lnTo>
                  <a:pt x="20600" y="19336"/>
                </a:lnTo>
                <a:lnTo>
                  <a:pt x="20302" y="19478"/>
                </a:lnTo>
                <a:lnTo>
                  <a:pt x="20000" y="19614"/>
                </a:lnTo>
                <a:lnTo>
                  <a:pt x="19698" y="19741"/>
                </a:lnTo>
                <a:lnTo>
                  <a:pt x="19393" y="19862"/>
                </a:lnTo>
                <a:lnTo>
                  <a:pt x="19085" y="19975"/>
                </a:lnTo>
                <a:lnTo>
                  <a:pt x="18777" y="20080"/>
                </a:lnTo>
                <a:lnTo>
                  <a:pt x="18466" y="20179"/>
                </a:lnTo>
                <a:lnTo>
                  <a:pt x="18154" y="20270"/>
                </a:lnTo>
                <a:lnTo>
                  <a:pt x="17840" y="20353"/>
                </a:lnTo>
                <a:lnTo>
                  <a:pt x="17526" y="20430"/>
                </a:lnTo>
                <a:lnTo>
                  <a:pt x="17210" y="20500"/>
                </a:lnTo>
                <a:lnTo>
                  <a:pt x="16894" y="20562"/>
                </a:lnTo>
                <a:lnTo>
                  <a:pt x="16577" y="20617"/>
                </a:lnTo>
                <a:lnTo>
                  <a:pt x="16258" y="20665"/>
                </a:lnTo>
                <a:lnTo>
                  <a:pt x="15940" y="20706"/>
                </a:lnTo>
                <a:lnTo>
                  <a:pt x="15620" y="20740"/>
                </a:lnTo>
                <a:lnTo>
                  <a:pt x="15301" y="20767"/>
                </a:lnTo>
                <a:lnTo>
                  <a:pt x="14980" y="20787"/>
                </a:lnTo>
                <a:lnTo>
                  <a:pt x="14661" y="20800"/>
                </a:lnTo>
                <a:lnTo>
                  <a:pt x="14340" y="20806"/>
                </a:lnTo>
                <a:lnTo>
                  <a:pt x="14021" y="20806"/>
                </a:lnTo>
                <a:lnTo>
                  <a:pt x="13701" y="20799"/>
                </a:lnTo>
                <a:lnTo>
                  <a:pt x="13382" y="20785"/>
                </a:lnTo>
                <a:lnTo>
                  <a:pt x="13063" y="20764"/>
                </a:lnTo>
                <a:lnTo>
                  <a:pt x="12745" y="20737"/>
                </a:lnTo>
                <a:lnTo>
                  <a:pt x="12427" y="20703"/>
                </a:lnTo>
                <a:lnTo>
                  <a:pt x="12112" y="20662"/>
                </a:lnTo>
                <a:lnTo>
                  <a:pt x="11796" y="20615"/>
                </a:lnTo>
                <a:lnTo>
                  <a:pt x="11482" y="20560"/>
                </a:lnTo>
                <a:lnTo>
                  <a:pt x="11169" y="20500"/>
                </a:lnTo>
                <a:lnTo>
                  <a:pt x="10858" y="20434"/>
                </a:lnTo>
                <a:lnTo>
                  <a:pt x="10549" y="20360"/>
                </a:lnTo>
                <a:lnTo>
                  <a:pt x="10240" y="20281"/>
                </a:lnTo>
                <a:lnTo>
                  <a:pt x="9934" y="20195"/>
                </a:lnTo>
                <a:lnTo>
                  <a:pt x="9629" y="20102"/>
                </a:lnTo>
                <a:lnTo>
                  <a:pt x="9327" y="20004"/>
                </a:lnTo>
                <a:lnTo>
                  <a:pt x="9026" y="19898"/>
                </a:lnTo>
                <a:lnTo>
                  <a:pt x="8729" y="19788"/>
                </a:lnTo>
                <a:lnTo>
                  <a:pt x="8434" y="19670"/>
                </a:lnTo>
                <a:lnTo>
                  <a:pt x="8140" y="19547"/>
                </a:lnTo>
                <a:lnTo>
                  <a:pt x="7850" y="19417"/>
                </a:lnTo>
                <a:lnTo>
                  <a:pt x="7563" y="19281"/>
                </a:lnTo>
                <a:lnTo>
                  <a:pt x="7278" y="19139"/>
                </a:lnTo>
                <a:lnTo>
                  <a:pt x="6997" y="18991"/>
                </a:lnTo>
                <a:lnTo>
                  <a:pt x="6719" y="18837"/>
                </a:lnTo>
                <a:lnTo>
                  <a:pt x="6444" y="18678"/>
                </a:lnTo>
                <a:lnTo>
                  <a:pt x="6173" y="18512"/>
                </a:lnTo>
                <a:lnTo>
                  <a:pt x="5905" y="18340"/>
                </a:lnTo>
                <a:lnTo>
                  <a:pt x="5641" y="18163"/>
                </a:lnTo>
                <a:lnTo>
                  <a:pt x="5380" y="17980"/>
                </a:lnTo>
                <a:lnTo>
                  <a:pt x="5124" y="17790"/>
                </a:lnTo>
                <a:lnTo>
                  <a:pt x="4872" y="17597"/>
                </a:lnTo>
                <a:lnTo>
                  <a:pt x="4624" y="17396"/>
                </a:lnTo>
                <a:lnTo>
                  <a:pt x="4381" y="17190"/>
                </a:lnTo>
                <a:lnTo>
                  <a:pt x="4142" y="16978"/>
                </a:lnTo>
                <a:lnTo>
                  <a:pt x="3907" y="16761"/>
                </a:lnTo>
                <a:lnTo>
                  <a:pt x="3677" y="16538"/>
                </a:lnTo>
                <a:lnTo>
                  <a:pt x="3452" y="16310"/>
                </a:lnTo>
                <a:lnTo>
                  <a:pt x="3232" y="16075"/>
                </a:lnTo>
                <a:lnTo>
                  <a:pt x="3017" y="15836"/>
                </a:lnTo>
                <a:lnTo>
                  <a:pt x="2808" y="15591"/>
                </a:lnTo>
                <a:lnTo>
                  <a:pt x="2603" y="15341"/>
                </a:lnTo>
                <a:lnTo>
                  <a:pt x="2404" y="15086"/>
                </a:lnTo>
                <a:lnTo>
                  <a:pt x="2211" y="14825"/>
                </a:lnTo>
                <a:lnTo>
                  <a:pt x="2023" y="14559"/>
                </a:lnTo>
                <a:lnTo>
                  <a:pt x="1841" y="14288"/>
                </a:lnTo>
                <a:lnTo>
                  <a:pt x="1665" y="14011"/>
                </a:lnTo>
                <a:lnTo>
                  <a:pt x="1496" y="13729"/>
                </a:lnTo>
                <a:lnTo>
                  <a:pt x="1333" y="13443"/>
                </a:lnTo>
                <a:lnTo>
                  <a:pt x="1177" y="13152"/>
                </a:lnTo>
                <a:lnTo>
                  <a:pt x="1028" y="12857"/>
                </a:lnTo>
                <a:lnTo>
                  <a:pt x="889" y="12559"/>
                </a:lnTo>
                <a:lnTo>
                  <a:pt x="756" y="12257"/>
                </a:lnTo>
                <a:lnTo>
                  <a:pt x="633" y="11952"/>
                </a:lnTo>
                <a:lnTo>
                  <a:pt x="520" y="11646"/>
                </a:lnTo>
                <a:lnTo>
                  <a:pt x="415" y="11337"/>
                </a:lnTo>
                <a:lnTo>
                  <a:pt x="322" y="11027"/>
                </a:lnTo>
                <a:lnTo>
                  <a:pt x="240" y="10715"/>
                </a:lnTo>
                <a:lnTo>
                  <a:pt x="169" y="10403"/>
                </a:lnTo>
                <a:lnTo>
                  <a:pt x="110" y="10091"/>
                </a:lnTo>
                <a:lnTo>
                  <a:pt x="63" y="9778"/>
                </a:lnTo>
                <a:lnTo>
                  <a:pt x="29" y="9467"/>
                </a:lnTo>
                <a:lnTo>
                  <a:pt x="8" y="9156"/>
                </a:lnTo>
                <a:lnTo>
                  <a:pt x="0" y="8846"/>
                </a:lnTo>
                <a:lnTo>
                  <a:pt x="8" y="8538"/>
                </a:lnTo>
                <a:lnTo>
                  <a:pt x="30" y="8233"/>
                </a:lnTo>
                <a:lnTo>
                  <a:pt x="66" y="7929"/>
                </a:lnTo>
                <a:lnTo>
                  <a:pt x="119" y="7629"/>
                </a:lnTo>
                <a:lnTo>
                  <a:pt x="187" y="7333"/>
                </a:lnTo>
                <a:lnTo>
                  <a:pt x="274" y="7039"/>
                </a:lnTo>
                <a:lnTo>
                  <a:pt x="376" y="6751"/>
                </a:lnTo>
                <a:lnTo>
                  <a:pt x="434" y="6608"/>
                </a:lnTo>
                <a:lnTo>
                  <a:pt x="496" y="6467"/>
                </a:lnTo>
                <a:lnTo>
                  <a:pt x="563" y="6326"/>
                </a:lnTo>
                <a:lnTo>
                  <a:pt x="634" y="6187"/>
                </a:lnTo>
                <a:lnTo>
                  <a:pt x="711" y="6050"/>
                </a:lnTo>
                <a:lnTo>
                  <a:pt x="791" y="5913"/>
                </a:lnTo>
                <a:lnTo>
                  <a:pt x="877" y="5778"/>
                </a:lnTo>
                <a:lnTo>
                  <a:pt x="967" y="5646"/>
                </a:lnTo>
                <a:lnTo>
                  <a:pt x="1062" y="5514"/>
                </a:lnTo>
                <a:lnTo>
                  <a:pt x="1163" y="5384"/>
                </a:lnTo>
                <a:lnTo>
                  <a:pt x="1267" y="5255"/>
                </a:lnTo>
                <a:lnTo>
                  <a:pt x="1378" y="5128"/>
                </a:lnTo>
                <a:lnTo>
                  <a:pt x="1493" y="5004"/>
                </a:lnTo>
                <a:lnTo>
                  <a:pt x="1614" y="4881"/>
                </a:lnTo>
                <a:lnTo>
                  <a:pt x="1740" y="47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4"/>
          <p:cNvSpPr/>
          <p:nvPr/>
        </p:nvSpPr>
        <p:spPr>
          <a:xfrm>
            <a:off x="7240680" y="4300560"/>
            <a:ext cx="133200" cy="47520"/>
          </a:xfrm>
          <a:custGeom>
            <a:avLst/>
            <a:gdLst/>
            <a:ahLst/>
            <a:rect l="l" t="t" r="r" b="b"/>
            <a:pathLst>
              <a:path w="4434" h="1597">
                <a:moveTo>
                  <a:pt x="0" y="1597"/>
                </a:moveTo>
                <a:lnTo>
                  <a:pt x="130" y="1477"/>
                </a:lnTo>
                <a:lnTo>
                  <a:pt x="267" y="1360"/>
                </a:lnTo>
                <a:lnTo>
                  <a:pt x="408" y="1245"/>
                </a:lnTo>
                <a:lnTo>
                  <a:pt x="556" y="1132"/>
                </a:lnTo>
                <a:lnTo>
                  <a:pt x="708" y="1021"/>
                </a:lnTo>
                <a:lnTo>
                  <a:pt x="864" y="915"/>
                </a:lnTo>
                <a:lnTo>
                  <a:pt x="1022" y="811"/>
                </a:lnTo>
                <a:lnTo>
                  <a:pt x="1184" y="712"/>
                </a:lnTo>
                <a:lnTo>
                  <a:pt x="1349" y="617"/>
                </a:lnTo>
                <a:lnTo>
                  <a:pt x="1515" y="527"/>
                </a:lnTo>
                <a:lnTo>
                  <a:pt x="1682" y="442"/>
                </a:lnTo>
                <a:lnTo>
                  <a:pt x="1851" y="364"/>
                </a:lnTo>
                <a:lnTo>
                  <a:pt x="2019" y="293"/>
                </a:lnTo>
                <a:lnTo>
                  <a:pt x="2187" y="227"/>
                </a:lnTo>
                <a:lnTo>
                  <a:pt x="2354" y="169"/>
                </a:lnTo>
                <a:lnTo>
                  <a:pt x="2519" y="119"/>
                </a:lnTo>
                <a:lnTo>
                  <a:pt x="2683" y="77"/>
                </a:lnTo>
                <a:lnTo>
                  <a:pt x="2843" y="43"/>
                </a:lnTo>
                <a:lnTo>
                  <a:pt x="3001" y="19"/>
                </a:lnTo>
                <a:lnTo>
                  <a:pt x="3154" y="5"/>
                </a:lnTo>
                <a:lnTo>
                  <a:pt x="3304" y="0"/>
                </a:lnTo>
                <a:lnTo>
                  <a:pt x="3448" y="6"/>
                </a:lnTo>
                <a:lnTo>
                  <a:pt x="3587" y="23"/>
                </a:lnTo>
                <a:lnTo>
                  <a:pt x="3720" y="52"/>
                </a:lnTo>
                <a:lnTo>
                  <a:pt x="3846" y="91"/>
                </a:lnTo>
                <a:lnTo>
                  <a:pt x="3965" y="144"/>
                </a:lnTo>
                <a:lnTo>
                  <a:pt x="4077" y="208"/>
                </a:lnTo>
                <a:lnTo>
                  <a:pt x="4180" y="287"/>
                </a:lnTo>
                <a:lnTo>
                  <a:pt x="4274" y="379"/>
                </a:lnTo>
                <a:lnTo>
                  <a:pt x="4360" y="485"/>
                </a:lnTo>
                <a:lnTo>
                  <a:pt x="4434" y="6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7189920" y="4300560"/>
            <a:ext cx="1508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 flipV="1">
            <a:off x="7192800" y="4325760"/>
            <a:ext cx="185760" cy="1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7207200" y="4354200"/>
            <a:ext cx="20484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"/>
          <p:cNvSpPr/>
          <p:nvPr/>
        </p:nvSpPr>
        <p:spPr>
          <a:xfrm flipV="1">
            <a:off x="7226280" y="4370400"/>
            <a:ext cx="2318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9"/>
          <p:cNvSpPr/>
          <p:nvPr/>
        </p:nvSpPr>
        <p:spPr>
          <a:xfrm flipV="1">
            <a:off x="7250040" y="4370400"/>
            <a:ext cx="271440" cy="27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0"/>
          <p:cNvSpPr/>
          <p:nvPr/>
        </p:nvSpPr>
        <p:spPr>
          <a:xfrm flipV="1">
            <a:off x="7277040" y="4249800"/>
            <a:ext cx="428760" cy="42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1"/>
          <p:cNvSpPr/>
          <p:nvPr/>
        </p:nvSpPr>
        <p:spPr>
          <a:xfrm flipV="1">
            <a:off x="7308720" y="4204800"/>
            <a:ext cx="50328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2"/>
          <p:cNvSpPr/>
          <p:nvPr/>
        </p:nvSpPr>
        <p:spPr>
          <a:xfrm flipV="1">
            <a:off x="7342200" y="4213080"/>
            <a:ext cx="52560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7380360" y="423072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7421400" y="4252680"/>
            <a:ext cx="5302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7466040" y="4281120"/>
            <a:ext cx="52056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6"/>
          <p:cNvSpPr/>
          <p:nvPr/>
        </p:nvSpPr>
        <p:spPr>
          <a:xfrm flipV="1">
            <a:off x="7515360" y="4316400"/>
            <a:ext cx="500040" cy="50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7"/>
          <p:cNvSpPr/>
          <p:nvPr/>
        </p:nvSpPr>
        <p:spPr>
          <a:xfrm flipV="1">
            <a:off x="7569360" y="4356000"/>
            <a:ext cx="468000" cy="4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8"/>
          <p:cNvSpPr/>
          <p:nvPr/>
        </p:nvSpPr>
        <p:spPr>
          <a:xfrm flipV="1">
            <a:off x="7629480" y="4406400"/>
            <a:ext cx="4208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9"/>
          <p:cNvSpPr/>
          <p:nvPr/>
        </p:nvSpPr>
        <p:spPr>
          <a:xfrm flipV="1">
            <a:off x="7701120" y="4470480"/>
            <a:ext cx="349200" cy="3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0"/>
          <p:cNvSpPr/>
          <p:nvPr/>
        </p:nvSpPr>
        <p:spPr>
          <a:xfrm flipV="1">
            <a:off x="7792920" y="4559400"/>
            <a:ext cx="23040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1"/>
          <p:cNvSpPr/>
          <p:nvPr/>
        </p:nvSpPr>
        <p:spPr>
          <a:xfrm>
            <a:off x="7864560" y="4495680"/>
            <a:ext cx="371520" cy="27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8236080" y="4772160"/>
            <a:ext cx="36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8244360" y="443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7235640" y="364320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0"/>
          <p:cNvSpPr/>
          <p:nvPr/>
        </p:nvSpPr>
        <p:spPr>
          <a:xfrm>
            <a:off x="7275600" y="5318280"/>
            <a:ext cx="664920" cy="869760"/>
          </a:xfrm>
          <a:custGeom>
            <a:avLst/>
            <a:gdLst/>
            <a:ahLst/>
            <a:rect l="l" t="t" r="r" b="b"/>
            <a:pathLst>
              <a:path w="15953" h="20817">
                <a:moveTo>
                  <a:pt x="6641" y="58"/>
                </a:moveTo>
                <a:lnTo>
                  <a:pt x="6530" y="37"/>
                </a:lnTo>
                <a:lnTo>
                  <a:pt x="6419" y="22"/>
                </a:lnTo>
                <a:lnTo>
                  <a:pt x="6309" y="10"/>
                </a:lnTo>
                <a:lnTo>
                  <a:pt x="6198" y="3"/>
                </a:lnTo>
                <a:lnTo>
                  <a:pt x="6087" y="0"/>
                </a:lnTo>
                <a:lnTo>
                  <a:pt x="5977" y="1"/>
                </a:lnTo>
                <a:lnTo>
                  <a:pt x="5867" y="6"/>
                </a:lnTo>
                <a:lnTo>
                  <a:pt x="5756" y="15"/>
                </a:lnTo>
                <a:lnTo>
                  <a:pt x="5538" y="44"/>
                </a:lnTo>
                <a:lnTo>
                  <a:pt x="5320" y="88"/>
                </a:lnTo>
                <a:lnTo>
                  <a:pt x="5104" y="146"/>
                </a:lnTo>
                <a:lnTo>
                  <a:pt x="4890" y="219"/>
                </a:lnTo>
                <a:lnTo>
                  <a:pt x="4676" y="303"/>
                </a:lnTo>
                <a:lnTo>
                  <a:pt x="4466" y="401"/>
                </a:lnTo>
                <a:lnTo>
                  <a:pt x="4259" y="509"/>
                </a:lnTo>
                <a:lnTo>
                  <a:pt x="4054" y="630"/>
                </a:lnTo>
                <a:lnTo>
                  <a:pt x="3852" y="761"/>
                </a:lnTo>
                <a:lnTo>
                  <a:pt x="3654" y="900"/>
                </a:lnTo>
                <a:lnTo>
                  <a:pt x="3458" y="1050"/>
                </a:lnTo>
                <a:lnTo>
                  <a:pt x="3266" y="1208"/>
                </a:lnTo>
                <a:lnTo>
                  <a:pt x="3079" y="1374"/>
                </a:lnTo>
                <a:lnTo>
                  <a:pt x="2896" y="1547"/>
                </a:lnTo>
                <a:lnTo>
                  <a:pt x="2717" y="1727"/>
                </a:lnTo>
                <a:lnTo>
                  <a:pt x="2543" y="1913"/>
                </a:lnTo>
                <a:lnTo>
                  <a:pt x="2374" y="2105"/>
                </a:lnTo>
                <a:lnTo>
                  <a:pt x="2210" y="2301"/>
                </a:lnTo>
                <a:lnTo>
                  <a:pt x="2052" y="2501"/>
                </a:lnTo>
                <a:lnTo>
                  <a:pt x="1899" y="2704"/>
                </a:lnTo>
                <a:lnTo>
                  <a:pt x="1752" y="2911"/>
                </a:lnTo>
                <a:lnTo>
                  <a:pt x="1611" y="3119"/>
                </a:lnTo>
                <a:lnTo>
                  <a:pt x="1476" y="3330"/>
                </a:lnTo>
                <a:lnTo>
                  <a:pt x="1349" y="3541"/>
                </a:lnTo>
                <a:lnTo>
                  <a:pt x="1228" y="3754"/>
                </a:lnTo>
                <a:lnTo>
                  <a:pt x="1112" y="3967"/>
                </a:lnTo>
                <a:lnTo>
                  <a:pt x="1004" y="4182"/>
                </a:lnTo>
                <a:lnTo>
                  <a:pt x="901" y="4398"/>
                </a:lnTo>
                <a:lnTo>
                  <a:pt x="806" y="4614"/>
                </a:lnTo>
                <a:lnTo>
                  <a:pt x="715" y="4833"/>
                </a:lnTo>
                <a:lnTo>
                  <a:pt x="631" y="5051"/>
                </a:lnTo>
                <a:lnTo>
                  <a:pt x="551" y="5270"/>
                </a:lnTo>
                <a:lnTo>
                  <a:pt x="479" y="5490"/>
                </a:lnTo>
                <a:lnTo>
                  <a:pt x="411" y="5711"/>
                </a:lnTo>
                <a:lnTo>
                  <a:pt x="349" y="5933"/>
                </a:lnTo>
                <a:lnTo>
                  <a:pt x="293" y="6155"/>
                </a:lnTo>
                <a:lnTo>
                  <a:pt x="241" y="6379"/>
                </a:lnTo>
                <a:lnTo>
                  <a:pt x="196" y="6603"/>
                </a:lnTo>
                <a:lnTo>
                  <a:pt x="155" y="6828"/>
                </a:lnTo>
                <a:lnTo>
                  <a:pt x="119" y="7053"/>
                </a:lnTo>
                <a:lnTo>
                  <a:pt x="88" y="7279"/>
                </a:lnTo>
                <a:lnTo>
                  <a:pt x="62" y="7505"/>
                </a:lnTo>
                <a:lnTo>
                  <a:pt x="40" y="7733"/>
                </a:lnTo>
                <a:lnTo>
                  <a:pt x="24" y="7960"/>
                </a:lnTo>
                <a:lnTo>
                  <a:pt x="11" y="8188"/>
                </a:lnTo>
                <a:lnTo>
                  <a:pt x="4" y="8416"/>
                </a:lnTo>
                <a:lnTo>
                  <a:pt x="0" y="8645"/>
                </a:lnTo>
                <a:lnTo>
                  <a:pt x="1" y="8875"/>
                </a:lnTo>
                <a:lnTo>
                  <a:pt x="6" y="9105"/>
                </a:lnTo>
                <a:lnTo>
                  <a:pt x="15" y="9334"/>
                </a:lnTo>
                <a:lnTo>
                  <a:pt x="44" y="9795"/>
                </a:lnTo>
                <a:lnTo>
                  <a:pt x="88" y="10257"/>
                </a:lnTo>
                <a:lnTo>
                  <a:pt x="148" y="10720"/>
                </a:lnTo>
                <a:lnTo>
                  <a:pt x="219" y="11183"/>
                </a:lnTo>
                <a:lnTo>
                  <a:pt x="304" y="11647"/>
                </a:lnTo>
                <a:lnTo>
                  <a:pt x="400" y="12110"/>
                </a:lnTo>
                <a:lnTo>
                  <a:pt x="508" y="12574"/>
                </a:lnTo>
                <a:lnTo>
                  <a:pt x="625" y="13036"/>
                </a:lnTo>
                <a:lnTo>
                  <a:pt x="753" y="13498"/>
                </a:lnTo>
                <a:lnTo>
                  <a:pt x="889" y="13960"/>
                </a:lnTo>
                <a:lnTo>
                  <a:pt x="1033" y="14420"/>
                </a:lnTo>
                <a:lnTo>
                  <a:pt x="1184" y="14879"/>
                </a:lnTo>
                <a:lnTo>
                  <a:pt x="1341" y="15336"/>
                </a:lnTo>
                <a:lnTo>
                  <a:pt x="1505" y="15790"/>
                </a:lnTo>
                <a:lnTo>
                  <a:pt x="1679" y="16239"/>
                </a:lnTo>
                <a:lnTo>
                  <a:pt x="1863" y="16678"/>
                </a:lnTo>
                <a:lnTo>
                  <a:pt x="1960" y="16894"/>
                </a:lnTo>
                <a:lnTo>
                  <a:pt x="2061" y="17107"/>
                </a:lnTo>
                <a:lnTo>
                  <a:pt x="2164" y="17317"/>
                </a:lnTo>
                <a:lnTo>
                  <a:pt x="2272" y="17524"/>
                </a:lnTo>
                <a:lnTo>
                  <a:pt x="2383" y="17726"/>
                </a:lnTo>
                <a:lnTo>
                  <a:pt x="2499" y="17925"/>
                </a:lnTo>
                <a:lnTo>
                  <a:pt x="2619" y="18118"/>
                </a:lnTo>
                <a:lnTo>
                  <a:pt x="2743" y="18307"/>
                </a:lnTo>
                <a:lnTo>
                  <a:pt x="2874" y="18491"/>
                </a:lnTo>
                <a:lnTo>
                  <a:pt x="3009" y="18670"/>
                </a:lnTo>
                <a:lnTo>
                  <a:pt x="3149" y="18843"/>
                </a:lnTo>
                <a:lnTo>
                  <a:pt x="3295" y="19010"/>
                </a:lnTo>
                <a:lnTo>
                  <a:pt x="3446" y="19171"/>
                </a:lnTo>
                <a:lnTo>
                  <a:pt x="3604" y="19325"/>
                </a:lnTo>
                <a:lnTo>
                  <a:pt x="3768" y="19471"/>
                </a:lnTo>
                <a:lnTo>
                  <a:pt x="3938" y="19611"/>
                </a:lnTo>
                <a:lnTo>
                  <a:pt x="4115" y="19744"/>
                </a:lnTo>
                <a:lnTo>
                  <a:pt x="4299" y="19868"/>
                </a:lnTo>
                <a:lnTo>
                  <a:pt x="4490" y="19984"/>
                </a:lnTo>
                <a:lnTo>
                  <a:pt x="4687" y="20093"/>
                </a:lnTo>
                <a:lnTo>
                  <a:pt x="4891" y="20194"/>
                </a:lnTo>
                <a:lnTo>
                  <a:pt x="5100" y="20287"/>
                </a:lnTo>
                <a:lnTo>
                  <a:pt x="5314" y="20372"/>
                </a:lnTo>
                <a:lnTo>
                  <a:pt x="5534" y="20449"/>
                </a:lnTo>
                <a:lnTo>
                  <a:pt x="5757" y="20520"/>
                </a:lnTo>
                <a:lnTo>
                  <a:pt x="5986" y="20582"/>
                </a:lnTo>
                <a:lnTo>
                  <a:pt x="6218" y="20636"/>
                </a:lnTo>
                <a:lnTo>
                  <a:pt x="6453" y="20685"/>
                </a:lnTo>
                <a:lnTo>
                  <a:pt x="6692" y="20725"/>
                </a:lnTo>
                <a:lnTo>
                  <a:pt x="6933" y="20757"/>
                </a:lnTo>
                <a:lnTo>
                  <a:pt x="7176" y="20783"/>
                </a:lnTo>
                <a:lnTo>
                  <a:pt x="7422" y="20801"/>
                </a:lnTo>
                <a:lnTo>
                  <a:pt x="7669" y="20813"/>
                </a:lnTo>
                <a:lnTo>
                  <a:pt x="7918" y="20817"/>
                </a:lnTo>
                <a:lnTo>
                  <a:pt x="8167" y="20815"/>
                </a:lnTo>
                <a:lnTo>
                  <a:pt x="8416" y="20805"/>
                </a:lnTo>
                <a:lnTo>
                  <a:pt x="8666" y="20789"/>
                </a:lnTo>
                <a:lnTo>
                  <a:pt x="8916" y="20766"/>
                </a:lnTo>
                <a:lnTo>
                  <a:pt x="9165" y="20737"/>
                </a:lnTo>
                <a:lnTo>
                  <a:pt x="9413" y="20700"/>
                </a:lnTo>
                <a:lnTo>
                  <a:pt x="9659" y="20657"/>
                </a:lnTo>
                <a:lnTo>
                  <a:pt x="9904" y="20607"/>
                </a:lnTo>
                <a:lnTo>
                  <a:pt x="10146" y="20551"/>
                </a:lnTo>
                <a:lnTo>
                  <a:pt x="10387" y="20489"/>
                </a:lnTo>
                <a:lnTo>
                  <a:pt x="10624" y="20420"/>
                </a:lnTo>
                <a:lnTo>
                  <a:pt x="10858" y="20345"/>
                </a:lnTo>
                <a:lnTo>
                  <a:pt x="11089" y="20264"/>
                </a:lnTo>
                <a:lnTo>
                  <a:pt x="11315" y="20176"/>
                </a:lnTo>
                <a:lnTo>
                  <a:pt x="11536" y="20083"/>
                </a:lnTo>
                <a:lnTo>
                  <a:pt x="11753" y="19982"/>
                </a:lnTo>
                <a:lnTo>
                  <a:pt x="11966" y="19877"/>
                </a:lnTo>
                <a:lnTo>
                  <a:pt x="12173" y="19765"/>
                </a:lnTo>
                <a:lnTo>
                  <a:pt x="12373" y="19648"/>
                </a:lnTo>
                <a:lnTo>
                  <a:pt x="12568" y="19525"/>
                </a:lnTo>
                <a:lnTo>
                  <a:pt x="12755" y="19396"/>
                </a:lnTo>
                <a:lnTo>
                  <a:pt x="12936" y="19261"/>
                </a:lnTo>
                <a:lnTo>
                  <a:pt x="13110" y="19121"/>
                </a:lnTo>
                <a:lnTo>
                  <a:pt x="13276" y="18975"/>
                </a:lnTo>
                <a:lnTo>
                  <a:pt x="13435" y="18824"/>
                </a:lnTo>
                <a:lnTo>
                  <a:pt x="13586" y="18667"/>
                </a:lnTo>
                <a:lnTo>
                  <a:pt x="13730" y="18505"/>
                </a:lnTo>
                <a:lnTo>
                  <a:pt x="13868" y="18340"/>
                </a:lnTo>
                <a:lnTo>
                  <a:pt x="14000" y="18168"/>
                </a:lnTo>
                <a:lnTo>
                  <a:pt x="14125" y="17992"/>
                </a:lnTo>
                <a:lnTo>
                  <a:pt x="14242" y="17811"/>
                </a:lnTo>
                <a:lnTo>
                  <a:pt x="14355" y="17626"/>
                </a:lnTo>
                <a:lnTo>
                  <a:pt x="14462" y="17436"/>
                </a:lnTo>
                <a:lnTo>
                  <a:pt x="14563" y="17242"/>
                </a:lnTo>
                <a:lnTo>
                  <a:pt x="14659" y="17044"/>
                </a:lnTo>
                <a:lnTo>
                  <a:pt x="14749" y="16843"/>
                </a:lnTo>
                <a:lnTo>
                  <a:pt x="14834" y="16637"/>
                </a:lnTo>
                <a:lnTo>
                  <a:pt x="14914" y="16428"/>
                </a:lnTo>
                <a:lnTo>
                  <a:pt x="14990" y="16215"/>
                </a:lnTo>
                <a:lnTo>
                  <a:pt x="15061" y="15998"/>
                </a:lnTo>
                <a:lnTo>
                  <a:pt x="15127" y="15778"/>
                </a:lnTo>
                <a:lnTo>
                  <a:pt x="15191" y="15556"/>
                </a:lnTo>
                <a:lnTo>
                  <a:pt x="15249" y="15330"/>
                </a:lnTo>
                <a:lnTo>
                  <a:pt x="15303" y="15102"/>
                </a:lnTo>
                <a:lnTo>
                  <a:pt x="15355" y="14871"/>
                </a:lnTo>
                <a:lnTo>
                  <a:pt x="15403" y="14636"/>
                </a:lnTo>
                <a:lnTo>
                  <a:pt x="15489" y="14161"/>
                </a:lnTo>
                <a:lnTo>
                  <a:pt x="15564" y="13676"/>
                </a:lnTo>
                <a:lnTo>
                  <a:pt x="15629" y="13184"/>
                </a:lnTo>
                <a:lnTo>
                  <a:pt x="15687" y="12685"/>
                </a:lnTo>
                <a:lnTo>
                  <a:pt x="15737" y="12180"/>
                </a:lnTo>
                <a:lnTo>
                  <a:pt x="15782" y="11670"/>
                </a:lnTo>
                <a:lnTo>
                  <a:pt x="15823" y="11157"/>
                </a:lnTo>
                <a:lnTo>
                  <a:pt x="15861" y="10642"/>
                </a:lnTo>
                <a:lnTo>
                  <a:pt x="15894" y="10124"/>
                </a:lnTo>
                <a:lnTo>
                  <a:pt x="15920" y="9607"/>
                </a:lnTo>
                <a:lnTo>
                  <a:pt x="15940" y="9091"/>
                </a:lnTo>
                <a:lnTo>
                  <a:pt x="15951" y="8577"/>
                </a:lnTo>
                <a:lnTo>
                  <a:pt x="15953" y="8067"/>
                </a:lnTo>
                <a:lnTo>
                  <a:pt x="15943" y="7562"/>
                </a:lnTo>
                <a:lnTo>
                  <a:pt x="15922" y="7063"/>
                </a:lnTo>
                <a:lnTo>
                  <a:pt x="15906" y="6816"/>
                </a:lnTo>
                <a:lnTo>
                  <a:pt x="15887" y="6572"/>
                </a:lnTo>
                <a:lnTo>
                  <a:pt x="15864" y="6329"/>
                </a:lnTo>
                <a:lnTo>
                  <a:pt x="15836" y="6088"/>
                </a:lnTo>
                <a:lnTo>
                  <a:pt x="15806" y="5851"/>
                </a:lnTo>
                <a:lnTo>
                  <a:pt x="15771" y="5616"/>
                </a:lnTo>
                <a:lnTo>
                  <a:pt x="15732" y="5382"/>
                </a:lnTo>
                <a:lnTo>
                  <a:pt x="15688" y="5153"/>
                </a:lnTo>
                <a:lnTo>
                  <a:pt x="15639" y="4927"/>
                </a:lnTo>
                <a:lnTo>
                  <a:pt x="15587" y="4704"/>
                </a:lnTo>
                <a:lnTo>
                  <a:pt x="15529" y="4484"/>
                </a:lnTo>
                <a:lnTo>
                  <a:pt x="15465" y="4268"/>
                </a:lnTo>
                <a:lnTo>
                  <a:pt x="15397" y="4055"/>
                </a:lnTo>
                <a:lnTo>
                  <a:pt x="15323" y="3846"/>
                </a:lnTo>
                <a:lnTo>
                  <a:pt x="15244" y="3641"/>
                </a:lnTo>
                <a:lnTo>
                  <a:pt x="15160" y="3440"/>
                </a:lnTo>
                <a:lnTo>
                  <a:pt x="15068" y="3244"/>
                </a:lnTo>
                <a:lnTo>
                  <a:pt x="14971" y="3052"/>
                </a:lnTo>
                <a:lnTo>
                  <a:pt x="14868" y="2865"/>
                </a:lnTo>
                <a:lnTo>
                  <a:pt x="14759" y="2682"/>
                </a:lnTo>
                <a:lnTo>
                  <a:pt x="14644" y="2506"/>
                </a:lnTo>
                <a:lnTo>
                  <a:pt x="14521" y="2333"/>
                </a:lnTo>
                <a:lnTo>
                  <a:pt x="14391" y="2166"/>
                </a:lnTo>
                <a:lnTo>
                  <a:pt x="14255" y="2004"/>
                </a:lnTo>
                <a:lnTo>
                  <a:pt x="14112" y="1848"/>
                </a:lnTo>
                <a:lnTo>
                  <a:pt x="13962" y="1697"/>
                </a:lnTo>
                <a:lnTo>
                  <a:pt x="13803" y="1553"/>
                </a:lnTo>
                <a:lnTo>
                  <a:pt x="13638" y="1414"/>
                </a:lnTo>
                <a:lnTo>
                  <a:pt x="13464" y="1281"/>
                </a:lnTo>
                <a:lnTo>
                  <a:pt x="13283" y="1156"/>
                </a:lnTo>
                <a:lnTo>
                  <a:pt x="13096" y="1036"/>
                </a:lnTo>
                <a:lnTo>
                  <a:pt x="12901" y="923"/>
                </a:lnTo>
                <a:lnTo>
                  <a:pt x="12701" y="817"/>
                </a:lnTo>
                <a:lnTo>
                  <a:pt x="12495" y="717"/>
                </a:lnTo>
                <a:lnTo>
                  <a:pt x="12284" y="626"/>
                </a:lnTo>
                <a:lnTo>
                  <a:pt x="12069" y="541"/>
                </a:lnTo>
                <a:lnTo>
                  <a:pt x="11850" y="464"/>
                </a:lnTo>
                <a:lnTo>
                  <a:pt x="11628" y="395"/>
                </a:lnTo>
                <a:lnTo>
                  <a:pt x="11403" y="332"/>
                </a:lnTo>
                <a:lnTo>
                  <a:pt x="11177" y="279"/>
                </a:lnTo>
                <a:lnTo>
                  <a:pt x="10949" y="233"/>
                </a:lnTo>
                <a:lnTo>
                  <a:pt x="10719" y="196"/>
                </a:lnTo>
                <a:lnTo>
                  <a:pt x="10490" y="167"/>
                </a:lnTo>
                <a:lnTo>
                  <a:pt x="10260" y="146"/>
                </a:lnTo>
                <a:lnTo>
                  <a:pt x="10032" y="134"/>
                </a:lnTo>
                <a:lnTo>
                  <a:pt x="9802" y="127"/>
                </a:lnTo>
                <a:lnTo>
                  <a:pt x="9574" y="126"/>
                </a:lnTo>
                <a:lnTo>
                  <a:pt x="9346" y="130"/>
                </a:lnTo>
                <a:lnTo>
                  <a:pt x="8436" y="159"/>
                </a:lnTo>
                <a:lnTo>
                  <a:pt x="7984" y="168"/>
                </a:lnTo>
                <a:lnTo>
                  <a:pt x="7759" y="167"/>
                </a:lnTo>
                <a:lnTo>
                  <a:pt x="7533" y="160"/>
                </a:lnTo>
                <a:lnTo>
                  <a:pt x="7310" y="147"/>
                </a:lnTo>
                <a:lnTo>
                  <a:pt x="7086" y="127"/>
                </a:lnTo>
                <a:lnTo>
                  <a:pt x="6864" y="97"/>
                </a:lnTo>
                <a:lnTo>
                  <a:pt x="6641" y="5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1"/>
          <p:cNvSpPr/>
          <p:nvPr/>
        </p:nvSpPr>
        <p:spPr>
          <a:xfrm>
            <a:off x="7277040" y="5748480"/>
            <a:ext cx="474840" cy="142560"/>
          </a:xfrm>
          <a:custGeom>
            <a:avLst/>
            <a:gdLst/>
            <a:ahLst/>
            <a:rect l="l" t="t" r="r" b="b"/>
            <a:pathLst>
              <a:path w="11352" h="3445">
                <a:moveTo>
                  <a:pt x="0" y="0"/>
                </a:moveTo>
                <a:lnTo>
                  <a:pt x="4" y="37"/>
                </a:lnTo>
                <a:lnTo>
                  <a:pt x="8" y="73"/>
                </a:lnTo>
                <a:lnTo>
                  <a:pt x="13" y="110"/>
                </a:lnTo>
                <a:lnTo>
                  <a:pt x="19" y="148"/>
                </a:lnTo>
                <a:lnTo>
                  <a:pt x="25" y="184"/>
                </a:lnTo>
                <a:lnTo>
                  <a:pt x="32" y="221"/>
                </a:lnTo>
                <a:lnTo>
                  <a:pt x="40" y="258"/>
                </a:lnTo>
                <a:lnTo>
                  <a:pt x="48" y="294"/>
                </a:lnTo>
                <a:lnTo>
                  <a:pt x="56" y="332"/>
                </a:lnTo>
                <a:lnTo>
                  <a:pt x="65" y="369"/>
                </a:lnTo>
                <a:lnTo>
                  <a:pt x="74" y="405"/>
                </a:lnTo>
                <a:lnTo>
                  <a:pt x="84" y="442"/>
                </a:lnTo>
                <a:lnTo>
                  <a:pt x="94" y="478"/>
                </a:lnTo>
                <a:lnTo>
                  <a:pt x="105" y="516"/>
                </a:lnTo>
                <a:lnTo>
                  <a:pt x="116" y="552"/>
                </a:lnTo>
                <a:lnTo>
                  <a:pt x="128" y="588"/>
                </a:lnTo>
                <a:lnTo>
                  <a:pt x="140" y="625"/>
                </a:lnTo>
                <a:lnTo>
                  <a:pt x="153" y="661"/>
                </a:lnTo>
                <a:lnTo>
                  <a:pt x="166" y="697"/>
                </a:lnTo>
                <a:lnTo>
                  <a:pt x="180" y="734"/>
                </a:lnTo>
                <a:lnTo>
                  <a:pt x="194" y="770"/>
                </a:lnTo>
                <a:lnTo>
                  <a:pt x="208" y="806"/>
                </a:lnTo>
                <a:lnTo>
                  <a:pt x="224" y="842"/>
                </a:lnTo>
                <a:lnTo>
                  <a:pt x="240" y="878"/>
                </a:lnTo>
                <a:lnTo>
                  <a:pt x="256" y="914"/>
                </a:lnTo>
                <a:lnTo>
                  <a:pt x="272" y="950"/>
                </a:lnTo>
                <a:lnTo>
                  <a:pt x="289" y="985"/>
                </a:lnTo>
                <a:lnTo>
                  <a:pt x="306" y="1021"/>
                </a:lnTo>
                <a:lnTo>
                  <a:pt x="324" y="1056"/>
                </a:lnTo>
                <a:lnTo>
                  <a:pt x="342" y="1092"/>
                </a:lnTo>
                <a:lnTo>
                  <a:pt x="360" y="1127"/>
                </a:lnTo>
                <a:lnTo>
                  <a:pt x="379" y="1162"/>
                </a:lnTo>
                <a:lnTo>
                  <a:pt x="400" y="1197"/>
                </a:lnTo>
                <a:lnTo>
                  <a:pt x="419" y="1232"/>
                </a:lnTo>
                <a:lnTo>
                  <a:pt x="439" y="1267"/>
                </a:lnTo>
                <a:lnTo>
                  <a:pt x="460" y="1302"/>
                </a:lnTo>
                <a:lnTo>
                  <a:pt x="481" y="1336"/>
                </a:lnTo>
                <a:lnTo>
                  <a:pt x="502" y="1371"/>
                </a:lnTo>
                <a:lnTo>
                  <a:pt x="524" y="1405"/>
                </a:lnTo>
                <a:lnTo>
                  <a:pt x="546" y="1439"/>
                </a:lnTo>
                <a:lnTo>
                  <a:pt x="569" y="1472"/>
                </a:lnTo>
                <a:lnTo>
                  <a:pt x="592" y="1507"/>
                </a:lnTo>
                <a:lnTo>
                  <a:pt x="615" y="1540"/>
                </a:lnTo>
                <a:lnTo>
                  <a:pt x="639" y="1574"/>
                </a:lnTo>
                <a:lnTo>
                  <a:pt x="663" y="1607"/>
                </a:lnTo>
                <a:lnTo>
                  <a:pt x="687" y="1640"/>
                </a:lnTo>
                <a:lnTo>
                  <a:pt x="711" y="1674"/>
                </a:lnTo>
                <a:lnTo>
                  <a:pt x="736" y="1706"/>
                </a:lnTo>
                <a:lnTo>
                  <a:pt x="762" y="1739"/>
                </a:lnTo>
                <a:lnTo>
                  <a:pt x="788" y="1771"/>
                </a:lnTo>
                <a:lnTo>
                  <a:pt x="814" y="1803"/>
                </a:lnTo>
                <a:lnTo>
                  <a:pt x="840" y="1835"/>
                </a:lnTo>
                <a:lnTo>
                  <a:pt x="867" y="1867"/>
                </a:lnTo>
                <a:lnTo>
                  <a:pt x="893" y="1899"/>
                </a:lnTo>
                <a:lnTo>
                  <a:pt x="922" y="1930"/>
                </a:lnTo>
                <a:lnTo>
                  <a:pt x="949" y="1961"/>
                </a:lnTo>
                <a:lnTo>
                  <a:pt x="977" y="1992"/>
                </a:lnTo>
                <a:lnTo>
                  <a:pt x="1005" y="2023"/>
                </a:lnTo>
                <a:lnTo>
                  <a:pt x="1033" y="2053"/>
                </a:lnTo>
                <a:lnTo>
                  <a:pt x="1062" y="2084"/>
                </a:lnTo>
                <a:lnTo>
                  <a:pt x="1091" y="2114"/>
                </a:lnTo>
                <a:lnTo>
                  <a:pt x="1121" y="2144"/>
                </a:lnTo>
                <a:lnTo>
                  <a:pt x="1150" y="2173"/>
                </a:lnTo>
                <a:lnTo>
                  <a:pt x="1180" y="2203"/>
                </a:lnTo>
                <a:lnTo>
                  <a:pt x="1210" y="2232"/>
                </a:lnTo>
                <a:lnTo>
                  <a:pt x="1240" y="2262"/>
                </a:lnTo>
                <a:lnTo>
                  <a:pt x="1271" y="2290"/>
                </a:lnTo>
                <a:lnTo>
                  <a:pt x="1302" y="2318"/>
                </a:lnTo>
                <a:lnTo>
                  <a:pt x="1333" y="2346"/>
                </a:lnTo>
                <a:lnTo>
                  <a:pt x="1365" y="2374"/>
                </a:lnTo>
                <a:lnTo>
                  <a:pt x="1396" y="2402"/>
                </a:lnTo>
                <a:lnTo>
                  <a:pt x="1428" y="2429"/>
                </a:lnTo>
                <a:lnTo>
                  <a:pt x="1461" y="2457"/>
                </a:lnTo>
                <a:lnTo>
                  <a:pt x="1493" y="2483"/>
                </a:lnTo>
                <a:lnTo>
                  <a:pt x="1525" y="2510"/>
                </a:lnTo>
                <a:lnTo>
                  <a:pt x="1558" y="2536"/>
                </a:lnTo>
                <a:lnTo>
                  <a:pt x="1590" y="2562"/>
                </a:lnTo>
                <a:lnTo>
                  <a:pt x="1623" y="2587"/>
                </a:lnTo>
                <a:lnTo>
                  <a:pt x="1658" y="2612"/>
                </a:lnTo>
                <a:lnTo>
                  <a:pt x="1691" y="2638"/>
                </a:lnTo>
                <a:lnTo>
                  <a:pt x="1724" y="2663"/>
                </a:lnTo>
                <a:lnTo>
                  <a:pt x="1758" y="2687"/>
                </a:lnTo>
                <a:lnTo>
                  <a:pt x="1792" y="2711"/>
                </a:lnTo>
                <a:lnTo>
                  <a:pt x="1827" y="2735"/>
                </a:lnTo>
                <a:lnTo>
                  <a:pt x="1861" y="2758"/>
                </a:lnTo>
                <a:lnTo>
                  <a:pt x="1896" y="2781"/>
                </a:lnTo>
                <a:lnTo>
                  <a:pt x="1931" y="2804"/>
                </a:lnTo>
                <a:lnTo>
                  <a:pt x="1965" y="2827"/>
                </a:lnTo>
                <a:lnTo>
                  <a:pt x="2001" y="2850"/>
                </a:lnTo>
                <a:lnTo>
                  <a:pt x="2036" y="2871"/>
                </a:lnTo>
                <a:lnTo>
                  <a:pt x="2071" y="2893"/>
                </a:lnTo>
                <a:lnTo>
                  <a:pt x="2107" y="2914"/>
                </a:lnTo>
                <a:lnTo>
                  <a:pt x="2142" y="2934"/>
                </a:lnTo>
                <a:lnTo>
                  <a:pt x="2179" y="2955"/>
                </a:lnTo>
                <a:lnTo>
                  <a:pt x="2215" y="2975"/>
                </a:lnTo>
                <a:lnTo>
                  <a:pt x="2250" y="2994"/>
                </a:lnTo>
                <a:lnTo>
                  <a:pt x="2286" y="3014"/>
                </a:lnTo>
                <a:lnTo>
                  <a:pt x="2322" y="3033"/>
                </a:lnTo>
                <a:lnTo>
                  <a:pt x="2360" y="3052"/>
                </a:lnTo>
                <a:lnTo>
                  <a:pt x="2396" y="3070"/>
                </a:lnTo>
                <a:lnTo>
                  <a:pt x="2432" y="3088"/>
                </a:lnTo>
                <a:lnTo>
                  <a:pt x="2469" y="3105"/>
                </a:lnTo>
                <a:lnTo>
                  <a:pt x="2505" y="3122"/>
                </a:lnTo>
                <a:lnTo>
                  <a:pt x="2543" y="3139"/>
                </a:lnTo>
                <a:lnTo>
                  <a:pt x="2580" y="3155"/>
                </a:lnTo>
                <a:lnTo>
                  <a:pt x="2617" y="3171"/>
                </a:lnTo>
                <a:lnTo>
                  <a:pt x="2653" y="3186"/>
                </a:lnTo>
                <a:lnTo>
                  <a:pt x="2690" y="3201"/>
                </a:lnTo>
                <a:lnTo>
                  <a:pt x="2728" y="3217"/>
                </a:lnTo>
                <a:lnTo>
                  <a:pt x="2765" y="3231"/>
                </a:lnTo>
                <a:lnTo>
                  <a:pt x="2803" y="3244"/>
                </a:lnTo>
                <a:lnTo>
                  <a:pt x="2840" y="3258"/>
                </a:lnTo>
                <a:lnTo>
                  <a:pt x="2878" y="3271"/>
                </a:lnTo>
                <a:lnTo>
                  <a:pt x="2915" y="3283"/>
                </a:lnTo>
                <a:lnTo>
                  <a:pt x="2953" y="3295"/>
                </a:lnTo>
                <a:lnTo>
                  <a:pt x="2990" y="3307"/>
                </a:lnTo>
                <a:lnTo>
                  <a:pt x="3027" y="3318"/>
                </a:lnTo>
                <a:lnTo>
                  <a:pt x="3066" y="3328"/>
                </a:lnTo>
                <a:lnTo>
                  <a:pt x="3103" y="3339"/>
                </a:lnTo>
                <a:lnTo>
                  <a:pt x="3140" y="3348"/>
                </a:lnTo>
                <a:lnTo>
                  <a:pt x="3178" y="3358"/>
                </a:lnTo>
                <a:lnTo>
                  <a:pt x="3215" y="3367"/>
                </a:lnTo>
                <a:lnTo>
                  <a:pt x="3254" y="3375"/>
                </a:lnTo>
                <a:lnTo>
                  <a:pt x="3291" y="3383"/>
                </a:lnTo>
                <a:lnTo>
                  <a:pt x="3328" y="3390"/>
                </a:lnTo>
                <a:lnTo>
                  <a:pt x="3366" y="3397"/>
                </a:lnTo>
                <a:lnTo>
                  <a:pt x="3404" y="3404"/>
                </a:lnTo>
                <a:lnTo>
                  <a:pt x="3441" y="3411"/>
                </a:lnTo>
                <a:lnTo>
                  <a:pt x="3479" y="3416"/>
                </a:lnTo>
                <a:lnTo>
                  <a:pt x="3516" y="3421"/>
                </a:lnTo>
                <a:lnTo>
                  <a:pt x="3553" y="3426"/>
                </a:lnTo>
                <a:lnTo>
                  <a:pt x="3591" y="3430"/>
                </a:lnTo>
                <a:lnTo>
                  <a:pt x="3628" y="3433"/>
                </a:lnTo>
                <a:lnTo>
                  <a:pt x="3666" y="3437"/>
                </a:lnTo>
                <a:lnTo>
                  <a:pt x="3703" y="3439"/>
                </a:lnTo>
                <a:lnTo>
                  <a:pt x="3740" y="3441"/>
                </a:lnTo>
                <a:lnTo>
                  <a:pt x="3778" y="3443"/>
                </a:lnTo>
                <a:lnTo>
                  <a:pt x="3814" y="3444"/>
                </a:lnTo>
                <a:lnTo>
                  <a:pt x="3851" y="3444"/>
                </a:lnTo>
                <a:lnTo>
                  <a:pt x="3888" y="3445"/>
                </a:lnTo>
                <a:lnTo>
                  <a:pt x="3925" y="3444"/>
                </a:lnTo>
                <a:lnTo>
                  <a:pt x="3963" y="3444"/>
                </a:lnTo>
                <a:lnTo>
                  <a:pt x="3999" y="3442"/>
                </a:lnTo>
                <a:lnTo>
                  <a:pt x="4036" y="3441"/>
                </a:lnTo>
                <a:lnTo>
                  <a:pt x="4072" y="3439"/>
                </a:lnTo>
                <a:lnTo>
                  <a:pt x="4110" y="3436"/>
                </a:lnTo>
                <a:lnTo>
                  <a:pt x="4146" y="3434"/>
                </a:lnTo>
                <a:lnTo>
                  <a:pt x="4183" y="3430"/>
                </a:lnTo>
                <a:lnTo>
                  <a:pt x="4219" y="3427"/>
                </a:lnTo>
                <a:lnTo>
                  <a:pt x="4256" y="3423"/>
                </a:lnTo>
                <a:lnTo>
                  <a:pt x="4293" y="3419"/>
                </a:lnTo>
                <a:lnTo>
                  <a:pt x="4329" y="3414"/>
                </a:lnTo>
                <a:lnTo>
                  <a:pt x="4366" y="3409"/>
                </a:lnTo>
                <a:lnTo>
                  <a:pt x="4402" y="3403"/>
                </a:lnTo>
                <a:lnTo>
                  <a:pt x="4438" y="3397"/>
                </a:lnTo>
                <a:lnTo>
                  <a:pt x="4475" y="3391"/>
                </a:lnTo>
                <a:lnTo>
                  <a:pt x="4547" y="3378"/>
                </a:lnTo>
                <a:lnTo>
                  <a:pt x="4620" y="3364"/>
                </a:lnTo>
                <a:lnTo>
                  <a:pt x="4692" y="3349"/>
                </a:lnTo>
                <a:lnTo>
                  <a:pt x="4764" y="3332"/>
                </a:lnTo>
                <a:lnTo>
                  <a:pt x="4837" y="3315"/>
                </a:lnTo>
                <a:lnTo>
                  <a:pt x="4909" y="3296"/>
                </a:lnTo>
                <a:lnTo>
                  <a:pt x="4980" y="3277"/>
                </a:lnTo>
                <a:lnTo>
                  <a:pt x="5053" y="3257"/>
                </a:lnTo>
                <a:lnTo>
                  <a:pt x="5124" y="3236"/>
                </a:lnTo>
                <a:lnTo>
                  <a:pt x="5196" y="3215"/>
                </a:lnTo>
                <a:lnTo>
                  <a:pt x="5267" y="3192"/>
                </a:lnTo>
                <a:lnTo>
                  <a:pt x="5338" y="3169"/>
                </a:lnTo>
                <a:lnTo>
                  <a:pt x="5410" y="3146"/>
                </a:lnTo>
                <a:lnTo>
                  <a:pt x="5481" y="3123"/>
                </a:lnTo>
                <a:lnTo>
                  <a:pt x="5624" y="3075"/>
                </a:lnTo>
                <a:lnTo>
                  <a:pt x="5766" y="3026"/>
                </a:lnTo>
                <a:lnTo>
                  <a:pt x="6049" y="2926"/>
                </a:lnTo>
                <a:lnTo>
                  <a:pt x="6191" y="2877"/>
                </a:lnTo>
                <a:lnTo>
                  <a:pt x="6263" y="2853"/>
                </a:lnTo>
                <a:lnTo>
                  <a:pt x="6333" y="2830"/>
                </a:lnTo>
                <a:lnTo>
                  <a:pt x="6404" y="2806"/>
                </a:lnTo>
                <a:lnTo>
                  <a:pt x="6475" y="2783"/>
                </a:lnTo>
                <a:lnTo>
                  <a:pt x="6546" y="2761"/>
                </a:lnTo>
                <a:lnTo>
                  <a:pt x="6617" y="2740"/>
                </a:lnTo>
                <a:lnTo>
                  <a:pt x="6688" y="2719"/>
                </a:lnTo>
                <a:lnTo>
                  <a:pt x="6759" y="2699"/>
                </a:lnTo>
                <a:lnTo>
                  <a:pt x="6830" y="2679"/>
                </a:lnTo>
                <a:lnTo>
                  <a:pt x="6901" y="2661"/>
                </a:lnTo>
                <a:lnTo>
                  <a:pt x="6972" y="2644"/>
                </a:lnTo>
                <a:lnTo>
                  <a:pt x="7043" y="2626"/>
                </a:lnTo>
                <a:lnTo>
                  <a:pt x="7114" y="2611"/>
                </a:lnTo>
                <a:lnTo>
                  <a:pt x="7186" y="2597"/>
                </a:lnTo>
                <a:lnTo>
                  <a:pt x="7257" y="2584"/>
                </a:lnTo>
                <a:lnTo>
                  <a:pt x="7292" y="2578"/>
                </a:lnTo>
                <a:lnTo>
                  <a:pt x="7329" y="2572"/>
                </a:lnTo>
                <a:lnTo>
                  <a:pt x="7364" y="2567"/>
                </a:lnTo>
                <a:lnTo>
                  <a:pt x="7400" y="2561"/>
                </a:lnTo>
                <a:lnTo>
                  <a:pt x="7435" y="2557"/>
                </a:lnTo>
                <a:lnTo>
                  <a:pt x="7471" y="2552"/>
                </a:lnTo>
                <a:lnTo>
                  <a:pt x="7507" y="2548"/>
                </a:lnTo>
                <a:lnTo>
                  <a:pt x="7543" y="2545"/>
                </a:lnTo>
                <a:lnTo>
                  <a:pt x="7579" y="2542"/>
                </a:lnTo>
                <a:lnTo>
                  <a:pt x="7614" y="2539"/>
                </a:lnTo>
                <a:lnTo>
                  <a:pt x="7650" y="2536"/>
                </a:lnTo>
                <a:lnTo>
                  <a:pt x="7687" y="2534"/>
                </a:lnTo>
                <a:lnTo>
                  <a:pt x="7722" y="2533"/>
                </a:lnTo>
                <a:lnTo>
                  <a:pt x="7758" y="2532"/>
                </a:lnTo>
                <a:lnTo>
                  <a:pt x="7794" y="2531"/>
                </a:lnTo>
                <a:lnTo>
                  <a:pt x="7831" y="2530"/>
                </a:lnTo>
                <a:lnTo>
                  <a:pt x="7867" y="2531"/>
                </a:lnTo>
                <a:lnTo>
                  <a:pt x="7902" y="2531"/>
                </a:lnTo>
                <a:lnTo>
                  <a:pt x="7938" y="2532"/>
                </a:lnTo>
                <a:lnTo>
                  <a:pt x="7974" y="2533"/>
                </a:lnTo>
                <a:lnTo>
                  <a:pt x="8011" y="2535"/>
                </a:lnTo>
                <a:lnTo>
                  <a:pt x="8047" y="2537"/>
                </a:lnTo>
                <a:lnTo>
                  <a:pt x="8083" y="2539"/>
                </a:lnTo>
                <a:lnTo>
                  <a:pt x="8119" y="2542"/>
                </a:lnTo>
                <a:lnTo>
                  <a:pt x="8155" y="2545"/>
                </a:lnTo>
                <a:lnTo>
                  <a:pt x="8192" y="2548"/>
                </a:lnTo>
                <a:lnTo>
                  <a:pt x="8264" y="2556"/>
                </a:lnTo>
                <a:lnTo>
                  <a:pt x="8336" y="2565"/>
                </a:lnTo>
                <a:lnTo>
                  <a:pt x="8410" y="2575"/>
                </a:lnTo>
                <a:lnTo>
                  <a:pt x="8482" y="2586"/>
                </a:lnTo>
                <a:lnTo>
                  <a:pt x="8555" y="2599"/>
                </a:lnTo>
                <a:lnTo>
                  <a:pt x="8628" y="2612"/>
                </a:lnTo>
                <a:lnTo>
                  <a:pt x="8700" y="2626"/>
                </a:lnTo>
                <a:lnTo>
                  <a:pt x="8774" y="2642"/>
                </a:lnTo>
                <a:lnTo>
                  <a:pt x="8846" y="2658"/>
                </a:lnTo>
                <a:lnTo>
                  <a:pt x="8920" y="2675"/>
                </a:lnTo>
                <a:lnTo>
                  <a:pt x="8993" y="2692"/>
                </a:lnTo>
                <a:lnTo>
                  <a:pt x="9065" y="2710"/>
                </a:lnTo>
                <a:lnTo>
                  <a:pt x="9139" y="2729"/>
                </a:lnTo>
                <a:lnTo>
                  <a:pt x="9212" y="2748"/>
                </a:lnTo>
                <a:lnTo>
                  <a:pt x="9285" y="2767"/>
                </a:lnTo>
                <a:lnTo>
                  <a:pt x="9358" y="2787"/>
                </a:lnTo>
                <a:lnTo>
                  <a:pt x="9504" y="2827"/>
                </a:lnTo>
                <a:lnTo>
                  <a:pt x="9797" y="2910"/>
                </a:lnTo>
                <a:lnTo>
                  <a:pt x="9942" y="2951"/>
                </a:lnTo>
                <a:lnTo>
                  <a:pt x="10088" y="2991"/>
                </a:lnTo>
                <a:lnTo>
                  <a:pt x="10162" y="3010"/>
                </a:lnTo>
                <a:lnTo>
                  <a:pt x="10234" y="3030"/>
                </a:lnTo>
                <a:lnTo>
                  <a:pt x="10306" y="3048"/>
                </a:lnTo>
                <a:lnTo>
                  <a:pt x="10380" y="3066"/>
                </a:lnTo>
                <a:lnTo>
                  <a:pt x="10452" y="3084"/>
                </a:lnTo>
                <a:lnTo>
                  <a:pt x="10525" y="3100"/>
                </a:lnTo>
                <a:lnTo>
                  <a:pt x="10597" y="3116"/>
                </a:lnTo>
                <a:lnTo>
                  <a:pt x="10670" y="3131"/>
                </a:lnTo>
                <a:lnTo>
                  <a:pt x="10742" y="3145"/>
                </a:lnTo>
                <a:lnTo>
                  <a:pt x="10814" y="3159"/>
                </a:lnTo>
                <a:lnTo>
                  <a:pt x="10886" y="3171"/>
                </a:lnTo>
                <a:lnTo>
                  <a:pt x="10958" y="3182"/>
                </a:lnTo>
                <a:lnTo>
                  <a:pt x="11030" y="3192"/>
                </a:lnTo>
                <a:lnTo>
                  <a:pt x="11102" y="3201"/>
                </a:lnTo>
                <a:lnTo>
                  <a:pt x="11173" y="3209"/>
                </a:lnTo>
                <a:lnTo>
                  <a:pt x="11210" y="3212"/>
                </a:lnTo>
                <a:lnTo>
                  <a:pt x="11245" y="3217"/>
                </a:lnTo>
                <a:lnTo>
                  <a:pt x="11281" y="3219"/>
                </a:lnTo>
                <a:lnTo>
                  <a:pt x="11316" y="3222"/>
                </a:lnTo>
                <a:lnTo>
                  <a:pt x="11352" y="32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62"/>
          <p:cNvSpPr/>
          <p:nvPr/>
        </p:nvSpPr>
        <p:spPr>
          <a:xfrm>
            <a:off x="7751880" y="5730840"/>
            <a:ext cx="187200" cy="152280"/>
          </a:xfrm>
          <a:custGeom>
            <a:avLst/>
            <a:gdLst/>
            <a:ahLst/>
            <a:rect l="l" t="t" r="r" b="b"/>
            <a:pathLst>
              <a:path w="4496" h="3650">
                <a:moveTo>
                  <a:pt x="0" y="3645"/>
                </a:moveTo>
                <a:lnTo>
                  <a:pt x="36" y="3647"/>
                </a:lnTo>
                <a:lnTo>
                  <a:pt x="71" y="3648"/>
                </a:lnTo>
                <a:lnTo>
                  <a:pt x="107" y="3649"/>
                </a:lnTo>
                <a:lnTo>
                  <a:pt x="142" y="3650"/>
                </a:lnTo>
                <a:lnTo>
                  <a:pt x="177" y="3650"/>
                </a:lnTo>
                <a:lnTo>
                  <a:pt x="214" y="3649"/>
                </a:lnTo>
                <a:lnTo>
                  <a:pt x="249" y="3648"/>
                </a:lnTo>
                <a:lnTo>
                  <a:pt x="284" y="3647"/>
                </a:lnTo>
                <a:lnTo>
                  <a:pt x="319" y="3646"/>
                </a:lnTo>
                <a:lnTo>
                  <a:pt x="354" y="3643"/>
                </a:lnTo>
                <a:lnTo>
                  <a:pt x="390" y="3641"/>
                </a:lnTo>
                <a:lnTo>
                  <a:pt x="425" y="3638"/>
                </a:lnTo>
                <a:lnTo>
                  <a:pt x="460" y="3634"/>
                </a:lnTo>
                <a:lnTo>
                  <a:pt x="495" y="3630"/>
                </a:lnTo>
                <a:lnTo>
                  <a:pt x="530" y="3625"/>
                </a:lnTo>
                <a:lnTo>
                  <a:pt x="566" y="3621"/>
                </a:lnTo>
                <a:lnTo>
                  <a:pt x="601" y="3615"/>
                </a:lnTo>
                <a:lnTo>
                  <a:pt x="636" y="3610"/>
                </a:lnTo>
                <a:lnTo>
                  <a:pt x="670" y="3604"/>
                </a:lnTo>
                <a:lnTo>
                  <a:pt x="705" y="3597"/>
                </a:lnTo>
                <a:lnTo>
                  <a:pt x="741" y="3590"/>
                </a:lnTo>
                <a:lnTo>
                  <a:pt x="775" y="3583"/>
                </a:lnTo>
                <a:lnTo>
                  <a:pt x="810" y="3575"/>
                </a:lnTo>
                <a:lnTo>
                  <a:pt x="844" y="3567"/>
                </a:lnTo>
                <a:lnTo>
                  <a:pt x="879" y="3559"/>
                </a:lnTo>
                <a:lnTo>
                  <a:pt x="914" y="3550"/>
                </a:lnTo>
                <a:lnTo>
                  <a:pt x="948" y="3541"/>
                </a:lnTo>
                <a:lnTo>
                  <a:pt x="983" y="3531"/>
                </a:lnTo>
                <a:lnTo>
                  <a:pt x="1017" y="3521"/>
                </a:lnTo>
                <a:lnTo>
                  <a:pt x="1051" y="3511"/>
                </a:lnTo>
                <a:lnTo>
                  <a:pt x="1086" y="3500"/>
                </a:lnTo>
                <a:lnTo>
                  <a:pt x="1120" y="3489"/>
                </a:lnTo>
                <a:lnTo>
                  <a:pt x="1154" y="3477"/>
                </a:lnTo>
                <a:lnTo>
                  <a:pt x="1188" y="3465"/>
                </a:lnTo>
                <a:lnTo>
                  <a:pt x="1222" y="3453"/>
                </a:lnTo>
                <a:lnTo>
                  <a:pt x="1255" y="3439"/>
                </a:lnTo>
                <a:lnTo>
                  <a:pt x="1290" y="3426"/>
                </a:lnTo>
                <a:lnTo>
                  <a:pt x="1324" y="3413"/>
                </a:lnTo>
                <a:lnTo>
                  <a:pt x="1357" y="3399"/>
                </a:lnTo>
                <a:lnTo>
                  <a:pt x="1391" y="3385"/>
                </a:lnTo>
                <a:lnTo>
                  <a:pt x="1424" y="3371"/>
                </a:lnTo>
                <a:lnTo>
                  <a:pt x="1459" y="3356"/>
                </a:lnTo>
                <a:lnTo>
                  <a:pt x="1492" y="3341"/>
                </a:lnTo>
                <a:lnTo>
                  <a:pt x="1525" y="3326"/>
                </a:lnTo>
                <a:lnTo>
                  <a:pt x="1558" y="3310"/>
                </a:lnTo>
                <a:lnTo>
                  <a:pt x="1591" y="3294"/>
                </a:lnTo>
                <a:lnTo>
                  <a:pt x="1625" y="3278"/>
                </a:lnTo>
                <a:lnTo>
                  <a:pt x="1691" y="3243"/>
                </a:lnTo>
                <a:lnTo>
                  <a:pt x="1756" y="3208"/>
                </a:lnTo>
                <a:lnTo>
                  <a:pt x="1822" y="3172"/>
                </a:lnTo>
                <a:lnTo>
                  <a:pt x="1887" y="3135"/>
                </a:lnTo>
                <a:lnTo>
                  <a:pt x="1952" y="3097"/>
                </a:lnTo>
                <a:lnTo>
                  <a:pt x="2017" y="3056"/>
                </a:lnTo>
                <a:lnTo>
                  <a:pt x="2080" y="3016"/>
                </a:lnTo>
                <a:lnTo>
                  <a:pt x="2144" y="2974"/>
                </a:lnTo>
                <a:lnTo>
                  <a:pt x="2208" y="2932"/>
                </a:lnTo>
                <a:lnTo>
                  <a:pt x="2270" y="2888"/>
                </a:lnTo>
                <a:lnTo>
                  <a:pt x="2333" y="2842"/>
                </a:lnTo>
                <a:lnTo>
                  <a:pt x="2395" y="2797"/>
                </a:lnTo>
                <a:lnTo>
                  <a:pt x="2456" y="2751"/>
                </a:lnTo>
                <a:lnTo>
                  <a:pt x="2518" y="2704"/>
                </a:lnTo>
                <a:lnTo>
                  <a:pt x="2579" y="2655"/>
                </a:lnTo>
                <a:lnTo>
                  <a:pt x="2639" y="2606"/>
                </a:lnTo>
                <a:lnTo>
                  <a:pt x="2700" y="2556"/>
                </a:lnTo>
                <a:lnTo>
                  <a:pt x="2759" y="2506"/>
                </a:lnTo>
                <a:lnTo>
                  <a:pt x="2818" y="2454"/>
                </a:lnTo>
                <a:lnTo>
                  <a:pt x="2877" y="2402"/>
                </a:lnTo>
                <a:lnTo>
                  <a:pt x="2935" y="2350"/>
                </a:lnTo>
                <a:lnTo>
                  <a:pt x="2992" y="2297"/>
                </a:lnTo>
                <a:lnTo>
                  <a:pt x="3050" y="2242"/>
                </a:lnTo>
                <a:lnTo>
                  <a:pt x="3106" y="2188"/>
                </a:lnTo>
                <a:lnTo>
                  <a:pt x="3162" y="2134"/>
                </a:lnTo>
                <a:lnTo>
                  <a:pt x="3218" y="2078"/>
                </a:lnTo>
                <a:lnTo>
                  <a:pt x="3273" y="2022"/>
                </a:lnTo>
                <a:lnTo>
                  <a:pt x="3327" y="1966"/>
                </a:lnTo>
                <a:lnTo>
                  <a:pt x="3381" y="1910"/>
                </a:lnTo>
                <a:lnTo>
                  <a:pt x="3435" y="1852"/>
                </a:lnTo>
                <a:lnTo>
                  <a:pt x="3487" y="1795"/>
                </a:lnTo>
                <a:lnTo>
                  <a:pt x="3539" y="1737"/>
                </a:lnTo>
                <a:lnTo>
                  <a:pt x="3592" y="1678"/>
                </a:lnTo>
                <a:lnTo>
                  <a:pt x="3642" y="1620"/>
                </a:lnTo>
                <a:lnTo>
                  <a:pt x="3692" y="1562"/>
                </a:lnTo>
                <a:lnTo>
                  <a:pt x="3742" y="1502"/>
                </a:lnTo>
                <a:lnTo>
                  <a:pt x="3790" y="1443"/>
                </a:lnTo>
                <a:lnTo>
                  <a:pt x="3838" y="1383"/>
                </a:lnTo>
                <a:lnTo>
                  <a:pt x="3884" y="1323"/>
                </a:lnTo>
                <a:lnTo>
                  <a:pt x="3930" y="1261"/>
                </a:lnTo>
                <a:lnTo>
                  <a:pt x="3974" y="1200"/>
                </a:lnTo>
                <a:lnTo>
                  <a:pt x="3995" y="1170"/>
                </a:lnTo>
                <a:lnTo>
                  <a:pt x="4017" y="1139"/>
                </a:lnTo>
                <a:lnTo>
                  <a:pt x="4038" y="1107"/>
                </a:lnTo>
                <a:lnTo>
                  <a:pt x="4058" y="1076"/>
                </a:lnTo>
                <a:lnTo>
                  <a:pt x="4078" y="1045"/>
                </a:lnTo>
                <a:lnTo>
                  <a:pt x="4099" y="1013"/>
                </a:lnTo>
                <a:lnTo>
                  <a:pt x="4119" y="982"/>
                </a:lnTo>
                <a:lnTo>
                  <a:pt x="4138" y="950"/>
                </a:lnTo>
                <a:lnTo>
                  <a:pt x="4157" y="918"/>
                </a:lnTo>
                <a:lnTo>
                  <a:pt x="4175" y="886"/>
                </a:lnTo>
                <a:lnTo>
                  <a:pt x="4193" y="854"/>
                </a:lnTo>
                <a:lnTo>
                  <a:pt x="4211" y="822"/>
                </a:lnTo>
                <a:lnTo>
                  <a:pt x="4228" y="789"/>
                </a:lnTo>
                <a:lnTo>
                  <a:pt x="4245" y="757"/>
                </a:lnTo>
                <a:lnTo>
                  <a:pt x="4261" y="724"/>
                </a:lnTo>
                <a:lnTo>
                  <a:pt x="4278" y="691"/>
                </a:lnTo>
                <a:lnTo>
                  <a:pt x="4294" y="658"/>
                </a:lnTo>
                <a:lnTo>
                  <a:pt x="4309" y="625"/>
                </a:lnTo>
                <a:lnTo>
                  <a:pt x="4323" y="592"/>
                </a:lnTo>
                <a:lnTo>
                  <a:pt x="4338" y="559"/>
                </a:lnTo>
                <a:lnTo>
                  <a:pt x="4351" y="524"/>
                </a:lnTo>
                <a:lnTo>
                  <a:pt x="4365" y="490"/>
                </a:lnTo>
                <a:lnTo>
                  <a:pt x="4377" y="457"/>
                </a:lnTo>
                <a:lnTo>
                  <a:pt x="4390" y="423"/>
                </a:lnTo>
                <a:lnTo>
                  <a:pt x="4401" y="389"/>
                </a:lnTo>
                <a:lnTo>
                  <a:pt x="4413" y="354"/>
                </a:lnTo>
                <a:lnTo>
                  <a:pt x="4423" y="319"/>
                </a:lnTo>
                <a:lnTo>
                  <a:pt x="4433" y="284"/>
                </a:lnTo>
                <a:lnTo>
                  <a:pt x="4443" y="249"/>
                </a:lnTo>
                <a:lnTo>
                  <a:pt x="4453" y="214"/>
                </a:lnTo>
                <a:lnTo>
                  <a:pt x="4462" y="179"/>
                </a:lnTo>
                <a:lnTo>
                  <a:pt x="4470" y="143"/>
                </a:lnTo>
                <a:lnTo>
                  <a:pt x="4477" y="107"/>
                </a:lnTo>
                <a:lnTo>
                  <a:pt x="4484" y="72"/>
                </a:lnTo>
                <a:lnTo>
                  <a:pt x="4490" y="36"/>
                </a:lnTo>
                <a:lnTo>
                  <a:pt x="44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3"/>
          <p:cNvSpPr/>
          <p:nvPr/>
        </p:nvSpPr>
        <p:spPr>
          <a:xfrm>
            <a:off x="7289640" y="5591160"/>
            <a:ext cx="650880" cy="127080"/>
          </a:xfrm>
          <a:custGeom>
            <a:avLst/>
            <a:gdLst/>
            <a:ahLst/>
            <a:rect l="l" t="t" r="r" b="b"/>
            <a:pathLst>
              <a:path w="15549" h="3067">
                <a:moveTo>
                  <a:pt x="15549" y="3067"/>
                </a:moveTo>
                <a:lnTo>
                  <a:pt x="15547" y="3032"/>
                </a:lnTo>
                <a:lnTo>
                  <a:pt x="15544" y="2997"/>
                </a:lnTo>
                <a:lnTo>
                  <a:pt x="15541" y="2963"/>
                </a:lnTo>
                <a:lnTo>
                  <a:pt x="15536" y="2928"/>
                </a:lnTo>
                <a:lnTo>
                  <a:pt x="15531" y="2893"/>
                </a:lnTo>
                <a:lnTo>
                  <a:pt x="15524" y="2858"/>
                </a:lnTo>
                <a:lnTo>
                  <a:pt x="15517" y="2824"/>
                </a:lnTo>
                <a:lnTo>
                  <a:pt x="15510" y="2790"/>
                </a:lnTo>
                <a:lnTo>
                  <a:pt x="15501" y="2756"/>
                </a:lnTo>
                <a:lnTo>
                  <a:pt x="15492" y="2721"/>
                </a:lnTo>
                <a:lnTo>
                  <a:pt x="15481" y="2687"/>
                </a:lnTo>
                <a:lnTo>
                  <a:pt x="15471" y="2653"/>
                </a:lnTo>
                <a:lnTo>
                  <a:pt x="15459" y="2619"/>
                </a:lnTo>
                <a:lnTo>
                  <a:pt x="15447" y="2585"/>
                </a:lnTo>
                <a:lnTo>
                  <a:pt x="15435" y="2552"/>
                </a:lnTo>
                <a:lnTo>
                  <a:pt x="15421" y="2518"/>
                </a:lnTo>
                <a:lnTo>
                  <a:pt x="15407" y="2484"/>
                </a:lnTo>
                <a:lnTo>
                  <a:pt x="15393" y="2451"/>
                </a:lnTo>
                <a:lnTo>
                  <a:pt x="15378" y="2418"/>
                </a:lnTo>
                <a:lnTo>
                  <a:pt x="15362" y="2385"/>
                </a:lnTo>
                <a:lnTo>
                  <a:pt x="15345" y="2353"/>
                </a:lnTo>
                <a:lnTo>
                  <a:pt x="15328" y="2319"/>
                </a:lnTo>
                <a:lnTo>
                  <a:pt x="15311" y="2287"/>
                </a:lnTo>
                <a:lnTo>
                  <a:pt x="15291" y="2254"/>
                </a:lnTo>
                <a:lnTo>
                  <a:pt x="15273" y="2222"/>
                </a:lnTo>
                <a:lnTo>
                  <a:pt x="15253" y="2190"/>
                </a:lnTo>
                <a:lnTo>
                  <a:pt x="15234" y="2158"/>
                </a:lnTo>
                <a:lnTo>
                  <a:pt x="15213" y="2126"/>
                </a:lnTo>
                <a:lnTo>
                  <a:pt x="15192" y="2094"/>
                </a:lnTo>
                <a:lnTo>
                  <a:pt x="15171" y="2063"/>
                </a:lnTo>
                <a:lnTo>
                  <a:pt x="15149" y="2032"/>
                </a:lnTo>
                <a:lnTo>
                  <a:pt x="15126" y="2001"/>
                </a:lnTo>
                <a:lnTo>
                  <a:pt x="15103" y="1970"/>
                </a:lnTo>
                <a:lnTo>
                  <a:pt x="15080" y="1939"/>
                </a:lnTo>
                <a:lnTo>
                  <a:pt x="15057" y="1908"/>
                </a:lnTo>
                <a:lnTo>
                  <a:pt x="15033" y="1878"/>
                </a:lnTo>
                <a:lnTo>
                  <a:pt x="15008" y="1848"/>
                </a:lnTo>
                <a:lnTo>
                  <a:pt x="14983" y="1818"/>
                </a:lnTo>
                <a:lnTo>
                  <a:pt x="14958" y="1789"/>
                </a:lnTo>
                <a:lnTo>
                  <a:pt x="14932" y="1758"/>
                </a:lnTo>
                <a:lnTo>
                  <a:pt x="14906" y="1729"/>
                </a:lnTo>
                <a:lnTo>
                  <a:pt x="14879" y="1700"/>
                </a:lnTo>
                <a:lnTo>
                  <a:pt x="14853" y="1672"/>
                </a:lnTo>
                <a:lnTo>
                  <a:pt x="14826" y="1643"/>
                </a:lnTo>
                <a:lnTo>
                  <a:pt x="14799" y="1615"/>
                </a:lnTo>
                <a:lnTo>
                  <a:pt x="14770" y="1587"/>
                </a:lnTo>
                <a:lnTo>
                  <a:pt x="14742" y="1558"/>
                </a:lnTo>
                <a:lnTo>
                  <a:pt x="14714" y="1531"/>
                </a:lnTo>
                <a:lnTo>
                  <a:pt x="14686" y="1503"/>
                </a:lnTo>
                <a:lnTo>
                  <a:pt x="14657" y="1476"/>
                </a:lnTo>
                <a:lnTo>
                  <a:pt x="14628" y="1450"/>
                </a:lnTo>
                <a:lnTo>
                  <a:pt x="14598" y="1423"/>
                </a:lnTo>
                <a:lnTo>
                  <a:pt x="14569" y="1397"/>
                </a:lnTo>
                <a:lnTo>
                  <a:pt x="14540" y="1370"/>
                </a:lnTo>
                <a:lnTo>
                  <a:pt x="14510" y="1344"/>
                </a:lnTo>
                <a:lnTo>
                  <a:pt x="14480" y="1319"/>
                </a:lnTo>
                <a:lnTo>
                  <a:pt x="14419" y="1269"/>
                </a:lnTo>
                <a:lnTo>
                  <a:pt x="14358" y="1220"/>
                </a:lnTo>
                <a:lnTo>
                  <a:pt x="14297" y="1171"/>
                </a:lnTo>
                <a:lnTo>
                  <a:pt x="14234" y="1124"/>
                </a:lnTo>
                <a:lnTo>
                  <a:pt x="14172" y="1079"/>
                </a:lnTo>
                <a:lnTo>
                  <a:pt x="14110" y="1035"/>
                </a:lnTo>
                <a:lnTo>
                  <a:pt x="14047" y="991"/>
                </a:lnTo>
                <a:lnTo>
                  <a:pt x="13984" y="949"/>
                </a:lnTo>
                <a:lnTo>
                  <a:pt x="13921" y="908"/>
                </a:lnTo>
                <a:lnTo>
                  <a:pt x="13857" y="869"/>
                </a:lnTo>
                <a:lnTo>
                  <a:pt x="13794" y="830"/>
                </a:lnTo>
                <a:lnTo>
                  <a:pt x="13730" y="792"/>
                </a:lnTo>
                <a:lnTo>
                  <a:pt x="13666" y="756"/>
                </a:lnTo>
                <a:lnTo>
                  <a:pt x="13602" y="721"/>
                </a:lnTo>
                <a:lnTo>
                  <a:pt x="13536" y="687"/>
                </a:lnTo>
                <a:lnTo>
                  <a:pt x="13472" y="654"/>
                </a:lnTo>
                <a:lnTo>
                  <a:pt x="13407" y="622"/>
                </a:lnTo>
                <a:lnTo>
                  <a:pt x="13341" y="590"/>
                </a:lnTo>
                <a:lnTo>
                  <a:pt x="13276" y="561"/>
                </a:lnTo>
                <a:lnTo>
                  <a:pt x="13211" y="532"/>
                </a:lnTo>
                <a:lnTo>
                  <a:pt x="13144" y="504"/>
                </a:lnTo>
                <a:lnTo>
                  <a:pt x="13079" y="477"/>
                </a:lnTo>
                <a:lnTo>
                  <a:pt x="13013" y="451"/>
                </a:lnTo>
                <a:lnTo>
                  <a:pt x="12945" y="426"/>
                </a:lnTo>
                <a:lnTo>
                  <a:pt x="12879" y="401"/>
                </a:lnTo>
                <a:lnTo>
                  <a:pt x="12811" y="378"/>
                </a:lnTo>
                <a:lnTo>
                  <a:pt x="12745" y="356"/>
                </a:lnTo>
                <a:lnTo>
                  <a:pt x="12678" y="334"/>
                </a:lnTo>
                <a:lnTo>
                  <a:pt x="12610" y="314"/>
                </a:lnTo>
                <a:lnTo>
                  <a:pt x="12542" y="294"/>
                </a:lnTo>
                <a:lnTo>
                  <a:pt x="12474" y="275"/>
                </a:lnTo>
                <a:lnTo>
                  <a:pt x="12406" y="257"/>
                </a:lnTo>
                <a:lnTo>
                  <a:pt x="12338" y="240"/>
                </a:lnTo>
                <a:lnTo>
                  <a:pt x="12269" y="223"/>
                </a:lnTo>
                <a:lnTo>
                  <a:pt x="12201" y="206"/>
                </a:lnTo>
                <a:lnTo>
                  <a:pt x="12132" y="191"/>
                </a:lnTo>
                <a:lnTo>
                  <a:pt x="12062" y="177"/>
                </a:lnTo>
                <a:lnTo>
                  <a:pt x="11994" y="163"/>
                </a:lnTo>
                <a:lnTo>
                  <a:pt x="11924" y="150"/>
                </a:lnTo>
                <a:lnTo>
                  <a:pt x="11854" y="138"/>
                </a:lnTo>
                <a:lnTo>
                  <a:pt x="11785" y="127"/>
                </a:lnTo>
                <a:lnTo>
                  <a:pt x="11715" y="116"/>
                </a:lnTo>
                <a:lnTo>
                  <a:pt x="11645" y="105"/>
                </a:lnTo>
                <a:lnTo>
                  <a:pt x="11574" y="96"/>
                </a:lnTo>
                <a:lnTo>
                  <a:pt x="11504" y="87"/>
                </a:lnTo>
                <a:lnTo>
                  <a:pt x="11434" y="78"/>
                </a:lnTo>
                <a:lnTo>
                  <a:pt x="11362" y="70"/>
                </a:lnTo>
                <a:lnTo>
                  <a:pt x="11292" y="63"/>
                </a:lnTo>
                <a:lnTo>
                  <a:pt x="11220" y="56"/>
                </a:lnTo>
                <a:lnTo>
                  <a:pt x="11149" y="50"/>
                </a:lnTo>
                <a:lnTo>
                  <a:pt x="11079" y="44"/>
                </a:lnTo>
                <a:lnTo>
                  <a:pt x="11006" y="39"/>
                </a:lnTo>
                <a:lnTo>
                  <a:pt x="10935" y="34"/>
                </a:lnTo>
                <a:lnTo>
                  <a:pt x="10863" y="30"/>
                </a:lnTo>
                <a:lnTo>
                  <a:pt x="10791" y="25"/>
                </a:lnTo>
                <a:lnTo>
                  <a:pt x="10720" y="21"/>
                </a:lnTo>
                <a:lnTo>
                  <a:pt x="10647" y="18"/>
                </a:lnTo>
                <a:lnTo>
                  <a:pt x="10575" y="15"/>
                </a:lnTo>
                <a:lnTo>
                  <a:pt x="10502" y="13"/>
                </a:lnTo>
                <a:lnTo>
                  <a:pt x="10430" y="11"/>
                </a:lnTo>
                <a:lnTo>
                  <a:pt x="10357" y="9"/>
                </a:lnTo>
                <a:lnTo>
                  <a:pt x="10284" y="8"/>
                </a:lnTo>
                <a:lnTo>
                  <a:pt x="10211" y="7"/>
                </a:lnTo>
                <a:lnTo>
                  <a:pt x="10138" y="7"/>
                </a:lnTo>
                <a:lnTo>
                  <a:pt x="9991" y="6"/>
                </a:lnTo>
                <a:lnTo>
                  <a:pt x="9845" y="7"/>
                </a:lnTo>
                <a:lnTo>
                  <a:pt x="9697" y="8"/>
                </a:lnTo>
                <a:lnTo>
                  <a:pt x="9549" y="10"/>
                </a:lnTo>
                <a:lnTo>
                  <a:pt x="9400" y="13"/>
                </a:lnTo>
                <a:lnTo>
                  <a:pt x="9251" y="16"/>
                </a:lnTo>
                <a:lnTo>
                  <a:pt x="9102" y="20"/>
                </a:lnTo>
                <a:lnTo>
                  <a:pt x="8953" y="24"/>
                </a:lnTo>
                <a:lnTo>
                  <a:pt x="8803" y="29"/>
                </a:lnTo>
                <a:lnTo>
                  <a:pt x="8653" y="33"/>
                </a:lnTo>
                <a:lnTo>
                  <a:pt x="8502" y="37"/>
                </a:lnTo>
                <a:lnTo>
                  <a:pt x="8351" y="41"/>
                </a:lnTo>
                <a:lnTo>
                  <a:pt x="8200" y="44"/>
                </a:lnTo>
                <a:lnTo>
                  <a:pt x="8049" y="47"/>
                </a:lnTo>
                <a:lnTo>
                  <a:pt x="7898" y="49"/>
                </a:lnTo>
                <a:lnTo>
                  <a:pt x="7746" y="50"/>
                </a:lnTo>
                <a:lnTo>
                  <a:pt x="7593" y="51"/>
                </a:lnTo>
                <a:lnTo>
                  <a:pt x="7441" y="51"/>
                </a:lnTo>
                <a:lnTo>
                  <a:pt x="7288" y="49"/>
                </a:lnTo>
                <a:lnTo>
                  <a:pt x="7136" y="47"/>
                </a:lnTo>
                <a:lnTo>
                  <a:pt x="6983" y="44"/>
                </a:lnTo>
                <a:lnTo>
                  <a:pt x="6831" y="40"/>
                </a:lnTo>
                <a:lnTo>
                  <a:pt x="6526" y="32"/>
                </a:lnTo>
                <a:lnTo>
                  <a:pt x="6220" y="22"/>
                </a:lnTo>
                <a:lnTo>
                  <a:pt x="5916" y="13"/>
                </a:lnTo>
                <a:lnTo>
                  <a:pt x="5765" y="9"/>
                </a:lnTo>
                <a:lnTo>
                  <a:pt x="5614" y="6"/>
                </a:lnTo>
                <a:lnTo>
                  <a:pt x="5462" y="3"/>
                </a:lnTo>
                <a:lnTo>
                  <a:pt x="5312" y="1"/>
                </a:lnTo>
                <a:lnTo>
                  <a:pt x="5161" y="0"/>
                </a:lnTo>
                <a:lnTo>
                  <a:pt x="5012" y="0"/>
                </a:lnTo>
                <a:lnTo>
                  <a:pt x="4937" y="1"/>
                </a:lnTo>
                <a:lnTo>
                  <a:pt x="4863" y="1"/>
                </a:lnTo>
                <a:lnTo>
                  <a:pt x="4788" y="2"/>
                </a:lnTo>
                <a:lnTo>
                  <a:pt x="4715" y="4"/>
                </a:lnTo>
                <a:lnTo>
                  <a:pt x="4640" y="5"/>
                </a:lnTo>
                <a:lnTo>
                  <a:pt x="4567" y="7"/>
                </a:lnTo>
                <a:lnTo>
                  <a:pt x="4492" y="10"/>
                </a:lnTo>
                <a:lnTo>
                  <a:pt x="4419" y="13"/>
                </a:lnTo>
                <a:lnTo>
                  <a:pt x="4346" y="16"/>
                </a:lnTo>
                <a:lnTo>
                  <a:pt x="4272" y="20"/>
                </a:lnTo>
                <a:lnTo>
                  <a:pt x="4200" y="24"/>
                </a:lnTo>
                <a:lnTo>
                  <a:pt x="4127" y="29"/>
                </a:lnTo>
                <a:lnTo>
                  <a:pt x="4054" y="34"/>
                </a:lnTo>
                <a:lnTo>
                  <a:pt x="3982" y="40"/>
                </a:lnTo>
                <a:lnTo>
                  <a:pt x="3910" y="46"/>
                </a:lnTo>
                <a:lnTo>
                  <a:pt x="3838" y="53"/>
                </a:lnTo>
                <a:lnTo>
                  <a:pt x="3766" y="60"/>
                </a:lnTo>
                <a:lnTo>
                  <a:pt x="3695" y="68"/>
                </a:lnTo>
                <a:lnTo>
                  <a:pt x="3624" y="76"/>
                </a:lnTo>
                <a:lnTo>
                  <a:pt x="3552" y="85"/>
                </a:lnTo>
                <a:lnTo>
                  <a:pt x="3482" y="95"/>
                </a:lnTo>
                <a:lnTo>
                  <a:pt x="3411" y="105"/>
                </a:lnTo>
                <a:lnTo>
                  <a:pt x="3341" y="116"/>
                </a:lnTo>
                <a:lnTo>
                  <a:pt x="3271" y="127"/>
                </a:lnTo>
                <a:lnTo>
                  <a:pt x="3201" y="140"/>
                </a:lnTo>
                <a:lnTo>
                  <a:pt x="3132" y="152"/>
                </a:lnTo>
                <a:lnTo>
                  <a:pt x="3062" y="166"/>
                </a:lnTo>
                <a:lnTo>
                  <a:pt x="2993" y="181"/>
                </a:lnTo>
                <a:lnTo>
                  <a:pt x="2925" y="196"/>
                </a:lnTo>
                <a:lnTo>
                  <a:pt x="2856" y="212"/>
                </a:lnTo>
                <a:lnTo>
                  <a:pt x="2788" y="229"/>
                </a:lnTo>
                <a:lnTo>
                  <a:pt x="2720" y="247"/>
                </a:lnTo>
                <a:lnTo>
                  <a:pt x="2653" y="265"/>
                </a:lnTo>
                <a:lnTo>
                  <a:pt x="2586" y="284"/>
                </a:lnTo>
                <a:lnTo>
                  <a:pt x="2519" y="304"/>
                </a:lnTo>
                <a:lnTo>
                  <a:pt x="2453" y="325"/>
                </a:lnTo>
                <a:lnTo>
                  <a:pt x="2387" y="347"/>
                </a:lnTo>
                <a:lnTo>
                  <a:pt x="2321" y="369"/>
                </a:lnTo>
                <a:lnTo>
                  <a:pt x="2256" y="393"/>
                </a:lnTo>
                <a:lnTo>
                  <a:pt x="2190" y="418"/>
                </a:lnTo>
                <a:lnTo>
                  <a:pt x="2125" y="444"/>
                </a:lnTo>
                <a:lnTo>
                  <a:pt x="2061" y="470"/>
                </a:lnTo>
                <a:lnTo>
                  <a:pt x="1997" y="497"/>
                </a:lnTo>
                <a:lnTo>
                  <a:pt x="1933" y="526"/>
                </a:lnTo>
                <a:lnTo>
                  <a:pt x="1870" y="555"/>
                </a:lnTo>
                <a:lnTo>
                  <a:pt x="1807" y="586"/>
                </a:lnTo>
                <a:lnTo>
                  <a:pt x="1745" y="618"/>
                </a:lnTo>
                <a:lnTo>
                  <a:pt x="1683" y="651"/>
                </a:lnTo>
                <a:lnTo>
                  <a:pt x="1621" y="684"/>
                </a:lnTo>
                <a:lnTo>
                  <a:pt x="1560" y="719"/>
                </a:lnTo>
                <a:lnTo>
                  <a:pt x="1499" y="755"/>
                </a:lnTo>
                <a:lnTo>
                  <a:pt x="1438" y="792"/>
                </a:lnTo>
                <a:lnTo>
                  <a:pt x="1378" y="831"/>
                </a:lnTo>
                <a:lnTo>
                  <a:pt x="1319" y="870"/>
                </a:lnTo>
                <a:lnTo>
                  <a:pt x="1259" y="910"/>
                </a:lnTo>
                <a:lnTo>
                  <a:pt x="1200" y="952"/>
                </a:lnTo>
                <a:lnTo>
                  <a:pt x="1171" y="973"/>
                </a:lnTo>
                <a:lnTo>
                  <a:pt x="1142" y="996"/>
                </a:lnTo>
                <a:lnTo>
                  <a:pt x="1113" y="1018"/>
                </a:lnTo>
                <a:lnTo>
                  <a:pt x="1084" y="1040"/>
                </a:lnTo>
                <a:lnTo>
                  <a:pt x="1055" y="1063"/>
                </a:lnTo>
                <a:lnTo>
                  <a:pt x="1027" y="1085"/>
                </a:lnTo>
                <a:lnTo>
                  <a:pt x="998" y="1108"/>
                </a:lnTo>
                <a:lnTo>
                  <a:pt x="970" y="1132"/>
                </a:lnTo>
                <a:lnTo>
                  <a:pt x="941" y="1155"/>
                </a:lnTo>
                <a:lnTo>
                  <a:pt x="913" y="1179"/>
                </a:lnTo>
                <a:lnTo>
                  <a:pt x="858" y="1229"/>
                </a:lnTo>
                <a:lnTo>
                  <a:pt x="831" y="1254"/>
                </a:lnTo>
                <a:lnTo>
                  <a:pt x="803" y="1279"/>
                </a:lnTo>
                <a:lnTo>
                  <a:pt x="775" y="1304"/>
                </a:lnTo>
                <a:lnTo>
                  <a:pt x="748" y="1330"/>
                </a:lnTo>
                <a:lnTo>
                  <a:pt x="722" y="1356"/>
                </a:lnTo>
                <a:lnTo>
                  <a:pt x="695" y="1383"/>
                </a:lnTo>
                <a:lnTo>
                  <a:pt x="669" y="1409"/>
                </a:lnTo>
                <a:lnTo>
                  <a:pt x="643" y="1436"/>
                </a:lnTo>
                <a:lnTo>
                  <a:pt x="617" y="1463"/>
                </a:lnTo>
                <a:lnTo>
                  <a:pt x="590" y="1490"/>
                </a:lnTo>
                <a:lnTo>
                  <a:pt x="565" y="1517"/>
                </a:lnTo>
                <a:lnTo>
                  <a:pt x="540" y="1545"/>
                </a:lnTo>
                <a:lnTo>
                  <a:pt x="515" y="1574"/>
                </a:lnTo>
                <a:lnTo>
                  <a:pt x="490" y="1602"/>
                </a:lnTo>
                <a:lnTo>
                  <a:pt x="466" y="1630"/>
                </a:lnTo>
                <a:lnTo>
                  <a:pt x="441" y="1659"/>
                </a:lnTo>
                <a:lnTo>
                  <a:pt x="416" y="1687"/>
                </a:lnTo>
                <a:lnTo>
                  <a:pt x="393" y="1716"/>
                </a:lnTo>
                <a:lnTo>
                  <a:pt x="369" y="1745"/>
                </a:lnTo>
                <a:lnTo>
                  <a:pt x="346" y="1776"/>
                </a:lnTo>
                <a:lnTo>
                  <a:pt x="324" y="1805"/>
                </a:lnTo>
                <a:lnTo>
                  <a:pt x="301" y="1835"/>
                </a:lnTo>
                <a:lnTo>
                  <a:pt x="279" y="1865"/>
                </a:lnTo>
                <a:lnTo>
                  <a:pt x="257" y="1895"/>
                </a:lnTo>
                <a:lnTo>
                  <a:pt x="234" y="1926"/>
                </a:lnTo>
                <a:lnTo>
                  <a:pt x="213" y="1956"/>
                </a:lnTo>
                <a:lnTo>
                  <a:pt x="192" y="1988"/>
                </a:lnTo>
                <a:lnTo>
                  <a:pt x="171" y="2019"/>
                </a:lnTo>
                <a:lnTo>
                  <a:pt x="151" y="2050"/>
                </a:lnTo>
                <a:lnTo>
                  <a:pt x="131" y="2081"/>
                </a:lnTo>
                <a:lnTo>
                  <a:pt x="112" y="2113"/>
                </a:lnTo>
                <a:lnTo>
                  <a:pt x="92" y="2145"/>
                </a:lnTo>
                <a:lnTo>
                  <a:pt x="72" y="2177"/>
                </a:lnTo>
                <a:lnTo>
                  <a:pt x="54" y="2209"/>
                </a:lnTo>
                <a:lnTo>
                  <a:pt x="36" y="2241"/>
                </a:lnTo>
                <a:lnTo>
                  <a:pt x="18" y="2274"/>
                </a:lnTo>
                <a:lnTo>
                  <a:pt x="0" y="230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4"/>
          <p:cNvSpPr/>
          <p:nvPr/>
        </p:nvSpPr>
        <p:spPr>
          <a:xfrm>
            <a:off x="7277040" y="5686560"/>
            <a:ext cx="12600" cy="44280"/>
          </a:xfrm>
          <a:custGeom>
            <a:avLst/>
            <a:gdLst/>
            <a:ahLst/>
            <a:rect l="l" t="t" r="r" b="b"/>
            <a:pathLst>
              <a:path w="320" h="1069">
                <a:moveTo>
                  <a:pt x="320" y="0"/>
                </a:moveTo>
                <a:lnTo>
                  <a:pt x="303" y="33"/>
                </a:lnTo>
                <a:lnTo>
                  <a:pt x="287" y="67"/>
                </a:lnTo>
                <a:lnTo>
                  <a:pt x="271" y="99"/>
                </a:lnTo>
                <a:lnTo>
                  <a:pt x="255" y="132"/>
                </a:lnTo>
                <a:lnTo>
                  <a:pt x="239" y="166"/>
                </a:lnTo>
                <a:lnTo>
                  <a:pt x="224" y="199"/>
                </a:lnTo>
                <a:lnTo>
                  <a:pt x="209" y="233"/>
                </a:lnTo>
                <a:lnTo>
                  <a:pt x="195" y="267"/>
                </a:lnTo>
                <a:lnTo>
                  <a:pt x="181" y="300"/>
                </a:lnTo>
                <a:lnTo>
                  <a:pt x="168" y="334"/>
                </a:lnTo>
                <a:lnTo>
                  <a:pt x="155" y="368"/>
                </a:lnTo>
                <a:lnTo>
                  <a:pt x="142" y="402"/>
                </a:lnTo>
                <a:lnTo>
                  <a:pt x="130" y="437"/>
                </a:lnTo>
                <a:lnTo>
                  <a:pt x="119" y="471"/>
                </a:lnTo>
                <a:lnTo>
                  <a:pt x="108" y="506"/>
                </a:lnTo>
                <a:lnTo>
                  <a:pt x="98" y="540"/>
                </a:lnTo>
                <a:lnTo>
                  <a:pt x="88" y="575"/>
                </a:lnTo>
                <a:lnTo>
                  <a:pt x="78" y="609"/>
                </a:lnTo>
                <a:lnTo>
                  <a:pt x="69" y="645"/>
                </a:lnTo>
                <a:lnTo>
                  <a:pt x="60" y="680"/>
                </a:lnTo>
                <a:lnTo>
                  <a:pt x="52" y="715"/>
                </a:lnTo>
                <a:lnTo>
                  <a:pt x="45" y="750"/>
                </a:lnTo>
                <a:lnTo>
                  <a:pt x="37" y="785"/>
                </a:lnTo>
                <a:lnTo>
                  <a:pt x="30" y="821"/>
                </a:lnTo>
                <a:lnTo>
                  <a:pt x="24" y="856"/>
                </a:lnTo>
                <a:lnTo>
                  <a:pt x="19" y="891"/>
                </a:lnTo>
                <a:lnTo>
                  <a:pt x="14" y="926"/>
                </a:lnTo>
                <a:lnTo>
                  <a:pt x="10" y="962"/>
                </a:lnTo>
                <a:lnTo>
                  <a:pt x="6" y="997"/>
                </a:lnTo>
                <a:lnTo>
                  <a:pt x="3" y="1033"/>
                </a:lnTo>
                <a:lnTo>
                  <a:pt x="0" y="10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6"/>
          <p:cNvSpPr/>
          <p:nvPr/>
        </p:nvSpPr>
        <p:spPr>
          <a:xfrm>
            <a:off x="7772400" y="5477040"/>
            <a:ext cx="5176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7"/>
          <p:cNvSpPr/>
          <p:nvPr/>
        </p:nvSpPr>
        <p:spPr>
          <a:xfrm>
            <a:off x="8267760" y="584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9"/>
          <p:cNvSpPr/>
          <p:nvPr/>
        </p:nvSpPr>
        <p:spPr>
          <a:xfrm>
            <a:off x="8288640" y="546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7159320" y="49039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=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E05-CA3B-41A8-8836-732358611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59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60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61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62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63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64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65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66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67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Oval 68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69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70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71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72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73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74"/>
          <p:cNvSpPr/>
          <p:nvPr/>
        </p:nvSpPr>
        <p:spPr>
          <a:xfrm>
            <a:off x="5249880" y="1714680"/>
            <a:ext cx="32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║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B  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75"/>
          <p:cNvSpPr/>
          <p:nvPr/>
        </p:nvSpPr>
        <p:spPr>
          <a:xfrm flipH="1">
            <a:off x="3779640" y="3816360"/>
            <a:ext cx="91800" cy="274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 Box 76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Object 77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6" name="Text Box 78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79"/>
          <p:cNvSpPr/>
          <p:nvPr/>
        </p:nvSpPr>
        <p:spPr>
          <a:xfrm>
            <a:off x="75312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0"/>
          <p:cNvSpPr/>
          <p:nvPr/>
        </p:nvSpPr>
        <p:spPr>
          <a:xfrm>
            <a:off x="80154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81"/>
          <p:cNvSpPr/>
          <p:nvPr/>
        </p:nvSpPr>
        <p:spPr>
          <a:xfrm>
            <a:off x="704844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82"/>
          <p:cNvSpPr/>
          <p:nvPr/>
        </p:nvSpPr>
        <p:spPr>
          <a:xfrm>
            <a:off x="5487840" y="3035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Object 83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Text Box 84"/>
          <p:cNvSpPr/>
          <p:nvPr/>
        </p:nvSpPr>
        <p:spPr>
          <a:xfrm rot="16200000">
            <a:off x="3505680" y="38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85"/>
          <p:cNvSpPr/>
          <p:nvPr/>
        </p:nvSpPr>
        <p:spPr>
          <a:xfrm rot="16393800">
            <a:off x="3613680" y="374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86"/>
          <p:cNvSpPr/>
          <p:nvPr/>
        </p:nvSpPr>
        <p:spPr>
          <a:xfrm>
            <a:off x="3281400" y="6262560"/>
            <a:ext cx="1455840" cy="4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87"/>
          <p:cNvSpPr/>
          <p:nvPr/>
        </p:nvSpPr>
        <p:spPr>
          <a:xfrm>
            <a:off x="3311640" y="5403960"/>
            <a:ext cx="2746440" cy="9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88"/>
          <p:cNvSpPr/>
          <p:nvPr/>
        </p:nvSpPr>
        <p:spPr>
          <a:xfrm>
            <a:off x="3343320" y="4406760"/>
            <a:ext cx="8668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89"/>
          <p:cNvSpPr/>
          <p:nvPr/>
        </p:nvSpPr>
        <p:spPr>
          <a:xfrm flipH="1">
            <a:off x="3736800" y="4295880"/>
            <a:ext cx="504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90"/>
          <p:cNvSpPr/>
          <p:nvPr/>
        </p:nvSpPr>
        <p:spPr>
          <a:xfrm>
            <a:off x="3741840" y="4295880"/>
            <a:ext cx="112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91"/>
          <p:cNvSpPr/>
          <p:nvPr/>
        </p:nvSpPr>
        <p:spPr>
          <a:xfrm>
            <a:off x="3708360" y="529272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92"/>
          <p:cNvSpPr/>
          <p:nvPr/>
        </p:nvSpPr>
        <p:spPr>
          <a:xfrm flipH="1">
            <a:off x="3703320" y="529272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93"/>
          <p:cNvSpPr/>
          <p:nvPr/>
        </p:nvSpPr>
        <p:spPr>
          <a:xfrm>
            <a:off x="3679920" y="6151680"/>
            <a:ext cx="112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94"/>
          <p:cNvSpPr/>
          <p:nvPr/>
        </p:nvSpPr>
        <p:spPr>
          <a:xfrm flipH="1">
            <a:off x="3674880" y="615168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Oval 95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Oval 96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Oval 97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 Box 98"/>
          <p:cNvSpPr/>
          <p:nvPr/>
        </p:nvSpPr>
        <p:spPr>
          <a:xfrm>
            <a:off x="4032000" y="399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99"/>
          <p:cNvSpPr/>
          <p:nvPr/>
        </p:nvSpPr>
        <p:spPr>
          <a:xfrm>
            <a:off x="4268520" y="41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100"/>
          <p:cNvSpPr/>
          <p:nvPr/>
        </p:nvSpPr>
        <p:spPr>
          <a:xfrm>
            <a:off x="4404240" y="6275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101"/>
          <p:cNvSpPr/>
          <p:nvPr/>
        </p:nvSpPr>
        <p:spPr>
          <a:xfrm>
            <a:off x="4616280" y="646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02"/>
          <p:cNvSpPr/>
          <p:nvPr/>
        </p:nvSpPr>
        <p:spPr>
          <a:xfrm>
            <a:off x="6059880" y="529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103"/>
          <p:cNvSpPr/>
          <p:nvPr/>
        </p:nvSpPr>
        <p:spPr>
          <a:xfrm>
            <a:off x="6297480" y="547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Oval 104"/>
          <p:cNvSpPr/>
          <p:nvPr/>
        </p:nvSpPr>
        <p:spPr>
          <a:xfrm>
            <a:off x="416088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Oval 105"/>
          <p:cNvSpPr/>
          <p:nvPr/>
        </p:nvSpPr>
        <p:spPr>
          <a:xfrm>
            <a:off x="4675320" y="6259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106"/>
          <p:cNvSpPr/>
          <p:nvPr/>
        </p:nvSpPr>
        <p:spPr>
          <a:xfrm>
            <a:off x="5979960" y="5440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AF2-49C0-4EB6-BB04-15FABFB9A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 Box 4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5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0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1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3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4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5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6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7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8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9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20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1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2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Text Box 23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24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25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26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27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 Box 28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2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30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31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32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33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34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35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 Box 36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37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38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39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40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41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42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43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44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45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4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4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 Box 4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49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5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51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52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5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54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55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56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57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58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59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60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61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62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63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64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65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66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67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Oval 68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Oval 69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70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71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72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73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74"/>
          <p:cNvSpPr/>
          <p:nvPr/>
        </p:nvSpPr>
        <p:spPr>
          <a:xfrm>
            <a:off x="5249880" y="1714680"/>
            <a:ext cx="32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║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B  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75"/>
          <p:cNvSpPr/>
          <p:nvPr/>
        </p:nvSpPr>
        <p:spPr>
          <a:xfrm flipH="1">
            <a:off x="3779640" y="3816360"/>
            <a:ext cx="91800" cy="274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76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9" name="Object 77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0" name="Text Box 78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79"/>
          <p:cNvSpPr/>
          <p:nvPr/>
        </p:nvSpPr>
        <p:spPr>
          <a:xfrm>
            <a:off x="75312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80"/>
          <p:cNvSpPr/>
          <p:nvPr/>
        </p:nvSpPr>
        <p:spPr>
          <a:xfrm>
            <a:off x="80154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81"/>
          <p:cNvSpPr/>
          <p:nvPr/>
        </p:nvSpPr>
        <p:spPr>
          <a:xfrm>
            <a:off x="704844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82"/>
          <p:cNvSpPr/>
          <p:nvPr/>
        </p:nvSpPr>
        <p:spPr>
          <a:xfrm>
            <a:off x="5487840" y="3035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5" name="Object 83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6" name="Text Box 84"/>
          <p:cNvSpPr/>
          <p:nvPr/>
        </p:nvSpPr>
        <p:spPr>
          <a:xfrm rot="16200000">
            <a:off x="3505680" y="38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85"/>
          <p:cNvSpPr/>
          <p:nvPr/>
        </p:nvSpPr>
        <p:spPr>
          <a:xfrm rot="16393800">
            <a:off x="3613680" y="374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86"/>
          <p:cNvSpPr/>
          <p:nvPr/>
        </p:nvSpPr>
        <p:spPr>
          <a:xfrm>
            <a:off x="3281400" y="6262560"/>
            <a:ext cx="1455840" cy="4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87"/>
          <p:cNvSpPr/>
          <p:nvPr/>
        </p:nvSpPr>
        <p:spPr>
          <a:xfrm>
            <a:off x="3311640" y="5403960"/>
            <a:ext cx="2746440" cy="9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88"/>
          <p:cNvSpPr/>
          <p:nvPr/>
        </p:nvSpPr>
        <p:spPr>
          <a:xfrm>
            <a:off x="3343320" y="4406760"/>
            <a:ext cx="8668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89"/>
          <p:cNvSpPr/>
          <p:nvPr/>
        </p:nvSpPr>
        <p:spPr>
          <a:xfrm flipH="1">
            <a:off x="3736800" y="4295880"/>
            <a:ext cx="504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90"/>
          <p:cNvSpPr/>
          <p:nvPr/>
        </p:nvSpPr>
        <p:spPr>
          <a:xfrm>
            <a:off x="3741840" y="4295880"/>
            <a:ext cx="112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91"/>
          <p:cNvSpPr/>
          <p:nvPr/>
        </p:nvSpPr>
        <p:spPr>
          <a:xfrm>
            <a:off x="3708360" y="529272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92"/>
          <p:cNvSpPr/>
          <p:nvPr/>
        </p:nvSpPr>
        <p:spPr>
          <a:xfrm flipH="1">
            <a:off x="3703320" y="529272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93"/>
          <p:cNvSpPr/>
          <p:nvPr/>
        </p:nvSpPr>
        <p:spPr>
          <a:xfrm>
            <a:off x="3679920" y="6151680"/>
            <a:ext cx="112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94"/>
          <p:cNvSpPr/>
          <p:nvPr/>
        </p:nvSpPr>
        <p:spPr>
          <a:xfrm flipH="1">
            <a:off x="3674880" y="615168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Oval 95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Oval 96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97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98"/>
          <p:cNvSpPr/>
          <p:nvPr/>
        </p:nvSpPr>
        <p:spPr>
          <a:xfrm>
            <a:off x="4032000" y="399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99"/>
          <p:cNvSpPr/>
          <p:nvPr/>
        </p:nvSpPr>
        <p:spPr>
          <a:xfrm>
            <a:off x="4268520" y="41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100"/>
          <p:cNvSpPr/>
          <p:nvPr/>
        </p:nvSpPr>
        <p:spPr>
          <a:xfrm>
            <a:off x="4404240" y="6275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01"/>
          <p:cNvSpPr/>
          <p:nvPr/>
        </p:nvSpPr>
        <p:spPr>
          <a:xfrm>
            <a:off x="4616280" y="646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02"/>
          <p:cNvSpPr/>
          <p:nvPr/>
        </p:nvSpPr>
        <p:spPr>
          <a:xfrm>
            <a:off x="6059880" y="529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03"/>
          <p:cNvSpPr/>
          <p:nvPr/>
        </p:nvSpPr>
        <p:spPr>
          <a:xfrm>
            <a:off x="6297480" y="547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107"/>
          <p:cNvSpPr/>
          <p:nvPr/>
        </p:nvSpPr>
        <p:spPr>
          <a:xfrm>
            <a:off x="4210200" y="4435560"/>
            <a:ext cx="527040" cy="18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108"/>
          <p:cNvSpPr/>
          <p:nvPr/>
        </p:nvSpPr>
        <p:spPr>
          <a:xfrm flipV="1">
            <a:off x="4737240" y="5495400"/>
            <a:ext cx="1320840" cy="81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109"/>
          <p:cNvSpPr/>
          <p:nvPr/>
        </p:nvSpPr>
        <p:spPr>
          <a:xfrm flipH="1" flipV="1">
            <a:off x="4209840" y="4435200"/>
            <a:ext cx="1847880" cy="106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Oval 110"/>
          <p:cNvSpPr/>
          <p:nvPr/>
        </p:nvSpPr>
        <p:spPr>
          <a:xfrm>
            <a:off x="416088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111"/>
          <p:cNvSpPr/>
          <p:nvPr/>
        </p:nvSpPr>
        <p:spPr>
          <a:xfrm>
            <a:off x="4675320" y="6259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Oval 112"/>
          <p:cNvSpPr/>
          <p:nvPr/>
        </p:nvSpPr>
        <p:spPr>
          <a:xfrm>
            <a:off x="5979960" y="5440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801F-D948-45EF-BC54-01075E1DC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5"/>
          <p:cNvSpPr/>
          <p:nvPr/>
        </p:nvSpPr>
        <p:spPr>
          <a:xfrm>
            <a:off x="5249880" y="1714680"/>
            <a:ext cx="32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   ║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B  C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"/>
          <p:cNvSpPr/>
          <p:nvPr/>
        </p:nvSpPr>
        <p:spPr>
          <a:xfrm>
            <a:off x="139680" y="3025800"/>
            <a:ext cx="3340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7"/>
          <p:cNvSpPr/>
          <p:nvPr/>
        </p:nvSpPr>
        <p:spPr>
          <a:xfrm>
            <a:off x="857160" y="3301920"/>
            <a:ext cx="1936800" cy="63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8"/>
          <p:cNvSpPr/>
          <p:nvPr/>
        </p:nvSpPr>
        <p:spPr>
          <a:xfrm flipH="1">
            <a:off x="1402920" y="3935520"/>
            <a:ext cx="1390680" cy="71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9"/>
          <p:cNvSpPr/>
          <p:nvPr/>
        </p:nvSpPr>
        <p:spPr>
          <a:xfrm flipH="1" flipV="1">
            <a:off x="856800" y="3301560"/>
            <a:ext cx="546120" cy="13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0"/>
          <p:cNvSpPr/>
          <p:nvPr/>
        </p:nvSpPr>
        <p:spPr>
          <a:xfrm flipV="1">
            <a:off x="857160" y="3025440"/>
            <a:ext cx="180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11"/>
          <p:cNvSpPr/>
          <p:nvPr/>
        </p:nvSpPr>
        <p:spPr>
          <a:xfrm flipV="1">
            <a:off x="2793960" y="3025440"/>
            <a:ext cx="1800" cy="9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12"/>
          <p:cNvSpPr/>
          <p:nvPr/>
        </p:nvSpPr>
        <p:spPr>
          <a:xfrm flipV="1">
            <a:off x="1403280" y="3025800"/>
            <a:ext cx="1800" cy="16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13"/>
          <p:cNvSpPr/>
          <p:nvPr/>
        </p:nvSpPr>
        <p:spPr>
          <a:xfrm>
            <a:off x="857160" y="2036880"/>
            <a:ext cx="1936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14"/>
          <p:cNvSpPr/>
          <p:nvPr/>
        </p:nvSpPr>
        <p:spPr>
          <a:xfrm flipH="1" flipV="1">
            <a:off x="1402920" y="1499760"/>
            <a:ext cx="1390680" cy="11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15"/>
          <p:cNvSpPr/>
          <p:nvPr/>
        </p:nvSpPr>
        <p:spPr>
          <a:xfrm flipH="1">
            <a:off x="856800" y="1500120"/>
            <a:ext cx="546120" cy="53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16"/>
          <p:cNvSpPr/>
          <p:nvPr/>
        </p:nvSpPr>
        <p:spPr>
          <a:xfrm>
            <a:off x="857160" y="2036880"/>
            <a:ext cx="21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17"/>
          <p:cNvSpPr/>
          <p:nvPr/>
        </p:nvSpPr>
        <p:spPr>
          <a:xfrm>
            <a:off x="2046240" y="2036880"/>
            <a:ext cx="1800" cy="22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18"/>
          <p:cNvSpPr/>
          <p:nvPr/>
        </p:nvSpPr>
        <p:spPr>
          <a:xfrm>
            <a:off x="857160" y="3301920"/>
            <a:ext cx="1701720" cy="145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19"/>
          <p:cNvSpPr/>
          <p:nvPr/>
        </p:nvSpPr>
        <p:spPr>
          <a:xfrm flipV="1">
            <a:off x="1752480" y="3722400"/>
            <a:ext cx="1694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20"/>
          <p:cNvSpPr/>
          <p:nvPr/>
        </p:nvSpPr>
        <p:spPr>
          <a:xfrm>
            <a:off x="1403280" y="4653000"/>
            <a:ext cx="72072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21"/>
          <p:cNvSpPr/>
          <p:nvPr/>
        </p:nvSpPr>
        <p:spPr>
          <a:xfrm>
            <a:off x="2793960" y="3935520"/>
            <a:ext cx="27144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22"/>
          <p:cNvSpPr/>
          <p:nvPr/>
        </p:nvSpPr>
        <p:spPr>
          <a:xfrm flipV="1">
            <a:off x="857160" y="2036520"/>
            <a:ext cx="180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23"/>
          <p:cNvSpPr/>
          <p:nvPr/>
        </p:nvSpPr>
        <p:spPr>
          <a:xfrm flipV="1">
            <a:off x="1403280" y="1500120"/>
            <a:ext cx="1800" cy="152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24"/>
          <p:cNvSpPr/>
          <p:nvPr/>
        </p:nvSpPr>
        <p:spPr>
          <a:xfrm flipV="1">
            <a:off x="2793960" y="26586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25"/>
          <p:cNvSpPr/>
          <p:nvPr/>
        </p:nvSpPr>
        <p:spPr>
          <a:xfrm flipH="1">
            <a:off x="3281400" y="4406760"/>
            <a:ext cx="61920" cy="18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26"/>
          <p:cNvSpPr/>
          <p:nvPr/>
        </p:nvSpPr>
        <p:spPr>
          <a:xfrm>
            <a:off x="2124000" y="5270400"/>
            <a:ext cx="115740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27"/>
          <p:cNvSpPr/>
          <p:nvPr/>
        </p:nvSpPr>
        <p:spPr>
          <a:xfrm>
            <a:off x="2558880" y="4761000"/>
            <a:ext cx="75276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28"/>
          <p:cNvSpPr/>
          <p:nvPr/>
        </p:nvSpPr>
        <p:spPr>
          <a:xfrm>
            <a:off x="3065400" y="4168800"/>
            <a:ext cx="2779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29"/>
          <p:cNvSpPr/>
          <p:nvPr/>
        </p:nvSpPr>
        <p:spPr>
          <a:xfrm flipH="1">
            <a:off x="3779640" y="3816360"/>
            <a:ext cx="91800" cy="274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30"/>
          <p:cNvSpPr/>
          <p:nvPr/>
        </p:nvSpPr>
        <p:spPr>
          <a:xfrm>
            <a:off x="3281400" y="6262560"/>
            <a:ext cx="1455840" cy="4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31"/>
          <p:cNvSpPr/>
          <p:nvPr/>
        </p:nvSpPr>
        <p:spPr>
          <a:xfrm>
            <a:off x="3311640" y="5403960"/>
            <a:ext cx="2746440" cy="9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32"/>
          <p:cNvSpPr/>
          <p:nvPr/>
        </p:nvSpPr>
        <p:spPr>
          <a:xfrm>
            <a:off x="3343320" y="4406760"/>
            <a:ext cx="8668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33"/>
          <p:cNvSpPr/>
          <p:nvPr/>
        </p:nvSpPr>
        <p:spPr>
          <a:xfrm>
            <a:off x="4210200" y="4435560"/>
            <a:ext cx="527040" cy="18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34"/>
          <p:cNvSpPr/>
          <p:nvPr/>
        </p:nvSpPr>
        <p:spPr>
          <a:xfrm flipV="1">
            <a:off x="4737240" y="5495400"/>
            <a:ext cx="1320840" cy="8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35"/>
          <p:cNvSpPr/>
          <p:nvPr/>
        </p:nvSpPr>
        <p:spPr>
          <a:xfrm flipH="1" flipV="1">
            <a:off x="4209840" y="4435200"/>
            <a:ext cx="1847880" cy="10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Freeform 36"/>
          <p:cNvSpPr/>
          <p:nvPr/>
        </p:nvSpPr>
        <p:spPr>
          <a:xfrm>
            <a:off x="2851200" y="4419720"/>
            <a:ext cx="485640" cy="188640"/>
          </a:xfrm>
          <a:custGeom>
            <a:avLst/>
            <a:gdLst/>
            <a:ahLst/>
            <a:rect l="l" t="t" r="r" b="b"/>
            <a:pathLst>
              <a:path w="2142" h="834">
                <a:moveTo>
                  <a:pt x="0" y="0"/>
                </a:moveTo>
                <a:lnTo>
                  <a:pt x="204" y="163"/>
                </a:lnTo>
                <a:lnTo>
                  <a:pt x="419" y="308"/>
                </a:lnTo>
                <a:lnTo>
                  <a:pt x="645" y="439"/>
                </a:lnTo>
                <a:lnTo>
                  <a:pt x="880" y="551"/>
                </a:lnTo>
                <a:lnTo>
                  <a:pt x="1122" y="644"/>
                </a:lnTo>
                <a:lnTo>
                  <a:pt x="1371" y="721"/>
                </a:lnTo>
                <a:lnTo>
                  <a:pt x="1625" y="778"/>
                </a:lnTo>
                <a:lnTo>
                  <a:pt x="1883" y="816"/>
                </a:lnTo>
                <a:lnTo>
                  <a:pt x="2142" y="8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37"/>
          <p:cNvSpPr/>
          <p:nvPr/>
        </p:nvSpPr>
        <p:spPr>
          <a:xfrm flipV="1">
            <a:off x="1969920" y="5205240"/>
            <a:ext cx="781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38"/>
          <p:cNvSpPr/>
          <p:nvPr/>
        </p:nvSpPr>
        <p:spPr>
          <a:xfrm>
            <a:off x="1969920" y="529596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39"/>
          <p:cNvSpPr/>
          <p:nvPr/>
        </p:nvSpPr>
        <p:spPr>
          <a:xfrm>
            <a:off x="2406600" y="47862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40"/>
          <p:cNvSpPr/>
          <p:nvPr/>
        </p:nvSpPr>
        <p:spPr>
          <a:xfrm flipV="1">
            <a:off x="2406600" y="46954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41"/>
          <p:cNvSpPr/>
          <p:nvPr/>
        </p:nvSpPr>
        <p:spPr>
          <a:xfrm>
            <a:off x="2913120" y="4194000"/>
            <a:ext cx="763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42"/>
          <p:cNvSpPr/>
          <p:nvPr/>
        </p:nvSpPr>
        <p:spPr>
          <a:xfrm flipV="1">
            <a:off x="2913120" y="4103280"/>
            <a:ext cx="7632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43"/>
          <p:cNvSpPr/>
          <p:nvPr/>
        </p:nvSpPr>
        <p:spPr>
          <a:xfrm flipH="1">
            <a:off x="3736800" y="4295880"/>
            <a:ext cx="504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44"/>
          <p:cNvSpPr/>
          <p:nvPr/>
        </p:nvSpPr>
        <p:spPr>
          <a:xfrm>
            <a:off x="3741840" y="4295880"/>
            <a:ext cx="112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45"/>
          <p:cNvSpPr/>
          <p:nvPr/>
        </p:nvSpPr>
        <p:spPr>
          <a:xfrm>
            <a:off x="3708360" y="529272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46"/>
          <p:cNvSpPr/>
          <p:nvPr/>
        </p:nvSpPr>
        <p:spPr>
          <a:xfrm flipH="1">
            <a:off x="3703320" y="529272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47"/>
          <p:cNvSpPr/>
          <p:nvPr/>
        </p:nvSpPr>
        <p:spPr>
          <a:xfrm>
            <a:off x="3679920" y="6151680"/>
            <a:ext cx="112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48"/>
          <p:cNvSpPr/>
          <p:nvPr/>
        </p:nvSpPr>
        <p:spPr>
          <a:xfrm flipH="1">
            <a:off x="3674880" y="6151680"/>
            <a:ext cx="468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49"/>
          <p:cNvSpPr/>
          <p:nvPr/>
        </p:nvSpPr>
        <p:spPr>
          <a:xfrm flipV="1">
            <a:off x="4210200" y="4435560"/>
            <a:ext cx="14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50"/>
          <p:cNvSpPr/>
          <p:nvPr/>
        </p:nvSpPr>
        <p:spPr>
          <a:xfrm flipV="1">
            <a:off x="4243320" y="4489560"/>
            <a:ext cx="61920" cy="6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51"/>
          <p:cNvSpPr/>
          <p:nvPr/>
        </p:nvSpPr>
        <p:spPr>
          <a:xfrm flipV="1">
            <a:off x="4275000" y="4545000"/>
            <a:ext cx="125640" cy="123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52"/>
          <p:cNvSpPr/>
          <p:nvPr/>
        </p:nvSpPr>
        <p:spPr>
          <a:xfrm flipV="1">
            <a:off x="4308480" y="4599000"/>
            <a:ext cx="185760" cy="185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53"/>
          <p:cNvSpPr/>
          <p:nvPr/>
        </p:nvSpPr>
        <p:spPr>
          <a:xfrm flipV="1">
            <a:off x="4340160" y="4653000"/>
            <a:ext cx="249480" cy="247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54"/>
          <p:cNvSpPr/>
          <p:nvPr/>
        </p:nvSpPr>
        <p:spPr>
          <a:xfrm flipV="1">
            <a:off x="4373640" y="4707000"/>
            <a:ext cx="309600" cy="311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55"/>
          <p:cNvSpPr/>
          <p:nvPr/>
        </p:nvSpPr>
        <p:spPr>
          <a:xfrm flipV="1">
            <a:off x="4406760" y="4761000"/>
            <a:ext cx="371520" cy="37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56"/>
          <p:cNvSpPr/>
          <p:nvPr/>
        </p:nvSpPr>
        <p:spPr>
          <a:xfrm flipV="1">
            <a:off x="4438800" y="4816440"/>
            <a:ext cx="43488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57"/>
          <p:cNvSpPr/>
          <p:nvPr/>
        </p:nvSpPr>
        <p:spPr>
          <a:xfrm flipV="1">
            <a:off x="4471920" y="4870440"/>
            <a:ext cx="495360" cy="496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Freeform 58"/>
          <p:cNvSpPr/>
          <p:nvPr/>
        </p:nvSpPr>
        <p:spPr>
          <a:xfrm>
            <a:off x="4503600" y="4924440"/>
            <a:ext cx="559080" cy="558720"/>
          </a:xfrm>
          <a:custGeom>
            <a:avLst/>
            <a:gdLst/>
            <a:ahLst/>
            <a:rect l="l" t="t" r="r" b="b"/>
            <a:pathLst>
              <a:path w="2461" h="2464">
                <a:moveTo>
                  <a:pt x="0" y="2464"/>
                </a:moveTo>
                <a:lnTo>
                  <a:pt x="169" y="2295"/>
                </a:lnTo>
                <a:lnTo>
                  <a:pt x="2461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Freeform 59"/>
          <p:cNvSpPr/>
          <p:nvPr/>
        </p:nvSpPr>
        <p:spPr>
          <a:xfrm>
            <a:off x="4537080" y="4978440"/>
            <a:ext cx="620640" cy="620640"/>
          </a:xfrm>
          <a:custGeom>
            <a:avLst/>
            <a:gdLst/>
            <a:ahLst/>
            <a:rect l="l" t="t" r="r" b="b"/>
            <a:pathLst>
              <a:path w="2735" h="2736">
                <a:moveTo>
                  <a:pt x="0" y="2736"/>
                </a:moveTo>
                <a:lnTo>
                  <a:pt x="660" y="2076"/>
                </a:lnTo>
                <a:lnTo>
                  <a:pt x="273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Freeform 60"/>
          <p:cNvSpPr/>
          <p:nvPr/>
        </p:nvSpPr>
        <p:spPr>
          <a:xfrm>
            <a:off x="4568760" y="5032440"/>
            <a:ext cx="682560" cy="684000"/>
          </a:xfrm>
          <a:custGeom>
            <a:avLst/>
            <a:gdLst/>
            <a:ahLst/>
            <a:rect l="l" t="t" r="r" b="b"/>
            <a:pathLst>
              <a:path w="3008" h="3011">
                <a:moveTo>
                  <a:pt x="0" y="3011"/>
                </a:moveTo>
                <a:lnTo>
                  <a:pt x="1151" y="1858"/>
                </a:lnTo>
                <a:lnTo>
                  <a:pt x="300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Freeform 61"/>
          <p:cNvSpPr/>
          <p:nvPr/>
        </p:nvSpPr>
        <p:spPr>
          <a:xfrm>
            <a:off x="4602240" y="5087880"/>
            <a:ext cx="744480" cy="744480"/>
          </a:xfrm>
          <a:custGeom>
            <a:avLst/>
            <a:gdLst/>
            <a:ahLst/>
            <a:rect l="l" t="t" r="r" b="b"/>
            <a:pathLst>
              <a:path w="3283" h="3284">
                <a:moveTo>
                  <a:pt x="0" y="3284"/>
                </a:moveTo>
                <a:lnTo>
                  <a:pt x="1644" y="1641"/>
                </a:lnTo>
                <a:lnTo>
                  <a:pt x="328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Freeform 62"/>
          <p:cNvSpPr/>
          <p:nvPr/>
        </p:nvSpPr>
        <p:spPr>
          <a:xfrm>
            <a:off x="4635360" y="5141880"/>
            <a:ext cx="806760" cy="806400"/>
          </a:xfrm>
          <a:custGeom>
            <a:avLst/>
            <a:gdLst/>
            <a:ahLst/>
            <a:rect l="l" t="t" r="r" b="b"/>
            <a:pathLst>
              <a:path w="3556" h="3558">
                <a:moveTo>
                  <a:pt x="0" y="3558"/>
                </a:moveTo>
                <a:lnTo>
                  <a:pt x="2134" y="1421"/>
                </a:lnTo>
                <a:lnTo>
                  <a:pt x="3556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Freeform 63"/>
          <p:cNvSpPr/>
          <p:nvPr/>
        </p:nvSpPr>
        <p:spPr>
          <a:xfrm>
            <a:off x="4667400" y="5195880"/>
            <a:ext cx="868320" cy="868320"/>
          </a:xfrm>
          <a:custGeom>
            <a:avLst/>
            <a:gdLst/>
            <a:ahLst/>
            <a:rect l="l" t="t" r="r" b="b"/>
            <a:pathLst>
              <a:path w="3829" h="3832">
                <a:moveTo>
                  <a:pt x="0" y="3832"/>
                </a:moveTo>
                <a:lnTo>
                  <a:pt x="2626" y="1204"/>
                </a:lnTo>
                <a:lnTo>
                  <a:pt x="382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Freeform 64"/>
          <p:cNvSpPr/>
          <p:nvPr/>
        </p:nvSpPr>
        <p:spPr>
          <a:xfrm>
            <a:off x="4700520" y="5249880"/>
            <a:ext cx="930240" cy="931680"/>
          </a:xfrm>
          <a:custGeom>
            <a:avLst/>
            <a:gdLst/>
            <a:ahLst/>
            <a:rect l="l" t="t" r="r" b="b"/>
            <a:pathLst>
              <a:path w="4103" h="4105">
                <a:moveTo>
                  <a:pt x="0" y="4105"/>
                </a:moveTo>
                <a:lnTo>
                  <a:pt x="3118" y="987"/>
                </a:lnTo>
                <a:lnTo>
                  <a:pt x="410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Freeform 65"/>
          <p:cNvSpPr/>
          <p:nvPr/>
        </p:nvSpPr>
        <p:spPr>
          <a:xfrm>
            <a:off x="4732200" y="5303880"/>
            <a:ext cx="992160" cy="993600"/>
          </a:xfrm>
          <a:custGeom>
            <a:avLst/>
            <a:gdLst/>
            <a:ahLst/>
            <a:rect l="l" t="t" r="r" b="b"/>
            <a:pathLst>
              <a:path w="4375" h="4379">
                <a:moveTo>
                  <a:pt x="0" y="4379"/>
                </a:moveTo>
                <a:lnTo>
                  <a:pt x="3608" y="767"/>
                </a:lnTo>
                <a:lnTo>
                  <a:pt x="437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Freeform 66"/>
          <p:cNvSpPr/>
          <p:nvPr/>
        </p:nvSpPr>
        <p:spPr>
          <a:xfrm>
            <a:off x="5079960" y="5359320"/>
            <a:ext cx="739800" cy="739800"/>
          </a:xfrm>
          <a:custGeom>
            <a:avLst/>
            <a:gdLst/>
            <a:ahLst/>
            <a:rect l="l" t="t" r="r" b="b"/>
            <a:pathLst>
              <a:path w="3265" h="3268">
                <a:moveTo>
                  <a:pt x="0" y="3268"/>
                </a:moveTo>
                <a:lnTo>
                  <a:pt x="2716" y="550"/>
                </a:lnTo>
                <a:lnTo>
                  <a:pt x="326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Freeform 67"/>
          <p:cNvSpPr/>
          <p:nvPr/>
        </p:nvSpPr>
        <p:spPr>
          <a:xfrm>
            <a:off x="5467320" y="5413320"/>
            <a:ext cx="447840" cy="446040"/>
          </a:xfrm>
          <a:custGeom>
            <a:avLst/>
            <a:gdLst/>
            <a:ahLst/>
            <a:rect l="l" t="t" r="r" b="b"/>
            <a:pathLst>
              <a:path w="1969" h="1969">
                <a:moveTo>
                  <a:pt x="0" y="1969"/>
                </a:moveTo>
                <a:lnTo>
                  <a:pt x="1637" y="331"/>
                </a:lnTo>
                <a:lnTo>
                  <a:pt x="196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Freeform 68"/>
          <p:cNvSpPr/>
          <p:nvPr/>
        </p:nvSpPr>
        <p:spPr>
          <a:xfrm>
            <a:off x="5857920" y="5467320"/>
            <a:ext cx="150840" cy="152280"/>
          </a:xfrm>
          <a:custGeom>
            <a:avLst/>
            <a:gdLst/>
            <a:ahLst/>
            <a:rect l="l" t="t" r="r" b="b"/>
            <a:pathLst>
              <a:path w="670" h="670">
                <a:moveTo>
                  <a:pt x="0" y="670"/>
                </a:moveTo>
                <a:lnTo>
                  <a:pt x="558" y="113"/>
                </a:lnTo>
                <a:lnTo>
                  <a:pt x="67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Text Box 69"/>
          <p:cNvSpPr/>
          <p:nvPr/>
        </p:nvSpPr>
        <p:spPr>
          <a:xfrm>
            <a:off x="1508040" y="39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Oval 70"/>
          <p:cNvSpPr/>
          <p:nvPr/>
        </p:nvSpPr>
        <p:spPr>
          <a:xfrm>
            <a:off x="1979640" y="425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 Box 71"/>
          <p:cNvSpPr/>
          <p:nvPr/>
        </p:nvSpPr>
        <p:spPr>
          <a:xfrm>
            <a:off x="5459400" y="25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Object 72"/>
              <p:cNvSpPr txBox="1"/>
              <p:nvPr/>
            </p:nvSpPr>
            <p:spPr>
              <a:xfrm>
                <a:off x="5808600" y="230832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2" name="Text Box 73"/>
          <p:cNvSpPr/>
          <p:nvPr/>
        </p:nvSpPr>
        <p:spPr>
          <a:xfrm>
            <a:off x="6434280" y="2530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Text Box 74"/>
          <p:cNvSpPr/>
          <p:nvPr/>
        </p:nvSpPr>
        <p:spPr>
          <a:xfrm>
            <a:off x="75312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 Box 75"/>
          <p:cNvSpPr/>
          <p:nvPr/>
        </p:nvSpPr>
        <p:spPr>
          <a:xfrm>
            <a:off x="801540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 Box 76"/>
          <p:cNvSpPr/>
          <p:nvPr/>
        </p:nvSpPr>
        <p:spPr>
          <a:xfrm>
            <a:off x="7048440" y="298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 Box 77"/>
          <p:cNvSpPr/>
          <p:nvPr/>
        </p:nvSpPr>
        <p:spPr>
          <a:xfrm>
            <a:off x="1720800" y="417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Text Box 78"/>
          <p:cNvSpPr/>
          <p:nvPr/>
        </p:nvSpPr>
        <p:spPr>
          <a:xfrm>
            <a:off x="5487840" y="3035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8" name="Object 79"/>
              <p:cNvSpPr txBox="1"/>
              <p:nvPr/>
            </p:nvSpPr>
            <p:spPr>
              <a:xfrm>
                <a:off x="5645160" y="1890720"/>
                <a:ext cx="3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9" name="Text Box 80"/>
          <p:cNvSpPr/>
          <p:nvPr/>
        </p:nvSpPr>
        <p:spPr>
          <a:xfrm>
            <a:off x="2865240" y="232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val 81"/>
          <p:cNvSpPr/>
          <p:nvPr/>
        </p:nvSpPr>
        <p:spPr>
          <a:xfrm>
            <a:off x="27320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Text Box 82"/>
          <p:cNvSpPr/>
          <p:nvPr/>
        </p:nvSpPr>
        <p:spPr>
          <a:xfrm>
            <a:off x="3078000" y="251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83"/>
          <p:cNvSpPr/>
          <p:nvPr/>
        </p:nvSpPr>
        <p:spPr>
          <a:xfrm>
            <a:off x="1489320" y="117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84"/>
          <p:cNvSpPr/>
          <p:nvPr/>
        </p:nvSpPr>
        <p:spPr>
          <a:xfrm>
            <a:off x="1355760" y="1434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85"/>
          <p:cNvSpPr/>
          <p:nvPr/>
        </p:nvSpPr>
        <p:spPr>
          <a:xfrm>
            <a:off x="1701720" y="135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86"/>
          <p:cNvSpPr/>
          <p:nvPr/>
        </p:nvSpPr>
        <p:spPr>
          <a:xfrm>
            <a:off x="1989000" y="155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val 87"/>
          <p:cNvSpPr/>
          <p:nvPr/>
        </p:nvSpPr>
        <p:spPr>
          <a:xfrm>
            <a:off x="199404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88"/>
          <p:cNvSpPr/>
          <p:nvPr/>
        </p:nvSpPr>
        <p:spPr>
          <a:xfrm>
            <a:off x="2201760" y="17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89"/>
          <p:cNvSpPr/>
          <p:nvPr/>
        </p:nvSpPr>
        <p:spPr>
          <a:xfrm>
            <a:off x="2827080" y="34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Oval 90"/>
          <p:cNvSpPr/>
          <p:nvPr/>
        </p:nvSpPr>
        <p:spPr>
          <a:xfrm>
            <a:off x="2732040" y="38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91"/>
          <p:cNvSpPr/>
          <p:nvPr/>
        </p:nvSpPr>
        <p:spPr>
          <a:xfrm>
            <a:off x="3039840" y="36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92"/>
          <p:cNvSpPr/>
          <p:nvPr/>
        </p:nvSpPr>
        <p:spPr>
          <a:xfrm>
            <a:off x="327240" y="318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Oval 93"/>
          <p:cNvSpPr/>
          <p:nvPr/>
        </p:nvSpPr>
        <p:spPr>
          <a:xfrm>
            <a:off x="789120" y="3240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94"/>
          <p:cNvSpPr/>
          <p:nvPr/>
        </p:nvSpPr>
        <p:spPr>
          <a:xfrm>
            <a:off x="539640" y="337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95"/>
          <p:cNvSpPr/>
          <p:nvPr/>
        </p:nvSpPr>
        <p:spPr>
          <a:xfrm rot="16200000">
            <a:off x="3505680" y="38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96"/>
          <p:cNvSpPr/>
          <p:nvPr/>
        </p:nvSpPr>
        <p:spPr>
          <a:xfrm rot="16393800">
            <a:off x="3613680" y="374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97"/>
          <p:cNvSpPr/>
          <p:nvPr/>
        </p:nvSpPr>
        <p:spPr>
          <a:xfrm>
            <a:off x="2566800" y="166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98"/>
          <p:cNvSpPr/>
          <p:nvPr/>
        </p:nvSpPr>
        <p:spPr>
          <a:xfrm>
            <a:off x="2747880" y="180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Oval 99"/>
          <p:cNvSpPr/>
          <p:nvPr/>
        </p:nvSpPr>
        <p:spPr>
          <a:xfrm>
            <a:off x="808200" y="1973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100"/>
          <p:cNvSpPr/>
          <p:nvPr/>
        </p:nvSpPr>
        <p:spPr>
          <a:xfrm>
            <a:off x="417960" y="151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101"/>
          <p:cNvSpPr/>
          <p:nvPr/>
        </p:nvSpPr>
        <p:spPr>
          <a:xfrm>
            <a:off x="630000" y="169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02"/>
          <p:cNvSpPr/>
          <p:nvPr/>
        </p:nvSpPr>
        <p:spPr>
          <a:xfrm rot="2355600">
            <a:off x="2215440" y="4165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Oval 103"/>
          <p:cNvSpPr/>
          <p:nvPr/>
        </p:nvSpPr>
        <p:spPr>
          <a:xfrm>
            <a:off x="3274920" y="435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04"/>
          <p:cNvSpPr/>
          <p:nvPr/>
        </p:nvSpPr>
        <p:spPr>
          <a:xfrm rot="2353800">
            <a:off x="2320200" y="439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105"/>
          <p:cNvSpPr/>
          <p:nvPr/>
        </p:nvSpPr>
        <p:spPr>
          <a:xfrm>
            <a:off x="4032000" y="399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106"/>
          <p:cNvSpPr/>
          <p:nvPr/>
        </p:nvSpPr>
        <p:spPr>
          <a:xfrm>
            <a:off x="4268520" y="41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Oval 107"/>
          <p:cNvSpPr/>
          <p:nvPr/>
        </p:nvSpPr>
        <p:spPr>
          <a:xfrm>
            <a:off x="1336680" y="45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108"/>
          <p:cNvSpPr/>
          <p:nvPr/>
        </p:nvSpPr>
        <p:spPr>
          <a:xfrm>
            <a:off x="856080" y="44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 Box 109"/>
          <p:cNvSpPr/>
          <p:nvPr/>
        </p:nvSpPr>
        <p:spPr>
          <a:xfrm>
            <a:off x="1068120" y="466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Oval 110"/>
          <p:cNvSpPr/>
          <p:nvPr/>
        </p:nvSpPr>
        <p:spPr>
          <a:xfrm>
            <a:off x="416088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111"/>
          <p:cNvSpPr/>
          <p:nvPr/>
        </p:nvSpPr>
        <p:spPr>
          <a:xfrm>
            <a:off x="3379680" y="440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112"/>
          <p:cNvSpPr/>
          <p:nvPr/>
        </p:nvSpPr>
        <p:spPr>
          <a:xfrm>
            <a:off x="3592440" y="45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Oval 113"/>
          <p:cNvSpPr/>
          <p:nvPr/>
        </p:nvSpPr>
        <p:spPr>
          <a:xfrm>
            <a:off x="3246480" y="5340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114"/>
          <p:cNvSpPr/>
          <p:nvPr/>
        </p:nvSpPr>
        <p:spPr>
          <a:xfrm>
            <a:off x="2855880" y="44942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115"/>
          <p:cNvSpPr/>
          <p:nvPr/>
        </p:nvSpPr>
        <p:spPr>
          <a:xfrm>
            <a:off x="2977920" y="542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116"/>
          <p:cNvSpPr/>
          <p:nvPr/>
        </p:nvSpPr>
        <p:spPr>
          <a:xfrm>
            <a:off x="2765880" y="524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7"/>
          <p:cNvSpPr/>
          <p:nvPr/>
        </p:nvSpPr>
        <p:spPr>
          <a:xfrm>
            <a:off x="2703960" y="61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18"/>
          <p:cNvSpPr/>
          <p:nvPr/>
        </p:nvSpPr>
        <p:spPr>
          <a:xfrm>
            <a:off x="2916000" y="633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Oval 119"/>
          <p:cNvSpPr/>
          <p:nvPr/>
        </p:nvSpPr>
        <p:spPr>
          <a:xfrm>
            <a:off x="3222720" y="619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20"/>
          <p:cNvSpPr/>
          <p:nvPr/>
        </p:nvSpPr>
        <p:spPr>
          <a:xfrm>
            <a:off x="4404240" y="6275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21"/>
          <p:cNvSpPr/>
          <p:nvPr/>
        </p:nvSpPr>
        <p:spPr>
          <a:xfrm>
            <a:off x="4616280" y="646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Oval 122"/>
          <p:cNvSpPr/>
          <p:nvPr/>
        </p:nvSpPr>
        <p:spPr>
          <a:xfrm>
            <a:off x="4675320" y="6259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23"/>
          <p:cNvSpPr/>
          <p:nvPr/>
        </p:nvSpPr>
        <p:spPr>
          <a:xfrm>
            <a:off x="6234120" y="596412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24"/>
          <p:cNvSpPr/>
          <p:nvPr/>
        </p:nvSpPr>
        <p:spPr>
          <a:xfrm>
            <a:off x="6297480" y="547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Oval 125"/>
          <p:cNvSpPr/>
          <p:nvPr/>
        </p:nvSpPr>
        <p:spPr>
          <a:xfrm>
            <a:off x="5979960" y="5440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26"/>
          <p:cNvSpPr/>
          <p:nvPr/>
        </p:nvSpPr>
        <p:spPr>
          <a:xfrm>
            <a:off x="166320" y="2643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27"/>
          <p:cNvSpPr/>
          <p:nvPr/>
        </p:nvSpPr>
        <p:spPr>
          <a:xfrm>
            <a:off x="314280" y="2786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28"/>
          <p:cNvSpPr/>
          <p:nvPr/>
        </p:nvSpPr>
        <p:spPr>
          <a:xfrm rot="18532200">
            <a:off x="1476720" y="528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29"/>
          <p:cNvSpPr/>
          <p:nvPr/>
        </p:nvSpPr>
        <p:spPr>
          <a:xfrm rot="18526200">
            <a:off x="1641960" y="5309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31"/>
          <p:cNvSpPr/>
          <p:nvPr/>
        </p:nvSpPr>
        <p:spPr>
          <a:xfrm>
            <a:off x="5041800" y="5616720"/>
            <a:ext cx="1149480" cy="74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133"/>
          <p:cNvSpPr/>
          <p:nvPr/>
        </p:nvSpPr>
        <p:spPr>
          <a:xfrm>
            <a:off x="6191280" y="6361200"/>
            <a:ext cx="142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34"/>
          <p:cNvSpPr/>
          <p:nvPr/>
        </p:nvSpPr>
        <p:spPr>
          <a:xfrm>
            <a:off x="6059880" y="5294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E1E-E391-4D84-B173-00629FAFE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5"/>
          <p:cNvSpPr/>
          <p:nvPr/>
        </p:nvSpPr>
        <p:spPr>
          <a:xfrm>
            <a:off x="169920" y="1793880"/>
            <a:ext cx="881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метода заключается в перемеще-нии заданных объектов параллельно одной из плоскостей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щение называется параллель-ным плоскости, если расстояния точек объ-екта до этой плоскости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B36-9D32-4744-B576-A89ADEA50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5"/>
          <p:cNvSpPr/>
          <p:nvPr/>
        </p:nvSpPr>
        <p:spPr>
          <a:xfrm>
            <a:off x="64134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8"/>
          <p:cNvSpPr/>
          <p:nvPr/>
        </p:nvSpPr>
        <p:spPr>
          <a:xfrm>
            <a:off x="650520" y="35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798480" y="3713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10"/>
          <p:cNvSpPr/>
          <p:nvPr/>
        </p:nvSpPr>
        <p:spPr>
          <a:xfrm>
            <a:off x="639720" y="400212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1"/>
          <p:cNvSpPr/>
          <p:nvPr/>
        </p:nvSpPr>
        <p:spPr>
          <a:xfrm>
            <a:off x="2008080" y="2214720"/>
            <a:ext cx="1800" cy="30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6"/>
          <p:cNvSpPr/>
          <p:nvPr/>
        </p:nvSpPr>
        <p:spPr>
          <a:xfrm>
            <a:off x="1505160" y="2108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7"/>
          <p:cNvSpPr/>
          <p:nvPr/>
        </p:nvSpPr>
        <p:spPr>
          <a:xfrm>
            <a:off x="1717560" y="229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Oval 18"/>
          <p:cNvSpPr/>
          <p:nvPr/>
        </p:nvSpPr>
        <p:spPr>
          <a:xfrm>
            <a:off x="1962000" y="2158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24"/>
          <p:cNvSpPr/>
          <p:nvPr/>
        </p:nvSpPr>
        <p:spPr>
          <a:xfrm>
            <a:off x="1486080" y="513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25"/>
          <p:cNvSpPr/>
          <p:nvPr/>
        </p:nvSpPr>
        <p:spPr>
          <a:xfrm>
            <a:off x="1698480" y="531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val 26"/>
          <p:cNvSpPr/>
          <p:nvPr/>
        </p:nvSpPr>
        <p:spPr>
          <a:xfrm>
            <a:off x="1943280" y="5183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7680-38BD-4114-BC5B-4EF8CDB91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5"/>
          <p:cNvSpPr/>
          <p:nvPr/>
        </p:nvSpPr>
        <p:spPr>
          <a:xfrm>
            <a:off x="64134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6"/>
          <p:cNvSpPr/>
          <p:nvPr/>
        </p:nvSpPr>
        <p:spPr>
          <a:xfrm>
            <a:off x="650520" y="35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7"/>
          <p:cNvSpPr/>
          <p:nvPr/>
        </p:nvSpPr>
        <p:spPr>
          <a:xfrm>
            <a:off x="798480" y="3713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8"/>
          <p:cNvSpPr/>
          <p:nvPr/>
        </p:nvSpPr>
        <p:spPr>
          <a:xfrm>
            <a:off x="639720" y="400212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Line 9"/>
          <p:cNvSpPr/>
          <p:nvPr/>
        </p:nvSpPr>
        <p:spPr>
          <a:xfrm>
            <a:off x="2008080" y="2214720"/>
            <a:ext cx="1800" cy="30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0"/>
          <p:cNvSpPr/>
          <p:nvPr/>
        </p:nvSpPr>
        <p:spPr>
          <a:xfrm>
            <a:off x="1505160" y="2108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1"/>
          <p:cNvSpPr/>
          <p:nvPr/>
        </p:nvSpPr>
        <p:spPr>
          <a:xfrm>
            <a:off x="1717560" y="229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val 12"/>
          <p:cNvSpPr/>
          <p:nvPr/>
        </p:nvSpPr>
        <p:spPr>
          <a:xfrm>
            <a:off x="1962000" y="2158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Text Box 13"/>
          <p:cNvSpPr/>
          <p:nvPr/>
        </p:nvSpPr>
        <p:spPr>
          <a:xfrm>
            <a:off x="1486080" y="513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14"/>
          <p:cNvSpPr/>
          <p:nvPr/>
        </p:nvSpPr>
        <p:spPr>
          <a:xfrm>
            <a:off x="1698480" y="531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16"/>
          <p:cNvSpPr/>
          <p:nvPr/>
        </p:nvSpPr>
        <p:spPr>
          <a:xfrm>
            <a:off x="2008080" y="4773600"/>
            <a:ext cx="5273640" cy="1123920"/>
          </a:xfrm>
          <a:custGeom>
            <a:avLst/>
            <a:gdLst/>
            <a:ahLst/>
            <a:rect l="l" t="t" r="r" b="b"/>
            <a:pathLst>
              <a:path w="23255" h="4955">
                <a:moveTo>
                  <a:pt x="0" y="2139"/>
                </a:moveTo>
                <a:lnTo>
                  <a:pt x="395" y="2554"/>
                </a:lnTo>
                <a:lnTo>
                  <a:pt x="789" y="2959"/>
                </a:lnTo>
                <a:lnTo>
                  <a:pt x="986" y="3157"/>
                </a:lnTo>
                <a:lnTo>
                  <a:pt x="1181" y="3349"/>
                </a:lnTo>
                <a:lnTo>
                  <a:pt x="1376" y="3535"/>
                </a:lnTo>
                <a:lnTo>
                  <a:pt x="1570" y="3715"/>
                </a:lnTo>
                <a:lnTo>
                  <a:pt x="1762" y="3886"/>
                </a:lnTo>
                <a:lnTo>
                  <a:pt x="1953" y="4048"/>
                </a:lnTo>
                <a:lnTo>
                  <a:pt x="2143" y="4201"/>
                </a:lnTo>
                <a:lnTo>
                  <a:pt x="2330" y="4342"/>
                </a:lnTo>
                <a:lnTo>
                  <a:pt x="2517" y="4471"/>
                </a:lnTo>
                <a:lnTo>
                  <a:pt x="2700" y="4587"/>
                </a:lnTo>
                <a:lnTo>
                  <a:pt x="2882" y="4689"/>
                </a:lnTo>
                <a:lnTo>
                  <a:pt x="3062" y="4776"/>
                </a:lnTo>
                <a:lnTo>
                  <a:pt x="3238" y="4847"/>
                </a:lnTo>
                <a:lnTo>
                  <a:pt x="3326" y="4876"/>
                </a:lnTo>
                <a:lnTo>
                  <a:pt x="3413" y="4901"/>
                </a:lnTo>
                <a:lnTo>
                  <a:pt x="3500" y="4921"/>
                </a:lnTo>
                <a:lnTo>
                  <a:pt x="3585" y="4936"/>
                </a:lnTo>
                <a:lnTo>
                  <a:pt x="3670" y="4948"/>
                </a:lnTo>
                <a:lnTo>
                  <a:pt x="3754" y="4953"/>
                </a:lnTo>
                <a:lnTo>
                  <a:pt x="3837" y="4955"/>
                </a:lnTo>
                <a:lnTo>
                  <a:pt x="3920" y="4950"/>
                </a:lnTo>
                <a:lnTo>
                  <a:pt x="4002" y="4941"/>
                </a:lnTo>
                <a:lnTo>
                  <a:pt x="4082" y="4927"/>
                </a:lnTo>
                <a:lnTo>
                  <a:pt x="4162" y="4906"/>
                </a:lnTo>
                <a:lnTo>
                  <a:pt x="4242" y="4879"/>
                </a:lnTo>
                <a:lnTo>
                  <a:pt x="4319" y="4848"/>
                </a:lnTo>
                <a:lnTo>
                  <a:pt x="4397" y="4810"/>
                </a:lnTo>
                <a:lnTo>
                  <a:pt x="4473" y="4767"/>
                </a:lnTo>
                <a:lnTo>
                  <a:pt x="4550" y="4719"/>
                </a:lnTo>
                <a:lnTo>
                  <a:pt x="4624" y="4666"/>
                </a:lnTo>
                <a:lnTo>
                  <a:pt x="4698" y="4608"/>
                </a:lnTo>
                <a:lnTo>
                  <a:pt x="4773" y="4544"/>
                </a:lnTo>
                <a:lnTo>
                  <a:pt x="4845" y="4477"/>
                </a:lnTo>
                <a:lnTo>
                  <a:pt x="4989" y="4330"/>
                </a:lnTo>
                <a:lnTo>
                  <a:pt x="5130" y="4167"/>
                </a:lnTo>
                <a:lnTo>
                  <a:pt x="5269" y="3991"/>
                </a:lnTo>
                <a:lnTo>
                  <a:pt x="5406" y="3802"/>
                </a:lnTo>
                <a:lnTo>
                  <a:pt x="5542" y="3604"/>
                </a:lnTo>
                <a:lnTo>
                  <a:pt x="5676" y="3396"/>
                </a:lnTo>
                <a:lnTo>
                  <a:pt x="5809" y="3183"/>
                </a:lnTo>
                <a:lnTo>
                  <a:pt x="6072" y="2740"/>
                </a:lnTo>
                <a:lnTo>
                  <a:pt x="6332" y="2291"/>
                </a:lnTo>
                <a:lnTo>
                  <a:pt x="6593" y="1848"/>
                </a:lnTo>
                <a:lnTo>
                  <a:pt x="6723" y="1633"/>
                </a:lnTo>
                <a:lnTo>
                  <a:pt x="6854" y="1424"/>
                </a:lnTo>
                <a:lnTo>
                  <a:pt x="6987" y="1224"/>
                </a:lnTo>
                <a:lnTo>
                  <a:pt x="7120" y="1033"/>
                </a:lnTo>
                <a:lnTo>
                  <a:pt x="7255" y="856"/>
                </a:lnTo>
                <a:lnTo>
                  <a:pt x="7392" y="690"/>
                </a:lnTo>
                <a:lnTo>
                  <a:pt x="7530" y="539"/>
                </a:lnTo>
                <a:lnTo>
                  <a:pt x="7600" y="470"/>
                </a:lnTo>
                <a:lnTo>
                  <a:pt x="7670" y="406"/>
                </a:lnTo>
                <a:lnTo>
                  <a:pt x="7741" y="346"/>
                </a:lnTo>
                <a:lnTo>
                  <a:pt x="7813" y="290"/>
                </a:lnTo>
                <a:lnTo>
                  <a:pt x="7885" y="241"/>
                </a:lnTo>
                <a:lnTo>
                  <a:pt x="7957" y="196"/>
                </a:lnTo>
                <a:lnTo>
                  <a:pt x="8032" y="156"/>
                </a:lnTo>
                <a:lnTo>
                  <a:pt x="8106" y="122"/>
                </a:lnTo>
                <a:lnTo>
                  <a:pt x="8181" y="94"/>
                </a:lnTo>
                <a:lnTo>
                  <a:pt x="8257" y="72"/>
                </a:lnTo>
                <a:lnTo>
                  <a:pt x="8333" y="56"/>
                </a:lnTo>
                <a:lnTo>
                  <a:pt x="8411" y="45"/>
                </a:lnTo>
                <a:lnTo>
                  <a:pt x="8489" y="41"/>
                </a:lnTo>
                <a:lnTo>
                  <a:pt x="8568" y="41"/>
                </a:lnTo>
                <a:lnTo>
                  <a:pt x="8648" y="47"/>
                </a:lnTo>
                <a:lnTo>
                  <a:pt x="8728" y="58"/>
                </a:lnTo>
                <a:lnTo>
                  <a:pt x="8809" y="73"/>
                </a:lnTo>
                <a:lnTo>
                  <a:pt x="8891" y="93"/>
                </a:lnTo>
                <a:lnTo>
                  <a:pt x="8973" y="118"/>
                </a:lnTo>
                <a:lnTo>
                  <a:pt x="9056" y="148"/>
                </a:lnTo>
                <a:lnTo>
                  <a:pt x="9224" y="219"/>
                </a:lnTo>
                <a:lnTo>
                  <a:pt x="9395" y="307"/>
                </a:lnTo>
                <a:lnTo>
                  <a:pt x="9567" y="409"/>
                </a:lnTo>
                <a:lnTo>
                  <a:pt x="9743" y="524"/>
                </a:lnTo>
                <a:lnTo>
                  <a:pt x="9920" y="651"/>
                </a:lnTo>
                <a:lnTo>
                  <a:pt x="10099" y="789"/>
                </a:lnTo>
                <a:lnTo>
                  <a:pt x="10281" y="937"/>
                </a:lnTo>
                <a:lnTo>
                  <a:pt x="10464" y="1092"/>
                </a:lnTo>
                <a:lnTo>
                  <a:pt x="10650" y="1254"/>
                </a:lnTo>
                <a:lnTo>
                  <a:pt x="10837" y="1422"/>
                </a:lnTo>
                <a:lnTo>
                  <a:pt x="11025" y="1595"/>
                </a:lnTo>
                <a:lnTo>
                  <a:pt x="11407" y="1947"/>
                </a:lnTo>
                <a:lnTo>
                  <a:pt x="11793" y="2300"/>
                </a:lnTo>
                <a:lnTo>
                  <a:pt x="12184" y="2646"/>
                </a:lnTo>
                <a:lnTo>
                  <a:pt x="12381" y="2813"/>
                </a:lnTo>
                <a:lnTo>
                  <a:pt x="12579" y="2973"/>
                </a:lnTo>
                <a:lnTo>
                  <a:pt x="12778" y="3126"/>
                </a:lnTo>
                <a:lnTo>
                  <a:pt x="12977" y="3271"/>
                </a:lnTo>
                <a:lnTo>
                  <a:pt x="13177" y="3406"/>
                </a:lnTo>
                <a:lnTo>
                  <a:pt x="13376" y="3530"/>
                </a:lnTo>
                <a:lnTo>
                  <a:pt x="13578" y="3642"/>
                </a:lnTo>
                <a:lnTo>
                  <a:pt x="13778" y="3742"/>
                </a:lnTo>
                <a:lnTo>
                  <a:pt x="13979" y="3831"/>
                </a:lnTo>
                <a:lnTo>
                  <a:pt x="14181" y="3909"/>
                </a:lnTo>
                <a:lnTo>
                  <a:pt x="14382" y="3976"/>
                </a:lnTo>
                <a:lnTo>
                  <a:pt x="14585" y="4032"/>
                </a:lnTo>
                <a:lnTo>
                  <a:pt x="14787" y="4077"/>
                </a:lnTo>
                <a:lnTo>
                  <a:pt x="14990" y="4112"/>
                </a:lnTo>
                <a:lnTo>
                  <a:pt x="15192" y="4137"/>
                </a:lnTo>
                <a:lnTo>
                  <a:pt x="15396" y="4153"/>
                </a:lnTo>
                <a:lnTo>
                  <a:pt x="15599" y="4160"/>
                </a:lnTo>
                <a:lnTo>
                  <a:pt x="15803" y="4157"/>
                </a:lnTo>
                <a:lnTo>
                  <a:pt x="16007" y="4144"/>
                </a:lnTo>
                <a:lnTo>
                  <a:pt x="16211" y="4123"/>
                </a:lnTo>
                <a:lnTo>
                  <a:pt x="16415" y="4094"/>
                </a:lnTo>
                <a:lnTo>
                  <a:pt x="16620" y="4056"/>
                </a:lnTo>
                <a:lnTo>
                  <a:pt x="16826" y="4011"/>
                </a:lnTo>
                <a:lnTo>
                  <a:pt x="17030" y="3957"/>
                </a:lnTo>
                <a:lnTo>
                  <a:pt x="17236" y="3897"/>
                </a:lnTo>
                <a:lnTo>
                  <a:pt x="17442" y="3828"/>
                </a:lnTo>
                <a:lnTo>
                  <a:pt x="17647" y="3754"/>
                </a:lnTo>
                <a:lnTo>
                  <a:pt x="17853" y="3672"/>
                </a:lnTo>
                <a:lnTo>
                  <a:pt x="18060" y="3584"/>
                </a:lnTo>
                <a:lnTo>
                  <a:pt x="18267" y="3489"/>
                </a:lnTo>
                <a:lnTo>
                  <a:pt x="18472" y="3389"/>
                </a:lnTo>
                <a:lnTo>
                  <a:pt x="18679" y="3282"/>
                </a:lnTo>
                <a:lnTo>
                  <a:pt x="18887" y="3171"/>
                </a:lnTo>
                <a:lnTo>
                  <a:pt x="19094" y="3054"/>
                </a:lnTo>
                <a:lnTo>
                  <a:pt x="19300" y="2932"/>
                </a:lnTo>
                <a:lnTo>
                  <a:pt x="19508" y="2805"/>
                </a:lnTo>
                <a:lnTo>
                  <a:pt x="19715" y="2674"/>
                </a:lnTo>
                <a:lnTo>
                  <a:pt x="19923" y="2539"/>
                </a:lnTo>
                <a:lnTo>
                  <a:pt x="20339" y="2256"/>
                </a:lnTo>
                <a:lnTo>
                  <a:pt x="20754" y="1960"/>
                </a:lnTo>
                <a:lnTo>
                  <a:pt x="21171" y="1652"/>
                </a:lnTo>
                <a:lnTo>
                  <a:pt x="21587" y="1333"/>
                </a:lnTo>
                <a:lnTo>
                  <a:pt x="22004" y="1007"/>
                </a:lnTo>
                <a:lnTo>
                  <a:pt x="22421" y="674"/>
                </a:lnTo>
                <a:lnTo>
                  <a:pt x="2325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17"/>
          <p:cNvSpPr/>
          <p:nvPr/>
        </p:nvSpPr>
        <p:spPr>
          <a:xfrm>
            <a:off x="7342920" y="4527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18"/>
          <p:cNvSpPr/>
          <p:nvPr/>
        </p:nvSpPr>
        <p:spPr>
          <a:xfrm>
            <a:off x="7554600" y="471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Oval 19"/>
          <p:cNvSpPr/>
          <p:nvPr/>
        </p:nvSpPr>
        <p:spPr>
          <a:xfrm>
            <a:off x="7218360" y="4708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Oval 20"/>
          <p:cNvSpPr/>
          <p:nvPr/>
        </p:nvSpPr>
        <p:spPr>
          <a:xfrm>
            <a:off x="1943280" y="5183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ADC-ECDF-4F8C-B331-32FB13D59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64134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0520" y="35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Text Box 7"/>
          <p:cNvSpPr/>
          <p:nvPr/>
        </p:nvSpPr>
        <p:spPr>
          <a:xfrm>
            <a:off x="798480" y="3713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8"/>
          <p:cNvSpPr/>
          <p:nvPr/>
        </p:nvSpPr>
        <p:spPr>
          <a:xfrm>
            <a:off x="639720" y="400212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9"/>
          <p:cNvSpPr/>
          <p:nvPr/>
        </p:nvSpPr>
        <p:spPr>
          <a:xfrm>
            <a:off x="2008080" y="2214720"/>
            <a:ext cx="1800" cy="30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 Box 10"/>
          <p:cNvSpPr/>
          <p:nvPr/>
        </p:nvSpPr>
        <p:spPr>
          <a:xfrm>
            <a:off x="1505160" y="2108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11"/>
          <p:cNvSpPr/>
          <p:nvPr/>
        </p:nvSpPr>
        <p:spPr>
          <a:xfrm>
            <a:off x="1717560" y="229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13"/>
          <p:cNvSpPr/>
          <p:nvPr/>
        </p:nvSpPr>
        <p:spPr>
          <a:xfrm>
            <a:off x="1486080" y="513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14"/>
          <p:cNvSpPr/>
          <p:nvPr/>
        </p:nvSpPr>
        <p:spPr>
          <a:xfrm>
            <a:off x="1698480" y="531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15"/>
          <p:cNvSpPr/>
          <p:nvPr/>
        </p:nvSpPr>
        <p:spPr>
          <a:xfrm>
            <a:off x="2008080" y="4773600"/>
            <a:ext cx="5273640" cy="1123920"/>
          </a:xfrm>
          <a:custGeom>
            <a:avLst/>
            <a:gdLst/>
            <a:ahLst/>
            <a:rect l="l" t="t" r="r" b="b"/>
            <a:pathLst>
              <a:path w="23255" h="4955">
                <a:moveTo>
                  <a:pt x="0" y="2139"/>
                </a:moveTo>
                <a:lnTo>
                  <a:pt x="395" y="2554"/>
                </a:lnTo>
                <a:lnTo>
                  <a:pt x="789" y="2959"/>
                </a:lnTo>
                <a:lnTo>
                  <a:pt x="986" y="3157"/>
                </a:lnTo>
                <a:lnTo>
                  <a:pt x="1181" y="3349"/>
                </a:lnTo>
                <a:lnTo>
                  <a:pt x="1376" y="3535"/>
                </a:lnTo>
                <a:lnTo>
                  <a:pt x="1570" y="3715"/>
                </a:lnTo>
                <a:lnTo>
                  <a:pt x="1762" y="3886"/>
                </a:lnTo>
                <a:lnTo>
                  <a:pt x="1953" y="4048"/>
                </a:lnTo>
                <a:lnTo>
                  <a:pt x="2143" y="4201"/>
                </a:lnTo>
                <a:lnTo>
                  <a:pt x="2330" y="4342"/>
                </a:lnTo>
                <a:lnTo>
                  <a:pt x="2517" y="4471"/>
                </a:lnTo>
                <a:lnTo>
                  <a:pt x="2700" y="4587"/>
                </a:lnTo>
                <a:lnTo>
                  <a:pt x="2882" y="4689"/>
                </a:lnTo>
                <a:lnTo>
                  <a:pt x="3062" y="4776"/>
                </a:lnTo>
                <a:lnTo>
                  <a:pt x="3238" y="4847"/>
                </a:lnTo>
                <a:lnTo>
                  <a:pt x="3326" y="4876"/>
                </a:lnTo>
                <a:lnTo>
                  <a:pt x="3413" y="4901"/>
                </a:lnTo>
                <a:lnTo>
                  <a:pt x="3500" y="4921"/>
                </a:lnTo>
                <a:lnTo>
                  <a:pt x="3585" y="4936"/>
                </a:lnTo>
                <a:lnTo>
                  <a:pt x="3670" y="4948"/>
                </a:lnTo>
                <a:lnTo>
                  <a:pt x="3754" y="4953"/>
                </a:lnTo>
                <a:lnTo>
                  <a:pt x="3837" y="4955"/>
                </a:lnTo>
                <a:lnTo>
                  <a:pt x="3920" y="4950"/>
                </a:lnTo>
                <a:lnTo>
                  <a:pt x="4002" y="4941"/>
                </a:lnTo>
                <a:lnTo>
                  <a:pt x="4082" y="4927"/>
                </a:lnTo>
                <a:lnTo>
                  <a:pt x="4162" y="4906"/>
                </a:lnTo>
                <a:lnTo>
                  <a:pt x="4242" y="4879"/>
                </a:lnTo>
                <a:lnTo>
                  <a:pt x="4319" y="4848"/>
                </a:lnTo>
                <a:lnTo>
                  <a:pt x="4397" y="4810"/>
                </a:lnTo>
                <a:lnTo>
                  <a:pt x="4473" y="4767"/>
                </a:lnTo>
                <a:lnTo>
                  <a:pt x="4550" y="4719"/>
                </a:lnTo>
                <a:lnTo>
                  <a:pt x="4624" y="4666"/>
                </a:lnTo>
                <a:lnTo>
                  <a:pt x="4698" y="4608"/>
                </a:lnTo>
                <a:lnTo>
                  <a:pt x="4773" y="4544"/>
                </a:lnTo>
                <a:lnTo>
                  <a:pt x="4845" y="4477"/>
                </a:lnTo>
                <a:lnTo>
                  <a:pt x="4989" y="4330"/>
                </a:lnTo>
                <a:lnTo>
                  <a:pt x="5130" y="4167"/>
                </a:lnTo>
                <a:lnTo>
                  <a:pt x="5269" y="3991"/>
                </a:lnTo>
                <a:lnTo>
                  <a:pt x="5406" y="3802"/>
                </a:lnTo>
                <a:lnTo>
                  <a:pt x="5542" y="3604"/>
                </a:lnTo>
                <a:lnTo>
                  <a:pt x="5676" y="3396"/>
                </a:lnTo>
                <a:lnTo>
                  <a:pt x="5809" y="3183"/>
                </a:lnTo>
                <a:lnTo>
                  <a:pt x="6072" y="2740"/>
                </a:lnTo>
                <a:lnTo>
                  <a:pt x="6332" y="2291"/>
                </a:lnTo>
                <a:lnTo>
                  <a:pt x="6593" y="1848"/>
                </a:lnTo>
                <a:lnTo>
                  <a:pt x="6723" y="1633"/>
                </a:lnTo>
                <a:lnTo>
                  <a:pt x="6854" y="1424"/>
                </a:lnTo>
                <a:lnTo>
                  <a:pt x="6987" y="1224"/>
                </a:lnTo>
                <a:lnTo>
                  <a:pt x="7120" y="1033"/>
                </a:lnTo>
                <a:lnTo>
                  <a:pt x="7255" y="856"/>
                </a:lnTo>
                <a:lnTo>
                  <a:pt x="7392" y="690"/>
                </a:lnTo>
                <a:lnTo>
                  <a:pt x="7530" y="539"/>
                </a:lnTo>
                <a:lnTo>
                  <a:pt x="7600" y="470"/>
                </a:lnTo>
                <a:lnTo>
                  <a:pt x="7670" y="406"/>
                </a:lnTo>
                <a:lnTo>
                  <a:pt x="7741" y="346"/>
                </a:lnTo>
                <a:lnTo>
                  <a:pt x="7813" y="290"/>
                </a:lnTo>
                <a:lnTo>
                  <a:pt x="7885" y="241"/>
                </a:lnTo>
                <a:lnTo>
                  <a:pt x="7957" y="196"/>
                </a:lnTo>
                <a:lnTo>
                  <a:pt x="8032" y="156"/>
                </a:lnTo>
                <a:lnTo>
                  <a:pt x="8106" y="122"/>
                </a:lnTo>
                <a:lnTo>
                  <a:pt x="8181" y="94"/>
                </a:lnTo>
                <a:lnTo>
                  <a:pt x="8257" y="72"/>
                </a:lnTo>
                <a:lnTo>
                  <a:pt x="8333" y="56"/>
                </a:lnTo>
                <a:lnTo>
                  <a:pt x="8411" y="45"/>
                </a:lnTo>
                <a:lnTo>
                  <a:pt x="8489" y="41"/>
                </a:lnTo>
                <a:lnTo>
                  <a:pt x="8568" y="41"/>
                </a:lnTo>
                <a:lnTo>
                  <a:pt x="8648" y="47"/>
                </a:lnTo>
                <a:lnTo>
                  <a:pt x="8728" y="58"/>
                </a:lnTo>
                <a:lnTo>
                  <a:pt x="8809" y="73"/>
                </a:lnTo>
                <a:lnTo>
                  <a:pt x="8891" y="93"/>
                </a:lnTo>
                <a:lnTo>
                  <a:pt x="8973" y="118"/>
                </a:lnTo>
                <a:lnTo>
                  <a:pt x="9056" y="148"/>
                </a:lnTo>
                <a:lnTo>
                  <a:pt x="9224" y="219"/>
                </a:lnTo>
                <a:lnTo>
                  <a:pt x="9395" y="307"/>
                </a:lnTo>
                <a:lnTo>
                  <a:pt x="9567" y="409"/>
                </a:lnTo>
                <a:lnTo>
                  <a:pt x="9743" y="524"/>
                </a:lnTo>
                <a:lnTo>
                  <a:pt x="9920" y="651"/>
                </a:lnTo>
                <a:lnTo>
                  <a:pt x="10099" y="789"/>
                </a:lnTo>
                <a:lnTo>
                  <a:pt x="10281" y="937"/>
                </a:lnTo>
                <a:lnTo>
                  <a:pt x="10464" y="1092"/>
                </a:lnTo>
                <a:lnTo>
                  <a:pt x="10650" y="1254"/>
                </a:lnTo>
                <a:lnTo>
                  <a:pt x="10837" y="1422"/>
                </a:lnTo>
                <a:lnTo>
                  <a:pt x="11025" y="1595"/>
                </a:lnTo>
                <a:lnTo>
                  <a:pt x="11407" y="1947"/>
                </a:lnTo>
                <a:lnTo>
                  <a:pt x="11793" y="2300"/>
                </a:lnTo>
                <a:lnTo>
                  <a:pt x="12184" y="2646"/>
                </a:lnTo>
                <a:lnTo>
                  <a:pt x="12381" y="2813"/>
                </a:lnTo>
                <a:lnTo>
                  <a:pt x="12579" y="2973"/>
                </a:lnTo>
                <a:lnTo>
                  <a:pt x="12778" y="3126"/>
                </a:lnTo>
                <a:lnTo>
                  <a:pt x="12977" y="3271"/>
                </a:lnTo>
                <a:lnTo>
                  <a:pt x="13177" y="3406"/>
                </a:lnTo>
                <a:lnTo>
                  <a:pt x="13376" y="3530"/>
                </a:lnTo>
                <a:lnTo>
                  <a:pt x="13578" y="3642"/>
                </a:lnTo>
                <a:lnTo>
                  <a:pt x="13778" y="3742"/>
                </a:lnTo>
                <a:lnTo>
                  <a:pt x="13979" y="3831"/>
                </a:lnTo>
                <a:lnTo>
                  <a:pt x="14181" y="3909"/>
                </a:lnTo>
                <a:lnTo>
                  <a:pt x="14382" y="3976"/>
                </a:lnTo>
                <a:lnTo>
                  <a:pt x="14585" y="4032"/>
                </a:lnTo>
                <a:lnTo>
                  <a:pt x="14787" y="4077"/>
                </a:lnTo>
                <a:lnTo>
                  <a:pt x="14990" y="4112"/>
                </a:lnTo>
                <a:lnTo>
                  <a:pt x="15192" y="4137"/>
                </a:lnTo>
                <a:lnTo>
                  <a:pt x="15396" y="4153"/>
                </a:lnTo>
                <a:lnTo>
                  <a:pt x="15599" y="4160"/>
                </a:lnTo>
                <a:lnTo>
                  <a:pt x="15803" y="4157"/>
                </a:lnTo>
                <a:lnTo>
                  <a:pt x="16007" y="4144"/>
                </a:lnTo>
                <a:lnTo>
                  <a:pt x="16211" y="4123"/>
                </a:lnTo>
                <a:lnTo>
                  <a:pt x="16415" y="4094"/>
                </a:lnTo>
                <a:lnTo>
                  <a:pt x="16620" y="4056"/>
                </a:lnTo>
                <a:lnTo>
                  <a:pt x="16826" y="4011"/>
                </a:lnTo>
                <a:lnTo>
                  <a:pt x="17030" y="3957"/>
                </a:lnTo>
                <a:lnTo>
                  <a:pt x="17236" y="3897"/>
                </a:lnTo>
                <a:lnTo>
                  <a:pt x="17442" y="3828"/>
                </a:lnTo>
                <a:lnTo>
                  <a:pt x="17647" y="3754"/>
                </a:lnTo>
                <a:lnTo>
                  <a:pt x="17853" y="3672"/>
                </a:lnTo>
                <a:lnTo>
                  <a:pt x="18060" y="3584"/>
                </a:lnTo>
                <a:lnTo>
                  <a:pt x="18267" y="3489"/>
                </a:lnTo>
                <a:lnTo>
                  <a:pt x="18472" y="3389"/>
                </a:lnTo>
                <a:lnTo>
                  <a:pt x="18679" y="3282"/>
                </a:lnTo>
                <a:lnTo>
                  <a:pt x="18887" y="3171"/>
                </a:lnTo>
                <a:lnTo>
                  <a:pt x="19094" y="3054"/>
                </a:lnTo>
                <a:lnTo>
                  <a:pt x="19300" y="2932"/>
                </a:lnTo>
                <a:lnTo>
                  <a:pt x="19508" y="2805"/>
                </a:lnTo>
                <a:lnTo>
                  <a:pt x="19715" y="2674"/>
                </a:lnTo>
                <a:lnTo>
                  <a:pt x="19923" y="2539"/>
                </a:lnTo>
                <a:lnTo>
                  <a:pt x="20339" y="2256"/>
                </a:lnTo>
                <a:lnTo>
                  <a:pt x="20754" y="1960"/>
                </a:lnTo>
                <a:lnTo>
                  <a:pt x="21171" y="1652"/>
                </a:lnTo>
                <a:lnTo>
                  <a:pt x="21587" y="1333"/>
                </a:lnTo>
                <a:lnTo>
                  <a:pt x="22004" y="1007"/>
                </a:lnTo>
                <a:lnTo>
                  <a:pt x="22421" y="674"/>
                </a:lnTo>
                <a:lnTo>
                  <a:pt x="2325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16"/>
          <p:cNvSpPr/>
          <p:nvPr/>
        </p:nvSpPr>
        <p:spPr>
          <a:xfrm>
            <a:off x="7342920" y="4527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17"/>
          <p:cNvSpPr/>
          <p:nvPr/>
        </p:nvSpPr>
        <p:spPr>
          <a:xfrm>
            <a:off x="7554600" y="471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Oval 18"/>
          <p:cNvSpPr/>
          <p:nvPr/>
        </p:nvSpPr>
        <p:spPr>
          <a:xfrm>
            <a:off x="7218360" y="4708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Oval 19"/>
          <p:cNvSpPr/>
          <p:nvPr/>
        </p:nvSpPr>
        <p:spPr>
          <a:xfrm>
            <a:off x="1943280" y="5183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Text Box 20"/>
          <p:cNvSpPr/>
          <p:nvPr/>
        </p:nvSpPr>
        <p:spPr>
          <a:xfrm>
            <a:off x="7638480" y="182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21"/>
          <p:cNvSpPr/>
          <p:nvPr/>
        </p:nvSpPr>
        <p:spPr>
          <a:xfrm>
            <a:off x="7851600" y="20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22"/>
          <p:cNvSpPr/>
          <p:nvPr/>
        </p:nvSpPr>
        <p:spPr>
          <a:xfrm>
            <a:off x="2008080" y="2214720"/>
            <a:ext cx="60674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23"/>
          <p:cNvSpPr/>
          <p:nvPr/>
        </p:nvSpPr>
        <p:spPr>
          <a:xfrm>
            <a:off x="1962000" y="2158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1C9-A2B6-492A-A394-FF2D80C5C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5"/>
          <p:cNvSpPr/>
          <p:nvPr/>
        </p:nvSpPr>
        <p:spPr>
          <a:xfrm>
            <a:off x="64134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8"/>
          <p:cNvSpPr/>
          <p:nvPr/>
        </p:nvSpPr>
        <p:spPr>
          <a:xfrm>
            <a:off x="7638480" y="182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9"/>
          <p:cNvSpPr/>
          <p:nvPr/>
        </p:nvSpPr>
        <p:spPr>
          <a:xfrm>
            <a:off x="7851600" y="20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10"/>
          <p:cNvSpPr/>
          <p:nvPr/>
        </p:nvSpPr>
        <p:spPr>
          <a:xfrm>
            <a:off x="650520" y="357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11"/>
          <p:cNvSpPr/>
          <p:nvPr/>
        </p:nvSpPr>
        <p:spPr>
          <a:xfrm>
            <a:off x="798480" y="3713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Line 14"/>
          <p:cNvSpPr/>
          <p:nvPr/>
        </p:nvSpPr>
        <p:spPr>
          <a:xfrm>
            <a:off x="639720" y="400212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15"/>
          <p:cNvSpPr/>
          <p:nvPr/>
        </p:nvSpPr>
        <p:spPr>
          <a:xfrm>
            <a:off x="2008080" y="2214720"/>
            <a:ext cx="1800" cy="30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16"/>
          <p:cNvSpPr/>
          <p:nvPr/>
        </p:nvSpPr>
        <p:spPr>
          <a:xfrm>
            <a:off x="2008080" y="4773600"/>
            <a:ext cx="5273640" cy="1123920"/>
          </a:xfrm>
          <a:custGeom>
            <a:avLst/>
            <a:gdLst/>
            <a:ahLst/>
            <a:rect l="l" t="t" r="r" b="b"/>
            <a:pathLst>
              <a:path w="23255" h="4955">
                <a:moveTo>
                  <a:pt x="0" y="2139"/>
                </a:moveTo>
                <a:lnTo>
                  <a:pt x="395" y="2554"/>
                </a:lnTo>
                <a:lnTo>
                  <a:pt x="789" y="2959"/>
                </a:lnTo>
                <a:lnTo>
                  <a:pt x="986" y="3157"/>
                </a:lnTo>
                <a:lnTo>
                  <a:pt x="1181" y="3349"/>
                </a:lnTo>
                <a:lnTo>
                  <a:pt x="1376" y="3535"/>
                </a:lnTo>
                <a:lnTo>
                  <a:pt x="1570" y="3715"/>
                </a:lnTo>
                <a:lnTo>
                  <a:pt x="1762" y="3886"/>
                </a:lnTo>
                <a:lnTo>
                  <a:pt x="1953" y="4048"/>
                </a:lnTo>
                <a:lnTo>
                  <a:pt x="2143" y="4201"/>
                </a:lnTo>
                <a:lnTo>
                  <a:pt x="2330" y="4342"/>
                </a:lnTo>
                <a:lnTo>
                  <a:pt x="2517" y="4471"/>
                </a:lnTo>
                <a:lnTo>
                  <a:pt x="2700" y="4587"/>
                </a:lnTo>
                <a:lnTo>
                  <a:pt x="2882" y="4689"/>
                </a:lnTo>
                <a:lnTo>
                  <a:pt x="3062" y="4776"/>
                </a:lnTo>
                <a:lnTo>
                  <a:pt x="3238" y="4847"/>
                </a:lnTo>
                <a:lnTo>
                  <a:pt x="3326" y="4876"/>
                </a:lnTo>
                <a:lnTo>
                  <a:pt x="3413" y="4901"/>
                </a:lnTo>
                <a:lnTo>
                  <a:pt x="3500" y="4921"/>
                </a:lnTo>
                <a:lnTo>
                  <a:pt x="3585" y="4936"/>
                </a:lnTo>
                <a:lnTo>
                  <a:pt x="3670" y="4948"/>
                </a:lnTo>
                <a:lnTo>
                  <a:pt x="3754" y="4953"/>
                </a:lnTo>
                <a:lnTo>
                  <a:pt x="3837" y="4955"/>
                </a:lnTo>
                <a:lnTo>
                  <a:pt x="3920" y="4950"/>
                </a:lnTo>
                <a:lnTo>
                  <a:pt x="4002" y="4941"/>
                </a:lnTo>
                <a:lnTo>
                  <a:pt x="4082" y="4927"/>
                </a:lnTo>
                <a:lnTo>
                  <a:pt x="4162" y="4906"/>
                </a:lnTo>
                <a:lnTo>
                  <a:pt x="4242" y="4879"/>
                </a:lnTo>
                <a:lnTo>
                  <a:pt x="4319" y="4848"/>
                </a:lnTo>
                <a:lnTo>
                  <a:pt x="4397" y="4810"/>
                </a:lnTo>
                <a:lnTo>
                  <a:pt x="4473" y="4767"/>
                </a:lnTo>
                <a:lnTo>
                  <a:pt x="4550" y="4719"/>
                </a:lnTo>
                <a:lnTo>
                  <a:pt x="4624" y="4666"/>
                </a:lnTo>
                <a:lnTo>
                  <a:pt x="4698" y="4608"/>
                </a:lnTo>
                <a:lnTo>
                  <a:pt x="4773" y="4544"/>
                </a:lnTo>
                <a:lnTo>
                  <a:pt x="4845" y="4477"/>
                </a:lnTo>
                <a:lnTo>
                  <a:pt x="4989" y="4330"/>
                </a:lnTo>
                <a:lnTo>
                  <a:pt x="5130" y="4167"/>
                </a:lnTo>
                <a:lnTo>
                  <a:pt x="5269" y="3991"/>
                </a:lnTo>
                <a:lnTo>
                  <a:pt x="5406" y="3802"/>
                </a:lnTo>
                <a:lnTo>
                  <a:pt x="5542" y="3604"/>
                </a:lnTo>
                <a:lnTo>
                  <a:pt x="5676" y="3396"/>
                </a:lnTo>
                <a:lnTo>
                  <a:pt x="5809" y="3183"/>
                </a:lnTo>
                <a:lnTo>
                  <a:pt x="6072" y="2740"/>
                </a:lnTo>
                <a:lnTo>
                  <a:pt x="6332" y="2291"/>
                </a:lnTo>
                <a:lnTo>
                  <a:pt x="6593" y="1848"/>
                </a:lnTo>
                <a:lnTo>
                  <a:pt x="6723" y="1633"/>
                </a:lnTo>
                <a:lnTo>
                  <a:pt x="6854" y="1424"/>
                </a:lnTo>
                <a:lnTo>
                  <a:pt x="6987" y="1224"/>
                </a:lnTo>
                <a:lnTo>
                  <a:pt x="7120" y="1033"/>
                </a:lnTo>
                <a:lnTo>
                  <a:pt x="7255" y="856"/>
                </a:lnTo>
                <a:lnTo>
                  <a:pt x="7392" y="690"/>
                </a:lnTo>
                <a:lnTo>
                  <a:pt x="7530" y="539"/>
                </a:lnTo>
                <a:lnTo>
                  <a:pt x="7600" y="470"/>
                </a:lnTo>
                <a:lnTo>
                  <a:pt x="7670" y="406"/>
                </a:lnTo>
                <a:lnTo>
                  <a:pt x="7741" y="346"/>
                </a:lnTo>
                <a:lnTo>
                  <a:pt x="7813" y="290"/>
                </a:lnTo>
                <a:lnTo>
                  <a:pt x="7885" y="241"/>
                </a:lnTo>
                <a:lnTo>
                  <a:pt x="7957" y="196"/>
                </a:lnTo>
                <a:lnTo>
                  <a:pt x="8032" y="156"/>
                </a:lnTo>
                <a:lnTo>
                  <a:pt x="8106" y="122"/>
                </a:lnTo>
                <a:lnTo>
                  <a:pt x="8181" y="94"/>
                </a:lnTo>
                <a:lnTo>
                  <a:pt x="8257" y="72"/>
                </a:lnTo>
                <a:lnTo>
                  <a:pt x="8333" y="56"/>
                </a:lnTo>
                <a:lnTo>
                  <a:pt x="8411" y="45"/>
                </a:lnTo>
                <a:lnTo>
                  <a:pt x="8489" y="41"/>
                </a:lnTo>
                <a:lnTo>
                  <a:pt x="8568" y="41"/>
                </a:lnTo>
                <a:lnTo>
                  <a:pt x="8648" y="47"/>
                </a:lnTo>
                <a:lnTo>
                  <a:pt x="8728" y="58"/>
                </a:lnTo>
                <a:lnTo>
                  <a:pt x="8809" y="73"/>
                </a:lnTo>
                <a:lnTo>
                  <a:pt x="8891" y="93"/>
                </a:lnTo>
                <a:lnTo>
                  <a:pt x="8973" y="118"/>
                </a:lnTo>
                <a:lnTo>
                  <a:pt x="9056" y="148"/>
                </a:lnTo>
                <a:lnTo>
                  <a:pt x="9224" y="219"/>
                </a:lnTo>
                <a:lnTo>
                  <a:pt x="9395" y="307"/>
                </a:lnTo>
                <a:lnTo>
                  <a:pt x="9567" y="409"/>
                </a:lnTo>
                <a:lnTo>
                  <a:pt x="9743" y="524"/>
                </a:lnTo>
                <a:lnTo>
                  <a:pt x="9920" y="651"/>
                </a:lnTo>
                <a:lnTo>
                  <a:pt x="10099" y="789"/>
                </a:lnTo>
                <a:lnTo>
                  <a:pt x="10281" y="937"/>
                </a:lnTo>
                <a:lnTo>
                  <a:pt x="10464" y="1092"/>
                </a:lnTo>
                <a:lnTo>
                  <a:pt x="10650" y="1254"/>
                </a:lnTo>
                <a:lnTo>
                  <a:pt x="10837" y="1422"/>
                </a:lnTo>
                <a:lnTo>
                  <a:pt x="11025" y="1595"/>
                </a:lnTo>
                <a:lnTo>
                  <a:pt x="11407" y="1947"/>
                </a:lnTo>
                <a:lnTo>
                  <a:pt x="11793" y="2300"/>
                </a:lnTo>
                <a:lnTo>
                  <a:pt x="12184" y="2646"/>
                </a:lnTo>
                <a:lnTo>
                  <a:pt x="12381" y="2813"/>
                </a:lnTo>
                <a:lnTo>
                  <a:pt x="12579" y="2973"/>
                </a:lnTo>
                <a:lnTo>
                  <a:pt x="12778" y="3126"/>
                </a:lnTo>
                <a:lnTo>
                  <a:pt x="12977" y="3271"/>
                </a:lnTo>
                <a:lnTo>
                  <a:pt x="13177" y="3406"/>
                </a:lnTo>
                <a:lnTo>
                  <a:pt x="13376" y="3530"/>
                </a:lnTo>
                <a:lnTo>
                  <a:pt x="13578" y="3642"/>
                </a:lnTo>
                <a:lnTo>
                  <a:pt x="13778" y="3742"/>
                </a:lnTo>
                <a:lnTo>
                  <a:pt x="13979" y="3831"/>
                </a:lnTo>
                <a:lnTo>
                  <a:pt x="14181" y="3909"/>
                </a:lnTo>
                <a:lnTo>
                  <a:pt x="14382" y="3976"/>
                </a:lnTo>
                <a:lnTo>
                  <a:pt x="14585" y="4032"/>
                </a:lnTo>
                <a:lnTo>
                  <a:pt x="14787" y="4077"/>
                </a:lnTo>
                <a:lnTo>
                  <a:pt x="14990" y="4112"/>
                </a:lnTo>
                <a:lnTo>
                  <a:pt x="15192" y="4137"/>
                </a:lnTo>
                <a:lnTo>
                  <a:pt x="15396" y="4153"/>
                </a:lnTo>
                <a:lnTo>
                  <a:pt x="15599" y="4160"/>
                </a:lnTo>
                <a:lnTo>
                  <a:pt x="15803" y="4157"/>
                </a:lnTo>
                <a:lnTo>
                  <a:pt x="16007" y="4144"/>
                </a:lnTo>
                <a:lnTo>
                  <a:pt x="16211" y="4123"/>
                </a:lnTo>
                <a:lnTo>
                  <a:pt x="16415" y="4094"/>
                </a:lnTo>
                <a:lnTo>
                  <a:pt x="16620" y="4056"/>
                </a:lnTo>
                <a:lnTo>
                  <a:pt x="16826" y="4011"/>
                </a:lnTo>
                <a:lnTo>
                  <a:pt x="17030" y="3957"/>
                </a:lnTo>
                <a:lnTo>
                  <a:pt x="17236" y="3897"/>
                </a:lnTo>
                <a:lnTo>
                  <a:pt x="17442" y="3828"/>
                </a:lnTo>
                <a:lnTo>
                  <a:pt x="17647" y="3754"/>
                </a:lnTo>
                <a:lnTo>
                  <a:pt x="17853" y="3672"/>
                </a:lnTo>
                <a:lnTo>
                  <a:pt x="18060" y="3584"/>
                </a:lnTo>
                <a:lnTo>
                  <a:pt x="18267" y="3489"/>
                </a:lnTo>
                <a:lnTo>
                  <a:pt x="18472" y="3389"/>
                </a:lnTo>
                <a:lnTo>
                  <a:pt x="18679" y="3282"/>
                </a:lnTo>
                <a:lnTo>
                  <a:pt x="18887" y="3171"/>
                </a:lnTo>
                <a:lnTo>
                  <a:pt x="19094" y="3054"/>
                </a:lnTo>
                <a:lnTo>
                  <a:pt x="19300" y="2932"/>
                </a:lnTo>
                <a:lnTo>
                  <a:pt x="19508" y="2805"/>
                </a:lnTo>
                <a:lnTo>
                  <a:pt x="19715" y="2674"/>
                </a:lnTo>
                <a:lnTo>
                  <a:pt x="19923" y="2539"/>
                </a:lnTo>
                <a:lnTo>
                  <a:pt x="20339" y="2256"/>
                </a:lnTo>
                <a:lnTo>
                  <a:pt x="20754" y="1960"/>
                </a:lnTo>
                <a:lnTo>
                  <a:pt x="21171" y="1652"/>
                </a:lnTo>
                <a:lnTo>
                  <a:pt x="21587" y="1333"/>
                </a:lnTo>
                <a:lnTo>
                  <a:pt x="22004" y="1007"/>
                </a:lnTo>
                <a:lnTo>
                  <a:pt x="22421" y="674"/>
                </a:lnTo>
                <a:lnTo>
                  <a:pt x="2325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17"/>
          <p:cNvSpPr/>
          <p:nvPr/>
        </p:nvSpPr>
        <p:spPr>
          <a:xfrm flipV="1">
            <a:off x="7281720" y="2214720"/>
            <a:ext cx="1800" cy="2558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18"/>
          <p:cNvSpPr/>
          <p:nvPr/>
        </p:nvSpPr>
        <p:spPr>
          <a:xfrm>
            <a:off x="2008080" y="2214720"/>
            <a:ext cx="606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Oval 19"/>
          <p:cNvSpPr/>
          <p:nvPr/>
        </p:nvSpPr>
        <p:spPr>
          <a:xfrm>
            <a:off x="7219800" y="2158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20"/>
          <p:cNvSpPr/>
          <p:nvPr/>
        </p:nvSpPr>
        <p:spPr>
          <a:xfrm>
            <a:off x="1505160" y="2108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 Box 21"/>
          <p:cNvSpPr/>
          <p:nvPr/>
        </p:nvSpPr>
        <p:spPr>
          <a:xfrm>
            <a:off x="1717560" y="229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Oval 22"/>
          <p:cNvSpPr/>
          <p:nvPr/>
        </p:nvSpPr>
        <p:spPr>
          <a:xfrm>
            <a:off x="1962000" y="2158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23"/>
          <p:cNvSpPr/>
          <p:nvPr/>
        </p:nvSpPr>
        <p:spPr>
          <a:xfrm>
            <a:off x="7296840" y="222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24"/>
          <p:cNvSpPr/>
          <p:nvPr/>
        </p:nvSpPr>
        <p:spPr>
          <a:xfrm>
            <a:off x="7508880" y="24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 Box 25"/>
          <p:cNvSpPr/>
          <p:nvPr/>
        </p:nvSpPr>
        <p:spPr>
          <a:xfrm>
            <a:off x="7342920" y="4527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Text Box 26"/>
          <p:cNvSpPr/>
          <p:nvPr/>
        </p:nvSpPr>
        <p:spPr>
          <a:xfrm>
            <a:off x="7554600" y="471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27"/>
          <p:cNvSpPr/>
          <p:nvPr/>
        </p:nvSpPr>
        <p:spPr>
          <a:xfrm>
            <a:off x="7218360" y="4708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Text Box 28"/>
          <p:cNvSpPr/>
          <p:nvPr/>
        </p:nvSpPr>
        <p:spPr>
          <a:xfrm>
            <a:off x="1486080" y="513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Text Box 29"/>
          <p:cNvSpPr/>
          <p:nvPr/>
        </p:nvSpPr>
        <p:spPr>
          <a:xfrm>
            <a:off x="1698480" y="531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Oval 30"/>
          <p:cNvSpPr/>
          <p:nvPr/>
        </p:nvSpPr>
        <p:spPr>
          <a:xfrm>
            <a:off x="1943280" y="5183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DA8C-8A58-46AD-89E7-360596820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6"/>
          <p:cNvSpPr/>
          <p:nvPr/>
        </p:nvSpPr>
        <p:spPr>
          <a:xfrm>
            <a:off x="64134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7"/>
          <p:cNvSpPr/>
          <p:nvPr/>
        </p:nvSpPr>
        <p:spPr>
          <a:xfrm>
            <a:off x="312840" y="1951200"/>
            <a:ext cx="883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емещение   точки   паралле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, ее траектория лежит в горизонтальной плоскости уровня, поэтому проецируется на П   в виде линии параллельной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8"/>
          <p:cNvSpPr/>
          <p:nvPr/>
        </p:nvSpPr>
        <p:spPr>
          <a:xfrm>
            <a:off x="639720" y="2706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9"/>
          <p:cNvSpPr/>
          <p:nvPr/>
        </p:nvSpPr>
        <p:spPr>
          <a:xfrm>
            <a:off x="663480" y="368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10"/>
          <p:cNvSpPr/>
          <p:nvPr/>
        </p:nvSpPr>
        <p:spPr>
          <a:xfrm>
            <a:off x="7351560" y="3695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7F14-1100-4938-8287-DE69CB121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5"/>
          <p:cNvSpPr/>
          <p:nvPr/>
        </p:nvSpPr>
        <p:spPr>
          <a:xfrm>
            <a:off x="64800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6"/>
          <p:cNvSpPr/>
          <p:nvPr/>
        </p:nvSpPr>
        <p:spPr>
          <a:xfrm>
            <a:off x="600120" y="4259160"/>
            <a:ext cx="7943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Line 7"/>
          <p:cNvSpPr/>
          <p:nvPr/>
        </p:nvSpPr>
        <p:spPr>
          <a:xfrm>
            <a:off x="1089000" y="2556000"/>
            <a:ext cx="1440" cy="25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Text Box 11"/>
          <p:cNvSpPr/>
          <p:nvPr/>
        </p:nvSpPr>
        <p:spPr>
          <a:xfrm>
            <a:off x="4932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12"/>
          <p:cNvSpPr/>
          <p:nvPr/>
        </p:nvSpPr>
        <p:spPr>
          <a:xfrm>
            <a:off x="64116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13"/>
          <p:cNvSpPr/>
          <p:nvPr/>
        </p:nvSpPr>
        <p:spPr>
          <a:xfrm>
            <a:off x="578160" y="24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14"/>
          <p:cNvSpPr/>
          <p:nvPr/>
        </p:nvSpPr>
        <p:spPr>
          <a:xfrm>
            <a:off x="79056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Oval 15"/>
          <p:cNvSpPr/>
          <p:nvPr/>
        </p:nvSpPr>
        <p:spPr>
          <a:xfrm>
            <a:off x="1035000" y="250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16"/>
          <p:cNvSpPr/>
          <p:nvPr/>
        </p:nvSpPr>
        <p:spPr>
          <a:xfrm>
            <a:off x="576720" y="5037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 Box 17"/>
          <p:cNvSpPr/>
          <p:nvPr/>
        </p:nvSpPr>
        <p:spPr>
          <a:xfrm>
            <a:off x="788760" y="5222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Oval 18"/>
          <p:cNvSpPr/>
          <p:nvPr/>
        </p:nvSpPr>
        <p:spPr>
          <a:xfrm>
            <a:off x="1033560" y="5087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3BE-D3D8-4F24-A03D-4E96F65F8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641600"/>
            <a:ext cx="883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ть мет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Заданные объекты остаются неизменными, а меняется положение плос-костей проекций следующим образом: одна из плоскостей проекций убирается, а вместо нее выбирается новая, расположенная пер-пендикулярно оставше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D79D-BCF9-4948-BAC5-88ACB8E2E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5"/>
          <p:cNvSpPr/>
          <p:nvPr/>
        </p:nvSpPr>
        <p:spPr>
          <a:xfrm>
            <a:off x="64800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6"/>
          <p:cNvSpPr/>
          <p:nvPr/>
        </p:nvSpPr>
        <p:spPr>
          <a:xfrm>
            <a:off x="600120" y="4259160"/>
            <a:ext cx="7943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7"/>
          <p:cNvSpPr/>
          <p:nvPr/>
        </p:nvSpPr>
        <p:spPr>
          <a:xfrm>
            <a:off x="1089000" y="2556000"/>
            <a:ext cx="1440" cy="25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8"/>
          <p:cNvSpPr/>
          <p:nvPr/>
        </p:nvSpPr>
        <p:spPr>
          <a:xfrm>
            <a:off x="4932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Text Box 9"/>
          <p:cNvSpPr/>
          <p:nvPr/>
        </p:nvSpPr>
        <p:spPr>
          <a:xfrm>
            <a:off x="64116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10"/>
          <p:cNvSpPr/>
          <p:nvPr/>
        </p:nvSpPr>
        <p:spPr>
          <a:xfrm>
            <a:off x="578160" y="24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Text Box 11"/>
          <p:cNvSpPr/>
          <p:nvPr/>
        </p:nvSpPr>
        <p:spPr>
          <a:xfrm>
            <a:off x="79056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13"/>
          <p:cNvSpPr/>
          <p:nvPr/>
        </p:nvSpPr>
        <p:spPr>
          <a:xfrm>
            <a:off x="576720" y="5037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Text Box 14"/>
          <p:cNvSpPr/>
          <p:nvPr/>
        </p:nvSpPr>
        <p:spPr>
          <a:xfrm>
            <a:off x="788760" y="5222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Oval 15"/>
          <p:cNvSpPr/>
          <p:nvPr/>
        </p:nvSpPr>
        <p:spPr>
          <a:xfrm>
            <a:off x="1033560" y="5087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Freeform 16"/>
          <p:cNvSpPr/>
          <p:nvPr/>
        </p:nvSpPr>
        <p:spPr>
          <a:xfrm>
            <a:off x="1089000" y="1703520"/>
            <a:ext cx="5921280" cy="2004840"/>
          </a:xfrm>
          <a:custGeom>
            <a:avLst/>
            <a:gdLst/>
            <a:ahLst/>
            <a:rect l="l" t="t" r="r" b="b"/>
            <a:pathLst>
              <a:path w="26107" h="8835">
                <a:moveTo>
                  <a:pt x="0" y="3753"/>
                </a:moveTo>
                <a:lnTo>
                  <a:pt x="361" y="4443"/>
                </a:lnTo>
                <a:lnTo>
                  <a:pt x="720" y="5119"/>
                </a:lnTo>
                <a:lnTo>
                  <a:pt x="898" y="5451"/>
                </a:lnTo>
                <a:lnTo>
                  <a:pt x="1076" y="5774"/>
                </a:lnTo>
                <a:lnTo>
                  <a:pt x="1253" y="6089"/>
                </a:lnTo>
                <a:lnTo>
                  <a:pt x="1427" y="6394"/>
                </a:lnTo>
                <a:lnTo>
                  <a:pt x="1602" y="6688"/>
                </a:lnTo>
                <a:lnTo>
                  <a:pt x="1773" y="6969"/>
                </a:lnTo>
                <a:lnTo>
                  <a:pt x="1943" y="7236"/>
                </a:lnTo>
                <a:lnTo>
                  <a:pt x="2112" y="7488"/>
                </a:lnTo>
                <a:lnTo>
                  <a:pt x="2278" y="7723"/>
                </a:lnTo>
                <a:lnTo>
                  <a:pt x="2441" y="7938"/>
                </a:lnTo>
                <a:lnTo>
                  <a:pt x="2602" y="8135"/>
                </a:lnTo>
                <a:lnTo>
                  <a:pt x="2681" y="8225"/>
                </a:lnTo>
                <a:lnTo>
                  <a:pt x="2760" y="8310"/>
                </a:lnTo>
                <a:lnTo>
                  <a:pt x="2838" y="8389"/>
                </a:lnTo>
                <a:lnTo>
                  <a:pt x="2915" y="8463"/>
                </a:lnTo>
                <a:lnTo>
                  <a:pt x="2991" y="8529"/>
                </a:lnTo>
                <a:lnTo>
                  <a:pt x="3067" y="8591"/>
                </a:lnTo>
                <a:lnTo>
                  <a:pt x="3142" y="8646"/>
                </a:lnTo>
                <a:lnTo>
                  <a:pt x="3216" y="8693"/>
                </a:lnTo>
                <a:lnTo>
                  <a:pt x="3288" y="8735"/>
                </a:lnTo>
                <a:lnTo>
                  <a:pt x="3360" y="8770"/>
                </a:lnTo>
                <a:lnTo>
                  <a:pt x="3431" y="8797"/>
                </a:lnTo>
                <a:lnTo>
                  <a:pt x="3501" y="8817"/>
                </a:lnTo>
                <a:lnTo>
                  <a:pt x="3571" y="8830"/>
                </a:lnTo>
                <a:lnTo>
                  <a:pt x="3639" y="8835"/>
                </a:lnTo>
                <a:lnTo>
                  <a:pt x="3706" y="8832"/>
                </a:lnTo>
                <a:lnTo>
                  <a:pt x="3773" y="8821"/>
                </a:lnTo>
                <a:lnTo>
                  <a:pt x="3837" y="8803"/>
                </a:lnTo>
                <a:lnTo>
                  <a:pt x="3902" y="8776"/>
                </a:lnTo>
                <a:lnTo>
                  <a:pt x="3964" y="8743"/>
                </a:lnTo>
                <a:lnTo>
                  <a:pt x="4027" y="8701"/>
                </a:lnTo>
                <a:lnTo>
                  <a:pt x="4088" y="8652"/>
                </a:lnTo>
                <a:lnTo>
                  <a:pt x="4149" y="8596"/>
                </a:lnTo>
                <a:lnTo>
                  <a:pt x="4208" y="8534"/>
                </a:lnTo>
                <a:lnTo>
                  <a:pt x="4267" y="8465"/>
                </a:lnTo>
                <a:lnTo>
                  <a:pt x="4325" y="8389"/>
                </a:lnTo>
                <a:lnTo>
                  <a:pt x="4382" y="8309"/>
                </a:lnTo>
                <a:lnTo>
                  <a:pt x="4439" y="8221"/>
                </a:lnTo>
                <a:lnTo>
                  <a:pt x="4495" y="8128"/>
                </a:lnTo>
                <a:lnTo>
                  <a:pt x="4606" y="7925"/>
                </a:lnTo>
                <a:lnTo>
                  <a:pt x="4714" y="7703"/>
                </a:lnTo>
                <a:lnTo>
                  <a:pt x="4821" y="7462"/>
                </a:lnTo>
                <a:lnTo>
                  <a:pt x="4926" y="7205"/>
                </a:lnTo>
                <a:lnTo>
                  <a:pt x="5031" y="6931"/>
                </a:lnTo>
                <a:lnTo>
                  <a:pt x="5134" y="6645"/>
                </a:lnTo>
                <a:lnTo>
                  <a:pt x="5237" y="6348"/>
                </a:lnTo>
                <a:lnTo>
                  <a:pt x="5340" y="6040"/>
                </a:lnTo>
                <a:lnTo>
                  <a:pt x="5443" y="5723"/>
                </a:lnTo>
                <a:lnTo>
                  <a:pt x="5651" y="5074"/>
                </a:lnTo>
                <a:lnTo>
                  <a:pt x="5864" y="4410"/>
                </a:lnTo>
                <a:lnTo>
                  <a:pt x="6084" y="3749"/>
                </a:lnTo>
                <a:lnTo>
                  <a:pt x="6197" y="3424"/>
                </a:lnTo>
                <a:lnTo>
                  <a:pt x="6312" y="3103"/>
                </a:lnTo>
                <a:lnTo>
                  <a:pt x="6432" y="2789"/>
                </a:lnTo>
                <a:lnTo>
                  <a:pt x="6553" y="2485"/>
                </a:lnTo>
                <a:lnTo>
                  <a:pt x="6679" y="2191"/>
                </a:lnTo>
                <a:lnTo>
                  <a:pt x="6810" y="1909"/>
                </a:lnTo>
                <a:lnTo>
                  <a:pt x="6943" y="1641"/>
                </a:lnTo>
                <a:lnTo>
                  <a:pt x="7082" y="1389"/>
                </a:lnTo>
                <a:lnTo>
                  <a:pt x="7226" y="1155"/>
                </a:lnTo>
                <a:lnTo>
                  <a:pt x="7375" y="939"/>
                </a:lnTo>
                <a:lnTo>
                  <a:pt x="7451" y="839"/>
                </a:lnTo>
                <a:lnTo>
                  <a:pt x="7529" y="744"/>
                </a:lnTo>
                <a:lnTo>
                  <a:pt x="7609" y="655"/>
                </a:lnTo>
                <a:lnTo>
                  <a:pt x="7689" y="572"/>
                </a:lnTo>
                <a:lnTo>
                  <a:pt x="7771" y="495"/>
                </a:lnTo>
                <a:lnTo>
                  <a:pt x="7855" y="423"/>
                </a:lnTo>
                <a:lnTo>
                  <a:pt x="7941" y="358"/>
                </a:lnTo>
                <a:lnTo>
                  <a:pt x="8028" y="299"/>
                </a:lnTo>
                <a:lnTo>
                  <a:pt x="8117" y="245"/>
                </a:lnTo>
                <a:lnTo>
                  <a:pt x="8206" y="197"/>
                </a:lnTo>
                <a:lnTo>
                  <a:pt x="8298" y="154"/>
                </a:lnTo>
                <a:lnTo>
                  <a:pt x="8391" y="117"/>
                </a:lnTo>
                <a:lnTo>
                  <a:pt x="8580" y="58"/>
                </a:lnTo>
                <a:lnTo>
                  <a:pt x="8775" y="20"/>
                </a:lnTo>
                <a:lnTo>
                  <a:pt x="8975" y="0"/>
                </a:lnTo>
                <a:lnTo>
                  <a:pt x="9180" y="0"/>
                </a:lnTo>
                <a:lnTo>
                  <a:pt x="9390" y="17"/>
                </a:lnTo>
                <a:lnTo>
                  <a:pt x="9605" y="53"/>
                </a:lnTo>
                <a:lnTo>
                  <a:pt x="9825" y="104"/>
                </a:lnTo>
                <a:lnTo>
                  <a:pt x="10049" y="170"/>
                </a:lnTo>
                <a:lnTo>
                  <a:pt x="10277" y="251"/>
                </a:lnTo>
                <a:lnTo>
                  <a:pt x="10510" y="346"/>
                </a:lnTo>
                <a:lnTo>
                  <a:pt x="10746" y="454"/>
                </a:lnTo>
                <a:lnTo>
                  <a:pt x="10986" y="574"/>
                </a:lnTo>
                <a:lnTo>
                  <a:pt x="11230" y="706"/>
                </a:lnTo>
                <a:lnTo>
                  <a:pt x="11478" y="847"/>
                </a:lnTo>
                <a:lnTo>
                  <a:pt x="11729" y="999"/>
                </a:lnTo>
                <a:lnTo>
                  <a:pt x="11982" y="1159"/>
                </a:lnTo>
                <a:lnTo>
                  <a:pt x="12239" y="1328"/>
                </a:lnTo>
                <a:lnTo>
                  <a:pt x="12500" y="1505"/>
                </a:lnTo>
                <a:lnTo>
                  <a:pt x="12762" y="1687"/>
                </a:lnTo>
                <a:lnTo>
                  <a:pt x="13028" y="1875"/>
                </a:lnTo>
                <a:lnTo>
                  <a:pt x="13565" y="2265"/>
                </a:lnTo>
                <a:lnTo>
                  <a:pt x="14111" y="2669"/>
                </a:lnTo>
                <a:lnTo>
                  <a:pt x="14665" y="3078"/>
                </a:lnTo>
                <a:lnTo>
                  <a:pt x="15224" y="3487"/>
                </a:lnTo>
                <a:lnTo>
                  <a:pt x="15787" y="3890"/>
                </a:lnTo>
                <a:lnTo>
                  <a:pt x="16354" y="4280"/>
                </a:lnTo>
                <a:lnTo>
                  <a:pt x="16639" y="4468"/>
                </a:lnTo>
                <a:lnTo>
                  <a:pt x="16923" y="4650"/>
                </a:lnTo>
                <a:lnTo>
                  <a:pt x="17208" y="4826"/>
                </a:lnTo>
                <a:lnTo>
                  <a:pt x="17494" y="4994"/>
                </a:lnTo>
                <a:lnTo>
                  <a:pt x="17778" y="5154"/>
                </a:lnTo>
                <a:lnTo>
                  <a:pt x="18063" y="5305"/>
                </a:lnTo>
                <a:lnTo>
                  <a:pt x="18347" y="5446"/>
                </a:lnTo>
                <a:lnTo>
                  <a:pt x="18631" y="5577"/>
                </a:lnTo>
                <a:lnTo>
                  <a:pt x="18914" y="5696"/>
                </a:lnTo>
                <a:lnTo>
                  <a:pt x="19196" y="5803"/>
                </a:lnTo>
                <a:lnTo>
                  <a:pt x="19476" y="5896"/>
                </a:lnTo>
                <a:lnTo>
                  <a:pt x="19756" y="5977"/>
                </a:lnTo>
                <a:lnTo>
                  <a:pt x="20035" y="6042"/>
                </a:lnTo>
                <a:lnTo>
                  <a:pt x="20312" y="6092"/>
                </a:lnTo>
                <a:lnTo>
                  <a:pt x="20588" y="6126"/>
                </a:lnTo>
                <a:lnTo>
                  <a:pt x="20861" y="6143"/>
                </a:lnTo>
                <a:lnTo>
                  <a:pt x="21133" y="6145"/>
                </a:lnTo>
                <a:lnTo>
                  <a:pt x="21404" y="6133"/>
                </a:lnTo>
                <a:lnTo>
                  <a:pt x="21672" y="6109"/>
                </a:lnTo>
                <a:lnTo>
                  <a:pt x="21940" y="6070"/>
                </a:lnTo>
                <a:lnTo>
                  <a:pt x="22207" y="6019"/>
                </a:lnTo>
                <a:lnTo>
                  <a:pt x="22472" y="5957"/>
                </a:lnTo>
                <a:lnTo>
                  <a:pt x="22736" y="5885"/>
                </a:lnTo>
                <a:lnTo>
                  <a:pt x="23000" y="5802"/>
                </a:lnTo>
                <a:lnTo>
                  <a:pt x="23262" y="5710"/>
                </a:lnTo>
                <a:lnTo>
                  <a:pt x="23523" y="5610"/>
                </a:lnTo>
                <a:lnTo>
                  <a:pt x="23784" y="5502"/>
                </a:lnTo>
                <a:lnTo>
                  <a:pt x="24044" y="5388"/>
                </a:lnTo>
                <a:lnTo>
                  <a:pt x="24562" y="5141"/>
                </a:lnTo>
                <a:lnTo>
                  <a:pt x="25079" y="4877"/>
                </a:lnTo>
                <a:lnTo>
                  <a:pt x="25593" y="4600"/>
                </a:lnTo>
                <a:lnTo>
                  <a:pt x="26107" y="43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17"/>
          <p:cNvSpPr/>
          <p:nvPr/>
        </p:nvSpPr>
        <p:spPr>
          <a:xfrm>
            <a:off x="7007760" y="22525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Text Box 18"/>
          <p:cNvSpPr/>
          <p:nvPr/>
        </p:nvSpPr>
        <p:spPr>
          <a:xfrm>
            <a:off x="7219800" y="24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Oval 19"/>
          <p:cNvSpPr/>
          <p:nvPr/>
        </p:nvSpPr>
        <p:spPr>
          <a:xfrm>
            <a:off x="6946920" y="2633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Oval 20"/>
          <p:cNvSpPr/>
          <p:nvPr/>
        </p:nvSpPr>
        <p:spPr>
          <a:xfrm>
            <a:off x="1035000" y="250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B77F-A16F-4696-87CF-219B5B720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5"/>
          <p:cNvSpPr/>
          <p:nvPr/>
        </p:nvSpPr>
        <p:spPr>
          <a:xfrm>
            <a:off x="64800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6"/>
          <p:cNvSpPr/>
          <p:nvPr/>
        </p:nvSpPr>
        <p:spPr>
          <a:xfrm>
            <a:off x="600120" y="4259160"/>
            <a:ext cx="7943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7"/>
          <p:cNvSpPr/>
          <p:nvPr/>
        </p:nvSpPr>
        <p:spPr>
          <a:xfrm>
            <a:off x="1089000" y="2556000"/>
            <a:ext cx="1440" cy="25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Text Box 8"/>
          <p:cNvSpPr/>
          <p:nvPr/>
        </p:nvSpPr>
        <p:spPr>
          <a:xfrm>
            <a:off x="4932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 Box 9"/>
          <p:cNvSpPr/>
          <p:nvPr/>
        </p:nvSpPr>
        <p:spPr>
          <a:xfrm>
            <a:off x="64116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10"/>
          <p:cNvSpPr/>
          <p:nvPr/>
        </p:nvSpPr>
        <p:spPr>
          <a:xfrm>
            <a:off x="578160" y="24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Text Box 11"/>
          <p:cNvSpPr/>
          <p:nvPr/>
        </p:nvSpPr>
        <p:spPr>
          <a:xfrm>
            <a:off x="79056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12"/>
          <p:cNvSpPr/>
          <p:nvPr/>
        </p:nvSpPr>
        <p:spPr>
          <a:xfrm>
            <a:off x="576720" y="5037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 Box 13"/>
          <p:cNvSpPr/>
          <p:nvPr/>
        </p:nvSpPr>
        <p:spPr>
          <a:xfrm>
            <a:off x="788760" y="5222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eeform 15"/>
          <p:cNvSpPr/>
          <p:nvPr/>
        </p:nvSpPr>
        <p:spPr>
          <a:xfrm>
            <a:off x="1089000" y="1703520"/>
            <a:ext cx="5921280" cy="2004840"/>
          </a:xfrm>
          <a:custGeom>
            <a:avLst/>
            <a:gdLst/>
            <a:ahLst/>
            <a:rect l="l" t="t" r="r" b="b"/>
            <a:pathLst>
              <a:path w="26107" h="8835">
                <a:moveTo>
                  <a:pt x="0" y="3753"/>
                </a:moveTo>
                <a:lnTo>
                  <a:pt x="361" y="4443"/>
                </a:lnTo>
                <a:lnTo>
                  <a:pt x="720" y="5119"/>
                </a:lnTo>
                <a:lnTo>
                  <a:pt x="898" y="5451"/>
                </a:lnTo>
                <a:lnTo>
                  <a:pt x="1076" y="5774"/>
                </a:lnTo>
                <a:lnTo>
                  <a:pt x="1253" y="6089"/>
                </a:lnTo>
                <a:lnTo>
                  <a:pt x="1427" y="6394"/>
                </a:lnTo>
                <a:lnTo>
                  <a:pt x="1602" y="6688"/>
                </a:lnTo>
                <a:lnTo>
                  <a:pt x="1773" y="6969"/>
                </a:lnTo>
                <a:lnTo>
                  <a:pt x="1943" y="7236"/>
                </a:lnTo>
                <a:lnTo>
                  <a:pt x="2112" y="7488"/>
                </a:lnTo>
                <a:lnTo>
                  <a:pt x="2278" y="7723"/>
                </a:lnTo>
                <a:lnTo>
                  <a:pt x="2441" y="7938"/>
                </a:lnTo>
                <a:lnTo>
                  <a:pt x="2602" y="8135"/>
                </a:lnTo>
                <a:lnTo>
                  <a:pt x="2681" y="8225"/>
                </a:lnTo>
                <a:lnTo>
                  <a:pt x="2760" y="8310"/>
                </a:lnTo>
                <a:lnTo>
                  <a:pt x="2838" y="8389"/>
                </a:lnTo>
                <a:lnTo>
                  <a:pt x="2915" y="8463"/>
                </a:lnTo>
                <a:lnTo>
                  <a:pt x="2991" y="8529"/>
                </a:lnTo>
                <a:lnTo>
                  <a:pt x="3067" y="8591"/>
                </a:lnTo>
                <a:lnTo>
                  <a:pt x="3142" y="8646"/>
                </a:lnTo>
                <a:lnTo>
                  <a:pt x="3216" y="8693"/>
                </a:lnTo>
                <a:lnTo>
                  <a:pt x="3288" y="8735"/>
                </a:lnTo>
                <a:lnTo>
                  <a:pt x="3360" y="8770"/>
                </a:lnTo>
                <a:lnTo>
                  <a:pt x="3431" y="8797"/>
                </a:lnTo>
                <a:lnTo>
                  <a:pt x="3501" y="8817"/>
                </a:lnTo>
                <a:lnTo>
                  <a:pt x="3571" y="8830"/>
                </a:lnTo>
                <a:lnTo>
                  <a:pt x="3639" y="8835"/>
                </a:lnTo>
                <a:lnTo>
                  <a:pt x="3706" y="8832"/>
                </a:lnTo>
                <a:lnTo>
                  <a:pt x="3773" y="8821"/>
                </a:lnTo>
                <a:lnTo>
                  <a:pt x="3837" y="8803"/>
                </a:lnTo>
                <a:lnTo>
                  <a:pt x="3902" y="8776"/>
                </a:lnTo>
                <a:lnTo>
                  <a:pt x="3964" y="8743"/>
                </a:lnTo>
                <a:lnTo>
                  <a:pt x="4027" y="8701"/>
                </a:lnTo>
                <a:lnTo>
                  <a:pt x="4088" y="8652"/>
                </a:lnTo>
                <a:lnTo>
                  <a:pt x="4149" y="8596"/>
                </a:lnTo>
                <a:lnTo>
                  <a:pt x="4208" y="8534"/>
                </a:lnTo>
                <a:lnTo>
                  <a:pt x="4267" y="8465"/>
                </a:lnTo>
                <a:lnTo>
                  <a:pt x="4325" y="8389"/>
                </a:lnTo>
                <a:lnTo>
                  <a:pt x="4382" y="8309"/>
                </a:lnTo>
                <a:lnTo>
                  <a:pt x="4439" y="8221"/>
                </a:lnTo>
                <a:lnTo>
                  <a:pt x="4495" y="8128"/>
                </a:lnTo>
                <a:lnTo>
                  <a:pt x="4606" y="7925"/>
                </a:lnTo>
                <a:lnTo>
                  <a:pt x="4714" y="7703"/>
                </a:lnTo>
                <a:lnTo>
                  <a:pt x="4821" y="7462"/>
                </a:lnTo>
                <a:lnTo>
                  <a:pt x="4926" y="7205"/>
                </a:lnTo>
                <a:lnTo>
                  <a:pt x="5031" y="6931"/>
                </a:lnTo>
                <a:lnTo>
                  <a:pt x="5134" y="6645"/>
                </a:lnTo>
                <a:lnTo>
                  <a:pt x="5237" y="6348"/>
                </a:lnTo>
                <a:lnTo>
                  <a:pt x="5340" y="6040"/>
                </a:lnTo>
                <a:lnTo>
                  <a:pt x="5443" y="5723"/>
                </a:lnTo>
                <a:lnTo>
                  <a:pt x="5651" y="5074"/>
                </a:lnTo>
                <a:lnTo>
                  <a:pt x="5864" y="4410"/>
                </a:lnTo>
                <a:lnTo>
                  <a:pt x="6084" y="3749"/>
                </a:lnTo>
                <a:lnTo>
                  <a:pt x="6197" y="3424"/>
                </a:lnTo>
                <a:lnTo>
                  <a:pt x="6312" y="3103"/>
                </a:lnTo>
                <a:lnTo>
                  <a:pt x="6432" y="2789"/>
                </a:lnTo>
                <a:lnTo>
                  <a:pt x="6553" y="2485"/>
                </a:lnTo>
                <a:lnTo>
                  <a:pt x="6679" y="2191"/>
                </a:lnTo>
                <a:lnTo>
                  <a:pt x="6810" y="1909"/>
                </a:lnTo>
                <a:lnTo>
                  <a:pt x="6943" y="1641"/>
                </a:lnTo>
                <a:lnTo>
                  <a:pt x="7082" y="1389"/>
                </a:lnTo>
                <a:lnTo>
                  <a:pt x="7226" y="1155"/>
                </a:lnTo>
                <a:lnTo>
                  <a:pt x="7375" y="939"/>
                </a:lnTo>
                <a:lnTo>
                  <a:pt x="7451" y="839"/>
                </a:lnTo>
                <a:lnTo>
                  <a:pt x="7529" y="744"/>
                </a:lnTo>
                <a:lnTo>
                  <a:pt x="7609" y="655"/>
                </a:lnTo>
                <a:lnTo>
                  <a:pt x="7689" y="572"/>
                </a:lnTo>
                <a:lnTo>
                  <a:pt x="7771" y="495"/>
                </a:lnTo>
                <a:lnTo>
                  <a:pt x="7855" y="423"/>
                </a:lnTo>
                <a:lnTo>
                  <a:pt x="7941" y="358"/>
                </a:lnTo>
                <a:lnTo>
                  <a:pt x="8028" y="299"/>
                </a:lnTo>
                <a:lnTo>
                  <a:pt x="8117" y="245"/>
                </a:lnTo>
                <a:lnTo>
                  <a:pt x="8206" y="197"/>
                </a:lnTo>
                <a:lnTo>
                  <a:pt x="8298" y="154"/>
                </a:lnTo>
                <a:lnTo>
                  <a:pt x="8391" y="117"/>
                </a:lnTo>
                <a:lnTo>
                  <a:pt x="8580" y="58"/>
                </a:lnTo>
                <a:lnTo>
                  <a:pt x="8775" y="20"/>
                </a:lnTo>
                <a:lnTo>
                  <a:pt x="8975" y="0"/>
                </a:lnTo>
                <a:lnTo>
                  <a:pt x="9180" y="0"/>
                </a:lnTo>
                <a:lnTo>
                  <a:pt x="9390" y="17"/>
                </a:lnTo>
                <a:lnTo>
                  <a:pt x="9605" y="53"/>
                </a:lnTo>
                <a:lnTo>
                  <a:pt x="9825" y="104"/>
                </a:lnTo>
                <a:lnTo>
                  <a:pt x="10049" y="170"/>
                </a:lnTo>
                <a:lnTo>
                  <a:pt x="10277" y="251"/>
                </a:lnTo>
                <a:lnTo>
                  <a:pt x="10510" y="346"/>
                </a:lnTo>
                <a:lnTo>
                  <a:pt x="10746" y="454"/>
                </a:lnTo>
                <a:lnTo>
                  <a:pt x="10986" y="574"/>
                </a:lnTo>
                <a:lnTo>
                  <a:pt x="11230" y="706"/>
                </a:lnTo>
                <a:lnTo>
                  <a:pt x="11478" y="847"/>
                </a:lnTo>
                <a:lnTo>
                  <a:pt x="11729" y="999"/>
                </a:lnTo>
                <a:lnTo>
                  <a:pt x="11982" y="1159"/>
                </a:lnTo>
                <a:lnTo>
                  <a:pt x="12239" y="1328"/>
                </a:lnTo>
                <a:lnTo>
                  <a:pt x="12500" y="1505"/>
                </a:lnTo>
                <a:lnTo>
                  <a:pt x="12762" y="1687"/>
                </a:lnTo>
                <a:lnTo>
                  <a:pt x="13028" y="1875"/>
                </a:lnTo>
                <a:lnTo>
                  <a:pt x="13565" y="2265"/>
                </a:lnTo>
                <a:lnTo>
                  <a:pt x="14111" y="2669"/>
                </a:lnTo>
                <a:lnTo>
                  <a:pt x="14665" y="3078"/>
                </a:lnTo>
                <a:lnTo>
                  <a:pt x="15224" y="3487"/>
                </a:lnTo>
                <a:lnTo>
                  <a:pt x="15787" y="3890"/>
                </a:lnTo>
                <a:lnTo>
                  <a:pt x="16354" y="4280"/>
                </a:lnTo>
                <a:lnTo>
                  <a:pt x="16639" y="4468"/>
                </a:lnTo>
                <a:lnTo>
                  <a:pt x="16923" y="4650"/>
                </a:lnTo>
                <a:lnTo>
                  <a:pt x="17208" y="4826"/>
                </a:lnTo>
                <a:lnTo>
                  <a:pt x="17494" y="4994"/>
                </a:lnTo>
                <a:lnTo>
                  <a:pt x="17778" y="5154"/>
                </a:lnTo>
                <a:lnTo>
                  <a:pt x="18063" y="5305"/>
                </a:lnTo>
                <a:lnTo>
                  <a:pt x="18347" y="5446"/>
                </a:lnTo>
                <a:lnTo>
                  <a:pt x="18631" y="5577"/>
                </a:lnTo>
                <a:lnTo>
                  <a:pt x="18914" y="5696"/>
                </a:lnTo>
                <a:lnTo>
                  <a:pt x="19196" y="5803"/>
                </a:lnTo>
                <a:lnTo>
                  <a:pt x="19476" y="5896"/>
                </a:lnTo>
                <a:lnTo>
                  <a:pt x="19756" y="5977"/>
                </a:lnTo>
                <a:lnTo>
                  <a:pt x="20035" y="6042"/>
                </a:lnTo>
                <a:lnTo>
                  <a:pt x="20312" y="6092"/>
                </a:lnTo>
                <a:lnTo>
                  <a:pt x="20588" y="6126"/>
                </a:lnTo>
                <a:lnTo>
                  <a:pt x="20861" y="6143"/>
                </a:lnTo>
                <a:lnTo>
                  <a:pt x="21133" y="6145"/>
                </a:lnTo>
                <a:lnTo>
                  <a:pt x="21404" y="6133"/>
                </a:lnTo>
                <a:lnTo>
                  <a:pt x="21672" y="6109"/>
                </a:lnTo>
                <a:lnTo>
                  <a:pt x="21940" y="6070"/>
                </a:lnTo>
                <a:lnTo>
                  <a:pt x="22207" y="6019"/>
                </a:lnTo>
                <a:lnTo>
                  <a:pt x="22472" y="5957"/>
                </a:lnTo>
                <a:lnTo>
                  <a:pt x="22736" y="5885"/>
                </a:lnTo>
                <a:lnTo>
                  <a:pt x="23000" y="5802"/>
                </a:lnTo>
                <a:lnTo>
                  <a:pt x="23262" y="5710"/>
                </a:lnTo>
                <a:lnTo>
                  <a:pt x="23523" y="5610"/>
                </a:lnTo>
                <a:lnTo>
                  <a:pt x="23784" y="5502"/>
                </a:lnTo>
                <a:lnTo>
                  <a:pt x="24044" y="5388"/>
                </a:lnTo>
                <a:lnTo>
                  <a:pt x="24562" y="5141"/>
                </a:lnTo>
                <a:lnTo>
                  <a:pt x="25079" y="4877"/>
                </a:lnTo>
                <a:lnTo>
                  <a:pt x="25593" y="4600"/>
                </a:lnTo>
                <a:lnTo>
                  <a:pt x="26107" y="43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 Box 16"/>
          <p:cNvSpPr/>
          <p:nvPr/>
        </p:nvSpPr>
        <p:spPr>
          <a:xfrm>
            <a:off x="7007760" y="22525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Text Box 17"/>
          <p:cNvSpPr/>
          <p:nvPr/>
        </p:nvSpPr>
        <p:spPr>
          <a:xfrm>
            <a:off x="7219800" y="24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Oval 18"/>
          <p:cNvSpPr/>
          <p:nvPr/>
        </p:nvSpPr>
        <p:spPr>
          <a:xfrm>
            <a:off x="6946920" y="2633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Oval 19"/>
          <p:cNvSpPr/>
          <p:nvPr/>
        </p:nvSpPr>
        <p:spPr>
          <a:xfrm>
            <a:off x="1035000" y="250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20"/>
          <p:cNvSpPr/>
          <p:nvPr/>
        </p:nvSpPr>
        <p:spPr>
          <a:xfrm>
            <a:off x="1089000" y="5153040"/>
            <a:ext cx="67518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21"/>
          <p:cNvSpPr/>
          <p:nvPr/>
        </p:nvSpPr>
        <p:spPr>
          <a:xfrm>
            <a:off x="7311960" y="475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Text Box 22"/>
          <p:cNvSpPr/>
          <p:nvPr/>
        </p:nvSpPr>
        <p:spPr>
          <a:xfrm>
            <a:off x="7489800" y="494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Oval 23"/>
          <p:cNvSpPr/>
          <p:nvPr/>
        </p:nvSpPr>
        <p:spPr>
          <a:xfrm>
            <a:off x="1033560" y="5087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9B6-D226-4DE2-A265-1820CA3C0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5"/>
          <p:cNvSpPr/>
          <p:nvPr/>
        </p:nvSpPr>
        <p:spPr>
          <a:xfrm>
            <a:off x="64800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Line 9"/>
          <p:cNvSpPr/>
          <p:nvPr/>
        </p:nvSpPr>
        <p:spPr>
          <a:xfrm>
            <a:off x="600120" y="4259160"/>
            <a:ext cx="7943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Line 10"/>
          <p:cNvSpPr/>
          <p:nvPr/>
        </p:nvSpPr>
        <p:spPr>
          <a:xfrm>
            <a:off x="1089000" y="2556000"/>
            <a:ext cx="1440" cy="25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11"/>
          <p:cNvSpPr/>
          <p:nvPr/>
        </p:nvSpPr>
        <p:spPr>
          <a:xfrm>
            <a:off x="1089000" y="1703520"/>
            <a:ext cx="5921280" cy="2004840"/>
          </a:xfrm>
          <a:custGeom>
            <a:avLst/>
            <a:gdLst/>
            <a:ahLst/>
            <a:rect l="l" t="t" r="r" b="b"/>
            <a:pathLst>
              <a:path w="26107" h="8835">
                <a:moveTo>
                  <a:pt x="0" y="3753"/>
                </a:moveTo>
                <a:lnTo>
                  <a:pt x="361" y="4443"/>
                </a:lnTo>
                <a:lnTo>
                  <a:pt x="720" y="5119"/>
                </a:lnTo>
                <a:lnTo>
                  <a:pt x="898" y="5451"/>
                </a:lnTo>
                <a:lnTo>
                  <a:pt x="1076" y="5774"/>
                </a:lnTo>
                <a:lnTo>
                  <a:pt x="1253" y="6089"/>
                </a:lnTo>
                <a:lnTo>
                  <a:pt x="1427" y="6394"/>
                </a:lnTo>
                <a:lnTo>
                  <a:pt x="1602" y="6688"/>
                </a:lnTo>
                <a:lnTo>
                  <a:pt x="1773" y="6969"/>
                </a:lnTo>
                <a:lnTo>
                  <a:pt x="1943" y="7236"/>
                </a:lnTo>
                <a:lnTo>
                  <a:pt x="2112" y="7488"/>
                </a:lnTo>
                <a:lnTo>
                  <a:pt x="2278" y="7723"/>
                </a:lnTo>
                <a:lnTo>
                  <a:pt x="2441" y="7938"/>
                </a:lnTo>
                <a:lnTo>
                  <a:pt x="2602" y="8135"/>
                </a:lnTo>
                <a:lnTo>
                  <a:pt x="2681" y="8225"/>
                </a:lnTo>
                <a:lnTo>
                  <a:pt x="2760" y="8310"/>
                </a:lnTo>
                <a:lnTo>
                  <a:pt x="2838" y="8389"/>
                </a:lnTo>
                <a:lnTo>
                  <a:pt x="2915" y="8463"/>
                </a:lnTo>
                <a:lnTo>
                  <a:pt x="2991" y="8529"/>
                </a:lnTo>
                <a:lnTo>
                  <a:pt x="3067" y="8591"/>
                </a:lnTo>
                <a:lnTo>
                  <a:pt x="3142" y="8646"/>
                </a:lnTo>
                <a:lnTo>
                  <a:pt x="3216" y="8693"/>
                </a:lnTo>
                <a:lnTo>
                  <a:pt x="3288" y="8735"/>
                </a:lnTo>
                <a:lnTo>
                  <a:pt x="3360" y="8770"/>
                </a:lnTo>
                <a:lnTo>
                  <a:pt x="3431" y="8797"/>
                </a:lnTo>
                <a:lnTo>
                  <a:pt x="3501" y="8817"/>
                </a:lnTo>
                <a:lnTo>
                  <a:pt x="3571" y="8830"/>
                </a:lnTo>
                <a:lnTo>
                  <a:pt x="3639" y="8835"/>
                </a:lnTo>
                <a:lnTo>
                  <a:pt x="3706" y="8832"/>
                </a:lnTo>
                <a:lnTo>
                  <a:pt x="3773" y="8821"/>
                </a:lnTo>
                <a:lnTo>
                  <a:pt x="3837" y="8803"/>
                </a:lnTo>
                <a:lnTo>
                  <a:pt x="3902" y="8776"/>
                </a:lnTo>
                <a:lnTo>
                  <a:pt x="3964" y="8743"/>
                </a:lnTo>
                <a:lnTo>
                  <a:pt x="4027" y="8701"/>
                </a:lnTo>
                <a:lnTo>
                  <a:pt x="4088" y="8652"/>
                </a:lnTo>
                <a:lnTo>
                  <a:pt x="4149" y="8596"/>
                </a:lnTo>
                <a:lnTo>
                  <a:pt x="4208" y="8534"/>
                </a:lnTo>
                <a:lnTo>
                  <a:pt x="4267" y="8465"/>
                </a:lnTo>
                <a:lnTo>
                  <a:pt x="4325" y="8389"/>
                </a:lnTo>
                <a:lnTo>
                  <a:pt x="4382" y="8309"/>
                </a:lnTo>
                <a:lnTo>
                  <a:pt x="4439" y="8221"/>
                </a:lnTo>
                <a:lnTo>
                  <a:pt x="4495" y="8128"/>
                </a:lnTo>
                <a:lnTo>
                  <a:pt x="4606" y="7925"/>
                </a:lnTo>
                <a:lnTo>
                  <a:pt x="4714" y="7703"/>
                </a:lnTo>
                <a:lnTo>
                  <a:pt x="4821" y="7462"/>
                </a:lnTo>
                <a:lnTo>
                  <a:pt x="4926" y="7205"/>
                </a:lnTo>
                <a:lnTo>
                  <a:pt x="5031" y="6931"/>
                </a:lnTo>
                <a:lnTo>
                  <a:pt x="5134" y="6645"/>
                </a:lnTo>
                <a:lnTo>
                  <a:pt x="5237" y="6348"/>
                </a:lnTo>
                <a:lnTo>
                  <a:pt x="5340" y="6040"/>
                </a:lnTo>
                <a:lnTo>
                  <a:pt x="5443" y="5723"/>
                </a:lnTo>
                <a:lnTo>
                  <a:pt x="5651" y="5074"/>
                </a:lnTo>
                <a:lnTo>
                  <a:pt x="5864" y="4410"/>
                </a:lnTo>
                <a:lnTo>
                  <a:pt x="6084" y="3749"/>
                </a:lnTo>
                <a:lnTo>
                  <a:pt x="6197" y="3424"/>
                </a:lnTo>
                <a:lnTo>
                  <a:pt x="6312" y="3103"/>
                </a:lnTo>
                <a:lnTo>
                  <a:pt x="6432" y="2789"/>
                </a:lnTo>
                <a:lnTo>
                  <a:pt x="6553" y="2485"/>
                </a:lnTo>
                <a:lnTo>
                  <a:pt x="6679" y="2191"/>
                </a:lnTo>
                <a:lnTo>
                  <a:pt x="6810" y="1909"/>
                </a:lnTo>
                <a:lnTo>
                  <a:pt x="6943" y="1641"/>
                </a:lnTo>
                <a:lnTo>
                  <a:pt x="7082" y="1389"/>
                </a:lnTo>
                <a:lnTo>
                  <a:pt x="7226" y="1155"/>
                </a:lnTo>
                <a:lnTo>
                  <a:pt x="7375" y="939"/>
                </a:lnTo>
                <a:lnTo>
                  <a:pt x="7451" y="839"/>
                </a:lnTo>
                <a:lnTo>
                  <a:pt x="7529" y="744"/>
                </a:lnTo>
                <a:lnTo>
                  <a:pt x="7609" y="655"/>
                </a:lnTo>
                <a:lnTo>
                  <a:pt x="7689" y="572"/>
                </a:lnTo>
                <a:lnTo>
                  <a:pt x="7771" y="495"/>
                </a:lnTo>
                <a:lnTo>
                  <a:pt x="7855" y="423"/>
                </a:lnTo>
                <a:lnTo>
                  <a:pt x="7941" y="358"/>
                </a:lnTo>
                <a:lnTo>
                  <a:pt x="8028" y="299"/>
                </a:lnTo>
                <a:lnTo>
                  <a:pt x="8117" y="245"/>
                </a:lnTo>
                <a:lnTo>
                  <a:pt x="8206" y="197"/>
                </a:lnTo>
                <a:lnTo>
                  <a:pt x="8298" y="154"/>
                </a:lnTo>
                <a:lnTo>
                  <a:pt x="8391" y="117"/>
                </a:lnTo>
                <a:lnTo>
                  <a:pt x="8580" y="58"/>
                </a:lnTo>
                <a:lnTo>
                  <a:pt x="8775" y="20"/>
                </a:lnTo>
                <a:lnTo>
                  <a:pt x="8975" y="0"/>
                </a:lnTo>
                <a:lnTo>
                  <a:pt x="9180" y="0"/>
                </a:lnTo>
                <a:lnTo>
                  <a:pt x="9390" y="17"/>
                </a:lnTo>
                <a:lnTo>
                  <a:pt x="9605" y="53"/>
                </a:lnTo>
                <a:lnTo>
                  <a:pt x="9825" y="104"/>
                </a:lnTo>
                <a:lnTo>
                  <a:pt x="10049" y="170"/>
                </a:lnTo>
                <a:lnTo>
                  <a:pt x="10277" y="251"/>
                </a:lnTo>
                <a:lnTo>
                  <a:pt x="10510" y="346"/>
                </a:lnTo>
                <a:lnTo>
                  <a:pt x="10746" y="454"/>
                </a:lnTo>
                <a:lnTo>
                  <a:pt x="10986" y="574"/>
                </a:lnTo>
                <a:lnTo>
                  <a:pt x="11230" y="706"/>
                </a:lnTo>
                <a:lnTo>
                  <a:pt x="11478" y="847"/>
                </a:lnTo>
                <a:lnTo>
                  <a:pt x="11729" y="999"/>
                </a:lnTo>
                <a:lnTo>
                  <a:pt x="11982" y="1159"/>
                </a:lnTo>
                <a:lnTo>
                  <a:pt x="12239" y="1328"/>
                </a:lnTo>
                <a:lnTo>
                  <a:pt x="12500" y="1505"/>
                </a:lnTo>
                <a:lnTo>
                  <a:pt x="12762" y="1687"/>
                </a:lnTo>
                <a:lnTo>
                  <a:pt x="13028" y="1875"/>
                </a:lnTo>
                <a:lnTo>
                  <a:pt x="13565" y="2265"/>
                </a:lnTo>
                <a:lnTo>
                  <a:pt x="14111" y="2669"/>
                </a:lnTo>
                <a:lnTo>
                  <a:pt x="14665" y="3078"/>
                </a:lnTo>
                <a:lnTo>
                  <a:pt x="15224" y="3487"/>
                </a:lnTo>
                <a:lnTo>
                  <a:pt x="15787" y="3890"/>
                </a:lnTo>
                <a:lnTo>
                  <a:pt x="16354" y="4280"/>
                </a:lnTo>
                <a:lnTo>
                  <a:pt x="16639" y="4468"/>
                </a:lnTo>
                <a:lnTo>
                  <a:pt x="16923" y="4650"/>
                </a:lnTo>
                <a:lnTo>
                  <a:pt x="17208" y="4826"/>
                </a:lnTo>
                <a:lnTo>
                  <a:pt x="17494" y="4994"/>
                </a:lnTo>
                <a:lnTo>
                  <a:pt x="17778" y="5154"/>
                </a:lnTo>
                <a:lnTo>
                  <a:pt x="18063" y="5305"/>
                </a:lnTo>
                <a:lnTo>
                  <a:pt x="18347" y="5446"/>
                </a:lnTo>
                <a:lnTo>
                  <a:pt x="18631" y="5577"/>
                </a:lnTo>
                <a:lnTo>
                  <a:pt x="18914" y="5696"/>
                </a:lnTo>
                <a:lnTo>
                  <a:pt x="19196" y="5803"/>
                </a:lnTo>
                <a:lnTo>
                  <a:pt x="19476" y="5896"/>
                </a:lnTo>
                <a:lnTo>
                  <a:pt x="19756" y="5977"/>
                </a:lnTo>
                <a:lnTo>
                  <a:pt x="20035" y="6042"/>
                </a:lnTo>
                <a:lnTo>
                  <a:pt x="20312" y="6092"/>
                </a:lnTo>
                <a:lnTo>
                  <a:pt x="20588" y="6126"/>
                </a:lnTo>
                <a:lnTo>
                  <a:pt x="20861" y="6143"/>
                </a:lnTo>
                <a:lnTo>
                  <a:pt x="21133" y="6145"/>
                </a:lnTo>
                <a:lnTo>
                  <a:pt x="21404" y="6133"/>
                </a:lnTo>
                <a:lnTo>
                  <a:pt x="21672" y="6109"/>
                </a:lnTo>
                <a:lnTo>
                  <a:pt x="21940" y="6070"/>
                </a:lnTo>
                <a:lnTo>
                  <a:pt x="22207" y="6019"/>
                </a:lnTo>
                <a:lnTo>
                  <a:pt x="22472" y="5957"/>
                </a:lnTo>
                <a:lnTo>
                  <a:pt x="22736" y="5885"/>
                </a:lnTo>
                <a:lnTo>
                  <a:pt x="23000" y="5802"/>
                </a:lnTo>
                <a:lnTo>
                  <a:pt x="23262" y="5710"/>
                </a:lnTo>
                <a:lnTo>
                  <a:pt x="23523" y="5610"/>
                </a:lnTo>
                <a:lnTo>
                  <a:pt x="23784" y="5502"/>
                </a:lnTo>
                <a:lnTo>
                  <a:pt x="24044" y="5388"/>
                </a:lnTo>
                <a:lnTo>
                  <a:pt x="24562" y="5141"/>
                </a:lnTo>
                <a:lnTo>
                  <a:pt x="25079" y="4877"/>
                </a:lnTo>
                <a:lnTo>
                  <a:pt x="25593" y="4600"/>
                </a:lnTo>
                <a:lnTo>
                  <a:pt x="26107" y="43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Line 12"/>
          <p:cNvSpPr/>
          <p:nvPr/>
        </p:nvSpPr>
        <p:spPr>
          <a:xfrm>
            <a:off x="7010280" y="2682720"/>
            <a:ext cx="1800" cy="247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Line 13"/>
          <p:cNvSpPr/>
          <p:nvPr/>
        </p:nvSpPr>
        <p:spPr>
          <a:xfrm>
            <a:off x="1089000" y="5153040"/>
            <a:ext cx="675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4"/>
          <p:cNvSpPr/>
          <p:nvPr/>
        </p:nvSpPr>
        <p:spPr>
          <a:xfrm>
            <a:off x="4932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5"/>
          <p:cNvSpPr/>
          <p:nvPr/>
        </p:nvSpPr>
        <p:spPr>
          <a:xfrm>
            <a:off x="64116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7"/>
          <p:cNvSpPr/>
          <p:nvPr/>
        </p:nvSpPr>
        <p:spPr>
          <a:xfrm>
            <a:off x="578160" y="24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8"/>
          <p:cNvSpPr/>
          <p:nvPr/>
        </p:nvSpPr>
        <p:spPr>
          <a:xfrm>
            <a:off x="79056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Oval 19"/>
          <p:cNvSpPr/>
          <p:nvPr/>
        </p:nvSpPr>
        <p:spPr>
          <a:xfrm>
            <a:off x="1035000" y="250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20"/>
          <p:cNvSpPr/>
          <p:nvPr/>
        </p:nvSpPr>
        <p:spPr>
          <a:xfrm>
            <a:off x="576720" y="5037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21"/>
          <p:cNvSpPr/>
          <p:nvPr/>
        </p:nvSpPr>
        <p:spPr>
          <a:xfrm>
            <a:off x="788760" y="5222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Oval 22"/>
          <p:cNvSpPr/>
          <p:nvPr/>
        </p:nvSpPr>
        <p:spPr>
          <a:xfrm>
            <a:off x="1033560" y="5087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26"/>
          <p:cNvSpPr/>
          <p:nvPr/>
        </p:nvSpPr>
        <p:spPr>
          <a:xfrm>
            <a:off x="7007760" y="22525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27"/>
          <p:cNvSpPr/>
          <p:nvPr/>
        </p:nvSpPr>
        <p:spPr>
          <a:xfrm>
            <a:off x="7219800" y="24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Oval 28"/>
          <p:cNvSpPr/>
          <p:nvPr/>
        </p:nvSpPr>
        <p:spPr>
          <a:xfrm>
            <a:off x="6946920" y="2633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29"/>
          <p:cNvSpPr/>
          <p:nvPr/>
        </p:nvSpPr>
        <p:spPr>
          <a:xfrm>
            <a:off x="7311960" y="475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30"/>
          <p:cNvSpPr/>
          <p:nvPr/>
        </p:nvSpPr>
        <p:spPr>
          <a:xfrm>
            <a:off x="7489800" y="494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Oval 31"/>
          <p:cNvSpPr/>
          <p:nvPr/>
        </p:nvSpPr>
        <p:spPr>
          <a:xfrm>
            <a:off x="6943680" y="509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33"/>
          <p:cNvSpPr/>
          <p:nvPr/>
        </p:nvSpPr>
        <p:spPr>
          <a:xfrm>
            <a:off x="6490440" y="5119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34"/>
          <p:cNvSpPr/>
          <p:nvPr/>
        </p:nvSpPr>
        <p:spPr>
          <a:xfrm>
            <a:off x="6702120" y="530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EB85-D34B-496F-9DA5-DF3415C70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щение точки параллельно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5"/>
          <p:cNvSpPr/>
          <p:nvPr/>
        </p:nvSpPr>
        <p:spPr>
          <a:xfrm>
            <a:off x="6465600" y="1092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6"/>
          <p:cNvSpPr/>
          <p:nvPr/>
        </p:nvSpPr>
        <p:spPr>
          <a:xfrm>
            <a:off x="312840" y="1951200"/>
            <a:ext cx="883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емещение   точки   паралле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, ее траектория лежит во фронтальной плоскости уровня, поэтому проецируется на П   в виде линии параллельной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7"/>
          <p:cNvSpPr/>
          <p:nvPr/>
        </p:nvSpPr>
        <p:spPr>
          <a:xfrm>
            <a:off x="639720" y="2706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Text Box 8"/>
          <p:cNvSpPr/>
          <p:nvPr/>
        </p:nvSpPr>
        <p:spPr>
          <a:xfrm>
            <a:off x="663480" y="368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Text Box 9"/>
          <p:cNvSpPr/>
          <p:nvPr/>
        </p:nvSpPr>
        <p:spPr>
          <a:xfrm>
            <a:off x="7351560" y="3695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C20-FA5A-4B01-A875-B0C971069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8"/>
          <p:cNvSpPr/>
          <p:nvPr/>
        </p:nvSpPr>
        <p:spPr>
          <a:xfrm>
            <a:off x="403200" y="409248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Line 9"/>
          <p:cNvSpPr/>
          <p:nvPr/>
        </p:nvSpPr>
        <p:spPr>
          <a:xfrm flipV="1">
            <a:off x="4448160" y="439704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10"/>
          <p:cNvSpPr/>
          <p:nvPr/>
        </p:nvSpPr>
        <p:spPr>
          <a:xfrm>
            <a:off x="3019320" y="193356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11"/>
          <p:cNvSpPr/>
          <p:nvPr/>
        </p:nvSpPr>
        <p:spPr>
          <a:xfrm flipV="1">
            <a:off x="403200" y="193320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12"/>
          <p:cNvSpPr/>
          <p:nvPr/>
        </p:nvSpPr>
        <p:spPr>
          <a:xfrm>
            <a:off x="1623960" y="1498680"/>
            <a:ext cx="214812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13"/>
          <p:cNvSpPr/>
          <p:nvPr/>
        </p:nvSpPr>
        <p:spPr>
          <a:xfrm>
            <a:off x="1623960" y="1498680"/>
            <a:ext cx="1800" cy="20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14"/>
          <p:cNvSpPr/>
          <p:nvPr/>
        </p:nvSpPr>
        <p:spPr>
          <a:xfrm>
            <a:off x="3772080" y="2468520"/>
            <a:ext cx="144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15"/>
          <p:cNvSpPr/>
          <p:nvPr/>
        </p:nvSpPr>
        <p:spPr>
          <a:xfrm flipV="1">
            <a:off x="1623960" y="3089160"/>
            <a:ext cx="21481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45"/>
          <p:cNvSpPr/>
          <p:nvPr/>
        </p:nvSpPr>
        <p:spPr>
          <a:xfrm>
            <a:off x="4171680" y="59245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46"/>
          <p:cNvSpPr/>
          <p:nvPr/>
        </p:nvSpPr>
        <p:spPr>
          <a:xfrm>
            <a:off x="4319280" y="60674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57"/>
          <p:cNvSpPr/>
          <p:nvPr/>
        </p:nvSpPr>
        <p:spPr>
          <a:xfrm>
            <a:off x="1326960" y="36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58"/>
          <p:cNvSpPr/>
          <p:nvPr/>
        </p:nvSpPr>
        <p:spPr>
          <a:xfrm>
            <a:off x="1114920" y="34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Oval 59"/>
          <p:cNvSpPr/>
          <p:nvPr/>
        </p:nvSpPr>
        <p:spPr>
          <a:xfrm>
            <a:off x="157176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60"/>
          <p:cNvSpPr/>
          <p:nvPr/>
        </p:nvSpPr>
        <p:spPr>
          <a:xfrm>
            <a:off x="4054320" y="30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61"/>
          <p:cNvSpPr/>
          <p:nvPr/>
        </p:nvSpPr>
        <p:spPr>
          <a:xfrm>
            <a:off x="3841920" y="284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Oval 62"/>
          <p:cNvSpPr/>
          <p:nvPr/>
        </p:nvSpPr>
        <p:spPr>
          <a:xfrm>
            <a:off x="3701880" y="30211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63"/>
          <p:cNvSpPr/>
          <p:nvPr/>
        </p:nvSpPr>
        <p:spPr>
          <a:xfrm>
            <a:off x="1219680" y="116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Oval 64"/>
          <p:cNvSpPr/>
          <p:nvPr/>
        </p:nvSpPr>
        <p:spPr>
          <a:xfrm>
            <a:off x="1571760" y="1446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65"/>
          <p:cNvSpPr/>
          <p:nvPr/>
        </p:nvSpPr>
        <p:spPr>
          <a:xfrm>
            <a:off x="3785040" y="2109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Oval 66"/>
          <p:cNvSpPr/>
          <p:nvPr/>
        </p:nvSpPr>
        <p:spPr>
          <a:xfrm>
            <a:off x="3708360" y="240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5B91-1F56-4E40-936C-FE80030BD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5"/>
          <p:cNvSpPr/>
          <p:nvPr/>
        </p:nvSpPr>
        <p:spPr>
          <a:xfrm>
            <a:off x="403200" y="409248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6"/>
          <p:cNvSpPr/>
          <p:nvPr/>
        </p:nvSpPr>
        <p:spPr>
          <a:xfrm flipV="1">
            <a:off x="4448160" y="439704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7"/>
          <p:cNvSpPr/>
          <p:nvPr/>
        </p:nvSpPr>
        <p:spPr>
          <a:xfrm>
            <a:off x="3019320" y="193356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Line 8"/>
          <p:cNvSpPr/>
          <p:nvPr/>
        </p:nvSpPr>
        <p:spPr>
          <a:xfrm flipV="1">
            <a:off x="403200" y="193320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9"/>
          <p:cNvSpPr/>
          <p:nvPr/>
        </p:nvSpPr>
        <p:spPr>
          <a:xfrm>
            <a:off x="1623960" y="1498680"/>
            <a:ext cx="214812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Line 10"/>
          <p:cNvSpPr/>
          <p:nvPr/>
        </p:nvSpPr>
        <p:spPr>
          <a:xfrm>
            <a:off x="1623960" y="1498680"/>
            <a:ext cx="1800" cy="20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11"/>
          <p:cNvSpPr/>
          <p:nvPr/>
        </p:nvSpPr>
        <p:spPr>
          <a:xfrm>
            <a:off x="3772080" y="2468520"/>
            <a:ext cx="144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12"/>
          <p:cNvSpPr/>
          <p:nvPr/>
        </p:nvSpPr>
        <p:spPr>
          <a:xfrm flipV="1">
            <a:off x="1623960" y="3089160"/>
            <a:ext cx="21481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Text Box 13"/>
          <p:cNvSpPr/>
          <p:nvPr/>
        </p:nvSpPr>
        <p:spPr>
          <a:xfrm>
            <a:off x="4171680" y="59245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Text Box 14"/>
          <p:cNvSpPr/>
          <p:nvPr/>
        </p:nvSpPr>
        <p:spPr>
          <a:xfrm>
            <a:off x="4319280" y="60674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Text Box 15"/>
          <p:cNvSpPr/>
          <p:nvPr/>
        </p:nvSpPr>
        <p:spPr>
          <a:xfrm>
            <a:off x="1326960" y="36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Text Box 16"/>
          <p:cNvSpPr/>
          <p:nvPr/>
        </p:nvSpPr>
        <p:spPr>
          <a:xfrm>
            <a:off x="1114920" y="34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Oval 17"/>
          <p:cNvSpPr/>
          <p:nvPr/>
        </p:nvSpPr>
        <p:spPr>
          <a:xfrm>
            <a:off x="157176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Text Box 18"/>
          <p:cNvSpPr/>
          <p:nvPr/>
        </p:nvSpPr>
        <p:spPr>
          <a:xfrm>
            <a:off x="4054320" y="30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Text Box 19"/>
          <p:cNvSpPr/>
          <p:nvPr/>
        </p:nvSpPr>
        <p:spPr>
          <a:xfrm>
            <a:off x="3841920" y="284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Oval 20"/>
          <p:cNvSpPr/>
          <p:nvPr/>
        </p:nvSpPr>
        <p:spPr>
          <a:xfrm>
            <a:off x="3701880" y="30211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Text Box 21"/>
          <p:cNvSpPr/>
          <p:nvPr/>
        </p:nvSpPr>
        <p:spPr>
          <a:xfrm>
            <a:off x="1219680" y="116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Oval 22"/>
          <p:cNvSpPr/>
          <p:nvPr/>
        </p:nvSpPr>
        <p:spPr>
          <a:xfrm>
            <a:off x="1571760" y="1446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23"/>
          <p:cNvSpPr/>
          <p:nvPr/>
        </p:nvSpPr>
        <p:spPr>
          <a:xfrm>
            <a:off x="3785040" y="2109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Oval 24"/>
          <p:cNvSpPr/>
          <p:nvPr/>
        </p:nvSpPr>
        <p:spPr>
          <a:xfrm>
            <a:off x="3708360" y="240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51"/>
          <p:cNvSpPr/>
          <p:nvPr/>
        </p:nvSpPr>
        <p:spPr>
          <a:xfrm>
            <a:off x="4638600" y="2995560"/>
            <a:ext cx="289080" cy="51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Line 52"/>
          <p:cNvSpPr/>
          <p:nvPr/>
        </p:nvSpPr>
        <p:spPr>
          <a:xfrm>
            <a:off x="4927680" y="3511440"/>
            <a:ext cx="1440" cy="207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53"/>
          <p:cNvSpPr/>
          <p:nvPr/>
        </p:nvSpPr>
        <p:spPr>
          <a:xfrm>
            <a:off x="4638600" y="2995560"/>
            <a:ext cx="1800" cy="62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54"/>
          <p:cNvSpPr/>
          <p:nvPr/>
        </p:nvSpPr>
        <p:spPr>
          <a:xfrm>
            <a:off x="4638600" y="3618000"/>
            <a:ext cx="289080" cy="196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65"/>
          <p:cNvSpPr/>
          <p:nvPr/>
        </p:nvSpPr>
        <p:spPr>
          <a:xfrm flipV="1">
            <a:off x="4913280" y="5460480"/>
            <a:ext cx="14400" cy="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Text Box 66"/>
          <p:cNvSpPr/>
          <p:nvPr/>
        </p:nvSpPr>
        <p:spPr>
          <a:xfrm>
            <a:off x="4658400" y="2651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67"/>
          <p:cNvSpPr/>
          <p:nvPr/>
        </p:nvSpPr>
        <p:spPr>
          <a:xfrm>
            <a:off x="4281480" y="363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Oval 68"/>
          <p:cNvSpPr/>
          <p:nvPr/>
        </p:nvSpPr>
        <p:spPr>
          <a:xfrm>
            <a:off x="4581360" y="29782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Text Box 69"/>
          <p:cNvSpPr/>
          <p:nvPr/>
        </p:nvSpPr>
        <p:spPr>
          <a:xfrm>
            <a:off x="4982040" y="3284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70"/>
          <p:cNvSpPr/>
          <p:nvPr/>
        </p:nvSpPr>
        <p:spPr>
          <a:xfrm>
            <a:off x="462276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Oval 71"/>
          <p:cNvSpPr/>
          <p:nvPr/>
        </p:nvSpPr>
        <p:spPr>
          <a:xfrm>
            <a:off x="486720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Text Box 72"/>
          <p:cNvSpPr/>
          <p:nvPr/>
        </p:nvSpPr>
        <p:spPr>
          <a:xfrm>
            <a:off x="4069440" y="3448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Oval 73"/>
          <p:cNvSpPr/>
          <p:nvPr/>
        </p:nvSpPr>
        <p:spPr>
          <a:xfrm>
            <a:off x="4576680" y="357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Text Box 74"/>
          <p:cNvSpPr/>
          <p:nvPr/>
        </p:nvSpPr>
        <p:spPr>
          <a:xfrm>
            <a:off x="4410720" y="5450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Oval 75"/>
          <p:cNvSpPr/>
          <p:nvPr/>
        </p:nvSpPr>
        <p:spPr>
          <a:xfrm>
            <a:off x="4867200" y="5500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A9D-949B-4EFB-AC2B-B9C6F1470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5"/>
          <p:cNvSpPr/>
          <p:nvPr/>
        </p:nvSpPr>
        <p:spPr>
          <a:xfrm>
            <a:off x="403200" y="409248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6"/>
          <p:cNvSpPr/>
          <p:nvPr/>
        </p:nvSpPr>
        <p:spPr>
          <a:xfrm flipV="1">
            <a:off x="4448160" y="439704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7"/>
          <p:cNvSpPr/>
          <p:nvPr/>
        </p:nvSpPr>
        <p:spPr>
          <a:xfrm>
            <a:off x="3019320" y="1933560"/>
            <a:ext cx="4044960" cy="24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8"/>
          <p:cNvSpPr/>
          <p:nvPr/>
        </p:nvSpPr>
        <p:spPr>
          <a:xfrm flipV="1">
            <a:off x="403200" y="1933200"/>
            <a:ext cx="261612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9"/>
          <p:cNvSpPr/>
          <p:nvPr/>
        </p:nvSpPr>
        <p:spPr>
          <a:xfrm>
            <a:off x="1623960" y="1498680"/>
            <a:ext cx="214812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10"/>
          <p:cNvSpPr/>
          <p:nvPr/>
        </p:nvSpPr>
        <p:spPr>
          <a:xfrm>
            <a:off x="1623960" y="1498680"/>
            <a:ext cx="1800" cy="20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11"/>
          <p:cNvSpPr/>
          <p:nvPr/>
        </p:nvSpPr>
        <p:spPr>
          <a:xfrm>
            <a:off x="3772080" y="2468520"/>
            <a:ext cx="144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12"/>
          <p:cNvSpPr/>
          <p:nvPr/>
        </p:nvSpPr>
        <p:spPr>
          <a:xfrm flipV="1">
            <a:off x="1623960" y="3089160"/>
            <a:ext cx="21481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13"/>
          <p:cNvSpPr/>
          <p:nvPr/>
        </p:nvSpPr>
        <p:spPr>
          <a:xfrm>
            <a:off x="4638600" y="2995560"/>
            <a:ext cx="289080" cy="51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14"/>
          <p:cNvSpPr/>
          <p:nvPr/>
        </p:nvSpPr>
        <p:spPr>
          <a:xfrm>
            <a:off x="4927680" y="3511440"/>
            <a:ext cx="1440" cy="20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15"/>
          <p:cNvSpPr/>
          <p:nvPr/>
        </p:nvSpPr>
        <p:spPr>
          <a:xfrm>
            <a:off x="4638600" y="2995560"/>
            <a:ext cx="1800" cy="62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16"/>
          <p:cNvSpPr/>
          <p:nvPr/>
        </p:nvSpPr>
        <p:spPr>
          <a:xfrm>
            <a:off x="4638600" y="3618000"/>
            <a:ext cx="289080" cy="19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17"/>
          <p:cNvSpPr/>
          <p:nvPr/>
        </p:nvSpPr>
        <p:spPr>
          <a:xfrm flipV="1">
            <a:off x="1623960" y="1554120"/>
            <a:ext cx="123840" cy="123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18"/>
          <p:cNvSpPr/>
          <p:nvPr/>
        </p:nvSpPr>
        <p:spPr>
          <a:xfrm flipV="1">
            <a:off x="1623960" y="163476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Line 19"/>
          <p:cNvSpPr/>
          <p:nvPr/>
        </p:nvSpPr>
        <p:spPr>
          <a:xfrm flipV="1">
            <a:off x="1623960" y="1717560"/>
            <a:ext cx="486000" cy="48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20"/>
          <p:cNvSpPr/>
          <p:nvPr/>
        </p:nvSpPr>
        <p:spPr>
          <a:xfrm flipV="1">
            <a:off x="1623960" y="1798560"/>
            <a:ext cx="666720" cy="66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21"/>
          <p:cNvSpPr/>
          <p:nvPr/>
        </p:nvSpPr>
        <p:spPr>
          <a:xfrm flipV="1">
            <a:off x="1623960" y="1881360"/>
            <a:ext cx="846360" cy="84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22"/>
          <p:cNvSpPr/>
          <p:nvPr/>
        </p:nvSpPr>
        <p:spPr>
          <a:xfrm flipV="1">
            <a:off x="1623960" y="1962000"/>
            <a:ext cx="1027080" cy="1028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Freeform 23"/>
          <p:cNvSpPr/>
          <p:nvPr/>
        </p:nvSpPr>
        <p:spPr>
          <a:xfrm>
            <a:off x="1623960" y="2044800"/>
            <a:ext cx="1208160" cy="1208160"/>
          </a:xfrm>
          <a:custGeom>
            <a:avLst/>
            <a:gdLst/>
            <a:ahLst/>
            <a:rect l="l" t="t" r="r" b="b"/>
            <a:pathLst>
              <a:path w="5327" h="5331">
                <a:moveTo>
                  <a:pt x="0" y="5331"/>
                </a:moveTo>
                <a:lnTo>
                  <a:pt x="4207" y="1121"/>
                </a:lnTo>
                <a:lnTo>
                  <a:pt x="532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24"/>
          <p:cNvSpPr/>
          <p:nvPr/>
        </p:nvSpPr>
        <p:spPr>
          <a:xfrm flipV="1">
            <a:off x="1623960" y="2125440"/>
            <a:ext cx="1389240" cy="13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5"/>
          <p:cNvSpPr/>
          <p:nvPr/>
        </p:nvSpPr>
        <p:spPr>
          <a:xfrm flipV="1">
            <a:off x="1892160" y="2206800"/>
            <a:ext cx="1301760" cy="130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26"/>
          <p:cNvSpPr/>
          <p:nvPr/>
        </p:nvSpPr>
        <p:spPr>
          <a:xfrm flipV="1">
            <a:off x="2230560" y="2288880"/>
            <a:ext cx="1144440" cy="11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27"/>
          <p:cNvSpPr/>
          <p:nvPr/>
        </p:nvSpPr>
        <p:spPr>
          <a:xfrm flipV="1">
            <a:off x="2568600" y="2369880"/>
            <a:ext cx="987480" cy="98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28"/>
          <p:cNvSpPr/>
          <p:nvPr/>
        </p:nvSpPr>
        <p:spPr>
          <a:xfrm flipV="1">
            <a:off x="2906640" y="2452680"/>
            <a:ext cx="830160" cy="83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29"/>
          <p:cNvSpPr/>
          <p:nvPr/>
        </p:nvSpPr>
        <p:spPr>
          <a:xfrm flipV="1">
            <a:off x="3243240" y="2679840"/>
            <a:ext cx="528840" cy="52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30"/>
          <p:cNvSpPr/>
          <p:nvPr/>
        </p:nvSpPr>
        <p:spPr>
          <a:xfrm flipV="1">
            <a:off x="3581280" y="2941200"/>
            <a:ext cx="190800" cy="19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31"/>
          <p:cNvSpPr/>
          <p:nvPr/>
        </p:nvSpPr>
        <p:spPr>
          <a:xfrm flipV="1">
            <a:off x="4638600" y="3077640"/>
            <a:ext cx="46080" cy="4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32"/>
          <p:cNvSpPr/>
          <p:nvPr/>
        </p:nvSpPr>
        <p:spPr>
          <a:xfrm flipV="1">
            <a:off x="4638600" y="3246480"/>
            <a:ext cx="141480" cy="1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33"/>
          <p:cNvSpPr/>
          <p:nvPr/>
        </p:nvSpPr>
        <p:spPr>
          <a:xfrm flipV="1">
            <a:off x="4641840" y="3414600"/>
            <a:ext cx="231840" cy="23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34"/>
          <p:cNvSpPr/>
          <p:nvPr/>
        </p:nvSpPr>
        <p:spPr>
          <a:xfrm flipV="1">
            <a:off x="4676760" y="3622320"/>
            <a:ext cx="250920" cy="25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35"/>
          <p:cNvSpPr/>
          <p:nvPr/>
        </p:nvSpPr>
        <p:spPr>
          <a:xfrm flipV="1">
            <a:off x="4710240" y="3886200"/>
            <a:ext cx="217440" cy="21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36"/>
          <p:cNvSpPr/>
          <p:nvPr/>
        </p:nvSpPr>
        <p:spPr>
          <a:xfrm flipV="1">
            <a:off x="4743360" y="4147920"/>
            <a:ext cx="184320" cy="183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37"/>
          <p:cNvSpPr/>
          <p:nvPr/>
        </p:nvSpPr>
        <p:spPr>
          <a:xfrm flipV="1">
            <a:off x="4778280" y="4409640"/>
            <a:ext cx="149400" cy="150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38"/>
          <p:cNvSpPr/>
          <p:nvPr/>
        </p:nvSpPr>
        <p:spPr>
          <a:xfrm flipV="1">
            <a:off x="4811760" y="4673520"/>
            <a:ext cx="115920" cy="115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39"/>
          <p:cNvSpPr/>
          <p:nvPr/>
        </p:nvSpPr>
        <p:spPr>
          <a:xfrm flipV="1">
            <a:off x="4844880" y="4935600"/>
            <a:ext cx="82800" cy="8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40"/>
          <p:cNvSpPr/>
          <p:nvPr/>
        </p:nvSpPr>
        <p:spPr>
          <a:xfrm flipV="1">
            <a:off x="4878360" y="5197320"/>
            <a:ext cx="49320" cy="5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41"/>
          <p:cNvSpPr/>
          <p:nvPr/>
        </p:nvSpPr>
        <p:spPr>
          <a:xfrm flipV="1">
            <a:off x="4913280" y="5460480"/>
            <a:ext cx="14400" cy="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Text Box 42"/>
          <p:cNvSpPr/>
          <p:nvPr/>
        </p:nvSpPr>
        <p:spPr>
          <a:xfrm>
            <a:off x="4171680" y="59245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3"/>
          <p:cNvSpPr/>
          <p:nvPr/>
        </p:nvSpPr>
        <p:spPr>
          <a:xfrm>
            <a:off x="4319280" y="60674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Text Box 44"/>
          <p:cNvSpPr/>
          <p:nvPr/>
        </p:nvSpPr>
        <p:spPr>
          <a:xfrm>
            <a:off x="4658400" y="2651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Text Box 45"/>
          <p:cNvSpPr/>
          <p:nvPr/>
        </p:nvSpPr>
        <p:spPr>
          <a:xfrm>
            <a:off x="4281480" y="363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Oval 46"/>
          <p:cNvSpPr/>
          <p:nvPr/>
        </p:nvSpPr>
        <p:spPr>
          <a:xfrm>
            <a:off x="4581360" y="29782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Text Box 47"/>
          <p:cNvSpPr/>
          <p:nvPr/>
        </p:nvSpPr>
        <p:spPr>
          <a:xfrm>
            <a:off x="4982040" y="3284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Text Box 48"/>
          <p:cNvSpPr/>
          <p:nvPr/>
        </p:nvSpPr>
        <p:spPr>
          <a:xfrm>
            <a:off x="462276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Oval 49"/>
          <p:cNvSpPr/>
          <p:nvPr/>
        </p:nvSpPr>
        <p:spPr>
          <a:xfrm>
            <a:off x="486720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Text Box 50"/>
          <p:cNvSpPr/>
          <p:nvPr/>
        </p:nvSpPr>
        <p:spPr>
          <a:xfrm>
            <a:off x="4069440" y="3448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Oval 51"/>
          <p:cNvSpPr/>
          <p:nvPr/>
        </p:nvSpPr>
        <p:spPr>
          <a:xfrm>
            <a:off x="4576680" y="357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Text Box 52"/>
          <p:cNvSpPr/>
          <p:nvPr/>
        </p:nvSpPr>
        <p:spPr>
          <a:xfrm>
            <a:off x="4410720" y="54500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Oval 53"/>
          <p:cNvSpPr/>
          <p:nvPr/>
        </p:nvSpPr>
        <p:spPr>
          <a:xfrm>
            <a:off x="4867200" y="5500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Text Box 54"/>
          <p:cNvSpPr/>
          <p:nvPr/>
        </p:nvSpPr>
        <p:spPr>
          <a:xfrm>
            <a:off x="1326960" y="36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 Box 55"/>
          <p:cNvSpPr/>
          <p:nvPr/>
        </p:nvSpPr>
        <p:spPr>
          <a:xfrm>
            <a:off x="1114920" y="344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Oval 56"/>
          <p:cNvSpPr/>
          <p:nvPr/>
        </p:nvSpPr>
        <p:spPr>
          <a:xfrm>
            <a:off x="157176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57"/>
          <p:cNvSpPr/>
          <p:nvPr/>
        </p:nvSpPr>
        <p:spPr>
          <a:xfrm>
            <a:off x="4054320" y="30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Text Box 58"/>
          <p:cNvSpPr/>
          <p:nvPr/>
        </p:nvSpPr>
        <p:spPr>
          <a:xfrm>
            <a:off x="3841920" y="284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Oval 59"/>
          <p:cNvSpPr/>
          <p:nvPr/>
        </p:nvSpPr>
        <p:spPr>
          <a:xfrm>
            <a:off x="3701880" y="30211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60"/>
          <p:cNvSpPr/>
          <p:nvPr/>
        </p:nvSpPr>
        <p:spPr>
          <a:xfrm>
            <a:off x="1219680" y="116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Oval 61"/>
          <p:cNvSpPr/>
          <p:nvPr/>
        </p:nvSpPr>
        <p:spPr>
          <a:xfrm>
            <a:off x="1571760" y="1446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62"/>
          <p:cNvSpPr/>
          <p:nvPr/>
        </p:nvSpPr>
        <p:spPr>
          <a:xfrm>
            <a:off x="3785040" y="2109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Oval 63"/>
          <p:cNvSpPr/>
          <p:nvPr/>
        </p:nvSpPr>
        <p:spPr>
          <a:xfrm>
            <a:off x="3708360" y="240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64"/>
          <p:cNvSpPr/>
          <p:nvPr/>
        </p:nvSpPr>
        <p:spPr>
          <a:xfrm>
            <a:off x="4941000" y="1517760"/>
            <a:ext cx="41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  A  =A’B’B’ A’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B  =A’ 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65"/>
          <p:cNvSpPr/>
          <p:nvPr/>
        </p:nvSpPr>
        <p:spPr>
          <a:xfrm>
            <a:off x="8236080" y="177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6"/>
          <p:cNvSpPr/>
          <p:nvPr/>
        </p:nvSpPr>
        <p:spPr>
          <a:xfrm>
            <a:off x="7712280" y="177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67"/>
          <p:cNvSpPr/>
          <p:nvPr/>
        </p:nvSpPr>
        <p:spPr>
          <a:xfrm>
            <a:off x="5762880" y="2268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68"/>
          <p:cNvSpPr/>
          <p:nvPr/>
        </p:nvSpPr>
        <p:spPr>
          <a:xfrm>
            <a:off x="5238720" y="226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69"/>
          <p:cNvSpPr/>
          <p:nvPr/>
        </p:nvSpPr>
        <p:spPr>
          <a:xfrm>
            <a:off x="7000920" y="2265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70"/>
          <p:cNvSpPr/>
          <p:nvPr/>
        </p:nvSpPr>
        <p:spPr>
          <a:xfrm>
            <a:off x="6477120" y="225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71"/>
          <p:cNvSpPr/>
          <p:nvPr/>
        </p:nvSpPr>
        <p:spPr>
          <a:xfrm>
            <a:off x="6299280" y="1747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72"/>
          <p:cNvSpPr/>
          <p:nvPr/>
        </p:nvSpPr>
        <p:spPr>
          <a:xfrm>
            <a:off x="5775480" y="174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D96-91E7-419B-8273-BFE609A2E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5"/>
          <p:cNvSpPr/>
          <p:nvPr/>
        </p:nvSpPr>
        <p:spPr>
          <a:xfrm>
            <a:off x="182520" y="2146320"/>
            <a:ext cx="877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емещении объектов параллель-но плоскости проекций, размеры их проек-ций на данную плоскость не мен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DD0-C56A-4CCC-9004-03CDDDE4B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лоско-параллельного пере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5"/>
          <p:cNvSpPr/>
          <p:nvPr/>
        </p:nvSpPr>
        <p:spPr>
          <a:xfrm>
            <a:off x="182520" y="2146320"/>
            <a:ext cx="877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м методом решаются две основ-ные задачи, рассмотренные в методе заме-ны плоскостей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ы решения основных задач анало-гич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E59-9B26-4814-B875-A49E12B0D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Oval 12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13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14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Oval 15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 Box 16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17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Oval 18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 Box 19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Text Box 20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Oval 21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431-4CEE-4630-A5FD-90382B68D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355680" y="4957560"/>
            <a:ext cx="546120" cy="6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 flipV="1">
            <a:off x="901800" y="3800160"/>
            <a:ext cx="101124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4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9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0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1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6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7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1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87760" y="2214720"/>
            <a:ext cx="498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примера зададим точку А, находящуюся в пространстве и используя данный метод выполним преобразование чертежа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D82-32F6-41D2-8EE1-6FD15D6A5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Oval 12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Text Box 13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Text Box 14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Oval 15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Text Box 16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Text Box 17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Oval 18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Text Box 19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Text Box 20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Oval 21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Text Box 22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Text Box 23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Oval 24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2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9679-3E83-4379-974A-37E91898B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Oval 12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 Box 13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 Box 14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Oval 15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Text Box 16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 Box 17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Oval 18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Text Box 19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Text Box 20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Oval 21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22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23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25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Oval 26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2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FAB1-5AF0-42EF-BBBC-A59DDE115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Oval 12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Text Box 13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Text Box 14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Oval 15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Text Box 16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 Box 17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Oval 18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Text Box 19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 Box 20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21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22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Text Box 23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25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26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27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28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Text Box 29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30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Oval 31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Oval 32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3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091-9A6C-4BC3-BC77-E666CF645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Oval 2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Oval 3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Line 31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32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Oval 33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Oval 34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3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5CA-A0FC-41B4-914E-C11F4FEF3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37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Text Box 38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39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Oval 40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Oval 41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Oval 42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DC3-590A-471A-8177-4C45D5ECC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E2AD-0A99-4084-A6A2-FA6AA97BD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Freeform 44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Text Box 45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46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D49-0DFA-4ABD-940C-E3DEBEF32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Freeform 44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45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46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47"/>
          <p:cNvSpPr/>
          <p:nvPr/>
        </p:nvSpPr>
        <p:spPr>
          <a:xfrm>
            <a:off x="7563960" y="13539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48"/>
          <p:cNvSpPr/>
          <p:nvPr/>
        </p:nvSpPr>
        <p:spPr>
          <a:xfrm>
            <a:off x="7775280" y="15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Oval 49"/>
          <p:cNvSpPr/>
          <p:nvPr/>
        </p:nvSpPr>
        <p:spPr>
          <a:xfrm>
            <a:off x="8004240" y="150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D77B-7AD5-4D5B-9F48-0144AD103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Freeform 44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45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Text Box 46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47"/>
          <p:cNvSpPr/>
          <p:nvPr/>
        </p:nvSpPr>
        <p:spPr>
          <a:xfrm>
            <a:off x="7563960" y="13539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48"/>
          <p:cNvSpPr/>
          <p:nvPr/>
        </p:nvSpPr>
        <p:spPr>
          <a:xfrm>
            <a:off x="7775280" y="15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49"/>
          <p:cNvSpPr/>
          <p:nvPr/>
        </p:nvSpPr>
        <p:spPr>
          <a:xfrm>
            <a:off x="8067600" y="1552680"/>
            <a:ext cx="1800" cy="250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50"/>
          <p:cNvSpPr/>
          <p:nvPr/>
        </p:nvSpPr>
        <p:spPr>
          <a:xfrm flipH="1">
            <a:off x="8064000" y="4059360"/>
            <a:ext cx="324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Oval 51"/>
          <p:cNvSpPr/>
          <p:nvPr/>
        </p:nvSpPr>
        <p:spPr>
          <a:xfrm>
            <a:off x="8004240" y="150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C18F-7B77-45B4-AABC-321B377EC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Freeform 44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Text Box 45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Text Box 46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Text Box 47"/>
          <p:cNvSpPr/>
          <p:nvPr/>
        </p:nvSpPr>
        <p:spPr>
          <a:xfrm>
            <a:off x="7563960" y="13539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Text Box 48"/>
          <p:cNvSpPr/>
          <p:nvPr/>
        </p:nvSpPr>
        <p:spPr>
          <a:xfrm>
            <a:off x="7775280" y="15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49"/>
          <p:cNvSpPr/>
          <p:nvPr/>
        </p:nvSpPr>
        <p:spPr>
          <a:xfrm>
            <a:off x="8067600" y="1552680"/>
            <a:ext cx="1800" cy="250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Line 50"/>
          <p:cNvSpPr/>
          <p:nvPr/>
        </p:nvSpPr>
        <p:spPr>
          <a:xfrm flipH="1">
            <a:off x="8064000" y="4059360"/>
            <a:ext cx="32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Oval 51"/>
          <p:cNvSpPr/>
          <p:nvPr/>
        </p:nvSpPr>
        <p:spPr>
          <a:xfrm>
            <a:off x="8004240" y="150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52"/>
          <p:cNvSpPr/>
          <p:nvPr/>
        </p:nvSpPr>
        <p:spPr>
          <a:xfrm flipH="1">
            <a:off x="5310360" y="3143160"/>
            <a:ext cx="142560" cy="20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53"/>
          <p:cNvSpPr/>
          <p:nvPr/>
        </p:nvSpPr>
        <p:spPr>
          <a:xfrm flipH="1">
            <a:off x="5195520" y="3095640"/>
            <a:ext cx="142920" cy="20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54"/>
          <p:cNvSpPr/>
          <p:nvPr/>
        </p:nvSpPr>
        <p:spPr>
          <a:xfrm flipH="1">
            <a:off x="7967520" y="2771640"/>
            <a:ext cx="209520" cy="1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55"/>
          <p:cNvSpPr/>
          <p:nvPr/>
        </p:nvSpPr>
        <p:spPr>
          <a:xfrm flipH="1">
            <a:off x="7939080" y="2657520"/>
            <a:ext cx="209520" cy="1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56"/>
          <p:cNvSpPr/>
          <p:nvPr/>
        </p:nvSpPr>
        <p:spPr>
          <a:xfrm>
            <a:off x="7502040" y="346860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 Box 57"/>
          <p:cNvSpPr/>
          <p:nvPr/>
        </p:nvSpPr>
        <p:spPr>
          <a:xfrm>
            <a:off x="7713360" y="365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Oval 58"/>
          <p:cNvSpPr/>
          <p:nvPr/>
        </p:nvSpPr>
        <p:spPr>
          <a:xfrm>
            <a:off x="8008920" y="39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C63-B509-4048-8556-CB3095E4F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355680" y="4957560"/>
            <a:ext cx="546120" cy="6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901800" y="3800160"/>
            <a:ext cx="101124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3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4392720" y="2327400"/>
            <a:ext cx="429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ух картинном комплексном чертеже построим две проекции данной точки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м чертеж наглядно в аксоно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1AAC-A221-4396-846F-1C9CDF25B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8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9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10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11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1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1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14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15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Oval 16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17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8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Oval 19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20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21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Line 22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23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Line 24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Line 25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Line 26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27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28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Line 29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30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Oval 3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Oval 32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33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Line 34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Text Box 35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36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37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Text Box 38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Oval 39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Oval 40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Line 41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Oval 42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Oval 43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44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Text Box 45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46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Text Box 47"/>
          <p:cNvSpPr/>
          <p:nvPr/>
        </p:nvSpPr>
        <p:spPr>
          <a:xfrm>
            <a:off x="7563960" y="13539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Text Box 48"/>
          <p:cNvSpPr/>
          <p:nvPr/>
        </p:nvSpPr>
        <p:spPr>
          <a:xfrm>
            <a:off x="7775280" y="15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49"/>
          <p:cNvSpPr/>
          <p:nvPr/>
        </p:nvSpPr>
        <p:spPr>
          <a:xfrm>
            <a:off x="8067600" y="1552680"/>
            <a:ext cx="1800" cy="250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Line 50"/>
          <p:cNvSpPr/>
          <p:nvPr/>
        </p:nvSpPr>
        <p:spPr>
          <a:xfrm flipH="1">
            <a:off x="8064000" y="4059360"/>
            <a:ext cx="32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Oval 51"/>
          <p:cNvSpPr/>
          <p:nvPr/>
        </p:nvSpPr>
        <p:spPr>
          <a:xfrm>
            <a:off x="8004240" y="150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Line 52"/>
          <p:cNvSpPr/>
          <p:nvPr/>
        </p:nvSpPr>
        <p:spPr>
          <a:xfrm flipH="1">
            <a:off x="5310360" y="3143160"/>
            <a:ext cx="142560" cy="2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Line 53"/>
          <p:cNvSpPr/>
          <p:nvPr/>
        </p:nvSpPr>
        <p:spPr>
          <a:xfrm flipH="1">
            <a:off x="5195520" y="3095640"/>
            <a:ext cx="142920" cy="2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Line 54"/>
          <p:cNvSpPr/>
          <p:nvPr/>
        </p:nvSpPr>
        <p:spPr>
          <a:xfrm flipH="1">
            <a:off x="7967520" y="2771640"/>
            <a:ext cx="20952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Line 55"/>
          <p:cNvSpPr/>
          <p:nvPr/>
        </p:nvSpPr>
        <p:spPr>
          <a:xfrm flipH="1">
            <a:off x="7939080" y="2657520"/>
            <a:ext cx="20952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 Box 56"/>
          <p:cNvSpPr/>
          <p:nvPr/>
        </p:nvSpPr>
        <p:spPr>
          <a:xfrm>
            <a:off x="7502040" y="346860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Text Box 57"/>
          <p:cNvSpPr/>
          <p:nvPr/>
        </p:nvSpPr>
        <p:spPr>
          <a:xfrm>
            <a:off x="7713360" y="365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Oval 58"/>
          <p:cNvSpPr/>
          <p:nvPr/>
        </p:nvSpPr>
        <p:spPr>
          <a:xfrm>
            <a:off x="8008920" y="39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Line 59"/>
          <p:cNvSpPr/>
          <p:nvPr/>
        </p:nvSpPr>
        <p:spPr>
          <a:xfrm>
            <a:off x="6918480" y="5321160"/>
            <a:ext cx="1331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571-9797-4922-A808-12B117935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Line 3"/>
          <p:cNvSpPr/>
          <p:nvPr/>
        </p:nvSpPr>
        <p:spPr>
          <a:xfrm>
            <a:off x="600120" y="4303800"/>
            <a:ext cx="794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Line 4"/>
          <p:cNvSpPr/>
          <p:nvPr/>
        </p:nvSpPr>
        <p:spPr>
          <a:xfrm>
            <a:off x="1168560" y="2887560"/>
            <a:ext cx="1440" cy="346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Line 5"/>
          <p:cNvSpPr/>
          <p:nvPr/>
        </p:nvSpPr>
        <p:spPr>
          <a:xfrm>
            <a:off x="3046320" y="3522600"/>
            <a:ext cx="1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Line 6"/>
          <p:cNvSpPr/>
          <p:nvPr/>
        </p:nvSpPr>
        <p:spPr>
          <a:xfrm>
            <a:off x="1168560" y="2887560"/>
            <a:ext cx="187776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Line 7"/>
          <p:cNvSpPr/>
          <p:nvPr/>
        </p:nvSpPr>
        <p:spPr>
          <a:xfrm flipH="1">
            <a:off x="1168560" y="4818240"/>
            <a:ext cx="187776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Line 8"/>
          <p:cNvSpPr/>
          <p:nvPr/>
        </p:nvSpPr>
        <p:spPr>
          <a:xfrm flipV="1">
            <a:off x="4076640" y="2887560"/>
            <a:ext cx="1800" cy="24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Line 9"/>
          <p:cNvSpPr/>
          <p:nvPr/>
        </p:nvSpPr>
        <p:spPr>
          <a:xfrm>
            <a:off x="4076640" y="5321160"/>
            <a:ext cx="2424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0"/>
          <p:cNvSpPr/>
          <p:nvPr/>
        </p:nvSpPr>
        <p:spPr>
          <a:xfrm>
            <a:off x="6500880" y="53211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11"/>
          <p:cNvSpPr/>
          <p:nvPr/>
        </p:nvSpPr>
        <p:spPr>
          <a:xfrm>
            <a:off x="1168560" y="288756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12"/>
          <p:cNvSpPr/>
          <p:nvPr/>
        </p:nvSpPr>
        <p:spPr>
          <a:xfrm>
            <a:off x="3046320" y="3522600"/>
            <a:ext cx="372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13"/>
          <p:cNvSpPr/>
          <p:nvPr/>
        </p:nvSpPr>
        <p:spPr>
          <a:xfrm flipV="1">
            <a:off x="6500880" y="3522600"/>
            <a:ext cx="144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14"/>
          <p:cNvSpPr/>
          <p:nvPr/>
        </p:nvSpPr>
        <p:spPr>
          <a:xfrm>
            <a:off x="4076640" y="2887560"/>
            <a:ext cx="242424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Freeform 15"/>
          <p:cNvSpPr/>
          <p:nvPr/>
        </p:nvSpPr>
        <p:spPr>
          <a:xfrm>
            <a:off x="5889600" y="3392640"/>
            <a:ext cx="115920" cy="911160"/>
          </a:xfrm>
          <a:custGeom>
            <a:avLst/>
            <a:gdLst/>
            <a:ahLst/>
            <a:rect l="l" t="t" r="r" b="b"/>
            <a:pathLst>
              <a:path w="516" h="4013">
                <a:moveTo>
                  <a:pt x="516" y="0"/>
                </a:moveTo>
                <a:lnTo>
                  <a:pt x="395" y="493"/>
                </a:lnTo>
                <a:lnTo>
                  <a:pt x="291" y="989"/>
                </a:lnTo>
                <a:lnTo>
                  <a:pt x="201" y="1489"/>
                </a:lnTo>
                <a:lnTo>
                  <a:pt x="129" y="1990"/>
                </a:lnTo>
                <a:lnTo>
                  <a:pt x="72" y="2494"/>
                </a:lnTo>
                <a:lnTo>
                  <a:pt x="32" y="2999"/>
                </a:lnTo>
                <a:lnTo>
                  <a:pt x="7" y="3506"/>
                </a:lnTo>
                <a:lnTo>
                  <a:pt x="0" y="40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16"/>
          <p:cNvSpPr/>
          <p:nvPr/>
        </p:nvSpPr>
        <p:spPr>
          <a:xfrm>
            <a:off x="8067600" y="1552680"/>
            <a:ext cx="1800" cy="250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Line 17"/>
          <p:cNvSpPr/>
          <p:nvPr/>
        </p:nvSpPr>
        <p:spPr>
          <a:xfrm>
            <a:off x="8067600" y="4059360"/>
            <a:ext cx="1800" cy="126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Line 18"/>
          <p:cNvSpPr/>
          <p:nvPr/>
        </p:nvSpPr>
        <p:spPr>
          <a:xfrm>
            <a:off x="6918480" y="5321160"/>
            <a:ext cx="133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Line 19"/>
          <p:cNvSpPr/>
          <p:nvPr/>
        </p:nvSpPr>
        <p:spPr>
          <a:xfrm>
            <a:off x="2081160" y="5477040"/>
            <a:ext cx="1904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20"/>
          <p:cNvSpPr/>
          <p:nvPr/>
        </p:nvSpPr>
        <p:spPr>
          <a:xfrm>
            <a:off x="5214960" y="5219640"/>
            <a:ext cx="1332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Line 21"/>
          <p:cNvSpPr/>
          <p:nvPr/>
        </p:nvSpPr>
        <p:spPr>
          <a:xfrm flipH="1">
            <a:off x="5310360" y="3143160"/>
            <a:ext cx="142560" cy="2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Line 22"/>
          <p:cNvSpPr/>
          <p:nvPr/>
        </p:nvSpPr>
        <p:spPr>
          <a:xfrm flipH="1">
            <a:off x="5195520" y="3095640"/>
            <a:ext cx="142920" cy="2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Line 23"/>
          <p:cNvSpPr/>
          <p:nvPr/>
        </p:nvSpPr>
        <p:spPr>
          <a:xfrm flipH="1">
            <a:off x="7967520" y="2771640"/>
            <a:ext cx="20952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Line 24"/>
          <p:cNvSpPr/>
          <p:nvPr/>
        </p:nvSpPr>
        <p:spPr>
          <a:xfrm flipH="1">
            <a:off x="7939080" y="2657520"/>
            <a:ext cx="20952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25"/>
          <p:cNvSpPr/>
          <p:nvPr/>
        </p:nvSpPr>
        <p:spPr>
          <a:xfrm>
            <a:off x="596520" y="389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Text Box 26"/>
          <p:cNvSpPr/>
          <p:nvPr/>
        </p:nvSpPr>
        <p:spPr>
          <a:xfrm>
            <a:off x="744480" y="40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Text Box 27"/>
          <p:cNvSpPr/>
          <p:nvPr/>
        </p:nvSpPr>
        <p:spPr>
          <a:xfrm>
            <a:off x="3704400" y="24004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Text Box 28"/>
          <p:cNvSpPr/>
          <p:nvPr/>
        </p:nvSpPr>
        <p:spPr>
          <a:xfrm>
            <a:off x="391608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Oval 29"/>
          <p:cNvSpPr/>
          <p:nvPr/>
        </p:nvSpPr>
        <p:spPr>
          <a:xfrm>
            <a:off x="4033800" y="2835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Text Box 30"/>
          <p:cNvSpPr/>
          <p:nvPr/>
        </p:nvSpPr>
        <p:spPr>
          <a:xfrm>
            <a:off x="6614280" y="5383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Text Box 31"/>
          <p:cNvSpPr/>
          <p:nvPr/>
        </p:nvSpPr>
        <p:spPr>
          <a:xfrm>
            <a:off x="6825960" y="55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Oval 32"/>
          <p:cNvSpPr/>
          <p:nvPr/>
        </p:nvSpPr>
        <p:spPr>
          <a:xfrm>
            <a:off x="6446880" y="525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Text Box 33"/>
          <p:cNvSpPr/>
          <p:nvPr/>
        </p:nvSpPr>
        <p:spPr>
          <a:xfrm>
            <a:off x="6528240" y="3027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Text Box 34"/>
          <p:cNvSpPr/>
          <p:nvPr/>
        </p:nvSpPr>
        <p:spPr>
          <a:xfrm>
            <a:off x="6740280" y="321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Oval 35"/>
          <p:cNvSpPr/>
          <p:nvPr/>
        </p:nvSpPr>
        <p:spPr>
          <a:xfrm>
            <a:off x="6438960" y="346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Text Box 36"/>
          <p:cNvSpPr/>
          <p:nvPr/>
        </p:nvSpPr>
        <p:spPr>
          <a:xfrm>
            <a:off x="3555000" y="5197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Text Box 37"/>
          <p:cNvSpPr/>
          <p:nvPr/>
        </p:nvSpPr>
        <p:spPr>
          <a:xfrm>
            <a:off x="3767040" y="5383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Oval 38"/>
          <p:cNvSpPr/>
          <p:nvPr/>
        </p:nvSpPr>
        <p:spPr>
          <a:xfrm>
            <a:off x="4011480" y="524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Text Box 39"/>
          <p:cNvSpPr/>
          <p:nvPr/>
        </p:nvSpPr>
        <p:spPr>
          <a:xfrm>
            <a:off x="789480" y="2392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40"/>
          <p:cNvSpPr/>
          <p:nvPr/>
        </p:nvSpPr>
        <p:spPr>
          <a:xfrm>
            <a:off x="1001520" y="257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Oval 41"/>
          <p:cNvSpPr/>
          <p:nvPr/>
        </p:nvSpPr>
        <p:spPr>
          <a:xfrm>
            <a:off x="1119240" y="2827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Text Box 42"/>
          <p:cNvSpPr/>
          <p:nvPr/>
        </p:nvSpPr>
        <p:spPr>
          <a:xfrm>
            <a:off x="3067560" y="302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Text Box 43"/>
          <p:cNvSpPr/>
          <p:nvPr/>
        </p:nvSpPr>
        <p:spPr>
          <a:xfrm>
            <a:off x="3279600" y="3214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44"/>
          <p:cNvSpPr/>
          <p:nvPr/>
        </p:nvSpPr>
        <p:spPr>
          <a:xfrm>
            <a:off x="2978280" y="3463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45"/>
          <p:cNvSpPr/>
          <p:nvPr/>
        </p:nvSpPr>
        <p:spPr>
          <a:xfrm>
            <a:off x="649800" y="6205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46"/>
          <p:cNvSpPr/>
          <p:nvPr/>
        </p:nvSpPr>
        <p:spPr>
          <a:xfrm>
            <a:off x="861840" y="639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Oval 47"/>
          <p:cNvSpPr/>
          <p:nvPr/>
        </p:nvSpPr>
        <p:spPr>
          <a:xfrm>
            <a:off x="1106640" y="625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Text Box 48"/>
          <p:cNvSpPr/>
          <p:nvPr/>
        </p:nvSpPr>
        <p:spPr>
          <a:xfrm>
            <a:off x="5562360" y="3697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Text Box 49"/>
          <p:cNvSpPr/>
          <p:nvPr/>
        </p:nvSpPr>
        <p:spPr>
          <a:xfrm rot="1006200">
            <a:off x="4834800" y="2682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50"/>
          <p:cNvSpPr/>
          <p:nvPr/>
        </p:nvSpPr>
        <p:spPr>
          <a:xfrm>
            <a:off x="7563960" y="13539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Text Box 51"/>
          <p:cNvSpPr/>
          <p:nvPr/>
        </p:nvSpPr>
        <p:spPr>
          <a:xfrm>
            <a:off x="7775280" y="15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Oval 52"/>
          <p:cNvSpPr/>
          <p:nvPr/>
        </p:nvSpPr>
        <p:spPr>
          <a:xfrm>
            <a:off x="8004240" y="1506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53"/>
          <p:cNvSpPr/>
          <p:nvPr/>
        </p:nvSpPr>
        <p:spPr>
          <a:xfrm>
            <a:off x="7502040" y="346860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54"/>
          <p:cNvSpPr/>
          <p:nvPr/>
        </p:nvSpPr>
        <p:spPr>
          <a:xfrm>
            <a:off x="7713360" y="365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Oval 55"/>
          <p:cNvSpPr/>
          <p:nvPr/>
        </p:nvSpPr>
        <p:spPr>
          <a:xfrm>
            <a:off x="8008920" y="39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56"/>
          <p:cNvSpPr/>
          <p:nvPr/>
        </p:nvSpPr>
        <p:spPr>
          <a:xfrm>
            <a:off x="7502760" y="54259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57"/>
          <p:cNvSpPr/>
          <p:nvPr/>
        </p:nvSpPr>
        <p:spPr>
          <a:xfrm>
            <a:off x="8277120" y="561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Oval 58"/>
          <p:cNvSpPr/>
          <p:nvPr/>
        </p:nvSpPr>
        <p:spPr>
          <a:xfrm>
            <a:off x="8016840" y="5262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59"/>
          <p:cNvSpPr/>
          <p:nvPr/>
        </p:nvSpPr>
        <p:spPr>
          <a:xfrm>
            <a:off x="7713360" y="561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60"/>
          <p:cNvSpPr/>
          <p:nvPr/>
        </p:nvSpPr>
        <p:spPr>
          <a:xfrm>
            <a:off x="3116520" y="46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61"/>
          <p:cNvSpPr/>
          <p:nvPr/>
        </p:nvSpPr>
        <p:spPr>
          <a:xfrm>
            <a:off x="332892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Oval 62"/>
          <p:cNvSpPr/>
          <p:nvPr/>
        </p:nvSpPr>
        <p:spPr>
          <a:xfrm>
            <a:off x="2984400" y="474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831-0B94-4158-9DBC-CB1AE4B54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6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7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8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9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30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31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32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33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34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39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40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60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61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65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66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Oval 67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93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94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Oval 95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ext Box 99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Text Box 100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Oval 101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Oval 102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103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Text Box 104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Oval 128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Text Box 129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Text Box 130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Oval 131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1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1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A90C-1B7A-45EF-8DF4-BAE0FF091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Oval 20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21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22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Oval 23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24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25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Oval 26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Oval 27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28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29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Oval 32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33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34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36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Text Box 37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38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 Box 39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 Box 40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Oval 41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3EA-8951-4B68-A49A-BCEA26E9B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 Box 21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Text Box 22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Oval 23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 Box 24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Text Box 25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Oval 26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Oval 27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28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29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Oval 32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Text Box 33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Text Box 34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Text Box 36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Text Box 37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Line 38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Line 39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40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Text Box 41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 Box 44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Text Box 45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Text Box 46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Text Box 47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5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5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Text Box 5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5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Oval 5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Oval 57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Oval 58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Oval 59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ABE-806D-4906-9262-2B15248A5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4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Line 43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44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45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46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47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48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49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50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51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52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53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Text Box 54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Text Box 55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 Box 56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57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59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60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Oval 61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Text Box 62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Text Box 63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64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65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Text Box 66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Text Box 67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70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Text Box 71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Text Box 72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73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Text Box 74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75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76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77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78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79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80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81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Text Box 82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83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84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85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86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Oval 87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Oval 88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Oval 89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90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Text Box 91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92"/>
          <p:cNvSpPr/>
          <p:nvPr/>
        </p:nvSpPr>
        <p:spPr>
          <a:xfrm>
            <a:off x="36050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Oval 93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67E-616F-4ECB-896F-F98BF0206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53"/>
          <p:cNvSpPr/>
          <p:nvPr/>
        </p:nvSpPr>
        <p:spPr>
          <a:xfrm>
            <a:off x="36050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55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Oval 57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BC32-637D-48C5-B53B-88F04A59F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Text Box 53"/>
          <p:cNvSpPr/>
          <p:nvPr/>
        </p:nvSpPr>
        <p:spPr>
          <a:xfrm>
            <a:off x="36050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Oval 5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Line 57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Oval 58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59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60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328-9E5A-4B93-8A97-3195202F6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Text Box 21"/>
          <p:cNvSpPr/>
          <p:nvPr/>
        </p:nvSpPr>
        <p:spPr>
          <a:xfrm rot="2668800">
            <a:off x="4995000" y="212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57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Text Box 59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Text Box 60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Freeform 61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Freeform 62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Line 63"/>
          <p:cNvSpPr/>
          <p:nvPr/>
        </p:nvSpPr>
        <p:spPr>
          <a:xfrm>
            <a:off x="3960720" y="1411200"/>
            <a:ext cx="1582920" cy="146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64"/>
          <p:cNvSpPr/>
          <p:nvPr/>
        </p:nvSpPr>
        <p:spPr>
          <a:xfrm flipV="1">
            <a:off x="3960720" y="2787120"/>
            <a:ext cx="922320" cy="42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Oval 65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Oval 66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Text Box 67"/>
          <p:cNvSpPr/>
          <p:nvPr/>
        </p:nvSpPr>
        <p:spPr>
          <a:xfrm rot="20169600">
            <a:off x="3893400" y="2572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68"/>
          <p:cNvSpPr/>
          <p:nvPr/>
        </p:nvSpPr>
        <p:spPr>
          <a:xfrm rot="2524800">
            <a:off x="4528800" y="18964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71"/>
          <p:cNvSpPr/>
          <p:nvPr/>
        </p:nvSpPr>
        <p:spPr>
          <a:xfrm rot="2668800">
            <a:off x="5248800" y="235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72"/>
          <p:cNvSpPr/>
          <p:nvPr/>
        </p:nvSpPr>
        <p:spPr>
          <a:xfrm rot="20104200">
            <a:off x="4413600" y="2669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73"/>
          <p:cNvSpPr/>
          <p:nvPr/>
        </p:nvSpPr>
        <p:spPr>
          <a:xfrm rot="20104200">
            <a:off x="4729320" y="25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74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9285-F748-42D4-AD20-71489663B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Text Box 57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Text Box 58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Freeform 59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Freeform 60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Oval 63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Oval 64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67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Oval 68"/>
          <p:cNvSpPr/>
          <p:nvPr/>
        </p:nvSpPr>
        <p:spPr>
          <a:xfrm>
            <a:off x="49132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69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0EF6-138A-4FD7-B007-8B3951B7A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355680" y="4957560"/>
            <a:ext cx="546120" cy="6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V="1">
            <a:off x="901800" y="3800160"/>
            <a:ext cx="1011240" cy="11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8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8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1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4308480" y="5581800"/>
            <a:ext cx="41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м ортогональный черт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532B-6E0B-4A02-B9D6-0D57DD6EE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57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Text Box 58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Freeform 59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reeform 60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Oval 61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Text Box 63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65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Line 66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Oval 67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Oval 68"/>
          <p:cNvSpPr/>
          <p:nvPr/>
        </p:nvSpPr>
        <p:spPr>
          <a:xfrm>
            <a:off x="49132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Text Box 69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E0E-2EE0-4380-8E99-AC71EB80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57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58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Freeform 59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Freeform 60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Oval 61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62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Line 63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Line 64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Oval 65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Oval 66"/>
          <p:cNvSpPr/>
          <p:nvPr/>
        </p:nvSpPr>
        <p:spPr>
          <a:xfrm>
            <a:off x="49132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67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68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Oval 69"/>
          <p:cNvSpPr/>
          <p:nvPr/>
        </p:nvSpPr>
        <p:spPr>
          <a:xfrm>
            <a:off x="3346560" y="3089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Text Box 70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583-5E4D-4D3D-A960-E2458DDED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Oval 2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Oval 2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Oval 49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57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Text Box 58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Freeform 59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Freeform 60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62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63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Line 64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Oval 65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Text Box 67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Text Box 68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70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71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Oval 72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Oval 73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Oval 74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 Box 75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9234-D405-4EDE-BFFB-61EE3B6D7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Text Box 27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Text Box 28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Oval 31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Text Box 32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Text Box 33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Text Box 3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Text Box 3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Line 36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Line 37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Text Box 38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Text Box 39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 Box 40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Text Box 41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Text Box 42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Text Box 43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44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45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Text Box 46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Text Box 47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Oval 48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Oval 5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Oval 51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Text Box 52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53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Line 54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Line 55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Line 56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57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58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Freeform 59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Freeform 60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61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Line 62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Line 63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Oval 64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65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66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Line 67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Line 68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Oval 69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Oval 70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Oval 71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Line 72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Line 73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Line 74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Oval 75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Oval 76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Oval 77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78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F9B-3A22-4C65-8E8E-341A8E46C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Text Box 54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Line 69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Line 70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Line 71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Oval 72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Oval 73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Oval 74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75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76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Line 77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81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Oval 82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Oval 83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Text Box 84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Text Box 85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Text Box 86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Text Box 8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Text Box 8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Oval 89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Oval 90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Oval 91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Text Box 92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460-0F63-4983-AE41-5995EE89B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79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80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81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82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83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Oval 85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Oval 86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Line 87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Line 88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Oval 89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Oval 90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Oval 91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Text Box 92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D14-051B-4F69-883B-070044C3A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Text Box 77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Text Box 78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79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Text Box 8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Text Box 8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Oval 82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Oval 83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84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Line 85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Oval 86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Oval 87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Oval 88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Freeform 89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Text Box 90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Text Box 91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8B2-8E9E-42B4-AD58-9C818E565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77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Text Box 78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Text Box 79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Text Box 8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Text Box 8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Oval 82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Oval 83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Line 84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85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Oval 86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Oval 87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Oval 88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reeform 89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Text Box 90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Text Box 91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Text Box 92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Oval 93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Text Box 94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CC5-A169-4160-8907-23585F1E4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Text Box 77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78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Text Box 79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Text Box 8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Text Box 8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Oval 82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Oval 83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84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85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Oval 86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Oval 87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Oval 88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Freeform 89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Text Box 90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Text Box 91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92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Line 94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Line 95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Line 96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98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Text Box 99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FFC-E816-4D91-8760-3D61D3CE4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Oval 6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Text Box 77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Text Box 78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Text Box 79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Text Box 8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Text Box 8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Oval 82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Oval 83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Line 84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Line 85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Oval 86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Oval 87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Oval 88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Freeform 89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Text Box 90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Text Box 91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Text Box 92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Line 93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94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Line 95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96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Text Box 97"/>
          <p:cNvSpPr/>
          <p:nvPr/>
        </p:nvSpPr>
        <p:spPr>
          <a:xfrm>
            <a:off x="7946640" y="4467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Text Box 98"/>
          <p:cNvSpPr/>
          <p:nvPr/>
        </p:nvSpPr>
        <p:spPr>
          <a:xfrm>
            <a:off x="815796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Text Box 99"/>
          <p:cNvSpPr/>
          <p:nvPr/>
        </p:nvSpPr>
        <p:spPr>
          <a:xfrm>
            <a:off x="6550560" y="44672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Text Box 100"/>
          <p:cNvSpPr/>
          <p:nvPr/>
        </p:nvSpPr>
        <p:spPr>
          <a:xfrm>
            <a:off x="676260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101"/>
          <p:cNvSpPr/>
          <p:nvPr/>
        </p:nvSpPr>
        <p:spPr>
          <a:xfrm>
            <a:off x="807552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102"/>
          <p:cNvSpPr/>
          <p:nvPr/>
        </p:nvSpPr>
        <p:spPr>
          <a:xfrm>
            <a:off x="669276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103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43DE-799A-496D-B7E8-F348855C7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55680" y="5581800"/>
            <a:ext cx="18828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 flipV="1">
            <a:off x="2238480" y="4881600"/>
            <a:ext cx="1557360" cy="17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55680" y="3255840"/>
            <a:ext cx="144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355680" y="4792680"/>
            <a:ext cx="695160" cy="7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V="1">
            <a:off x="355680" y="1474560"/>
            <a:ext cx="1557360" cy="178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913040" y="1474920"/>
            <a:ext cx="1440" cy="9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913040" y="3800520"/>
            <a:ext cx="1674720" cy="9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3587760" y="4761000"/>
            <a:ext cx="20808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13040" y="2441520"/>
            <a:ext cx="1440" cy="135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V="1">
            <a:off x="1044720" y="3800520"/>
            <a:ext cx="868320" cy="99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1938240" y="60944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615040" y="432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 rot="18472200">
            <a:off x="362160" y="491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 rot="18491400">
            <a:off x="524160" y="4931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1490400" y="182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638000" y="1969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2085840" y="6237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 flipV="1">
            <a:off x="2625840" y="4551480"/>
            <a:ext cx="144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901800" y="4957920"/>
            <a:ext cx="172404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901800" y="3560400"/>
            <a:ext cx="144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86240" y="54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528840" y="316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 flipH="1" flipV="1">
            <a:off x="901440" y="3560760"/>
            <a:ext cx="17240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8"/>
          <p:cNvSpPr/>
          <p:nvPr/>
        </p:nvSpPr>
        <p:spPr>
          <a:xfrm>
            <a:off x="2560680" y="587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2800080" y="559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42680" y="330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1"/>
          <p:cNvSpPr/>
          <p:nvPr/>
        </p:nvSpPr>
        <p:spPr>
          <a:xfrm>
            <a:off x="846000" y="350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2"/>
          <p:cNvSpPr/>
          <p:nvPr/>
        </p:nvSpPr>
        <p:spPr>
          <a:xfrm>
            <a:off x="2570040" y="4486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3"/>
          <p:cNvSpPr/>
          <p:nvPr/>
        </p:nvSpPr>
        <p:spPr>
          <a:xfrm>
            <a:off x="4199040" y="2941560"/>
            <a:ext cx="4037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4"/>
          <p:cNvSpPr/>
          <p:nvPr/>
        </p:nvSpPr>
        <p:spPr>
          <a:xfrm>
            <a:off x="5460840" y="1897200"/>
            <a:ext cx="18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5"/>
          <p:cNvSpPr/>
          <p:nvPr/>
        </p:nvSpPr>
        <p:spPr>
          <a:xfrm>
            <a:off x="5460840" y="2941560"/>
            <a:ext cx="1800" cy="203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87680" y="1649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7"/>
          <p:cNvSpPr/>
          <p:nvPr/>
        </p:nvSpPr>
        <p:spPr>
          <a:xfrm>
            <a:off x="5397480" y="1846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8"/>
          <p:cNvSpPr/>
          <p:nvPr/>
        </p:nvSpPr>
        <p:spPr>
          <a:xfrm>
            <a:off x="5086800" y="150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9"/>
          <p:cNvSpPr/>
          <p:nvPr/>
        </p:nvSpPr>
        <p:spPr>
          <a:xfrm>
            <a:off x="5208480" y="504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0"/>
          <p:cNvSpPr/>
          <p:nvPr/>
        </p:nvSpPr>
        <p:spPr>
          <a:xfrm>
            <a:off x="5391000" y="49165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4994640" y="490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4309560" y="255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457520" y="2693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1052640" y="4761000"/>
            <a:ext cx="253512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5"/>
          <p:cNvSpPr/>
          <p:nvPr/>
        </p:nvSpPr>
        <p:spPr>
          <a:xfrm flipV="1">
            <a:off x="1052640" y="2460600"/>
            <a:ext cx="1440" cy="235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6"/>
          <p:cNvSpPr/>
          <p:nvPr/>
        </p:nvSpPr>
        <p:spPr>
          <a:xfrm flipV="1">
            <a:off x="1052640" y="2406600"/>
            <a:ext cx="253512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 flipV="1">
            <a:off x="3587760" y="2406600"/>
            <a:ext cx="1440" cy="235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1409040" y="443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9"/>
          <p:cNvSpPr/>
          <p:nvPr/>
        </p:nvSpPr>
        <p:spPr>
          <a:xfrm rot="21466200">
            <a:off x="1566360" y="4575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100320" y="2475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3247560" y="26179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3325680" y="5599080"/>
            <a:ext cx="491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новую плоскость П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пендикулярно П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произвольном рас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D0F-D284-440C-B202-4B4E35040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Line 67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Line 68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Line 69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Oval 70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Oval 71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Oval 72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Line 7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74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Line 75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77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78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79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8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8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Line 84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85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Oval 86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Oval 87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Oval 88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Freeform 89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90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91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Text Box 92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Line 93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Line 94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95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Oval 96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97"/>
          <p:cNvSpPr/>
          <p:nvPr/>
        </p:nvSpPr>
        <p:spPr>
          <a:xfrm>
            <a:off x="7946640" y="4467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98"/>
          <p:cNvSpPr/>
          <p:nvPr/>
        </p:nvSpPr>
        <p:spPr>
          <a:xfrm>
            <a:off x="815796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99"/>
          <p:cNvSpPr/>
          <p:nvPr/>
        </p:nvSpPr>
        <p:spPr>
          <a:xfrm>
            <a:off x="6550560" y="44672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00"/>
          <p:cNvSpPr/>
          <p:nvPr/>
        </p:nvSpPr>
        <p:spPr>
          <a:xfrm>
            <a:off x="676260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Oval 101"/>
          <p:cNvSpPr/>
          <p:nvPr/>
        </p:nvSpPr>
        <p:spPr>
          <a:xfrm>
            <a:off x="807552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Oval 102"/>
          <p:cNvSpPr/>
          <p:nvPr/>
        </p:nvSpPr>
        <p:spPr>
          <a:xfrm>
            <a:off x="669276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103"/>
          <p:cNvSpPr/>
          <p:nvPr/>
        </p:nvSpPr>
        <p:spPr>
          <a:xfrm>
            <a:off x="3395520" y="3147840"/>
            <a:ext cx="2810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104"/>
          <p:cNvSpPr/>
          <p:nvPr/>
        </p:nvSpPr>
        <p:spPr>
          <a:xfrm>
            <a:off x="3960720" y="1411200"/>
            <a:ext cx="29527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Line 105"/>
          <p:cNvSpPr/>
          <p:nvPr/>
        </p:nvSpPr>
        <p:spPr>
          <a:xfrm>
            <a:off x="4968720" y="3321000"/>
            <a:ext cx="33609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Oval 106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Oval 107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Oval 108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Text Box 109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86B-4857-45DC-B451-1725A9D29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Line 66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67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68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Oval 69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Oval 70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Oval 71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Line 72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73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Line 74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75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76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77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8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Text Box 79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80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81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82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Oval 83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Oval 84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Oval 85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Freeform 86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Text Box 87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Text Box 88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Text Box 89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Line 90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91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Line 92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Text Box 94"/>
          <p:cNvSpPr/>
          <p:nvPr/>
        </p:nvSpPr>
        <p:spPr>
          <a:xfrm>
            <a:off x="7946640" y="4467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Text Box 95"/>
          <p:cNvSpPr/>
          <p:nvPr/>
        </p:nvSpPr>
        <p:spPr>
          <a:xfrm>
            <a:off x="815796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Text Box 96"/>
          <p:cNvSpPr/>
          <p:nvPr/>
        </p:nvSpPr>
        <p:spPr>
          <a:xfrm>
            <a:off x="6550560" y="44672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Text Box 97"/>
          <p:cNvSpPr/>
          <p:nvPr/>
        </p:nvSpPr>
        <p:spPr>
          <a:xfrm>
            <a:off x="676260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Line 100"/>
          <p:cNvSpPr/>
          <p:nvPr/>
        </p:nvSpPr>
        <p:spPr>
          <a:xfrm>
            <a:off x="3395520" y="3147840"/>
            <a:ext cx="2810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Line 101"/>
          <p:cNvSpPr/>
          <p:nvPr/>
        </p:nvSpPr>
        <p:spPr>
          <a:xfrm>
            <a:off x="3960720" y="1411200"/>
            <a:ext cx="2952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02"/>
          <p:cNvSpPr/>
          <p:nvPr/>
        </p:nvSpPr>
        <p:spPr>
          <a:xfrm>
            <a:off x="4968720" y="3321000"/>
            <a:ext cx="3360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Oval 103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Oval 104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Oval 105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07"/>
          <p:cNvSpPr/>
          <p:nvPr/>
        </p:nvSpPr>
        <p:spPr>
          <a:xfrm flipV="1">
            <a:off x="5970600" y="3147480"/>
            <a:ext cx="1440" cy="1287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Line 108"/>
          <p:cNvSpPr/>
          <p:nvPr/>
        </p:nvSpPr>
        <p:spPr>
          <a:xfrm flipV="1">
            <a:off x="8134200" y="3321000"/>
            <a:ext cx="0" cy="111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Oval 110"/>
          <p:cNvSpPr/>
          <p:nvPr/>
        </p:nvSpPr>
        <p:spPr>
          <a:xfrm>
            <a:off x="8075520" y="3265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Oval 111"/>
          <p:cNvSpPr/>
          <p:nvPr/>
        </p:nvSpPr>
        <p:spPr>
          <a:xfrm>
            <a:off x="5913360" y="3075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Oval 112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Oval 113"/>
          <p:cNvSpPr/>
          <p:nvPr/>
        </p:nvSpPr>
        <p:spPr>
          <a:xfrm>
            <a:off x="807552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14"/>
          <p:cNvSpPr/>
          <p:nvPr/>
        </p:nvSpPr>
        <p:spPr>
          <a:xfrm flipV="1">
            <a:off x="6746760" y="1410840"/>
            <a:ext cx="1800" cy="302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Oval 115"/>
          <p:cNvSpPr/>
          <p:nvPr/>
        </p:nvSpPr>
        <p:spPr>
          <a:xfrm>
            <a:off x="669276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Oval 116"/>
          <p:cNvSpPr/>
          <p:nvPr/>
        </p:nvSpPr>
        <p:spPr>
          <a:xfrm>
            <a:off x="6689880" y="1365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Text Box 117"/>
          <p:cNvSpPr/>
          <p:nvPr/>
        </p:nvSpPr>
        <p:spPr>
          <a:xfrm>
            <a:off x="6874560" y="1163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8"/>
          <p:cNvSpPr/>
          <p:nvPr/>
        </p:nvSpPr>
        <p:spPr>
          <a:xfrm>
            <a:off x="7086600" y="134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Text Box 119"/>
          <p:cNvSpPr/>
          <p:nvPr/>
        </p:nvSpPr>
        <p:spPr>
          <a:xfrm>
            <a:off x="8056080" y="287820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20"/>
          <p:cNvSpPr/>
          <p:nvPr/>
        </p:nvSpPr>
        <p:spPr>
          <a:xfrm>
            <a:off x="8267400" y="3063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1"/>
          <p:cNvSpPr/>
          <p:nvPr/>
        </p:nvSpPr>
        <p:spPr>
          <a:xfrm>
            <a:off x="5584320" y="26398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22"/>
          <p:cNvSpPr/>
          <p:nvPr/>
        </p:nvSpPr>
        <p:spPr>
          <a:xfrm>
            <a:off x="579564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23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6E6-1C89-4FDD-BF2F-E777DC0AC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Line 5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Line 6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Line 7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Line 8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Line 9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Line 10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Line 11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Line 12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Line 13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Line 14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Line 15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Text Box 16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7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8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Text Box 19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Text Box 20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21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Oval 22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Text Box 23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24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25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26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27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28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Oval 29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30"/>
          <p:cNvSpPr/>
          <p:nvPr/>
        </p:nvSpPr>
        <p:spPr>
          <a:xfrm>
            <a:off x="578160" y="21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31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32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33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34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Line 35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36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Text Box 37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Text Box 38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39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40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41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Line 42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Line 43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Text Box 44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Text Box 45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Oval 46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Oval 47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Oval 4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Text Box 49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Text Box 50"/>
          <p:cNvSpPr/>
          <p:nvPr/>
        </p:nvSpPr>
        <p:spPr>
          <a:xfrm>
            <a:off x="35924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Line 51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Line 52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Line 53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Text Box 54"/>
          <p:cNvSpPr/>
          <p:nvPr/>
        </p:nvSpPr>
        <p:spPr>
          <a:xfrm>
            <a:off x="3575160" y="3243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Text Box 55"/>
          <p:cNvSpPr/>
          <p:nvPr/>
        </p:nvSpPr>
        <p:spPr>
          <a:xfrm>
            <a:off x="3762360" y="34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Freeform 56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Freeform 57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Text Box 58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Line 59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Line 60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Oval 61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Text Box 62"/>
          <p:cNvSpPr/>
          <p:nvPr/>
        </p:nvSpPr>
        <p:spPr>
          <a:xfrm>
            <a:off x="3016800" y="26622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Text Box 63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Line 64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Line 65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Line 66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Line 67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Line 68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Oval 69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Oval 70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Oval 71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Line 72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Line 73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Line 74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Text Box 75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Text Box 76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Text Box 77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Text Box 78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Text Box 79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Text Box 80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Line 81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Line 82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Oval 83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Oval 84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Oval 85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Freeform 86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Text Box 87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Text Box 88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Text Box 89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Line 90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Line 91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92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Text Box 93"/>
          <p:cNvSpPr/>
          <p:nvPr/>
        </p:nvSpPr>
        <p:spPr>
          <a:xfrm>
            <a:off x="7946640" y="4467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Text Box 94"/>
          <p:cNvSpPr/>
          <p:nvPr/>
        </p:nvSpPr>
        <p:spPr>
          <a:xfrm>
            <a:off x="815796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Text Box 95"/>
          <p:cNvSpPr/>
          <p:nvPr/>
        </p:nvSpPr>
        <p:spPr>
          <a:xfrm>
            <a:off x="6550560" y="44672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Text Box 96"/>
          <p:cNvSpPr/>
          <p:nvPr/>
        </p:nvSpPr>
        <p:spPr>
          <a:xfrm>
            <a:off x="676260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Line 97"/>
          <p:cNvSpPr/>
          <p:nvPr/>
        </p:nvSpPr>
        <p:spPr>
          <a:xfrm>
            <a:off x="3395520" y="3147840"/>
            <a:ext cx="2810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Line 98"/>
          <p:cNvSpPr/>
          <p:nvPr/>
        </p:nvSpPr>
        <p:spPr>
          <a:xfrm>
            <a:off x="3960720" y="1411200"/>
            <a:ext cx="2952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Line 99"/>
          <p:cNvSpPr/>
          <p:nvPr/>
        </p:nvSpPr>
        <p:spPr>
          <a:xfrm>
            <a:off x="4968720" y="3321000"/>
            <a:ext cx="3360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Oval 100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Oval 101"/>
          <p:cNvSpPr/>
          <p:nvPr/>
        </p:nvSpPr>
        <p:spPr>
          <a:xfrm>
            <a:off x="3351240" y="3097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Oval 102"/>
          <p:cNvSpPr/>
          <p:nvPr/>
        </p:nvSpPr>
        <p:spPr>
          <a:xfrm>
            <a:off x="49258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103"/>
          <p:cNvSpPr/>
          <p:nvPr/>
        </p:nvSpPr>
        <p:spPr>
          <a:xfrm flipV="1">
            <a:off x="5970600" y="3147480"/>
            <a:ext cx="1440" cy="12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104"/>
          <p:cNvSpPr/>
          <p:nvPr/>
        </p:nvSpPr>
        <p:spPr>
          <a:xfrm flipV="1">
            <a:off x="8134200" y="3321000"/>
            <a:ext cx="0" cy="11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Oval 107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Oval 108"/>
          <p:cNvSpPr/>
          <p:nvPr/>
        </p:nvSpPr>
        <p:spPr>
          <a:xfrm>
            <a:off x="807552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109"/>
          <p:cNvSpPr/>
          <p:nvPr/>
        </p:nvSpPr>
        <p:spPr>
          <a:xfrm flipV="1">
            <a:off x="6746760" y="1410840"/>
            <a:ext cx="1800" cy="302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Oval 110"/>
          <p:cNvSpPr/>
          <p:nvPr/>
        </p:nvSpPr>
        <p:spPr>
          <a:xfrm>
            <a:off x="669276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112"/>
          <p:cNvSpPr/>
          <p:nvPr/>
        </p:nvSpPr>
        <p:spPr>
          <a:xfrm>
            <a:off x="6874560" y="1163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113"/>
          <p:cNvSpPr/>
          <p:nvPr/>
        </p:nvSpPr>
        <p:spPr>
          <a:xfrm>
            <a:off x="7086600" y="134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Text Box 114"/>
          <p:cNvSpPr/>
          <p:nvPr/>
        </p:nvSpPr>
        <p:spPr>
          <a:xfrm>
            <a:off x="8056080" y="287820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Text Box 115"/>
          <p:cNvSpPr/>
          <p:nvPr/>
        </p:nvSpPr>
        <p:spPr>
          <a:xfrm>
            <a:off x="8267400" y="3063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Text Box 116"/>
          <p:cNvSpPr/>
          <p:nvPr/>
        </p:nvSpPr>
        <p:spPr>
          <a:xfrm>
            <a:off x="5584320" y="26398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117"/>
          <p:cNvSpPr/>
          <p:nvPr/>
        </p:nvSpPr>
        <p:spPr>
          <a:xfrm>
            <a:off x="579564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118"/>
          <p:cNvSpPr/>
          <p:nvPr/>
        </p:nvSpPr>
        <p:spPr>
          <a:xfrm flipH="1">
            <a:off x="5970600" y="1411200"/>
            <a:ext cx="776160" cy="1736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119"/>
          <p:cNvSpPr/>
          <p:nvPr/>
        </p:nvSpPr>
        <p:spPr>
          <a:xfrm>
            <a:off x="5970600" y="3147840"/>
            <a:ext cx="216360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120"/>
          <p:cNvSpPr/>
          <p:nvPr/>
        </p:nvSpPr>
        <p:spPr>
          <a:xfrm flipH="1" flipV="1">
            <a:off x="6746760" y="1410840"/>
            <a:ext cx="1387440" cy="190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Oval 121"/>
          <p:cNvSpPr/>
          <p:nvPr/>
        </p:nvSpPr>
        <p:spPr>
          <a:xfrm>
            <a:off x="5925960" y="3100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Oval 122"/>
          <p:cNvSpPr/>
          <p:nvPr/>
        </p:nvSpPr>
        <p:spPr>
          <a:xfrm>
            <a:off x="6689880" y="1365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Oval 123"/>
          <p:cNvSpPr/>
          <p:nvPr/>
        </p:nvSpPr>
        <p:spPr>
          <a:xfrm>
            <a:off x="8075520" y="3265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Text Box 124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775-660A-4FF0-815F-755C3ADA9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6"/>
          <p:cNvSpPr/>
          <p:nvPr/>
        </p:nvSpPr>
        <p:spPr>
          <a:xfrm>
            <a:off x="8134200" y="4435560"/>
            <a:ext cx="136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7"/>
          <p:cNvSpPr/>
          <p:nvPr/>
        </p:nvSpPr>
        <p:spPr>
          <a:xfrm>
            <a:off x="6746760" y="4435560"/>
            <a:ext cx="13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8"/>
          <p:cNvSpPr/>
          <p:nvPr/>
        </p:nvSpPr>
        <p:spPr>
          <a:xfrm>
            <a:off x="3395520" y="3147840"/>
            <a:ext cx="2810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9"/>
          <p:cNvSpPr/>
          <p:nvPr/>
        </p:nvSpPr>
        <p:spPr>
          <a:xfrm flipV="1">
            <a:off x="6746760" y="1410840"/>
            <a:ext cx="1800" cy="302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10"/>
          <p:cNvSpPr/>
          <p:nvPr/>
        </p:nvSpPr>
        <p:spPr>
          <a:xfrm flipV="1">
            <a:off x="5970600" y="3147480"/>
            <a:ext cx="1440" cy="128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11"/>
          <p:cNvSpPr/>
          <p:nvPr/>
        </p:nvSpPr>
        <p:spPr>
          <a:xfrm>
            <a:off x="3960720" y="1411200"/>
            <a:ext cx="2952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Line 12"/>
          <p:cNvSpPr/>
          <p:nvPr/>
        </p:nvSpPr>
        <p:spPr>
          <a:xfrm flipV="1">
            <a:off x="8134200" y="3321000"/>
            <a:ext cx="1800" cy="11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13"/>
          <p:cNvSpPr/>
          <p:nvPr/>
        </p:nvSpPr>
        <p:spPr>
          <a:xfrm>
            <a:off x="4968720" y="3321000"/>
            <a:ext cx="3360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14"/>
          <p:cNvSpPr/>
          <p:nvPr/>
        </p:nvSpPr>
        <p:spPr>
          <a:xfrm flipH="1">
            <a:off x="5970600" y="1411200"/>
            <a:ext cx="77616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15"/>
          <p:cNvSpPr/>
          <p:nvPr/>
        </p:nvSpPr>
        <p:spPr>
          <a:xfrm>
            <a:off x="5970600" y="3147840"/>
            <a:ext cx="21636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16"/>
          <p:cNvSpPr/>
          <p:nvPr/>
        </p:nvSpPr>
        <p:spPr>
          <a:xfrm flipH="1" flipV="1">
            <a:off x="6746760" y="1410840"/>
            <a:ext cx="138744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Freeform 17"/>
          <p:cNvSpPr/>
          <p:nvPr/>
        </p:nvSpPr>
        <p:spPr>
          <a:xfrm>
            <a:off x="6480000" y="1603440"/>
            <a:ext cx="405000" cy="406440"/>
          </a:xfrm>
          <a:custGeom>
            <a:avLst/>
            <a:gdLst/>
            <a:ahLst/>
            <a:rect l="l" t="t" r="r" b="b"/>
            <a:pathLst>
              <a:path w="1790" h="1790">
                <a:moveTo>
                  <a:pt x="0" y="1790"/>
                </a:moveTo>
                <a:lnTo>
                  <a:pt x="1177" y="612"/>
                </a:lnTo>
                <a:lnTo>
                  <a:pt x="179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Freeform 18"/>
          <p:cNvSpPr/>
          <p:nvPr/>
        </p:nvSpPr>
        <p:spPr>
          <a:xfrm>
            <a:off x="6191280" y="1809720"/>
            <a:ext cx="842760" cy="843120"/>
          </a:xfrm>
          <a:custGeom>
            <a:avLst/>
            <a:gdLst/>
            <a:ahLst/>
            <a:rect l="l" t="t" r="r" b="b"/>
            <a:pathLst>
              <a:path w="3717" h="3718">
                <a:moveTo>
                  <a:pt x="0" y="3718"/>
                </a:moveTo>
                <a:lnTo>
                  <a:pt x="2445" y="1273"/>
                </a:lnTo>
                <a:lnTo>
                  <a:pt x="371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Freeform 19"/>
          <p:cNvSpPr/>
          <p:nvPr/>
        </p:nvSpPr>
        <p:spPr>
          <a:xfrm>
            <a:off x="6045120" y="2014560"/>
            <a:ext cx="1139760" cy="1139760"/>
          </a:xfrm>
          <a:custGeom>
            <a:avLst/>
            <a:gdLst/>
            <a:ahLst/>
            <a:rect l="l" t="t" r="r" b="b"/>
            <a:pathLst>
              <a:path w="5022" h="5023">
                <a:moveTo>
                  <a:pt x="0" y="5023"/>
                </a:moveTo>
                <a:lnTo>
                  <a:pt x="3090" y="1933"/>
                </a:lnTo>
                <a:lnTo>
                  <a:pt x="502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Freeform 20"/>
          <p:cNvSpPr/>
          <p:nvPr/>
        </p:nvSpPr>
        <p:spPr>
          <a:xfrm>
            <a:off x="6375240" y="2220840"/>
            <a:ext cx="959040" cy="960480"/>
          </a:xfrm>
          <a:custGeom>
            <a:avLst/>
            <a:gdLst/>
            <a:ahLst/>
            <a:rect l="l" t="t" r="r" b="b"/>
            <a:pathLst>
              <a:path w="4230" h="4233">
                <a:moveTo>
                  <a:pt x="0" y="4233"/>
                </a:moveTo>
                <a:lnTo>
                  <a:pt x="1638" y="2594"/>
                </a:lnTo>
                <a:lnTo>
                  <a:pt x="423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Freeform 21"/>
          <p:cNvSpPr/>
          <p:nvPr/>
        </p:nvSpPr>
        <p:spPr>
          <a:xfrm>
            <a:off x="6703920" y="2427120"/>
            <a:ext cx="779400" cy="779760"/>
          </a:xfrm>
          <a:custGeom>
            <a:avLst/>
            <a:gdLst/>
            <a:ahLst/>
            <a:rect l="l" t="t" r="r" b="b"/>
            <a:pathLst>
              <a:path w="3439" h="3441">
                <a:moveTo>
                  <a:pt x="0" y="3441"/>
                </a:moveTo>
                <a:lnTo>
                  <a:pt x="188" y="3254"/>
                </a:lnTo>
                <a:lnTo>
                  <a:pt x="343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Line 22"/>
          <p:cNvSpPr/>
          <p:nvPr/>
        </p:nvSpPr>
        <p:spPr>
          <a:xfrm flipV="1">
            <a:off x="7032600" y="2631960"/>
            <a:ext cx="600120" cy="60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Line 23"/>
          <p:cNvSpPr/>
          <p:nvPr/>
        </p:nvSpPr>
        <p:spPr>
          <a:xfrm flipV="1">
            <a:off x="7361280" y="2838240"/>
            <a:ext cx="422280" cy="42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Line 24"/>
          <p:cNvSpPr/>
          <p:nvPr/>
        </p:nvSpPr>
        <p:spPr>
          <a:xfrm flipV="1">
            <a:off x="7691400" y="3044880"/>
            <a:ext cx="241200" cy="241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Line 25"/>
          <p:cNvSpPr/>
          <p:nvPr/>
        </p:nvSpPr>
        <p:spPr>
          <a:xfrm flipV="1">
            <a:off x="8020080" y="3249720"/>
            <a:ext cx="61920" cy="6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Freeform 26"/>
          <p:cNvSpPr/>
          <p:nvPr/>
        </p:nvSpPr>
        <p:spPr>
          <a:xfrm>
            <a:off x="3638520" y="3936960"/>
            <a:ext cx="493920" cy="1244520"/>
          </a:xfrm>
          <a:custGeom>
            <a:avLst/>
            <a:gdLst/>
            <a:ahLst/>
            <a:rect l="l" t="t" r="r" b="b"/>
            <a:pathLst>
              <a:path w="2178" h="5483">
                <a:moveTo>
                  <a:pt x="0" y="5483"/>
                </a:moveTo>
                <a:lnTo>
                  <a:pt x="252" y="5203"/>
                </a:lnTo>
                <a:lnTo>
                  <a:pt x="491" y="4910"/>
                </a:lnTo>
                <a:lnTo>
                  <a:pt x="716" y="4607"/>
                </a:lnTo>
                <a:lnTo>
                  <a:pt x="927" y="4293"/>
                </a:lnTo>
                <a:lnTo>
                  <a:pt x="1122" y="3970"/>
                </a:lnTo>
                <a:lnTo>
                  <a:pt x="1302" y="3638"/>
                </a:lnTo>
                <a:lnTo>
                  <a:pt x="1466" y="3298"/>
                </a:lnTo>
                <a:lnTo>
                  <a:pt x="1613" y="2950"/>
                </a:lnTo>
                <a:lnTo>
                  <a:pt x="1744" y="2596"/>
                </a:lnTo>
                <a:lnTo>
                  <a:pt x="1859" y="2236"/>
                </a:lnTo>
                <a:lnTo>
                  <a:pt x="1956" y="1871"/>
                </a:lnTo>
                <a:lnTo>
                  <a:pt x="2035" y="1503"/>
                </a:lnTo>
                <a:lnTo>
                  <a:pt x="2098" y="1130"/>
                </a:lnTo>
                <a:lnTo>
                  <a:pt x="2142" y="754"/>
                </a:lnTo>
                <a:lnTo>
                  <a:pt x="2169" y="377"/>
                </a:lnTo>
                <a:lnTo>
                  <a:pt x="217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Line 27"/>
          <p:cNvSpPr/>
          <p:nvPr/>
        </p:nvSpPr>
        <p:spPr>
          <a:xfrm>
            <a:off x="966960" y="2685960"/>
            <a:ext cx="1927080" cy="97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Line 28"/>
          <p:cNvSpPr/>
          <p:nvPr/>
        </p:nvSpPr>
        <p:spPr>
          <a:xfrm flipH="1" flipV="1">
            <a:off x="2351160" y="1917720"/>
            <a:ext cx="542880" cy="17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Line 29"/>
          <p:cNvSpPr/>
          <p:nvPr/>
        </p:nvSpPr>
        <p:spPr>
          <a:xfrm flipH="1">
            <a:off x="1854360" y="1917720"/>
            <a:ext cx="49680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30"/>
          <p:cNvSpPr/>
          <p:nvPr/>
        </p:nvSpPr>
        <p:spPr>
          <a:xfrm>
            <a:off x="966960" y="2685960"/>
            <a:ext cx="1440" cy="375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31"/>
          <p:cNvSpPr/>
          <p:nvPr/>
        </p:nvSpPr>
        <p:spPr>
          <a:xfrm>
            <a:off x="2894040" y="3660840"/>
            <a:ext cx="1440" cy="182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32"/>
          <p:cNvSpPr/>
          <p:nvPr/>
        </p:nvSpPr>
        <p:spPr>
          <a:xfrm>
            <a:off x="2351160" y="1917720"/>
            <a:ext cx="1440" cy="30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33"/>
          <p:cNvSpPr/>
          <p:nvPr/>
        </p:nvSpPr>
        <p:spPr>
          <a:xfrm flipV="1">
            <a:off x="966960" y="5486400"/>
            <a:ext cx="192708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34"/>
          <p:cNvSpPr/>
          <p:nvPr/>
        </p:nvSpPr>
        <p:spPr>
          <a:xfrm flipH="1" flipV="1">
            <a:off x="2351160" y="4952880"/>
            <a:ext cx="54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35"/>
          <p:cNvSpPr/>
          <p:nvPr/>
        </p:nvSpPr>
        <p:spPr>
          <a:xfrm flipH="1">
            <a:off x="966600" y="4952880"/>
            <a:ext cx="13842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Line 36"/>
          <p:cNvSpPr/>
          <p:nvPr/>
        </p:nvSpPr>
        <p:spPr>
          <a:xfrm flipH="1">
            <a:off x="1258920" y="5486400"/>
            <a:ext cx="1635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Line 37"/>
          <p:cNvSpPr/>
          <p:nvPr/>
        </p:nvSpPr>
        <p:spPr>
          <a:xfrm flipV="1">
            <a:off x="1854360" y="2193840"/>
            <a:ext cx="1440" cy="32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Line 38"/>
          <p:cNvSpPr/>
          <p:nvPr/>
        </p:nvSpPr>
        <p:spPr>
          <a:xfrm flipH="1" flipV="1">
            <a:off x="1854360" y="2193480"/>
            <a:ext cx="10396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Line 39"/>
          <p:cNvSpPr/>
          <p:nvPr/>
        </p:nvSpPr>
        <p:spPr>
          <a:xfrm flipH="1" flipV="1">
            <a:off x="1569960" y="1792080"/>
            <a:ext cx="284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Line 40"/>
          <p:cNvSpPr/>
          <p:nvPr/>
        </p:nvSpPr>
        <p:spPr>
          <a:xfrm flipH="1">
            <a:off x="966600" y="2193840"/>
            <a:ext cx="88740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Line 41"/>
          <p:cNvSpPr/>
          <p:nvPr/>
        </p:nvSpPr>
        <p:spPr>
          <a:xfrm>
            <a:off x="469800" y="3936960"/>
            <a:ext cx="7944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Line 42"/>
          <p:cNvSpPr/>
          <p:nvPr/>
        </p:nvSpPr>
        <p:spPr>
          <a:xfrm>
            <a:off x="3960720" y="1411200"/>
            <a:ext cx="1800" cy="17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Line 43"/>
          <p:cNvSpPr/>
          <p:nvPr/>
        </p:nvSpPr>
        <p:spPr>
          <a:xfrm>
            <a:off x="3960720" y="363060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Line 44"/>
          <p:cNvSpPr/>
          <p:nvPr/>
        </p:nvSpPr>
        <p:spPr>
          <a:xfrm>
            <a:off x="3960720" y="3209760"/>
            <a:ext cx="1800" cy="4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Freeform 45"/>
          <p:cNvSpPr/>
          <p:nvPr/>
        </p:nvSpPr>
        <p:spPr>
          <a:xfrm>
            <a:off x="4438800" y="2678040"/>
            <a:ext cx="1271520" cy="839880"/>
          </a:xfrm>
          <a:custGeom>
            <a:avLst/>
            <a:gdLst/>
            <a:ahLst/>
            <a:rect l="l" t="t" r="r" b="b"/>
            <a:pathLst>
              <a:path w="5604" h="3709">
                <a:moveTo>
                  <a:pt x="0" y="3709"/>
                </a:moveTo>
                <a:lnTo>
                  <a:pt x="391" y="3611"/>
                </a:lnTo>
                <a:lnTo>
                  <a:pt x="779" y="3497"/>
                </a:lnTo>
                <a:lnTo>
                  <a:pt x="1161" y="3366"/>
                </a:lnTo>
                <a:lnTo>
                  <a:pt x="1538" y="3219"/>
                </a:lnTo>
                <a:lnTo>
                  <a:pt x="1907" y="3057"/>
                </a:lnTo>
                <a:lnTo>
                  <a:pt x="2269" y="2878"/>
                </a:lnTo>
                <a:lnTo>
                  <a:pt x="2625" y="2684"/>
                </a:lnTo>
                <a:lnTo>
                  <a:pt x="2970" y="2476"/>
                </a:lnTo>
                <a:lnTo>
                  <a:pt x="3307" y="2253"/>
                </a:lnTo>
                <a:lnTo>
                  <a:pt x="3635" y="2016"/>
                </a:lnTo>
                <a:lnTo>
                  <a:pt x="3951" y="1765"/>
                </a:lnTo>
                <a:lnTo>
                  <a:pt x="4257" y="1502"/>
                </a:lnTo>
                <a:lnTo>
                  <a:pt x="4552" y="1225"/>
                </a:lnTo>
                <a:lnTo>
                  <a:pt x="4834" y="936"/>
                </a:lnTo>
                <a:lnTo>
                  <a:pt x="5105" y="635"/>
                </a:lnTo>
                <a:lnTo>
                  <a:pt x="5361" y="323"/>
                </a:lnTo>
                <a:lnTo>
                  <a:pt x="56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Freeform 46"/>
          <p:cNvSpPr/>
          <p:nvPr/>
        </p:nvSpPr>
        <p:spPr>
          <a:xfrm>
            <a:off x="4492800" y="2658960"/>
            <a:ext cx="482400" cy="1417680"/>
          </a:xfrm>
          <a:custGeom>
            <a:avLst/>
            <a:gdLst/>
            <a:ahLst/>
            <a:rect l="l" t="t" r="r" b="b"/>
            <a:pathLst>
              <a:path w="2133" h="6247">
                <a:moveTo>
                  <a:pt x="0" y="6247"/>
                </a:moveTo>
                <a:lnTo>
                  <a:pt x="238" y="6090"/>
                </a:lnTo>
                <a:lnTo>
                  <a:pt x="466" y="5917"/>
                </a:lnTo>
                <a:lnTo>
                  <a:pt x="683" y="5731"/>
                </a:lnTo>
                <a:lnTo>
                  <a:pt x="886" y="5532"/>
                </a:lnTo>
                <a:lnTo>
                  <a:pt x="1077" y="5320"/>
                </a:lnTo>
                <a:lnTo>
                  <a:pt x="1254" y="5096"/>
                </a:lnTo>
                <a:lnTo>
                  <a:pt x="1416" y="4861"/>
                </a:lnTo>
                <a:lnTo>
                  <a:pt x="1563" y="4616"/>
                </a:lnTo>
                <a:lnTo>
                  <a:pt x="1695" y="4363"/>
                </a:lnTo>
                <a:lnTo>
                  <a:pt x="1810" y="4102"/>
                </a:lnTo>
                <a:lnTo>
                  <a:pt x="1908" y="3833"/>
                </a:lnTo>
                <a:lnTo>
                  <a:pt x="1989" y="3560"/>
                </a:lnTo>
                <a:lnTo>
                  <a:pt x="2051" y="3282"/>
                </a:lnTo>
                <a:lnTo>
                  <a:pt x="2097" y="3000"/>
                </a:lnTo>
                <a:lnTo>
                  <a:pt x="2125" y="2716"/>
                </a:lnTo>
                <a:lnTo>
                  <a:pt x="2133" y="2430"/>
                </a:lnTo>
                <a:lnTo>
                  <a:pt x="2125" y="2145"/>
                </a:lnTo>
                <a:lnTo>
                  <a:pt x="2098" y="1861"/>
                </a:lnTo>
                <a:lnTo>
                  <a:pt x="2052" y="1579"/>
                </a:lnTo>
                <a:lnTo>
                  <a:pt x="1989" y="1301"/>
                </a:lnTo>
                <a:lnTo>
                  <a:pt x="1908" y="1027"/>
                </a:lnTo>
                <a:lnTo>
                  <a:pt x="1810" y="759"/>
                </a:lnTo>
                <a:lnTo>
                  <a:pt x="1696" y="497"/>
                </a:lnTo>
                <a:lnTo>
                  <a:pt x="1565" y="244"/>
                </a:lnTo>
                <a:lnTo>
                  <a:pt x="14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Line 49"/>
          <p:cNvSpPr/>
          <p:nvPr/>
        </p:nvSpPr>
        <p:spPr>
          <a:xfrm>
            <a:off x="3960720" y="1411200"/>
            <a:ext cx="100800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Line 50"/>
          <p:cNvSpPr/>
          <p:nvPr/>
        </p:nvSpPr>
        <p:spPr>
          <a:xfrm flipH="1" flipV="1">
            <a:off x="3395520" y="3147480"/>
            <a:ext cx="15732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Line 51"/>
          <p:cNvSpPr/>
          <p:nvPr/>
        </p:nvSpPr>
        <p:spPr>
          <a:xfrm flipH="1" flipV="1">
            <a:off x="5627160" y="3101760"/>
            <a:ext cx="33516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Line 52"/>
          <p:cNvSpPr/>
          <p:nvPr/>
        </p:nvSpPr>
        <p:spPr>
          <a:xfrm flipH="1">
            <a:off x="3395520" y="1411200"/>
            <a:ext cx="565200" cy="17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Line 53"/>
          <p:cNvSpPr/>
          <p:nvPr/>
        </p:nvSpPr>
        <p:spPr>
          <a:xfrm>
            <a:off x="2894040" y="5486400"/>
            <a:ext cx="1352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Line 54"/>
          <p:cNvSpPr/>
          <p:nvPr/>
        </p:nvSpPr>
        <p:spPr>
          <a:xfrm>
            <a:off x="2351160" y="4952880"/>
            <a:ext cx="122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Line 55"/>
          <p:cNvSpPr/>
          <p:nvPr/>
        </p:nvSpPr>
        <p:spPr>
          <a:xfrm>
            <a:off x="966960" y="6438960"/>
            <a:ext cx="414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Line 56"/>
          <p:cNvSpPr/>
          <p:nvPr/>
        </p:nvSpPr>
        <p:spPr>
          <a:xfrm>
            <a:off x="3395520" y="3147840"/>
            <a:ext cx="1800" cy="180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Line 57"/>
          <p:cNvSpPr/>
          <p:nvPr/>
        </p:nvSpPr>
        <p:spPr>
          <a:xfrm>
            <a:off x="4968720" y="3321000"/>
            <a:ext cx="1800" cy="311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Line 58"/>
          <p:cNvSpPr/>
          <p:nvPr/>
        </p:nvSpPr>
        <p:spPr>
          <a:xfrm>
            <a:off x="3395520" y="4952880"/>
            <a:ext cx="565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Line 59"/>
          <p:cNvSpPr/>
          <p:nvPr/>
        </p:nvSpPr>
        <p:spPr>
          <a:xfrm>
            <a:off x="3960720" y="5486400"/>
            <a:ext cx="100800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Line 60"/>
          <p:cNvSpPr/>
          <p:nvPr/>
        </p:nvSpPr>
        <p:spPr>
          <a:xfrm>
            <a:off x="5970600" y="4435560"/>
            <a:ext cx="776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Text Box 61"/>
          <p:cNvSpPr/>
          <p:nvPr/>
        </p:nvSpPr>
        <p:spPr>
          <a:xfrm>
            <a:off x="42660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Text Box 62"/>
          <p:cNvSpPr/>
          <p:nvPr/>
        </p:nvSpPr>
        <p:spPr>
          <a:xfrm>
            <a:off x="574560" y="362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Text Box 63"/>
          <p:cNvSpPr/>
          <p:nvPr/>
        </p:nvSpPr>
        <p:spPr>
          <a:xfrm>
            <a:off x="6874560" y="1163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64"/>
          <p:cNvSpPr/>
          <p:nvPr/>
        </p:nvSpPr>
        <p:spPr>
          <a:xfrm>
            <a:off x="7086600" y="134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Oval 65"/>
          <p:cNvSpPr/>
          <p:nvPr/>
        </p:nvSpPr>
        <p:spPr>
          <a:xfrm>
            <a:off x="6689880" y="1365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66"/>
          <p:cNvSpPr/>
          <p:nvPr/>
        </p:nvSpPr>
        <p:spPr>
          <a:xfrm>
            <a:off x="2847960" y="324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67"/>
          <p:cNvSpPr/>
          <p:nvPr/>
        </p:nvSpPr>
        <p:spPr>
          <a:xfrm>
            <a:off x="3060720" y="343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Oval 68"/>
          <p:cNvSpPr/>
          <p:nvPr/>
        </p:nvSpPr>
        <p:spPr>
          <a:xfrm>
            <a:off x="2835360" y="359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69"/>
          <p:cNvSpPr/>
          <p:nvPr/>
        </p:nvSpPr>
        <p:spPr>
          <a:xfrm>
            <a:off x="7946640" y="44672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70"/>
          <p:cNvSpPr/>
          <p:nvPr/>
        </p:nvSpPr>
        <p:spPr>
          <a:xfrm>
            <a:off x="815796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Oval 71"/>
          <p:cNvSpPr/>
          <p:nvPr/>
        </p:nvSpPr>
        <p:spPr>
          <a:xfrm>
            <a:off x="807552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72"/>
          <p:cNvSpPr/>
          <p:nvPr/>
        </p:nvSpPr>
        <p:spPr>
          <a:xfrm rot="3413400">
            <a:off x="1619280" y="1567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73"/>
          <p:cNvSpPr/>
          <p:nvPr/>
        </p:nvSpPr>
        <p:spPr>
          <a:xfrm rot="3403800">
            <a:off x="1646280" y="18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Oval 74"/>
          <p:cNvSpPr/>
          <p:nvPr/>
        </p:nvSpPr>
        <p:spPr>
          <a:xfrm>
            <a:off x="3917880" y="315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75"/>
          <p:cNvSpPr/>
          <p:nvPr/>
        </p:nvSpPr>
        <p:spPr>
          <a:xfrm>
            <a:off x="4049640" y="4338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Text Box 76"/>
          <p:cNvSpPr/>
          <p:nvPr/>
        </p:nvSpPr>
        <p:spPr>
          <a:xfrm>
            <a:off x="4186080" y="531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Oval 77"/>
          <p:cNvSpPr/>
          <p:nvPr/>
        </p:nvSpPr>
        <p:spPr>
          <a:xfrm>
            <a:off x="3903840" y="5430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78"/>
          <p:cNvSpPr/>
          <p:nvPr/>
        </p:nvSpPr>
        <p:spPr>
          <a:xfrm>
            <a:off x="1268280" y="5057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Text Box 79"/>
          <p:cNvSpPr/>
          <p:nvPr/>
        </p:nvSpPr>
        <p:spPr>
          <a:xfrm>
            <a:off x="1433520" y="524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Oval 80"/>
          <p:cNvSpPr/>
          <p:nvPr/>
        </p:nvSpPr>
        <p:spPr>
          <a:xfrm>
            <a:off x="1808280" y="5411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81"/>
          <p:cNvSpPr/>
          <p:nvPr/>
        </p:nvSpPr>
        <p:spPr>
          <a:xfrm>
            <a:off x="3578400" y="3241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82"/>
          <p:cNvSpPr/>
          <p:nvPr/>
        </p:nvSpPr>
        <p:spPr>
          <a:xfrm>
            <a:off x="3762360" y="342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Oval 83"/>
          <p:cNvSpPr/>
          <p:nvPr/>
        </p:nvSpPr>
        <p:spPr>
          <a:xfrm>
            <a:off x="1787400" y="2139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Text Box 84"/>
          <p:cNvSpPr/>
          <p:nvPr/>
        </p:nvSpPr>
        <p:spPr>
          <a:xfrm>
            <a:off x="1879560" y="205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Text Box 85"/>
          <p:cNvSpPr/>
          <p:nvPr/>
        </p:nvSpPr>
        <p:spPr>
          <a:xfrm>
            <a:off x="2044440" y="223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Text Box 86"/>
          <p:cNvSpPr/>
          <p:nvPr/>
        </p:nvSpPr>
        <p:spPr>
          <a:xfrm>
            <a:off x="1711080" y="5452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Text Box 87"/>
          <p:cNvSpPr/>
          <p:nvPr/>
        </p:nvSpPr>
        <p:spPr>
          <a:xfrm>
            <a:off x="1871640" y="562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Oval 88"/>
          <p:cNvSpPr/>
          <p:nvPr/>
        </p:nvSpPr>
        <p:spPr>
          <a:xfrm>
            <a:off x="4908600" y="6378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Text Box 89"/>
          <p:cNvSpPr/>
          <p:nvPr/>
        </p:nvSpPr>
        <p:spPr>
          <a:xfrm>
            <a:off x="4983840" y="5977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Text Box 90"/>
          <p:cNvSpPr/>
          <p:nvPr/>
        </p:nvSpPr>
        <p:spPr>
          <a:xfrm>
            <a:off x="519588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Text Box 91"/>
          <p:cNvSpPr/>
          <p:nvPr/>
        </p:nvSpPr>
        <p:spPr>
          <a:xfrm>
            <a:off x="8053200" y="28843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Text Box 92"/>
          <p:cNvSpPr/>
          <p:nvPr/>
        </p:nvSpPr>
        <p:spPr>
          <a:xfrm>
            <a:off x="8267400" y="3063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Oval 93"/>
          <p:cNvSpPr/>
          <p:nvPr/>
        </p:nvSpPr>
        <p:spPr>
          <a:xfrm>
            <a:off x="8075520" y="3265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Text Box 94"/>
          <p:cNvSpPr/>
          <p:nvPr/>
        </p:nvSpPr>
        <p:spPr>
          <a:xfrm>
            <a:off x="1959480" y="1415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Text Box 95"/>
          <p:cNvSpPr/>
          <p:nvPr/>
        </p:nvSpPr>
        <p:spPr>
          <a:xfrm>
            <a:off x="2171520" y="160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Oval 96"/>
          <p:cNvSpPr/>
          <p:nvPr/>
        </p:nvSpPr>
        <p:spPr>
          <a:xfrm>
            <a:off x="2289240" y="1851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Text Box 97"/>
          <p:cNvSpPr/>
          <p:nvPr/>
        </p:nvSpPr>
        <p:spPr>
          <a:xfrm>
            <a:off x="4974120" y="3292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Text Box 98"/>
          <p:cNvSpPr/>
          <p:nvPr/>
        </p:nvSpPr>
        <p:spPr>
          <a:xfrm>
            <a:off x="5186160" y="347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Oval 99"/>
          <p:cNvSpPr/>
          <p:nvPr/>
        </p:nvSpPr>
        <p:spPr>
          <a:xfrm>
            <a:off x="4913280" y="3255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00"/>
          <p:cNvSpPr/>
          <p:nvPr/>
        </p:nvSpPr>
        <p:spPr>
          <a:xfrm>
            <a:off x="1873440" y="44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Text Box 101"/>
          <p:cNvSpPr/>
          <p:nvPr/>
        </p:nvSpPr>
        <p:spPr>
          <a:xfrm>
            <a:off x="208584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Oval 102"/>
          <p:cNvSpPr/>
          <p:nvPr/>
        </p:nvSpPr>
        <p:spPr>
          <a:xfrm>
            <a:off x="2293920" y="489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Oval 103"/>
          <p:cNvSpPr/>
          <p:nvPr/>
        </p:nvSpPr>
        <p:spPr>
          <a:xfrm>
            <a:off x="28321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Text Box 104"/>
          <p:cNvSpPr/>
          <p:nvPr/>
        </p:nvSpPr>
        <p:spPr>
          <a:xfrm>
            <a:off x="2805120" y="549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Text Box 105"/>
          <p:cNvSpPr/>
          <p:nvPr/>
        </p:nvSpPr>
        <p:spPr>
          <a:xfrm>
            <a:off x="3017520" y="568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Text Box 106"/>
          <p:cNvSpPr/>
          <p:nvPr/>
        </p:nvSpPr>
        <p:spPr>
          <a:xfrm>
            <a:off x="3973680" y="5133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Text Box 110"/>
          <p:cNvSpPr/>
          <p:nvPr/>
        </p:nvSpPr>
        <p:spPr>
          <a:xfrm>
            <a:off x="2912040" y="4457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Text Box 111"/>
          <p:cNvSpPr/>
          <p:nvPr/>
        </p:nvSpPr>
        <p:spPr>
          <a:xfrm>
            <a:off x="3124080" y="46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Oval 112"/>
          <p:cNvSpPr/>
          <p:nvPr/>
        </p:nvSpPr>
        <p:spPr>
          <a:xfrm>
            <a:off x="3332160" y="4888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Text Box 113"/>
          <p:cNvSpPr/>
          <p:nvPr/>
        </p:nvSpPr>
        <p:spPr>
          <a:xfrm>
            <a:off x="5779800" y="44719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Text Box 114"/>
          <p:cNvSpPr/>
          <p:nvPr/>
        </p:nvSpPr>
        <p:spPr>
          <a:xfrm>
            <a:off x="5991120" y="46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115"/>
          <p:cNvSpPr/>
          <p:nvPr/>
        </p:nvSpPr>
        <p:spPr>
          <a:xfrm>
            <a:off x="5908680" y="43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Text Box 116"/>
          <p:cNvSpPr/>
          <p:nvPr/>
        </p:nvSpPr>
        <p:spPr>
          <a:xfrm>
            <a:off x="6550560" y="44672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Text Box 117"/>
          <p:cNvSpPr/>
          <p:nvPr/>
        </p:nvSpPr>
        <p:spPr>
          <a:xfrm>
            <a:off x="6762600" y="46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118"/>
          <p:cNvSpPr/>
          <p:nvPr/>
        </p:nvSpPr>
        <p:spPr>
          <a:xfrm>
            <a:off x="6692760" y="437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Line 119"/>
          <p:cNvSpPr/>
          <p:nvPr/>
        </p:nvSpPr>
        <p:spPr>
          <a:xfrm flipH="1" flipV="1">
            <a:off x="3060720" y="3111120"/>
            <a:ext cx="334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Text Box 120"/>
          <p:cNvSpPr/>
          <p:nvPr/>
        </p:nvSpPr>
        <p:spPr>
          <a:xfrm>
            <a:off x="3016800" y="26496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Text Box 121"/>
          <p:cNvSpPr/>
          <p:nvPr/>
        </p:nvSpPr>
        <p:spPr>
          <a:xfrm>
            <a:off x="3228840" y="283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122"/>
          <p:cNvSpPr/>
          <p:nvPr/>
        </p:nvSpPr>
        <p:spPr>
          <a:xfrm>
            <a:off x="3346560" y="308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Text Box 123"/>
          <p:cNvSpPr/>
          <p:nvPr/>
        </p:nvSpPr>
        <p:spPr>
          <a:xfrm>
            <a:off x="3392640" y="1158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Text Box 124"/>
          <p:cNvSpPr/>
          <p:nvPr/>
        </p:nvSpPr>
        <p:spPr>
          <a:xfrm>
            <a:off x="3605040" y="134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Oval 125"/>
          <p:cNvSpPr/>
          <p:nvPr/>
        </p:nvSpPr>
        <p:spPr>
          <a:xfrm>
            <a:off x="3917880" y="1370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Text Box 126"/>
          <p:cNvSpPr/>
          <p:nvPr/>
        </p:nvSpPr>
        <p:spPr>
          <a:xfrm>
            <a:off x="5584320" y="26398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Text Box 127"/>
          <p:cNvSpPr/>
          <p:nvPr/>
        </p:nvSpPr>
        <p:spPr>
          <a:xfrm>
            <a:off x="5795640" y="28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128"/>
          <p:cNvSpPr/>
          <p:nvPr/>
        </p:nvSpPr>
        <p:spPr>
          <a:xfrm>
            <a:off x="5913360" y="3075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Line 129"/>
          <p:cNvSpPr/>
          <p:nvPr/>
        </p:nvSpPr>
        <p:spPr>
          <a:xfrm flipH="1" flipV="1">
            <a:off x="6238440" y="1971720"/>
            <a:ext cx="4143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Line 130"/>
          <p:cNvSpPr/>
          <p:nvPr/>
        </p:nvSpPr>
        <p:spPr>
          <a:xfrm flipH="1">
            <a:off x="4957560" y="1971720"/>
            <a:ext cx="12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Text Box 131"/>
          <p:cNvSpPr/>
          <p:nvPr/>
        </p:nvSpPr>
        <p:spPr>
          <a:xfrm>
            <a:off x="4914000" y="1587600"/>
            <a:ext cx="14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Oval 135"/>
          <p:cNvSpPr/>
          <p:nvPr/>
        </p:nvSpPr>
        <p:spPr>
          <a:xfrm>
            <a:off x="907920" y="2619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Text Box 136"/>
          <p:cNvSpPr/>
          <p:nvPr/>
        </p:nvSpPr>
        <p:spPr>
          <a:xfrm>
            <a:off x="578160" y="215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Text Box 137"/>
          <p:cNvSpPr/>
          <p:nvPr/>
        </p:nvSpPr>
        <p:spPr>
          <a:xfrm>
            <a:off x="790560" y="237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Oval 138"/>
          <p:cNvSpPr/>
          <p:nvPr/>
        </p:nvSpPr>
        <p:spPr>
          <a:xfrm>
            <a:off x="927000" y="6369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Text Box 139"/>
          <p:cNvSpPr/>
          <p:nvPr/>
        </p:nvSpPr>
        <p:spPr>
          <a:xfrm>
            <a:off x="439920" y="596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Text Box 140"/>
          <p:cNvSpPr/>
          <p:nvPr/>
        </p:nvSpPr>
        <p:spPr>
          <a:xfrm>
            <a:off x="652320" y="6153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Rectangle 14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ая основн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93DE-43FD-4770-939A-1FBFB1699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вра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Text Box 5"/>
          <p:cNvSpPr/>
          <p:nvPr/>
        </p:nvSpPr>
        <p:spPr>
          <a:xfrm>
            <a:off x="220680" y="1870200"/>
            <a:ext cx="87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методов вращения заключается в изменении положения заданных объектов вращением вокруг прямых (ос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DDCA-7705-466D-A585-AE7524F21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Rectangle 16"/>
          <p:cNvSpPr/>
          <p:nvPr/>
        </p:nvSpPr>
        <p:spPr>
          <a:xfrm>
            <a:off x="4446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вра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38"/>
          <p:cNvSpPr/>
          <p:nvPr/>
        </p:nvSpPr>
        <p:spPr>
          <a:xfrm>
            <a:off x="1262160" y="1446120"/>
            <a:ext cx="598320" cy="119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"/>
          <p:cNvSpPr/>
          <p:nvPr/>
        </p:nvSpPr>
        <p:spPr>
          <a:xfrm>
            <a:off x="933480" y="1395360"/>
            <a:ext cx="1854000" cy="2500200"/>
          </a:xfrm>
          <a:custGeom>
            <a:avLst/>
            <a:gdLst/>
            <a:ahLst/>
            <a:rect l="l" t="t" r="r" b="b"/>
            <a:pathLst>
              <a:path w="16350" h="22053">
                <a:moveTo>
                  <a:pt x="2896" y="450"/>
                </a:moveTo>
                <a:lnTo>
                  <a:pt x="2666" y="574"/>
                </a:lnTo>
                <a:lnTo>
                  <a:pt x="2444" y="712"/>
                </a:lnTo>
                <a:lnTo>
                  <a:pt x="2230" y="865"/>
                </a:lnTo>
                <a:lnTo>
                  <a:pt x="2025" y="1032"/>
                </a:lnTo>
                <a:lnTo>
                  <a:pt x="1827" y="1215"/>
                </a:lnTo>
                <a:lnTo>
                  <a:pt x="1639" y="1409"/>
                </a:lnTo>
                <a:lnTo>
                  <a:pt x="1461" y="1618"/>
                </a:lnTo>
                <a:lnTo>
                  <a:pt x="1290" y="1840"/>
                </a:lnTo>
                <a:lnTo>
                  <a:pt x="1131" y="2074"/>
                </a:lnTo>
                <a:lnTo>
                  <a:pt x="980" y="2321"/>
                </a:lnTo>
                <a:lnTo>
                  <a:pt x="840" y="2581"/>
                </a:lnTo>
                <a:lnTo>
                  <a:pt x="710" y="2851"/>
                </a:lnTo>
                <a:lnTo>
                  <a:pt x="591" y="3133"/>
                </a:lnTo>
                <a:lnTo>
                  <a:pt x="482" y="3427"/>
                </a:lnTo>
                <a:lnTo>
                  <a:pt x="384" y="3732"/>
                </a:lnTo>
                <a:lnTo>
                  <a:pt x="297" y="4046"/>
                </a:lnTo>
                <a:lnTo>
                  <a:pt x="220" y="4370"/>
                </a:lnTo>
                <a:lnTo>
                  <a:pt x="155" y="4703"/>
                </a:lnTo>
                <a:lnTo>
                  <a:pt x="102" y="5046"/>
                </a:lnTo>
                <a:lnTo>
                  <a:pt x="60" y="5396"/>
                </a:lnTo>
                <a:lnTo>
                  <a:pt x="29" y="5755"/>
                </a:lnTo>
                <a:lnTo>
                  <a:pt x="8" y="6121"/>
                </a:lnTo>
                <a:lnTo>
                  <a:pt x="0" y="6493"/>
                </a:lnTo>
                <a:lnTo>
                  <a:pt x="3" y="6872"/>
                </a:lnTo>
                <a:lnTo>
                  <a:pt x="18" y="7258"/>
                </a:lnTo>
                <a:lnTo>
                  <a:pt x="44" y="7648"/>
                </a:lnTo>
                <a:lnTo>
                  <a:pt x="81" y="8043"/>
                </a:lnTo>
                <a:lnTo>
                  <a:pt x="130" y="8442"/>
                </a:lnTo>
                <a:lnTo>
                  <a:pt x="189" y="8845"/>
                </a:lnTo>
                <a:lnTo>
                  <a:pt x="261" y="9250"/>
                </a:lnTo>
                <a:lnTo>
                  <a:pt x="343" y="9658"/>
                </a:lnTo>
                <a:lnTo>
                  <a:pt x="436" y="10068"/>
                </a:lnTo>
                <a:lnTo>
                  <a:pt x="540" y="10480"/>
                </a:lnTo>
                <a:lnTo>
                  <a:pt x="655" y="10892"/>
                </a:lnTo>
                <a:lnTo>
                  <a:pt x="780" y="11304"/>
                </a:lnTo>
                <a:lnTo>
                  <a:pt x="915" y="11717"/>
                </a:lnTo>
                <a:lnTo>
                  <a:pt x="1061" y="12128"/>
                </a:lnTo>
                <a:lnTo>
                  <a:pt x="1217" y="12536"/>
                </a:lnTo>
                <a:lnTo>
                  <a:pt x="1382" y="12944"/>
                </a:lnTo>
                <a:lnTo>
                  <a:pt x="1556" y="13349"/>
                </a:lnTo>
                <a:lnTo>
                  <a:pt x="1740" y="13750"/>
                </a:lnTo>
                <a:lnTo>
                  <a:pt x="1933" y="14149"/>
                </a:lnTo>
                <a:lnTo>
                  <a:pt x="2135" y="14542"/>
                </a:lnTo>
                <a:lnTo>
                  <a:pt x="2345" y="14930"/>
                </a:lnTo>
                <a:lnTo>
                  <a:pt x="2564" y="15313"/>
                </a:lnTo>
                <a:lnTo>
                  <a:pt x="2790" y="15690"/>
                </a:lnTo>
                <a:lnTo>
                  <a:pt x="3024" y="16060"/>
                </a:lnTo>
                <a:lnTo>
                  <a:pt x="3265" y="16423"/>
                </a:lnTo>
                <a:lnTo>
                  <a:pt x="3513" y="16779"/>
                </a:lnTo>
                <a:lnTo>
                  <a:pt x="3767" y="17127"/>
                </a:lnTo>
                <a:lnTo>
                  <a:pt x="4028" y="17467"/>
                </a:lnTo>
                <a:lnTo>
                  <a:pt x="4294" y="17797"/>
                </a:lnTo>
                <a:lnTo>
                  <a:pt x="4566" y="18118"/>
                </a:lnTo>
                <a:lnTo>
                  <a:pt x="4843" y="18429"/>
                </a:lnTo>
                <a:lnTo>
                  <a:pt x="5124" y="18729"/>
                </a:lnTo>
                <a:lnTo>
                  <a:pt x="5410" y="19018"/>
                </a:lnTo>
                <a:lnTo>
                  <a:pt x="5699" y="19297"/>
                </a:lnTo>
                <a:lnTo>
                  <a:pt x="5992" y="19564"/>
                </a:lnTo>
                <a:lnTo>
                  <a:pt x="6288" y="19819"/>
                </a:lnTo>
                <a:lnTo>
                  <a:pt x="6587" y="20062"/>
                </a:lnTo>
                <a:lnTo>
                  <a:pt x="6889" y="20292"/>
                </a:lnTo>
                <a:lnTo>
                  <a:pt x="7191" y="20509"/>
                </a:lnTo>
                <a:lnTo>
                  <a:pt x="7495" y="20713"/>
                </a:lnTo>
                <a:lnTo>
                  <a:pt x="7800" y="20903"/>
                </a:lnTo>
                <a:lnTo>
                  <a:pt x="8105" y="21080"/>
                </a:lnTo>
                <a:lnTo>
                  <a:pt x="8412" y="21242"/>
                </a:lnTo>
                <a:lnTo>
                  <a:pt x="8716" y="21390"/>
                </a:lnTo>
                <a:lnTo>
                  <a:pt x="9022" y="21524"/>
                </a:lnTo>
                <a:lnTo>
                  <a:pt x="9325" y="21643"/>
                </a:lnTo>
                <a:lnTo>
                  <a:pt x="9627" y="21748"/>
                </a:lnTo>
                <a:lnTo>
                  <a:pt x="9927" y="21836"/>
                </a:lnTo>
                <a:lnTo>
                  <a:pt x="10224" y="21911"/>
                </a:lnTo>
                <a:lnTo>
                  <a:pt x="10519" y="21969"/>
                </a:lnTo>
                <a:lnTo>
                  <a:pt x="10809" y="22013"/>
                </a:lnTo>
                <a:lnTo>
                  <a:pt x="11098" y="22041"/>
                </a:lnTo>
                <a:lnTo>
                  <a:pt x="11381" y="22053"/>
                </a:lnTo>
                <a:lnTo>
                  <a:pt x="11660" y="22051"/>
                </a:lnTo>
                <a:lnTo>
                  <a:pt x="11933" y="22033"/>
                </a:lnTo>
                <a:lnTo>
                  <a:pt x="12203" y="21999"/>
                </a:lnTo>
                <a:lnTo>
                  <a:pt x="12466" y="21950"/>
                </a:lnTo>
                <a:lnTo>
                  <a:pt x="12723" y="21886"/>
                </a:lnTo>
                <a:lnTo>
                  <a:pt x="12973" y="21807"/>
                </a:lnTo>
                <a:lnTo>
                  <a:pt x="13218" y="21713"/>
                </a:lnTo>
                <a:lnTo>
                  <a:pt x="13455" y="21603"/>
                </a:lnTo>
                <a:lnTo>
                  <a:pt x="13685" y="21479"/>
                </a:lnTo>
                <a:lnTo>
                  <a:pt x="13907" y="21341"/>
                </a:lnTo>
                <a:lnTo>
                  <a:pt x="14121" y="21188"/>
                </a:lnTo>
                <a:lnTo>
                  <a:pt x="14326" y="21020"/>
                </a:lnTo>
                <a:lnTo>
                  <a:pt x="14523" y="20838"/>
                </a:lnTo>
                <a:lnTo>
                  <a:pt x="14712" y="20643"/>
                </a:lnTo>
                <a:lnTo>
                  <a:pt x="14891" y="20435"/>
                </a:lnTo>
                <a:lnTo>
                  <a:pt x="15060" y="20213"/>
                </a:lnTo>
                <a:lnTo>
                  <a:pt x="15221" y="19979"/>
                </a:lnTo>
                <a:lnTo>
                  <a:pt x="15371" y="19732"/>
                </a:lnTo>
                <a:lnTo>
                  <a:pt x="15510" y="19472"/>
                </a:lnTo>
                <a:lnTo>
                  <a:pt x="15640" y="19202"/>
                </a:lnTo>
                <a:lnTo>
                  <a:pt x="15759" y="18919"/>
                </a:lnTo>
                <a:lnTo>
                  <a:pt x="15869" y="18626"/>
                </a:lnTo>
                <a:lnTo>
                  <a:pt x="15967" y="18321"/>
                </a:lnTo>
                <a:lnTo>
                  <a:pt x="16053" y="18007"/>
                </a:lnTo>
                <a:lnTo>
                  <a:pt x="16130" y="17683"/>
                </a:lnTo>
                <a:lnTo>
                  <a:pt x="16195" y="17350"/>
                </a:lnTo>
                <a:lnTo>
                  <a:pt x="16249" y="17007"/>
                </a:lnTo>
                <a:lnTo>
                  <a:pt x="16290" y="16657"/>
                </a:lnTo>
                <a:lnTo>
                  <a:pt x="16322" y="16298"/>
                </a:lnTo>
                <a:lnTo>
                  <a:pt x="16342" y="15932"/>
                </a:lnTo>
                <a:lnTo>
                  <a:pt x="16350" y="15560"/>
                </a:lnTo>
                <a:lnTo>
                  <a:pt x="16347" y="15181"/>
                </a:lnTo>
                <a:lnTo>
                  <a:pt x="16332" y="14795"/>
                </a:lnTo>
                <a:lnTo>
                  <a:pt x="16306" y="14405"/>
                </a:lnTo>
                <a:lnTo>
                  <a:pt x="16269" y="14010"/>
                </a:lnTo>
                <a:lnTo>
                  <a:pt x="16220" y="13611"/>
                </a:lnTo>
                <a:lnTo>
                  <a:pt x="16161" y="13208"/>
                </a:lnTo>
                <a:lnTo>
                  <a:pt x="16089" y="12803"/>
                </a:lnTo>
                <a:lnTo>
                  <a:pt x="16007" y="12395"/>
                </a:lnTo>
                <a:lnTo>
                  <a:pt x="15915" y="11985"/>
                </a:lnTo>
                <a:lnTo>
                  <a:pt x="15810" y="11573"/>
                </a:lnTo>
                <a:lnTo>
                  <a:pt x="15695" y="11161"/>
                </a:lnTo>
                <a:lnTo>
                  <a:pt x="15571" y="10749"/>
                </a:lnTo>
                <a:lnTo>
                  <a:pt x="15436" y="10336"/>
                </a:lnTo>
                <a:lnTo>
                  <a:pt x="15290" y="9925"/>
                </a:lnTo>
                <a:lnTo>
                  <a:pt x="15134" y="9516"/>
                </a:lnTo>
                <a:lnTo>
                  <a:pt x="14968" y="9109"/>
                </a:lnTo>
                <a:lnTo>
                  <a:pt x="14794" y="8704"/>
                </a:lnTo>
                <a:lnTo>
                  <a:pt x="14610" y="8302"/>
                </a:lnTo>
                <a:lnTo>
                  <a:pt x="14417" y="7904"/>
                </a:lnTo>
                <a:lnTo>
                  <a:pt x="14215" y="7511"/>
                </a:lnTo>
                <a:lnTo>
                  <a:pt x="14005" y="7123"/>
                </a:lnTo>
                <a:lnTo>
                  <a:pt x="13787" y="6740"/>
                </a:lnTo>
                <a:lnTo>
                  <a:pt x="13560" y="6363"/>
                </a:lnTo>
                <a:lnTo>
                  <a:pt x="13327" y="5993"/>
                </a:lnTo>
                <a:lnTo>
                  <a:pt x="13085" y="5630"/>
                </a:lnTo>
                <a:lnTo>
                  <a:pt x="12838" y="5274"/>
                </a:lnTo>
                <a:lnTo>
                  <a:pt x="12584" y="4926"/>
                </a:lnTo>
                <a:lnTo>
                  <a:pt x="12323" y="4586"/>
                </a:lnTo>
                <a:lnTo>
                  <a:pt x="12057" y="4256"/>
                </a:lnTo>
                <a:lnTo>
                  <a:pt x="11784" y="3935"/>
                </a:lnTo>
                <a:lnTo>
                  <a:pt x="11508" y="3624"/>
                </a:lnTo>
                <a:lnTo>
                  <a:pt x="11227" y="3324"/>
                </a:lnTo>
                <a:lnTo>
                  <a:pt x="10941" y="3034"/>
                </a:lnTo>
                <a:lnTo>
                  <a:pt x="10652" y="2755"/>
                </a:lnTo>
                <a:lnTo>
                  <a:pt x="10358" y="2489"/>
                </a:lnTo>
                <a:lnTo>
                  <a:pt x="10062" y="2234"/>
                </a:lnTo>
                <a:lnTo>
                  <a:pt x="9764" y="1991"/>
                </a:lnTo>
                <a:lnTo>
                  <a:pt x="9463" y="1761"/>
                </a:lnTo>
                <a:lnTo>
                  <a:pt x="9159" y="1544"/>
                </a:lnTo>
                <a:lnTo>
                  <a:pt x="8856" y="1340"/>
                </a:lnTo>
                <a:lnTo>
                  <a:pt x="8550" y="1150"/>
                </a:lnTo>
                <a:lnTo>
                  <a:pt x="8245" y="973"/>
                </a:lnTo>
                <a:lnTo>
                  <a:pt x="7939" y="811"/>
                </a:lnTo>
                <a:lnTo>
                  <a:pt x="7634" y="663"/>
                </a:lnTo>
                <a:lnTo>
                  <a:pt x="7329" y="529"/>
                </a:lnTo>
                <a:lnTo>
                  <a:pt x="7026" y="410"/>
                </a:lnTo>
                <a:lnTo>
                  <a:pt x="6724" y="305"/>
                </a:lnTo>
                <a:lnTo>
                  <a:pt x="6424" y="217"/>
                </a:lnTo>
                <a:lnTo>
                  <a:pt x="6126" y="142"/>
                </a:lnTo>
                <a:lnTo>
                  <a:pt x="5833" y="84"/>
                </a:lnTo>
                <a:lnTo>
                  <a:pt x="5541" y="40"/>
                </a:lnTo>
                <a:lnTo>
                  <a:pt x="5253" y="12"/>
                </a:lnTo>
                <a:lnTo>
                  <a:pt x="4970" y="0"/>
                </a:lnTo>
                <a:lnTo>
                  <a:pt x="4691" y="2"/>
                </a:lnTo>
                <a:lnTo>
                  <a:pt x="4417" y="20"/>
                </a:lnTo>
                <a:lnTo>
                  <a:pt x="4148" y="54"/>
                </a:lnTo>
                <a:lnTo>
                  <a:pt x="3884" y="103"/>
                </a:lnTo>
                <a:lnTo>
                  <a:pt x="3628" y="167"/>
                </a:lnTo>
                <a:lnTo>
                  <a:pt x="3377" y="246"/>
                </a:lnTo>
                <a:lnTo>
                  <a:pt x="3133" y="340"/>
                </a:lnTo>
                <a:lnTo>
                  <a:pt x="2896" y="45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40"/>
          <p:cNvSpPr/>
          <p:nvPr/>
        </p:nvSpPr>
        <p:spPr>
          <a:xfrm flipV="1">
            <a:off x="712800" y="1996920"/>
            <a:ext cx="2443320" cy="122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Oval 41"/>
          <p:cNvSpPr/>
          <p:nvPr/>
        </p:nvSpPr>
        <p:spPr>
          <a:xfrm>
            <a:off x="17924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Text Box 42"/>
          <p:cNvSpPr/>
          <p:nvPr/>
        </p:nvSpPr>
        <p:spPr>
          <a:xfrm rot="20005800">
            <a:off x="2669040" y="1744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Oval 43"/>
          <p:cNvSpPr/>
          <p:nvPr/>
        </p:nvSpPr>
        <p:spPr>
          <a:xfrm>
            <a:off x="1200240" y="138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Text Box 44"/>
          <p:cNvSpPr/>
          <p:nvPr/>
        </p:nvSpPr>
        <p:spPr>
          <a:xfrm>
            <a:off x="869760" y="952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Text Box 45"/>
          <p:cNvSpPr/>
          <p:nvPr/>
        </p:nvSpPr>
        <p:spPr>
          <a:xfrm>
            <a:off x="1364760" y="2338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Line 46"/>
          <p:cNvSpPr/>
          <p:nvPr/>
        </p:nvSpPr>
        <p:spPr>
          <a:xfrm flipV="1">
            <a:off x="1779480" y="2384280"/>
            <a:ext cx="204840" cy="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Line 47"/>
          <p:cNvSpPr/>
          <p:nvPr/>
        </p:nvSpPr>
        <p:spPr>
          <a:xfrm>
            <a:off x="1973160" y="2382840"/>
            <a:ext cx="81000" cy="1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F4A-8A21-41C2-9CE6-3BD359A37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Rectangle 4"/>
          <p:cNvSpPr/>
          <p:nvPr/>
        </p:nvSpPr>
        <p:spPr>
          <a:xfrm>
            <a:off x="4446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вра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Line 8"/>
          <p:cNvSpPr/>
          <p:nvPr/>
        </p:nvSpPr>
        <p:spPr>
          <a:xfrm>
            <a:off x="1262160" y="1446120"/>
            <a:ext cx="598320" cy="119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Freeform 9"/>
          <p:cNvSpPr/>
          <p:nvPr/>
        </p:nvSpPr>
        <p:spPr>
          <a:xfrm>
            <a:off x="933480" y="1395360"/>
            <a:ext cx="1854000" cy="2500200"/>
          </a:xfrm>
          <a:custGeom>
            <a:avLst/>
            <a:gdLst/>
            <a:ahLst/>
            <a:rect l="l" t="t" r="r" b="b"/>
            <a:pathLst>
              <a:path w="16350" h="22053">
                <a:moveTo>
                  <a:pt x="2896" y="450"/>
                </a:moveTo>
                <a:lnTo>
                  <a:pt x="2666" y="574"/>
                </a:lnTo>
                <a:lnTo>
                  <a:pt x="2444" y="712"/>
                </a:lnTo>
                <a:lnTo>
                  <a:pt x="2230" y="865"/>
                </a:lnTo>
                <a:lnTo>
                  <a:pt x="2025" y="1032"/>
                </a:lnTo>
                <a:lnTo>
                  <a:pt x="1827" y="1215"/>
                </a:lnTo>
                <a:lnTo>
                  <a:pt x="1639" y="1409"/>
                </a:lnTo>
                <a:lnTo>
                  <a:pt x="1461" y="1618"/>
                </a:lnTo>
                <a:lnTo>
                  <a:pt x="1290" y="1840"/>
                </a:lnTo>
                <a:lnTo>
                  <a:pt x="1131" y="2074"/>
                </a:lnTo>
                <a:lnTo>
                  <a:pt x="980" y="2321"/>
                </a:lnTo>
                <a:lnTo>
                  <a:pt x="840" y="2581"/>
                </a:lnTo>
                <a:lnTo>
                  <a:pt x="710" y="2851"/>
                </a:lnTo>
                <a:lnTo>
                  <a:pt x="591" y="3133"/>
                </a:lnTo>
                <a:lnTo>
                  <a:pt x="482" y="3427"/>
                </a:lnTo>
                <a:lnTo>
                  <a:pt x="384" y="3732"/>
                </a:lnTo>
                <a:lnTo>
                  <a:pt x="297" y="4046"/>
                </a:lnTo>
                <a:lnTo>
                  <a:pt x="220" y="4370"/>
                </a:lnTo>
                <a:lnTo>
                  <a:pt x="155" y="4703"/>
                </a:lnTo>
                <a:lnTo>
                  <a:pt x="102" y="5046"/>
                </a:lnTo>
                <a:lnTo>
                  <a:pt x="60" y="5396"/>
                </a:lnTo>
                <a:lnTo>
                  <a:pt x="29" y="5755"/>
                </a:lnTo>
                <a:lnTo>
                  <a:pt x="8" y="6121"/>
                </a:lnTo>
                <a:lnTo>
                  <a:pt x="0" y="6493"/>
                </a:lnTo>
                <a:lnTo>
                  <a:pt x="3" y="6872"/>
                </a:lnTo>
                <a:lnTo>
                  <a:pt x="18" y="7258"/>
                </a:lnTo>
                <a:lnTo>
                  <a:pt x="44" y="7648"/>
                </a:lnTo>
                <a:lnTo>
                  <a:pt x="81" y="8043"/>
                </a:lnTo>
                <a:lnTo>
                  <a:pt x="130" y="8442"/>
                </a:lnTo>
                <a:lnTo>
                  <a:pt x="189" y="8845"/>
                </a:lnTo>
                <a:lnTo>
                  <a:pt x="261" y="9250"/>
                </a:lnTo>
                <a:lnTo>
                  <a:pt x="343" y="9658"/>
                </a:lnTo>
                <a:lnTo>
                  <a:pt x="436" y="10068"/>
                </a:lnTo>
                <a:lnTo>
                  <a:pt x="540" y="10480"/>
                </a:lnTo>
                <a:lnTo>
                  <a:pt x="655" y="10892"/>
                </a:lnTo>
                <a:lnTo>
                  <a:pt x="780" y="11304"/>
                </a:lnTo>
                <a:lnTo>
                  <a:pt x="915" y="11717"/>
                </a:lnTo>
                <a:lnTo>
                  <a:pt x="1061" y="12128"/>
                </a:lnTo>
                <a:lnTo>
                  <a:pt x="1217" y="12536"/>
                </a:lnTo>
                <a:lnTo>
                  <a:pt x="1382" y="12944"/>
                </a:lnTo>
                <a:lnTo>
                  <a:pt x="1556" y="13349"/>
                </a:lnTo>
                <a:lnTo>
                  <a:pt x="1740" y="13750"/>
                </a:lnTo>
                <a:lnTo>
                  <a:pt x="1933" y="14149"/>
                </a:lnTo>
                <a:lnTo>
                  <a:pt x="2135" y="14542"/>
                </a:lnTo>
                <a:lnTo>
                  <a:pt x="2345" y="14930"/>
                </a:lnTo>
                <a:lnTo>
                  <a:pt x="2564" y="15313"/>
                </a:lnTo>
                <a:lnTo>
                  <a:pt x="2790" y="15690"/>
                </a:lnTo>
                <a:lnTo>
                  <a:pt x="3024" y="16060"/>
                </a:lnTo>
                <a:lnTo>
                  <a:pt x="3265" y="16423"/>
                </a:lnTo>
                <a:lnTo>
                  <a:pt x="3513" y="16779"/>
                </a:lnTo>
                <a:lnTo>
                  <a:pt x="3767" y="17127"/>
                </a:lnTo>
                <a:lnTo>
                  <a:pt x="4028" y="17467"/>
                </a:lnTo>
                <a:lnTo>
                  <a:pt x="4294" y="17797"/>
                </a:lnTo>
                <a:lnTo>
                  <a:pt x="4566" y="18118"/>
                </a:lnTo>
                <a:lnTo>
                  <a:pt x="4843" y="18429"/>
                </a:lnTo>
                <a:lnTo>
                  <a:pt x="5124" y="18729"/>
                </a:lnTo>
                <a:lnTo>
                  <a:pt x="5410" y="19018"/>
                </a:lnTo>
                <a:lnTo>
                  <a:pt x="5699" y="19297"/>
                </a:lnTo>
                <a:lnTo>
                  <a:pt x="5992" y="19564"/>
                </a:lnTo>
                <a:lnTo>
                  <a:pt x="6288" y="19819"/>
                </a:lnTo>
                <a:lnTo>
                  <a:pt x="6587" y="20062"/>
                </a:lnTo>
                <a:lnTo>
                  <a:pt x="6889" y="20292"/>
                </a:lnTo>
                <a:lnTo>
                  <a:pt x="7191" y="20509"/>
                </a:lnTo>
                <a:lnTo>
                  <a:pt x="7495" y="20713"/>
                </a:lnTo>
                <a:lnTo>
                  <a:pt x="7800" y="20903"/>
                </a:lnTo>
                <a:lnTo>
                  <a:pt x="8105" y="21080"/>
                </a:lnTo>
                <a:lnTo>
                  <a:pt x="8412" y="21242"/>
                </a:lnTo>
                <a:lnTo>
                  <a:pt x="8716" y="21390"/>
                </a:lnTo>
                <a:lnTo>
                  <a:pt x="9022" y="21524"/>
                </a:lnTo>
                <a:lnTo>
                  <a:pt x="9325" y="21643"/>
                </a:lnTo>
                <a:lnTo>
                  <a:pt x="9627" y="21748"/>
                </a:lnTo>
                <a:lnTo>
                  <a:pt x="9927" y="21836"/>
                </a:lnTo>
                <a:lnTo>
                  <a:pt x="10224" y="21911"/>
                </a:lnTo>
                <a:lnTo>
                  <a:pt x="10519" y="21969"/>
                </a:lnTo>
                <a:lnTo>
                  <a:pt x="10809" y="22013"/>
                </a:lnTo>
                <a:lnTo>
                  <a:pt x="11098" y="22041"/>
                </a:lnTo>
                <a:lnTo>
                  <a:pt x="11381" y="22053"/>
                </a:lnTo>
                <a:lnTo>
                  <a:pt x="11660" y="22051"/>
                </a:lnTo>
                <a:lnTo>
                  <a:pt x="11933" y="22033"/>
                </a:lnTo>
                <a:lnTo>
                  <a:pt x="12203" y="21999"/>
                </a:lnTo>
                <a:lnTo>
                  <a:pt x="12466" y="21950"/>
                </a:lnTo>
                <a:lnTo>
                  <a:pt x="12723" y="21886"/>
                </a:lnTo>
                <a:lnTo>
                  <a:pt x="12973" y="21807"/>
                </a:lnTo>
                <a:lnTo>
                  <a:pt x="13218" y="21713"/>
                </a:lnTo>
                <a:lnTo>
                  <a:pt x="13455" y="21603"/>
                </a:lnTo>
                <a:lnTo>
                  <a:pt x="13685" y="21479"/>
                </a:lnTo>
                <a:lnTo>
                  <a:pt x="13907" y="21341"/>
                </a:lnTo>
                <a:lnTo>
                  <a:pt x="14121" y="21188"/>
                </a:lnTo>
                <a:lnTo>
                  <a:pt x="14326" y="21020"/>
                </a:lnTo>
                <a:lnTo>
                  <a:pt x="14523" y="20838"/>
                </a:lnTo>
                <a:lnTo>
                  <a:pt x="14712" y="20643"/>
                </a:lnTo>
                <a:lnTo>
                  <a:pt x="14891" y="20435"/>
                </a:lnTo>
                <a:lnTo>
                  <a:pt x="15060" y="20213"/>
                </a:lnTo>
                <a:lnTo>
                  <a:pt x="15221" y="19979"/>
                </a:lnTo>
                <a:lnTo>
                  <a:pt x="15371" y="19732"/>
                </a:lnTo>
                <a:lnTo>
                  <a:pt x="15510" y="19472"/>
                </a:lnTo>
                <a:lnTo>
                  <a:pt x="15640" y="19202"/>
                </a:lnTo>
                <a:lnTo>
                  <a:pt x="15759" y="18919"/>
                </a:lnTo>
                <a:lnTo>
                  <a:pt x="15869" y="18626"/>
                </a:lnTo>
                <a:lnTo>
                  <a:pt x="15967" y="18321"/>
                </a:lnTo>
                <a:lnTo>
                  <a:pt x="16053" y="18007"/>
                </a:lnTo>
                <a:lnTo>
                  <a:pt x="16130" y="17683"/>
                </a:lnTo>
                <a:lnTo>
                  <a:pt x="16195" y="17350"/>
                </a:lnTo>
                <a:lnTo>
                  <a:pt x="16249" y="17007"/>
                </a:lnTo>
                <a:lnTo>
                  <a:pt x="16290" y="16657"/>
                </a:lnTo>
                <a:lnTo>
                  <a:pt x="16322" y="16298"/>
                </a:lnTo>
                <a:lnTo>
                  <a:pt x="16342" y="15932"/>
                </a:lnTo>
                <a:lnTo>
                  <a:pt x="16350" y="15560"/>
                </a:lnTo>
                <a:lnTo>
                  <a:pt x="16347" y="15181"/>
                </a:lnTo>
                <a:lnTo>
                  <a:pt x="16332" y="14795"/>
                </a:lnTo>
                <a:lnTo>
                  <a:pt x="16306" y="14405"/>
                </a:lnTo>
                <a:lnTo>
                  <a:pt x="16269" y="14010"/>
                </a:lnTo>
                <a:lnTo>
                  <a:pt x="16220" y="13611"/>
                </a:lnTo>
                <a:lnTo>
                  <a:pt x="16161" y="13208"/>
                </a:lnTo>
                <a:lnTo>
                  <a:pt x="16089" y="12803"/>
                </a:lnTo>
                <a:lnTo>
                  <a:pt x="16007" y="12395"/>
                </a:lnTo>
                <a:lnTo>
                  <a:pt x="15915" y="11985"/>
                </a:lnTo>
                <a:lnTo>
                  <a:pt x="15810" y="11573"/>
                </a:lnTo>
                <a:lnTo>
                  <a:pt x="15695" y="11161"/>
                </a:lnTo>
                <a:lnTo>
                  <a:pt x="15571" y="10749"/>
                </a:lnTo>
                <a:lnTo>
                  <a:pt x="15436" y="10336"/>
                </a:lnTo>
                <a:lnTo>
                  <a:pt x="15290" y="9925"/>
                </a:lnTo>
                <a:lnTo>
                  <a:pt x="15134" y="9516"/>
                </a:lnTo>
                <a:lnTo>
                  <a:pt x="14968" y="9109"/>
                </a:lnTo>
                <a:lnTo>
                  <a:pt x="14794" y="8704"/>
                </a:lnTo>
                <a:lnTo>
                  <a:pt x="14610" y="8302"/>
                </a:lnTo>
                <a:lnTo>
                  <a:pt x="14417" y="7904"/>
                </a:lnTo>
                <a:lnTo>
                  <a:pt x="14215" y="7511"/>
                </a:lnTo>
                <a:lnTo>
                  <a:pt x="14005" y="7123"/>
                </a:lnTo>
                <a:lnTo>
                  <a:pt x="13787" y="6740"/>
                </a:lnTo>
                <a:lnTo>
                  <a:pt x="13560" y="6363"/>
                </a:lnTo>
                <a:lnTo>
                  <a:pt x="13327" y="5993"/>
                </a:lnTo>
                <a:lnTo>
                  <a:pt x="13085" y="5630"/>
                </a:lnTo>
                <a:lnTo>
                  <a:pt x="12838" y="5274"/>
                </a:lnTo>
                <a:lnTo>
                  <a:pt x="12584" y="4926"/>
                </a:lnTo>
                <a:lnTo>
                  <a:pt x="12323" y="4586"/>
                </a:lnTo>
                <a:lnTo>
                  <a:pt x="12057" y="4256"/>
                </a:lnTo>
                <a:lnTo>
                  <a:pt x="11784" y="3935"/>
                </a:lnTo>
                <a:lnTo>
                  <a:pt x="11508" y="3624"/>
                </a:lnTo>
                <a:lnTo>
                  <a:pt x="11227" y="3324"/>
                </a:lnTo>
                <a:lnTo>
                  <a:pt x="10941" y="3034"/>
                </a:lnTo>
                <a:lnTo>
                  <a:pt x="10652" y="2755"/>
                </a:lnTo>
                <a:lnTo>
                  <a:pt x="10358" y="2489"/>
                </a:lnTo>
                <a:lnTo>
                  <a:pt x="10062" y="2234"/>
                </a:lnTo>
                <a:lnTo>
                  <a:pt x="9764" y="1991"/>
                </a:lnTo>
                <a:lnTo>
                  <a:pt x="9463" y="1761"/>
                </a:lnTo>
                <a:lnTo>
                  <a:pt x="9159" y="1544"/>
                </a:lnTo>
                <a:lnTo>
                  <a:pt x="8856" y="1340"/>
                </a:lnTo>
                <a:lnTo>
                  <a:pt x="8550" y="1150"/>
                </a:lnTo>
                <a:lnTo>
                  <a:pt x="8245" y="973"/>
                </a:lnTo>
                <a:lnTo>
                  <a:pt x="7939" y="811"/>
                </a:lnTo>
                <a:lnTo>
                  <a:pt x="7634" y="663"/>
                </a:lnTo>
                <a:lnTo>
                  <a:pt x="7329" y="529"/>
                </a:lnTo>
                <a:lnTo>
                  <a:pt x="7026" y="410"/>
                </a:lnTo>
                <a:lnTo>
                  <a:pt x="6724" y="305"/>
                </a:lnTo>
                <a:lnTo>
                  <a:pt x="6424" y="217"/>
                </a:lnTo>
                <a:lnTo>
                  <a:pt x="6126" y="142"/>
                </a:lnTo>
                <a:lnTo>
                  <a:pt x="5833" y="84"/>
                </a:lnTo>
                <a:lnTo>
                  <a:pt x="5541" y="40"/>
                </a:lnTo>
                <a:lnTo>
                  <a:pt x="5253" y="12"/>
                </a:lnTo>
                <a:lnTo>
                  <a:pt x="4970" y="0"/>
                </a:lnTo>
                <a:lnTo>
                  <a:pt x="4691" y="2"/>
                </a:lnTo>
                <a:lnTo>
                  <a:pt x="4417" y="20"/>
                </a:lnTo>
                <a:lnTo>
                  <a:pt x="4148" y="54"/>
                </a:lnTo>
                <a:lnTo>
                  <a:pt x="3884" y="103"/>
                </a:lnTo>
                <a:lnTo>
                  <a:pt x="3628" y="167"/>
                </a:lnTo>
                <a:lnTo>
                  <a:pt x="3377" y="246"/>
                </a:lnTo>
                <a:lnTo>
                  <a:pt x="3133" y="340"/>
                </a:lnTo>
                <a:lnTo>
                  <a:pt x="2896" y="45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Line 10"/>
          <p:cNvSpPr/>
          <p:nvPr/>
        </p:nvSpPr>
        <p:spPr>
          <a:xfrm flipV="1">
            <a:off x="712800" y="1996920"/>
            <a:ext cx="2443320" cy="122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Oval 11"/>
          <p:cNvSpPr/>
          <p:nvPr/>
        </p:nvSpPr>
        <p:spPr>
          <a:xfrm>
            <a:off x="1792440" y="2592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Text Box 12"/>
          <p:cNvSpPr/>
          <p:nvPr/>
        </p:nvSpPr>
        <p:spPr>
          <a:xfrm rot="20005800">
            <a:off x="2669040" y="1744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Oval 13"/>
          <p:cNvSpPr/>
          <p:nvPr/>
        </p:nvSpPr>
        <p:spPr>
          <a:xfrm>
            <a:off x="1200240" y="1387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Text Box 14"/>
          <p:cNvSpPr/>
          <p:nvPr/>
        </p:nvSpPr>
        <p:spPr>
          <a:xfrm>
            <a:off x="869760" y="952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Text Box 15"/>
          <p:cNvSpPr/>
          <p:nvPr/>
        </p:nvSpPr>
        <p:spPr>
          <a:xfrm>
            <a:off x="1364760" y="2338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Text Box 16"/>
          <p:cNvSpPr/>
          <p:nvPr/>
        </p:nvSpPr>
        <p:spPr>
          <a:xfrm>
            <a:off x="3014640" y="917640"/>
            <a:ext cx="5932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вра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екторией является ок-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ность лежит в плос-кости перпендикулярной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Line 17"/>
          <p:cNvSpPr/>
          <p:nvPr/>
        </p:nvSpPr>
        <p:spPr>
          <a:xfrm flipV="1">
            <a:off x="1779480" y="2384280"/>
            <a:ext cx="204840" cy="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Line 20"/>
          <p:cNvSpPr/>
          <p:nvPr/>
        </p:nvSpPr>
        <p:spPr>
          <a:xfrm>
            <a:off x="1973160" y="2382840"/>
            <a:ext cx="81000" cy="1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Text Box 21"/>
          <p:cNvSpPr/>
          <p:nvPr/>
        </p:nvSpPr>
        <p:spPr>
          <a:xfrm>
            <a:off x="208080" y="3909960"/>
            <a:ext cx="876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адиус равен расстоянию от точки до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Центром является основание     перпен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уляра, проведенного из точки к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очки, лежащие на оси не меняют сво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70E-CDFC-4004-8725-26E6D1E38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Text Box 6"/>
          <p:cNvSpPr/>
          <p:nvPr/>
        </p:nvSpPr>
        <p:spPr>
          <a:xfrm>
            <a:off x="168120" y="2230560"/>
            <a:ext cx="880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методе, в качестве осей вы-бираются проецирующие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метод является частным случаем метода плоско параллельного переме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7372-6E4F-4BAC-A216-F3F7B8C6D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Text Box 5"/>
          <p:cNvSpPr/>
          <p:nvPr/>
        </p:nvSpPr>
        <p:spPr>
          <a:xfrm>
            <a:off x="168120" y="2230560"/>
            <a:ext cx="880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ращении точки вокруг проецирую-щей прямой, ее траектория лежит в плоскос-ти уровня, следовательно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у из плос-костей проекций   проецируется в виде ли-нии параллельной оси прое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другую   проецируется в натур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876-3A28-4389-8164-5B045CEE6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Text Box 5"/>
          <p:cNvSpPr/>
          <p:nvPr/>
        </p:nvSpPr>
        <p:spPr>
          <a:xfrm>
            <a:off x="181080" y="2400480"/>
            <a:ext cx="88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нуть точку вокруг горизон-тально-проецирующей прямой на заданный угол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Rectangle 1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вращения вокруг проецирующи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6:37:43Z</dcterms:created>
  <dc:creator>Папа</dc:creator>
  <dc:description/>
  <dc:language>en-US</dc:language>
  <cp:lastModifiedBy>Victoria Sukhomlinova</cp:lastModifiedBy>
  <dcterms:modified xsi:type="dcterms:W3CDTF">2022-02-02T12:08:24Z</dcterms:modified>
  <cp:revision>182</cp:revision>
  <dc:subject/>
  <dc:title>Слайд 1</dc:title>
</cp:coreProperties>
</file>